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C86-1A27-4D44-8281-8630A51B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B79-8903-4A87-B265-78845FC3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C37-7B2A-480B-8123-47F1274B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E7D3-2C9D-4C77-AE8F-EEBF25D9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0F99-1C8A-4BB9-89B1-03F7ADDE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0291-9D3D-407D-85CF-79D7FF66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EC4F-E9A3-4824-9D10-6691B99F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62BF-A6AC-4466-A4F3-F12BA453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DE74-E252-4972-BC7F-536C4418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C7FB-12F1-4D4D-B870-92483227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0523-26D7-42CE-890E-E7ACBCE6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4F5-13B2-425E-A967-1B99E208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AC89-921E-4E37-8387-9D32982A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40FD-0E42-453A-8483-793FBCF7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C5AF-202A-4E0C-82B7-FFC467E2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5798-F8E6-4A81-9CFB-D395C6C7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974B-5926-4FD5-AAEB-F6FF0214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EAC-AD18-4BA3-B087-C15BC571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F8C2-71CE-48E6-96A9-B9D6E59C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786-6B37-4D7B-ACDB-A83B9D1B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FAA-C690-4655-A3D0-AB07785E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3BF-2B0B-471F-BDC9-7E250718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4E6-BF0A-43E5-BCB9-DE7D0886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E87-BA79-4FAC-B32C-F116F9CC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7508-754E-4DC3-B0D4-1200B895B0BF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3684-5D4F-4E59-862A-89C9DC834064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98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99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10"/>
          <p:cNvSpPr/>
          <p:nvPr/>
        </p:nvSpPr>
        <p:spPr>
          <a:xfrm>
            <a:off x="304920" y="501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cture 10: Nucleic acids (DNA &amp; RNA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581040"/>
            <a:ext cx="3657600" cy="49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028960" y="276480"/>
            <a:ext cx="51613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RN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0010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- Messenger RNA (mRNA) is the blueprint for construction of a prote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- Ribosomal RNA (rRNA) is the construction site where the protein is made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in the ribosom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- Transfer RNA (tRNA) is the truck delivering the proper amino acid to the site at the right t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89760" y="578880"/>
            <a:ext cx="6146280" cy="62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DNA                                     R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78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279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280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1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82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283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4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5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1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2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3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94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295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6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7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8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9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0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1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2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3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6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07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0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11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3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14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320" name="Text Box 6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AutoShape 7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323" name="Text Box 9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AutoShape 10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5" name="Group 11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326" name="Text Box 12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AutoShape 13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8" name="Text Box 14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Group 16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331" name="Text Box 17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Line 18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334" name="Text Box 20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337" name="Text Box 23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Line 2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340" name="Text Box 26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343" name="Text Box 29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Line 30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346" name="Text Box 32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Line 33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349" name="Text Box 35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Line 36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352" name="Text Box 3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Text Box 4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Text Box 4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Text Box 4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Text Box 4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Line 45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0" name="Line 46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1" name="Group 47"/>
          <p:cNvGrpSpPr/>
          <p:nvPr/>
        </p:nvGrpSpPr>
        <p:grpSpPr>
          <a:xfrm>
            <a:off x="2438280" y="5334120"/>
            <a:ext cx="2895840" cy="459720"/>
            <a:chOff x="2438280" y="5334120"/>
            <a:chExt cx="2895840" cy="459720"/>
          </a:xfrm>
        </p:grpSpPr>
        <p:sp>
          <p:nvSpPr>
            <p:cNvPr id="362" name="Text Box 48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Text Box 49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Text Box 50"/>
          <p:cNvSpPr/>
          <p:nvPr/>
        </p:nvSpPr>
        <p:spPr>
          <a:xfrm>
            <a:off x="76212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Text Box 51"/>
          <p:cNvSpPr/>
          <p:nvPr/>
        </p:nvSpPr>
        <p:spPr>
          <a:xfrm>
            <a:off x="838080" y="4572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2860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ى المزدوج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ى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106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960" y="304920"/>
            <a:ext cx="8915400" cy="58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gene is a small region in the D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cleic acids store and transmit hereditary information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معلومات</a:t>
            </a:r>
            <a:r>
              <a:rPr b="0" lang="ar-EG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وراثية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3366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560" y="106560"/>
            <a:ext cx="5120280" cy="425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13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5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16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3366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6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127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128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9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130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42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45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46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47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49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59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62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9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74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77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Text Box 69"/>
            <p:cNvSpPr/>
            <p:nvPr/>
          </p:nvSpPr>
          <p:spPr>
            <a:xfrm>
              <a:off x="4419720" y="1905120"/>
              <a:ext cx="16761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3366"/>
                  </a:solidFill>
                  <a:latin typeface="Arial"/>
                </a:rPr>
                <a:t>نيوكليوتيدة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9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80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3366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1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4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95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02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5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06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7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</a:rPr>
              <a:t>Fig. 16.3, Page 290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28600" y="457200"/>
            <a:ext cx="4343400" cy="58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O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ى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78040" y="254520"/>
            <a:ext cx="6730200" cy="3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Nitrogenous bases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0000ff"/>
                </a:solidFill>
                <a:uFillTx/>
                <a:latin typeface="Arial"/>
              </a:rPr>
              <a:t>القواعد النيتروجينية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15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7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18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1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32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36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37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1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244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248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0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251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254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8" name="Group 47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259" name="Text Box 48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Text Box 49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262" name="Text Box 51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Text Box 52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53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52280" y="145548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14240" y="333720"/>
            <a:ext cx="7943400" cy="39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 a polymer of nucleotid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رتيب التتابع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1600200"/>
            <a:ext cx="899136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د أشرف مشالي</cp:lastModifiedBy>
  <dcterms:modified xsi:type="dcterms:W3CDTF">2013-09-01T08:23:41Z</dcterms:modified>
  <cp:revision>182</cp:revision>
  <dc:subject/>
  <dc:title>Slide 1</dc:title>
</cp:coreProperties>
</file>