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1A6-9168-4968-BB22-9AA90E4B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76E-EC2C-40DE-8D32-6C2D6F8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0DF-B024-44CB-9ECC-D3754ECD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0C7-2AEA-4E17-A53C-2729F91C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A33F-74C4-4FF7-B447-14A97962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189B-A018-42B5-AFEB-592B9999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2262-A7BC-4814-89EC-56089A13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6A3-C014-4725-BBE7-1C4EE61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F37A-8AFC-4BCC-B403-5928F43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56E3-6501-4DC0-8405-09FF4D0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DD5-A282-4EB2-905D-860631F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657-72BF-41E2-9C31-16304627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864-4D4E-44E2-8DB0-DACC353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11FD-242F-44CD-B610-8AD7DE7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6C4-0C5E-4556-BFEF-8EA7BFC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C2E-5934-491C-85C3-3554FA6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C8C-2256-4BE1-B841-223DDFD8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F8F-E5D9-40FC-BEA1-B3A38B8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555-B031-4208-874F-EB4F177B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DF3-6EB0-40B3-BE30-42A2EFE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B2D-4747-4259-AA52-CC27766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CF6-A1EB-49D0-9A20-5517541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0DF-6898-4F3E-A186-D0ABC00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D3B-5EAE-48AF-903A-80207F5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3AD-BF74-4968-94F4-BC5E6F3FB289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0E41-F976-4B85-9518-E07EC8CEED5B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5-03-11T03:44:41Z</dcterms:modified>
  <cp:revision>182</cp:revision>
  <dc:subject/>
  <dc:title>Slide 1</dc:title>
</cp:coreProperties>
</file>