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FB8-82DF-490E-B1DB-F2ADD3B4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45D-5DE1-4D3A-AB0A-3CB6A668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382-314F-4C9B-8944-5CB33E2E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662-BB11-4707-A5A6-C470A193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1F14-8BD1-465A-8450-6632E4AC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C7DA-9ED5-47B0-A8D2-BEF39732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E958-95D9-4B0A-AECF-AD1EE911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1B34-8F05-49EE-BD12-C5F6107F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E0A4-76D6-4EEE-BEE3-02845879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E964-70F1-4145-8CF1-3C2AEA09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D819-EF25-4952-BE50-1FEF018E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977-978F-4DAC-865A-E12F438F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134A-915A-43B1-971B-0B6EB56B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E65D-784B-46DA-B947-11ED8B17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63EF-D255-452A-87AF-00862311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1C91-3A58-4080-8C9A-FB748F12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2CEE-F802-4E90-80A7-6A86CD76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7F4-7B0B-4EF1-BCDC-1C1ABA24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09A-E952-49F1-ADC9-276D3FA9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762-B900-4940-97B1-9730E8ED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E22-C191-4458-9149-D40EA9CD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702-621E-444E-84D9-C59257C1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5A6-E9F4-4542-B24E-EF39FD2B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B09-02D1-49D6-A516-01CDFE93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ECE0-CB5D-403C-BB5D-E364751E5C62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0BD4-55E1-4332-984C-81B217895B53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98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9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10"/>
          <p:cNvSpPr/>
          <p:nvPr/>
        </p:nvSpPr>
        <p:spPr>
          <a:xfrm>
            <a:off x="304920" y="501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cture 10: Nucleic acids (DNA &amp; RNA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581040"/>
            <a:ext cx="3657600" cy="49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028960" y="276480"/>
            <a:ext cx="51613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RN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)- Messenger RNA (mRNA) is the blueprint for construction of a prote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)- Ribosomal RNA (rRNA) is the construction site where the protein is made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in the ribosom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)- Transfer RNA (tRNA) is the truck delivering the proper amino acid to the site at the right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89760" y="578880"/>
            <a:ext cx="6146280" cy="62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DNA                                     R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7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8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8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8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9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9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0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1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1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20" name="Text Box 6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AutoShape 7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23" name="Text Box 9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26" name="Text Box 12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AutoShape 13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  <a:effectLst>
              <a:outerShdw dist="107932" dir="81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8" name="Text Box 14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331" name="Text Box 17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334" name="Text Box 20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37" name="Text Box 23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Line 2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40" name="Text Box 26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43" name="Text Box 29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46" name="Text Box 32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Line 33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49" name="Text Box 35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Line 36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52" name="Text Box 3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Text Box 4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Text Box 4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Line 45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0" name="Line 46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1" name="Group 4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362" name="Text Box 48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Text Box 49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10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960" y="304920"/>
            <a:ext cx="8915400" cy="58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 is a small region in the D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cleic acids store and transmit hereditary information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معلومات</a:t>
            </a:r>
            <a:r>
              <a:rPr b="0" lang="ar-EG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3366"/>
                </a:solidFill>
                <a:latin typeface="Arial"/>
              </a:rPr>
              <a:t>الوراثية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9992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SzPct val="7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3366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560" y="106560"/>
            <a:ext cx="5120280" cy="425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13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5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16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3366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127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128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9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130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42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45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46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47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49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59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62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74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77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69"/>
            <p:cNvSpPr/>
            <p:nvPr/>
          </p:nvSpPr>
          <p:spPr>
            <a:xfrm>
              <a:off x="4419720" y="1905120"/>
              <a:ext cx="16761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3366"/>
                  </a:solidFill>
                  <a:latin typeface="Arial"/>
                </a:rPr>
                <a:t>نيوكليوتيدة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9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80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3366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66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1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95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02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5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06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ى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778040" y="254520"/>
            <a:ext cx="6730200" cy="3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Nitrogenous bases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0000ff"/>
                </a:solidFill>
                <a:uFillTx/>
                <a:latin typeface="Arial"/>
              </a:rPr>
              <a:t>القواعد النيتروجينية</a:t>
            </a:r>
            <a:r>
              <a:rPr b="1" lang="ar-EG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15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7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18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32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36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37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1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66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244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48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0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51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66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54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8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59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62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53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52280" y="145548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14240" y="333720"/>
            <a:ext cx="7943400" cy="39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 a polymer of nucleotid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User</cp:lastModifiedBy>
  <dcterms:modified xsi:type="dcterms:W3CDTF">2015-03-11T03:44:41Z</dcterms:modified>
  <cp:revision>182</cp:revision>
  <dc:subject/>
  <dc:title>Slide 1</dc:title>
</cp:coreProperties>
</file>