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A9C7-D1A0-437A-88E8-B9AA64CE4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3841-4C88-4881-AB97-8C2943F2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82584C-13C4-4796-AA80-DE1E13D8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9ED2DF-7ECF-40F2-96D4-D86180B4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7AA76-D1AE-42EC-9594-36D87173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8E08EC-A978-4564-8316-6561F575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951DAB-BE62-4F04-9F63-36AC1013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BCE913-2AD7-4F1E-9310-2F6E4C40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F7CEEF-6A35-4ED1-A0EB-275143DE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85ADC1-C56C-4285-B806-F48D452BB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2FAC4-526D-424A-992C-2E618FDE5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038671-C78C-48F6-BBB1-845F1BF67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CBDD-BC60-4B24-BF0D-BCDD1735E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A4C5B9-0638-4C89-A87E-B039E2DD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502224-C840-4C61-A00F-370E54CE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E3BE10-BF60-4980-A5D3-10C7D809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AB9749-E8EB-4CA7-8FDF-3784ACB0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428E49-ACC8-42AC-96D5-C09EFAEF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B3149C-3896-438A-9803-95E1F732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208E1B-6DB1-4F18-91C5-16D2E27D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058820-B353-4AFF-AEF3-F8F813EC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3BEFFC-5D21-4E5F-8B45-96BAF71D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BDDCED-BDDC-4DEE-B166-B0BC4E739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6E33-5E21-4C21-A1F9-66E2C435B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38DB16-4A3A-4C43-B4DA-A644B528E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3062D-5102-4EDB-ADF1-E0BDEFDD3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947DE8-1019-4974-A1DC-16017823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F5DA18-4681-48EA-80A1-B4F0F34B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E6DEB-9E7B-422F-A16E-9E16E0FF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329E3-033F-452D-A41E-0B750EE7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F8977-02D4-4BDF-A117-2312C9C1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88D1B-18C0-45CD-A1B6-09819ECF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4075F-7A0F-46F2-8EEC-A9BF1787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DB58FF-8AA5-4747-BA4C-E20B2B40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6BEF-FED8-48E9-B7CA-941D21635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9905BA-6E38-4F61-B2E6-E5E5AA77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F23A5D-1A40-4237-99A3-228DFD9FC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D98DD-BF36-413D-90B5-A518BEAA2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8004DE-12BD-4EFE-87A1-A67A6F892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1423B4-12E9-48BF-93BA-8719E1BC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A67B8B-A53D-4002-B500-F18F03E1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F627BA-DDCB-4A90-88C0-8951B0E4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ED483F-D4EE-4F35-93BE-7BDCBBAF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4A6C88-DEFC-4D0D-BE27-D9CC0BF7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6C8AAA-1DB9-4193-A75A-668D24AC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18FD-9431-4FD4-A7E4-797622FC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0BB739-68D0-44DC-906F-9DD087BF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2057C6-E509-475F-9612-DA8A735E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F0DF5A-005F-4C53-B20E-CD0D5A89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B6BFB9-A28D-4EA2-BA30-1F82059F8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A5AE85-A042-45DB-BB39-6C47A53F6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06B6A7-6C53-4CB1-8420-AA335DA64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8E307B-39C9-45F8-BB96-5E7EF870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107580-F4D3-4EB1-A115-0351B506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CA66DF-A890-47AF-9ADE-3B787FD9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4B4ACA-2AC9-4FF4-A75E-67294865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C380E-D77A-481B-B7D3-1D2FC3F5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8E5DA3-25AE-4822-AF8A-678EFD38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E103D9-3231-4258-BD69-BD80805A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1EFEDE-E5E2-4B5C-9658-F7680D64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2C1B0A-29A2-4D11-8517-2BD2ADF1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368DBD-8FE4-436A-A16E-6D1B6EC5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B4A4D7-FA46-40FA-A417-3CA0E3BBF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60F0FF-FC16-4457-BFEF-66DBE6CFF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438403-3935-40DE-A31C-9F9E1D7EA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FD662C-013C-4D13-88BA-D46E7190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266E36-3374-4D14-9374-91F8BB35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9D5C3-A507-4F02-BD89-367AAA2B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64A785-5BC9-4518-A3D8-E89E1D8C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012224-1ACB-4D87-8C79-EEEB7A95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C8D25A-1AAA-48C8-91B8-2A84ED19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66A809-27DD-470F-AF20-233F9419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0FDF22-3C3C-4E82-A672-E6C53C23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ECD345-BC1F-44BE-A492-89161C74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45BC54-FB88-42A7-B023-3485F531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450DC3-C217-47CF-8F41-B419EA73F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7F3415-F6CC-4DAD-984B-B9A327A53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8D2186-60F2-432D-9F8C-926FAFEDB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CF41-9CE1-42C6-8AEC-FF401D10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0EBE89-AEBD-4E12-A7E6-9AE042BF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53B5B5-954F-434E-876C-E58CDF6F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6CA50C-3A8F-46FB-8138-F6239EE9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DAF7B5-6CA0-43A2-81D6-6B628048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6050A2-94C1-4208-8D95-23D4DD11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0E20A0-E8A0-447B-A4DA-59CB3FBB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73D514-4AB4-415C-A466-EEFD9E00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A5FC17-F6DA-43CC-B54F-9FF5B586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2A69CC-E5AE-4672-B9A9-385BD5F0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7B62E2-FEE8-408D-B7D1-470929328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2AE6-F68F-4EB8-8D46-720B1375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B7F959-3397-4AAB-9634-D58AA53BB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CFC161-C666-4F1A-AB70-F276C2DD9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BACF64-660D-4128-9FEA-88B71AFE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E1E5EA-CD72-468D-869A-792290CEE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ED97D4-11D2-45AE-BC5A-9B5BFA6B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5BF780-7A8E-47D9-B98D-688D36FD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EB4860-9E48-4F19-A05C-BE9546DF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E163AA-EE10-4ECD-8BB5-229E6351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97F8C3-FAB5-4D3C-91FF-9A439C7C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C01064-B5C2-4C6E-86A7-C6511630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5E91-A4AB-4F1C-9DA5-CE3D61AD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7FFAAB-66A9-4FBA-A4E1-4224FCED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1D7E13-FC17-4B17-9125-0DB5BACEB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0D6B5E-CD51-43C9-AA72-AF72B66E5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84A433-66ED-42C5-8906-975B76322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780319-D6F4-4378-A942-E281F97B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3DE9B9-9EC0-4B9D-9EF9-7B482479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AFDB33-6D28-4AEA-BDDD-01BD5336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AA7AE3-C656-4134-A963-8B06CE89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CE46F4-711E-4D70-873F-4924AABC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3FEE89-5049-4ED9-B10E-301BD918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C3FB-00E7-45BC-8C2A-1B245FA8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B8C4-DC50-4310-8E57-7B02177C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9A311B-E560-4064-AA56-BBF32258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F6E7F3-8491-4E32-B713-D1D011AC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29BA77-CCCA-4735-B888-33FDCA09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0B6324-019B-43EC-AD26-7BC270917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BF5259-5AC3-4BA3-98C3-42D3A96E5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9A9C74-015B-47C7-9B9C-2855EBE05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FFF9F4-E50A-4FB9-B531-702AB554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C0F679-30CA-462D-86FD-930EED53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B2F662-25EE-4B66-87D4-82AE0A6B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528CE5-A848-43C8-B245-1D25795D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AC12-9F61-45F0-84F0-7B988E7A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A63DBA-17CB-47B4-9981-F2A21160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346EC8-2338-48A7-A4AB-85D97FBA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E8C0EC-758E-405E-81B7-83F1F4F1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5BAE7B-7A0A-42C7-909C-E0CB1771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033837-107B-48AC-BD97-AAA82699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12CE9D-458A-45C3-B47E-C339B9C80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B472CD-59E7-49F6-A1AD-B0062535D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3D52-F266-42AF-953C-589BFB57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8D303-18E2-457F-AC93-67906A4EE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35CA-5CFD-4EFD-A9D9-129B7AE5A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84DD6-24D4-4136-88E3-E4F46B9B0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5EFCE-566F-4840-AD00-6BB2C079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5BB96-EF9D-4CDD-92B3-9237ECEB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6254E-004B-4ED8-8798-EC47B290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A0C73-5362-4C05-BD8F-EB79B997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5015-A3BD-44DD-B914-33893143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748EF-0BB8-4D42-B77E-E46C2E8E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401FA-88CA-4552-AF10-18F04F43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16D87-6DB6-4BF4-90C5-11606A2A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5D8C6-8CC4-4D29-96A5-224C3B77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EFA98-9600-4D8F-A175-11B626EE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7BA57-4B53-43EF-9B64-9B9412E23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11A4C-F468-475C-A67D-F8C826BE5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0099B-A47D-45DC-9A5C-59BAECEE9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F4910-F1F5-41E0-8689-33532B0C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4A6A0-7A09-4FFC-97C8-8CBFBB9E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54E5-09A0-44BF-A355-ED9518AE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1CF37-BBE4-4F9C-8366-CD2657F0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8719C-B8F9-4B8C-8B94-AE272ABF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DF1D1-8B11-445B-8580-00D4C328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0A825-3A7B-46C1-96F4-B356024F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437B1-6C7A-4FC0-831B-EAA1D4D7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515E6-7F58-4F09-BFC4-9D121083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703A3-8242-43C3-935A-22721C54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C9A4D-A25D-4BE8-9D11-FA2510BD7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DB12E-986F-49CF-AD0C-489715B22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FDE0C-453B-416D-8B1C-4E0E49FD0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6B49-E305-46CD-8E5C-E5F40145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2C4B1-3B12-44D4-BA07-8CAF9398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F764D-9A57-4708-819E-565EDE26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7CF54-A025-4096-BDC7-A809C28E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2950A-31E4-4F15-9E12-97736768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9C992-6D67-48BC-9E77-92E3976E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56BDD-F492-4266-BEA8-2B684274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84CF4-7FF5-4F80-B6C6-5AB6FE0F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95C9A-AA50-4855-9716-A417B2DB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AC4AE-D925-4C5D-A69D-DD4FEF33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7A520-8495-4FB5-8219-3E1B40015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678E-DD43-45D7-ACDD-98894A30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BECD3-4A33-45A5-AF78-956B99ECE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6E3FB-AB8F-4D95-8133-052D778C1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1DA33-EDB6-4AFB-A943-F66D67CC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C2886-54A2-4BA2-935E-3298B8F4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C7E8D-59F5-4225-98BD-59550CE7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DCA7B-4432-4858-8667-737CAE1D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D4E78-98BA-473B-9F73-5AC48D1F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16ACE-ABC0-4C16-879A-EE017316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FC5AC-16C3-4358-A8E5-EF8A0537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0A4C5-277B-4527-B3DB-91C8E4F3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8A4F-8F55-4916-8609-B3361F73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045D2-8E74-498F-B576-B46CD2AB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C5FB5-8485-4591-805B-AF9D817C6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B1CB5-6D1C-497B-BB69-DEBB7A63C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18308-008F-491E-AF7A-02CC60D99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7700E-DF8E-47C3-8567-13E54FB9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68992-E100-4721-96A6-42685B66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DAF72-5901-4235-93D7-86CC6AFE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C9068-00DD-4FA6-B27D-BD13F2B7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1DEFB-0961-46EC-95ED-23DFE81E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46321-9150-413D-B1C9-B0DC7BA9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BE7B-BA39-4136-BFCD-F982CE4C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C53BF-16AD-4A7E-B429-63DB97C7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65B2F-9FE5-4627-9A28-487703EB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0F205-B726-4EF5-93CB-62C50AFF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FC8B5-52B6-420A-816B-12F56EAE7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CB151-3B6A-46E9-8464-F37180B36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00937-1C9C-418F-9B6A-DAA90DAEF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32176-BB91-4176-A0F4-3A4CA634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BC61C-95A9-4B05-BFD3-CB3556B8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6F923-3956-4365-9B2B-3B35A30B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9D732-B5D0-4B53-9C88-8B4D74B9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B843-31B4-4E2A-816B-7D24ED95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7799D-A909-4931-838A-15E83C25E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214EB-CD23-4C93-9EF9-DF083881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8DCE5-E98F-4F04-BC15-724E7379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70510-7FE0-4A59-9AD1-ACE9B6BB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2761A-3169-498B-B83B-D597808B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57EEC-1784-41CA-8352-47F9630C9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880A7-25AD-4C06-8C2E-BE39F69FB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46D83B-FB9C-433A-9BE0-97B58B398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3C6978-6F4F-4607-BD3D-49B8D99C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0726AC-C251-4348-BA44-35DB39D5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B903-10DA-4421-BE5E-2E5FE1F1A643}" type="slidenum">
              <a:rPr b="1" lang="ar-S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4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4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4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4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EEAF-172E-438E-B34C-D500E4199768}" type="slidenum">
              <a:rPr b="0" lang="ar-EG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4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9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B212-8E2C-44EC-9F3A-52ABD3CF8363}" type="slidenum">
              <a:rPr b="0" lang="ar-EG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4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4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4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457A-1B73-46CD-BD09-93275419EDF3}" type="slidenum">
              <a:rPr b="0" lang="ar-EG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94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9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7575-791D-4FD2-87A4-A0B4513C8D5E}" type="slidenum">
              <a:rPr b="0" lang="ar-EG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2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3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4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sldNum" idx="4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5323-E5CF-40BD-8663-1C166E9ABB9A}" type="slidenum">
              <a:rPr b="0" lang="ar-EG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68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89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69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69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9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AEFB-EA63-4A3C-926C-0AF88487CFED}" type="slidenum">
              <a:rPr b="0" lang="ar-EG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3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39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74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74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4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4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53DD-C6FA-40E4-945A-9213373664F5}" type="slidenum">
              <a:rPr b="0" lang="ar-EG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787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8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89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790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1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dt" idx="4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ftr" idx="5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 type="sldNum" idx="51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224C-5937-40B3-84C7-DB1EB927CE9F}" type="slidenum">
              <a:rPr b="1" lang="ar-S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834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5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836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837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8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 type="dt" idx="5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 type="ftr" idx="5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 type="sldNum" idx="54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5493-4EEC-4AFD-B090-915057584ED5}" type="slidenum">
              <a:rPr b="1" lang="ar-S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A88B-E253-4371-9BE5-2446F3952E2A}" type="slidenum">
              <a:rPr b="0" lang="ar-EG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6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99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00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1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03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4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BAB6-14D3-41EC-A107-1FD09EA2354C}" type="slidenum">
              <a:rPr b="1" lang="ar-S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47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48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50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51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2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59BF-F314-4851-8516-9C885B957AD9}" type="slidenum">
              <a:rPr b="1" lang="ar-S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95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97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98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9D4A-0D4B-4AD3-882C-D77417D94323}" type="slidenum">
              <a:rPr b="1" lang="ar-S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4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4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4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4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300A-CCF8-4B1E-B864-1CCD1C49A213}" type="slidenum">
              <a:rPr b="0" lang="ar-EG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4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9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E3A0-9BEB-43B0-B71A-61567A01088F}" type="slidenum">
              <a:rPr b="0" lang="ar-EG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44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4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4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4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B74E-FDAB-47BC-B1B5-AD2C6B7E11DA}" type="slidenum">
              <a:rPr b="0" lang="ar-EG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94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9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AE13-A2A9-42F6-AA36-2F51F4537EC0}" type="slidenum">
              <a:rPr b="0" lang="ar-EG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10"/>
          <p:cNvSpPr/>
          <p:nvPr/>
        </p:nvSpPr>
        <p:spPr>
          <a:xfrm>
            <a:off x="-135720" y="587520"/>
            <a:ext cx="9326520" cy="703440"/>
          </a:xfrm>
          <a:prstGeom prst="rect">
            <a:avLst/>
          </a:prstGeom>
          <a:solidFill>
            <a:srgbClr val="b3e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Lecture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: Nucleic acids </a:t>
            </a: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(DNA &amp; RNA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1" name="Line 5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882" name="Group 7"/>
          <p:cNvGrpSpPr/>
          <p:nvPr/>
        </p:nvGrpSpPr>
        <p:grpSpPr>
          <a:xfrm>
            <a:off x="228600" y="1600200"/>
            <a:ext cx="8686440" cy="4876560"/>
            <a:chOff x="228600" y="1600200"/>
            <a:chExt cx="8686440" cy="4876560"/>
          </a:xfrm>
        </p:grpSpPr>
        <p:sp>
          <p:nvSpPr>
            <p:cNvPr id="883" name="Rectangle 8"/>
            <p:cNvSpPr/>
            <p:nvPr/>
          </p:nvSpPr>
          <p:spPr>
            <a:xfrm>
              <a:off x="228600" y="1600200"/>
              <a:ext cx="8686440" cy="4876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884" name="Picture 9" descr=""/>
            <p:cNvPicPr/>
            <p:nvPr/>
          </p:nvPicPr>
          <p:blipFill>
            <a:blip r:embed="rId1"/>
            <a:srcRect l="0" t="0" r="0" b="4968"/>
            <a:stretch/>
          </p:blipFill>
          <p:spPr>
            <a:xfrm>
              <a:off x="316440" y="1695240"/>
              <a:ext cx="8540280" cy="4677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2"/>
          <p:cNvSpPr/>
          <p:nvPr/>
        </p:nvSpPr>
        <p:spPr>
          <a:xfrm>
            <a:off x="76320" y="4343400"/>
            <a:ext cx="853416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Genes are normally hundreds to thousands of nucleotides long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linear order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</a:rPr>
              <a:t>الترتيب التتابع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</a:rPr>
              <a:t>ي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f bases in a gene specifie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</a:rPr>
              <a:t>يُحد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</a:rPr>
              <a:t>ّ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</a:rPr>
              <a:t>د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order of amino acid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</a:rPr>
              <a:t>ترتيب الأحماض الأميني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(the monomers of a protein)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2" name="Rectangle 3"/>
          <p:cNvSpPr/>
          <p:nvPr/>
        </p:nvSpPr>
        <p:spPr>
          <a:xfrm>
            <a:off x="76320" y="30492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Types of RNA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3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4" name="Rectangle 2"/>
          <p:cNvSpPr/>
          <p:nvPr/>
        </p:nvSpPr>
        <p:spPr>
          <a:xfrm>
            <a:off x="76320" y="1295280"/>
            <a:ext cx="853416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00b050"/>
              </a:buClr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Messenger RNA (mRNA):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olecule in cells that carries the DNA sequence information from the nucleus to the ribosomes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00b050"/>
              </a:buClr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Transfer RNA (tRNA):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olecule in cells that brings the amino acids and transport them to the ribosome for making protein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00b050"/>
              </a:buClr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Ribosomal RNA (rRNA):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structural and functional part of the ribosome.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Text Box 2"/>
          <p:cNvSpPr/>
          <p:nvPr/>
        </p:nvSpPr>
        <p:spPr>
          <a:xfrm>
            <a:off x="457200" y="1239840"/>
            <a:ext cx="373392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Repeated Sugar - Phospha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6" name="Text Box 3"/>
          <p:cNvSpPr/>
          <p:nvPr/>
        </p:nvSpPr>
        <p:spPr>
          <a:xfrm>
            <a:off x="457200" y="2001960"/>
            <a:ext cx="335268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Phosphate - Sugar - Ba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7" name="Text Box 4"/>
          <p:cNvSpPr/>
          <p:nvPr/>
        </p:nvSpPr>
        <p:spPr>
          <a:xfrm>
            <a:off x="457200" y="2687760"/>
            <a:ext cx="23623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Polynucleoti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18" name="Group 5"/>
          <p:cNvGrpSpPr/>
          <p:nvPr/>
        </p:nvGrpSpPr>
        <p:grpSpPr>
          <a:xfrm>
            <a:off x="4495680" y="1163520"/>
            <a:ext cx="4191120" cy="947160"/>
            <a:chOff x="4495680" y="1163520"/>
            <a:chExt cx="4191120" cy="947160"/>
          </a:xfrm>
        </p:grpSpPr>
        <p:sp>
          <p:nvSpPr>
            <p:cNvPr id="1019" name="Text Box 6"/>
            <p:cNvSpPr/>
            <p:nvPr/>
          </p:nvSpPr>
          <p:spPr>
            <a:xfrm>
              <a:off x="5867280" y="1163520"/>
              <a:ext cx="2819520" cy="9471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00"/>
                  </a:solidFill>
                  <a:latin typeface="Constantia"/>
                </a:rPr>
                <a:t>DNA backbone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20" name="AutoShape 7"/>
            <p:cNvSpPr/>
            <p:nvPr/>
          </p:nvSpPr>
          <p:spPr>
            <a:xfrm>
              <a:off x="4495680" y="1295280"/>
              <a:ext cx="1143000" cy="380880"/>
            </a:xfrm>
            <a:prstGeom prst="rightArrow">
              <a:avLst>
                <a:gd name="adj1" fmla="val 50000"/>
                <a:gd name="adj2" fmla="val 75024"/>
              </a:avLst>
            </a:prstGeom>
            <a:solidFill>
              <a:srgbClr val="66ff33"/>
            </a:solidFill>
            <a:ln w="9360">
              <a:solidFill>
                <a:srgbClr val="003366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21" name="Group 8"/>
          <p:cNvGrpSpPr/>
          <p:nvPr/>
        </p:nvGrpSpPr>
        <p:grpSpPr>
          <a:xfrm>
            <a:off x="4495680" y="1925640"/>
            <a:ext cx="4191120" cy="947160"/>
            <a:chOff x="4495680" y="1925640"/>
            <a:chExt cx="4191120" cy="947160"/>
          </a:xfrm>
        </p:grpSpPr>
        <p:sp>
          <p:nvSpPr>
            <p:cNvPr id="1022" name="Text Box 9"/>
            <p:cNvSpPr/>
            <p:nvPr/>
          </p:nvSpPr>
          <p:spPr>
            <a:xfrm>
              <a:off x="5867280" y="1925640"/>
              <a:ext cx="2819520" cy="9471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00"/>
                  </a:solidFill>
                  <a:latin typeface="Constantia"/>
                </a:rPr>
                <a:t>One nucleotide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23" name="AutoShape 10"/>
            <p:cNvSpPr/>
            <p:nvPr/>
          </p:nvSpPr>
          <p:spPr>
            <a:xfrm>
              <a:off x="4495680" y="1981080"/>
              <a:ext cx="1143000" cy="380880"/>
            </a:xfrm>
            <a:prstGeom prst="rightArrow">
              <a:avLst>
                <a:gd name="adj1" fmla="val 50000"/>
                <a:gd name="adj2" fmla="val 120038"/>
              </a:avLst>
            </a:prstGeom>
            <a:solidFill>
              <a:srgbClr val="66ff33"/>
            </a:solidFill>
            <a:ln w="9360">
              <a:solidFill>
                <a:srgbClr val="003366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24" name="Group 11"/>
          <p:cNvGrpSpPr/>
          <p:nvPr/>
        </p:nvGrpSpPr>
        <p:grpSpPr>
          <a:xfrm>
            <a:off x="4495680" y="2687760"/>
            <a:ext cx="4191120" cy="520560"/>
            <a:chOff x="4495680" y="2687760"/>
            <a:chExt cx="4191120" cy="520560"/>
          </a:xfrm>
        </p:grpSpPr>
        <p:sp>
          <p:nvSpPr>
            <p:cNvPr id="1025" name="Text Box 12"/>
            <p:cNvSpPr/>
            <p:nvPr/>
          </p:nvSpPr>
          <p:spPr>
            <a:xfrm>
              <a:off x="5867280" y="2687760"/>
              <a:ext cx="2819520" cy="5205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00"/>
                  </a:solidFill>
                  <a:latin typeface="Constantia"/>
                </a:rPr>
                <a:t>DNA Molecule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26" name="AutoShape 13"/>
            <p:cNvSpPr/>
            <p:nvPr/>
          </p:nvSpPr>
          <p:spPr>
            <a:xfrm>
              <a:off x="4495680" y="2743200"/>
              <a:ext cx="1143000" cy="380520"/>
            </a:xfrm>
            <a:prstGeom prst="rightArrow">
              <a:avLst>
                <a:gd name="adj1" fmla="val 50000"/>
                <a:gd name="adj2" fmla="val 155195"/>
              </a:avLst>
            </a:prstGeom>
            <a:solidFill>
              <a:srgbClr val="66ff33"/>
            </a:solidFill>
            <a:ln w="9360">
              <a:solidFill>
                <a:srgbClr val="003366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27" name="Group 16"/>
          <p:cNvGrpSpPr/>
          <p:nvPr/>
        </p:nvGrpSpPr>
        <p:grpSpPr>
          <a:xfrm>
            <a:off x="762120" y="4800600"/>
            <a:ext cx="6705360" cy="1251720"/>
            <a:chOff x="762120" y="4800600"/>
            <a:chExt cx="6705360" cy="1251720"/>
          </a:xfrm>
        </p:grpSpPr>
        <p:grpSp>
          <p:nvGrpSpPr>
            <p:cNvPr id="1028" name="Group 16"/>
            <p:cNvGrpSpPr/>
            <p:nvPr/>
          </p:nvGrpSpPr>
          <p:grpSpPr>
            <a:xfrm>
              <a:off x="2438280" y="4800600"/>
              <a:ext cx="457200" cy="840600"/>
              <a:chOff x="2438280" y="4800600"/>
              <a:chExt cx="457200" cy="840600"/>
            </a:xfrm>
          </p:grpSpPr>
          <p:sp>
            <p:nvSpPr>
              <p:cNvPr id="1029" name="Text Box 17"/>
              <p:cNvSpPr/>
              <p:nvPr/>
            </p:nvSpPr>
            <p:spPr>
              <a:xfrm>
                <a:off x="2438280" y="5181480"/>
                <a:ext cx="457200" cy="4597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U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30" name="Line 18"/>
              <p:cNvSpPr/>
              <p:nvPr/>
            </p:nvSpPr>
            <p:spPr>
              <a:xfrm flipV="1">
                <a:off x="2666880" y="4800600"/>
                <a:ext cx="0" cy="380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31" name="Group 19"/>
            <p:cNvGrpSpPr/>
            <p:nvPr/>
          </p:nvGrpSpPr>
          <p:grpSpPr>
            <a:xfrm>
              <a:off x="3048120" y="4800600"/>
              <a:ext cx="457200" cy="840600"/>
              <a:chOff x="3048120" y="4800600"/>
              <a:chExt cx="457200" cy="840600"/>
            </a:xfrm>
          </p:grpSpPr>
          <p:sp>
            <p:nvSpPr>
              <p:cNvPr id="1032" name="Text Box 20"/>
              <p:cNvSpPr/>
              <p:nvPr/>
            </p:nvSpPr>
            <p:spPr>
              <a:xfrm>
                <a:off x="3048120" y="5181480"/>
                <a:ext cx="457200" cy="4597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33" name="Line 21"/>
              <p:cNvSpPr/>
              <p:nvPr/>
            </p:nvSpPr>
            <p:spPr>
              <a:xfrm flipV="1">
                <a:off x="3276720" y="4800600"/>
                <a:ext cx="0" cy="380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34" name="Group 22"/>
            <p:cNvGrpSpPr/>
            <p:nvPr/>
          </p:nvGrpSpPr>
          <p:grpSpPr>
            <a:xfrm>
              <a:off x="3657600" y="4800600"/>
              <a:ext cx="457200" cy="840600"/>
              <a:chOff x="3657600" y="4800600"/>
              <a:chExt cx="457200" cy="840600"/>
            </a:xfrm>
          </p:grpSpPr>
          <p:sp>
            <p:nvSpPr>
              <p:cNvPr id="1035" name="Text Box 23"/>
              <p:cNvSpPr/>
              <p:nvPr/>
            </p:nvSpPr>
            <p:spPr>
              <a:xfrm>
                <a:off x="3657600" y="5181480"/>
                <a:ext cx="457200" cy="4597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G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36" name="Line 24"/>
              <p:cNvSpPr/>
              <p:nvPr/>
            </p:nvSpPr>
            <p:spPr>
              <a:xfrm flipV="1">
                <a:off x="3886200" y="4800600"/>
                <a:ext cx="0" cy="380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37" name="Group 25"/>
            <p:cNvGrpSpPr/>
            <p:nvPr/>
          </p:nvGrpSpPr>
          <p:grpSpPr>
            <a:xfrm>
              <a:off x="4267080" y="4800600"/>
              <a:ext cx="457200" cy="840600"/>
              <a:chOff x="4267080" y="4800600"/>
              <a:chExt cx="457200" cy="840600"/>
            </a:xfrm>
          </p:grpSpPr>
          <p:sp>
            <p:nvSpPr>
              <p:cNvPr id="1038" name="Text Box 26"/>
              <p:cNvSpPr/>
              <p:nvPr/>
            </p:nvSpPr>
            <p:spPr>
              <a:xfrm>
                <a:off x="4267080" y="5181480"/>
                <a:ext cx="457200" cy="4597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39" name="Line 27"/>
              <p:cNvSpPr/>
              <p:nvPr/>
            </p:nvSpPr>
            <p:spPr>
              <a:xfrm flipV="1">
                <a:off x="4495680" y="4800600"/>
                <a:ext cx="0" cy="380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40" name="Group 28"/>
            <p:cNvGrpSpPr/>
            <p:nvPr/>
          </p:nvGrpSpPr>
          <p:grpSpPr>
            <a:xfrm>
              <a:off x="4876920" y="4800600"/>
              <a:ext cx="457200" cy="840600"/>
              <a:chOff x="4876920" y="4800600"/>
              <a:chExt cx="457200" cy="840600"/>
            </a:xfrm>
          </p:grpSpPr>
          <p:sp>
            <p:nvSpPr>
              <p:cNvPr id="1041" name="Text Box 29"/>
              <p:cNvSpPr/>
              <p:nvPr/>
            </p:nvSpPr>
            <p:spPr>
              <a:xfrm>
                <a:off x="4876920" y="5181480"/>
                <a:ext cx="457200" cy="4597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U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42" name="Line 30"/>
              <p:cNvSpPr/>
              <p:nvPr/>
            </p:nvSpPr>
            <p:spPr>
              <a:xfrm flipV="1">
                <a:off x="5105520" y="4800600"/>
                <a:ext cx="0" cy="380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43" name="Group 31"/>
            <p:cNvGrpSpPr/>
            <p:nvPr/>
          </p:nvGrpSpPr>
          <p:grpSpPr>
            <a:xfrm>
              <a:off x="5486400" y="4800600"/>
              <a:ext cx="457200" cy="840600"/>
              <a:chOff x="5486400" y="4800600"/>
              <a:chExt cx="457200" cy="840600"/>
            </a:xfrm>
          </p:grpSpPr>
          <p:sp>
            <p:nvSpPr>
              <p:cNvPr id="1044" name="Text Box 32"/>
              <p:cNvSpPr/>
              <p:nvPr/>
            </p:nvSpPr>
            <p:spPr>
              <a:xfrm>
                <a:off x="5486400" y="5181480"/>
                <a:ext cx="457200" cy="4597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45" name="Line 33"/>
              <p:cNvSpPr/>
              <p:nvPr/>
            </p:nvSpPr>
            <p:spPr>
              <a:xfrm flipV="1">
                <a:off x="5715000" y="4800600"/>
                <a:ext cx="0" cy="380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46" name="Group 34"/>
            <p:cNvGrpSpPr/>
            <p:nvPr/>
          </p:nvGrpSpPr>
          <p:grpSpPr>
            <a:xfrm>
              <a:off x="6095880" y="4800600"/>
              <a:ext cx="457200" cy="840600"/>
              <a:chOff x="6095880" y="4800600"/>
              <a:chExt cx="457200" cy="840600"/>
            </a:xfrm>
          </p:grpSpPr>
          <p:sp>
            <p:nvSpPr>
              <p:cNvPr id="1047" name="Text Box 35"/>
              <p:cNvSpPr/>
              <p:nvPr/>
            </p:nvSpPr>
            <p:spPr>
              <a:xfrm>
                <a:off x="6095880" y="5181480"/>
                <a:ext cx="457200" cy="4597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G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48" name="Line 36"/>
              <p:cNvSpPr/>
              <p:nvPr/>
            </p:nvSpPr>
            <p:spPr>
              <a:xfrm flipV="1">
                <a:off x="6324480" y="4800600"/>
                <a:ext cx="0" cy="380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49" name="Group 15"/>
            <p:cNvGrpSpPr/>
            <p:nvPr/>
          </p:nvGrpSpPr>
          <p:grpSpPr>
            <a:xfrm>
              <a:off x="762120" y="5105160"/>
              <a:ext cx="6705360" cy="947160"/>
              <a:chOff x="762120" y="5105160"/>
              <a:chExt cx="6705360" cy="947160"/>
            </a:xfrm>
          </p:grpSpPr>
          <p:sp>
            <p:nvSpPr>
              <p:cNvPr id="1050" name="Line 46"/>
              <p:cNvSpPr/>
              <p:nvPr/>
            </p:nvSpPr>
            <p:spPr>
              <a:xfrm>
                <a:off x="6553080" y="5410080"/>
                <a:ext cx="914400" cy="0"/>
              </a:xfrm>
              <a:prstGeom prst="line">
                <a:avLst/>
              </a:prstGeom>
              <a:ln w="76320">
                <a:solidFill>
                  <a:srgbClr val="ff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51" name="Text Box 50"/>
              <p:cNvSpPr/>
              <p:nvPr/>
            </p:nvSpPr>
            <p:spPr>
              <a:xfrm>
                <a:off x="762120" y="5105160"/>
                <a:ext cx="12952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Constantia"/>
                  </a:rPr>
                  <a:t>mRNA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1052" name="Group 14"/>
          <p:cNvGrpSpPr/>
          <p:nvPr/>
        </p:nvGrpSpPr>
        <p:grpSpPr>
          <a:xfrm>
            <a:off x="838080" y="4343400"/>
            <a:ext cx="6629400" cy="520560"/>
            <a:chOff x="838080" y="4343400"/>
            <a:chExt cx="6629400" cy="520560"/>
          </a:xfrm>
        </p:grpSpPr>
        <p:grpSp>
          <p:nvGrpSpPr>
            <p:cNvPr id="1053" name="Group 37"/>
            <p:cNvGrpSpPr/>
            <p:nvPr/>
          </p:nvGrpSpPr>
          <p:grpSpPr>
            <a:xfrm>
              <a:off x="2438280" y="4343400"/>
              <a:ext cx="5029200" cy="459720"/>
              <a:chOff x="2438280" y="4343400"/>
              <a:chExt cx="5029200" cy="459720"/>
            </a:xfrm>
          </p:grpSpPr>
          <p:sp>
            <p:nvSpPr>
              <p:cNvPr id="1054" name="Text Box 38"/>
              <p:cNvSpPr/>
              <p:nvPr/>
            </p:nvSpPr>
            <p:spPr>
              <a:xfrm>
                <a:off x="2438280" y="4343400"/>
                <a:ext cx="457200" cy="4597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55" name="Text Box 39"/>
              <p:cNvSpPr/>
              <p:nvPr/>
            </p:nvSpPr>
            <p:spPr>
              <a:xfrm>
                <a:off x="3048120" y="4343400"/>
                <a:ext cx="457200" cy="4597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G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56" name="Text Box 40"/>
              <p:cNvSpPr/>
              <p:nvPr/>
            </p:nvSpPr>
            <p:spPr>
              <a:xfrm>
                <a:off x="5486400" y="4343400"/>
                <a:ext cx="457200" cy="4597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57" name="Text Box 41"/>
              <p:cNvSpPr/>
              <p:nvPr/>
            </p:nvSpPr>
            <p:spPr>
              <a:xfrm>
                <a:off x="3657600" y="4343400"/>
                <a:ext cx="457200" cy="4597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58" name="Text Box 42"/>
              <p:cNvSpPr/>
              <p:nvPr/>
            </p:nvSpPr>
            <p:spPr>
              <a:xfrm>
                <a:off x="4267080" y="4343400"/>
                <a:ext cx="457200" cy="4597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59" name="Text Box 43"/>
              <p:cNvSpPr/>
              <p:nvPr/>
            </p:nvSpPr>
            <p:spPr>
              <a:xfrm>
                <a:off x="4876920" y="4343400"/>
                <a:ext cx="457200" cy="4597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60" name="Text Box 44"/>
              <p:cNvSpPr/>
              <p:nvPr/>
            </p:nvSpPr>
            <p:spPr>
              <a:xfrm>
                <a:off x="6095880" y="4343400"/>
                <a:ext cx="457200" cy="4597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61" name="Line 45"/>
              <p:cNvSpPr/>
              <p:nvPr/>
            </p:nvSpPr>
            <p:spPr>
              <a:xfrm>
                <a:off x="6553080" y="4572000"/>
                <a:ext cx="914400" cy="0"/>
              </a:xfrm>
              <a:prstGeom prst="line">
                <a:avLst/>
              </a:prstGeom>
              <a:ln w="76320">
                <a:solidFill>
                  <a:srgbClr val="ff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62" name="Text Box 51"/>
            <p:cNvSpPr/>
            <p:nvPr/>
          </p:nvSpPr>
          <p:spPr>
            <a:xfrm>
              <a:off x="838080" y="434340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3300"/>
                  </a:solidFill>
                  <a:latin typeface="Constantia"/>
                </a:rPr>
                <a:t>D</a:t>
              </a:r>
              <a:r>
                <a:rPr b="1" lang="en-US" sz="2800" spc="-1" strike="noStrike">
                  <a:solidFill>
                    <a:srgbClr val="ff3300"/>
                  </a:solidFill>
                  <a:latin typeface="Constantia"/>
                </a:rPr>
                <a:t>NA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0" dur="2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/>
          </p:nvPr>
        </p:nvSpPr>
        <p:spPr>
          <a:xfrm>
            <a:off x="75960" y="1219320"/>
            <a:ext cx="89154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nstantia"/>
              </a:rPr>
              <a:t>There are two types of nucleic acids: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339933"/>
              </a:buClr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Constantia"/>
              </a:rPr>
              <a:t>D</a:t>
            </a:r>
            <a:r>
              <a:rPr b="0" lang="en-US" sz="2200" spc="-1" strike="noStrike">
                <a:solidFill>
                  <a:srgbClr val="ff3300"/>
                </a:solidFill>
                <a:latin typeface="Constantia"/>
              </a:rPr>
              <a:t>eoxyribo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Constantia"/>
              </a:rPr>
              <a:t>n</a:t>
            </a:r>
            <a:r>
              <a:rPr b="0" lang="en-US" sz="2200" spc="-1" strike="noStrike">
                <a:solidFill>
                  <a:srgbClr val="ff3300"/>
                </a:solidFill>
                <a:latin typeface="Constantia"/>
              </a:rPr>
              <a:t>ucleic 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Constantia"/>
              </a:rPr>
              <a:t>a</a:t>
            </a:r>
            <a:r>
              <a:rPr b="0" lang="en-US" sz="2200" spc="-1" strike="noStrike">
                <a:solidFill>
                  <a:srgbClr val="ff3300"/>
                </a:solidFill>
                <a:latin typeface="Constantia"/>
              </a:rPr>
              <a:t>cid (</a:t>
            </a:r>
            <a:r>
              <a:rPr b="1" lang="en-US" sz="2200" spc="-1" strike="noStrike">
                <a:solidFill>
                  <a:srgbClr val="0000ff"/>
                </a:solidFill>
                <a:latin typeface="Constantia"/>
              </a:rPr>
              <a:t>DNA):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s the genetic material </a:t>
            </a:r>
            <a:r>
              <a:rPr b="0" lang="ar-SA" sz="2200" spc="-1" strike="noStrike">
                <a:solidFill>
                  <a:srgbClr val="ff0000"/>
                </a:solidFill>
                <a:latin typeface="Maj"/>
              </a:rPr>
              <a:t>المادة الوراثية</a:t>
            </a:r>
            <a:r>
              <a:rPr b="0" lang="en-US" sz="2200" spc="-1" strike="noStrike">
                <a:solidFill>
                  <a:srgbClr val="ff0000"/>
                </a:solidFill>
                <a:latin typeface="Maj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 most organisms (humans, animals, bacteria, plants, and some viruses).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339933"/>
              </a:buClr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Constantia"/>
              </a:rPr>
              <a:t>R</a:t>
            </a:r>
            <a:r>
              <a:rPr b="0" lang="en-US" sz="2200" spc="-1" strike="noStrike">
                <a:solidFill>
                  <a:srgbClr val="ff3300"/>
                </a:solidFill>
                <a:latin typeface="Constantia"/>
              </a:rPr>
              <a:t>ibo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Constantia"/>
              </a:rPr>
              <a:t>n</a:t>
            </a:r>
            <a:r>
              <a:rPr b="0" lang="en-US" sz="2200" spc="-1" strike="noStrike">
                <a:solidFill>
                  <a:srgbClr val="ff3300"/>
                </a:solidFill>
                <a:latin typeface="Constantia"/>
              </a:rPr>
              <a:t>ucleic 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Constantia"/>
              </a:rPr>
              <a:t>a</a:t>
            </a:r>
            <a:r>
              <a:rPr b="0" lang="en-US" sz="2200" spc="-1" strike="noStrike">
                <a:solidFill>
                  <a:srgbClr val="ff3300"/>
                </a:solidFill>
                <a:latin typeface="Constantia"/>
              </a:rPr>
              <a:t>cid</a:t>
            </a:r>
            <a:r>
              <a:rPr b="1" lang="en-US" sz="2200" spc="-1" strike="noStrike">
                <a:solidFill>
                  <a:srgbClr val="0000ff"/>
                </a:solidFill>
                <a:latin typeface="Constantia"/>
              </a:rPr>
              <a:t> (RNA):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 some viruses, RNA serves as the genetic material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339933"/>
              </a:buClr>
              <a:buSzPct val="7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933"/>
                </a:solidFill>
                <a:latin typeface="Constantia"/>
              </a:rPr>
              <a:t>Nucleic acids store and transmit genetic information  </a:t>
            </a:r>
            <a:r>
              <a:rPr b="0" lang="ar-SA" sz="2200" spc="-1" strike="noStrike">
                <a:solidFill>
                  <a:srgbClr val="ff0000"/>
                </a:solidFill>
                <a:latin typeface="Maj"/>
              </a:rPr>
              <a:t>المعلومات الوراثية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339933"/>
              </a:buClr>
              <a:buSzPct val="7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933"/>
                </a:solidFill>
                <a:latin typeface="Constantia"/>
              </a:rPr>
              <a:t>Organisms inherit </a:t>
            </a:r>
            <a:r>
              <a:rPr b="0" lang="ar-EG" sz="2200" spc="-1" strike="noStrike">
                <a:solidFill>
                  <a:srgbClr val="ff0000"/>
                </a:solidFill>
                <a:latin typeface="Maj"/>
              </a:rPr>
              <a:t>ت</a:t>
            </a:r>
            <a:r>
              <a:rPr b="0" lang="ar-SA" sz="2200" spc="-1" strike="noStrike">
                <a:solidFill>
                  <a:srgbClr val="ff0000"/>
                </a:solidFill>
                <a:latin typeface="Maj"/>
              </a:rPr>
              <a:t>رث</a:t>
            </a:r>
            <a:r>
              <a:rPr b="0" lang="en-US" sz="2200" spc="-1" strike="noStrike">
                <a:solidFill>
                  <a:srgbClr val="001933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1933"/>
                </a:solidFill>
                <a:latin typeface="Constantia"/>
              </a:rPr>
              <a:t>DNA from their parents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865080" indent="-342720" algn="just">
              <a:lnSpc>
                <a:spcPct val="120000"/>
              </a:lnSpc>
              <a:buClr>
                <a:srgbClr val="339933"/>
              </a:buClr>
              <a:buSzPct val="7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ach DNA molecule is very long and usually consists of hundreds to thousands of genes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865080" indent="-342720" algn="just">
              <a:lnSpc>
                <a:spcPct val="120000"/>
              </a:lnSpc>
              <a:buClr>
                <a:srgbClr val="339933"/>
              </a:buClr>
              <a:buSzPct val="7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 gene is a small region in the DNA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865080" indent="-342720" algn="just">
              <a:lnSpc>
                <a:spcPct val="120000"/>
              </a:lnSpc>
              <a:buClr>
                <a:srgbClr val="339933"/>
              </a:buClr>
              <a:buSzPct val="7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When a cell divides </a:t>
            </a:r>
            <a:r>
              <a:rPr b="0" lang="ar-EG" sz="2200" spc="-1" strike="noStrike">
                <a:solidFill>
                  <a:srgbClr val="ff0000"/>
                </a:solidFill>
                <a:latin typeface="Maj"/>
              </a:rPr>
              <a:t>تنقسم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, its DNA is copied and passed to the next generation of cells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6" name="Rectangle 3"/>
          <p:cNvSpPr/>
          <p:nvPr/>
        </p:nvSpPr>
        <p:spPr>
          <a:xfrm>
            <a:off x="685800" y="30492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Types of nucleic acid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7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3"/>
          <p:cNvSpPr/>
          <p:nvPr/>
        </p:nvSpPr>
        <p:spPr>
          <a:xfrm>
            <a:off x="685800" y="30492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The Watson-Crick model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9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0" name="Rectangle 16"/>
          <p:cNvSpPr/>
          <p:nvPr/>
        </p:nvSpPr>
        <p:spPr>
          <a:xfrm>
            <a:off x="76320" y="484344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structure of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DNA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was discovered by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Watson and Crick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953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 They found the DNA is double helix </a:t>
            </a:r>
            <a:r>
              <a:rPr b="0" lang="ar-SA" sz="2000" spc="-1" strike="noStrike">
                <a:solidFill>
                  <a:srgbClr val="ff0000"/>
                </a:solidFill>
                <a:latin typeface="Maj"/>
              </a:rPr>
              <a:t>حلزون مزدوج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ith the sugar-phosphate backbones on the outside and the bases on the inside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891" name="Group 3"/>
          <p:cNvGrpSpPr/>
          <p:nvPr/>
        </p:nvGrpSpPr>
        <p:grpSpPr>
          <a:xfrm>
            <a:off x="609480" y="1371600"/>
            <a:ext cx="7805880" cy="3200400"/>
            <a:chOff x="609480" y="1371600"/>
            <a:chExt cx="7805880" cy="3200400"/>
          </a:xfrm>
        </p:grpSpPr>
        <p:grpSp>
          <p:nvGrpSpPr>
            <p:cNvPr id="892" name="Group 6"/>
            <p:cNvGrpSpPr/>
            <p:nvPr/>
          </p:nvGrpSpPr>
          <p:grpSpPr>
            <a:xfrm>
              <a:off x="609480" y="1371600"/>
              <a:ext cx="7805880" cy="3200400"/>
              <a:chOff x="609480" y="1371600"/>
              <a:chExt cx="7805880" cy="3200400"/>
            </a:xfrm>
          </p:grpSpPr>
          <p:pic>
            <p:nvPicPr>
              <p:cNvPr id="893" name="Picture 8" descr=""/>
              <p:cNvPicPr/>
              <p:nvPr/>
            </p:nvPicPr>
            <p:blipFill>
              <a:blip r:embed="rId1"/>
              <a:srcRect l="0" t="0" r="25689" b="4968"/>
              <a:stretch/>
            </p:blipFill>
            <p:spPr>
              <a:xfrm>
                <a:off x="609480" y="1422360"/>
                <a:ext cx="4586400" cy="310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4" name="Rectangle 10"/>
              <p:cNvSpPr/>
              <p:nvPr/>
            </p:nvSpPr>
            <p:spPr>
              <a:xfrm>
                <a:off x="609480" y="1371600"/>
                <a:ext cx="7805880" cy="3200400"/>
              </a:xfrm>
              <a:prstGeom prst="rect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pic>
          <p:nvPicPr>
            <p:cNvPr id="895" name="Picture 17" descr="hyd8760x_0714"/>
            <p:cNvPicPr/>
            <p:nvPr/>
          </p:nvPicPr>
          <p:blipFill>
            <a:blip r:embed="rId2"/>
            <a:srcRect l="0" t="3021" r="0" b="2328"/>
            <a:stretch/>
          </p:blipFill>
          <p:spPr>
            <a:xfrm>
              <a:off x="5186520" y="1400040"/>
              <a:ext cx="3152880" cy="3148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/>
          </p:nvPr>
        </p:nvSpPr>
        <p:spPr>
          <a:xfrm>
            <a:off x="75960" y="1211400"/>
            <a:ext cx="8915400" cy="22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Nucleic acids (polymers) are made of </a:t>
            </a:r>
            <a:r>
              <a:rPr b="0" lang="ar-SA" sz="2000" spc="-1" strike="noStrike">
                <a:solidFill>
                  <a:srgbClr val="ff0000"/>
                </a:solidFill>
                <a:latin typeface="Maj"/>
              </a:rPr>
              <a:t>تتكون من</a:t>
            </a:r>
            <a:r>
              <a:rPr b="0" lang="en-US" sz="2000" spc="-1" strike="noStrike">
                <a:solidFill>
                  <a:srgbClr val="ff0000"/>
                </a:solidFill>
                <a:latin typeface="Maj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nucleotides (monomers)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0000" indent="0" algn="just">
              <a:lnSpc>
                <a:spcPct val="12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Each nucleotide consists of three component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phosphate group (P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</a:rPr>
              <a:t>مجموعة فوسفات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suga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nitrogen bas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</a:rPr>
              <a:t>قاعدة نيتروجينية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7" name="Rectangle 3"/>
          <p:cNvSpPr/>
          <p:nvPr/>
        </p:nvSpPr>
        <p:spPr>
          <a:xfrm>
            <a:off x="76320" y="30492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The basic structure of nucleic acid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8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9" name="Rectangle 2"/>
          <p:cNvSpPr/>
          <p:nvPr/>
        </p:nvSpPr>
        <p:spPr>
          <a:xfrm>
            <a:off x="76320" y="3060720"/>
            <a:ext cx="5029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3"/>
                </a:solidFill>
                <a:latin typeface="Constantia"/>
              </a:rPr>
              <a:t>The sugars in DNA and RNA differ at a single position. In th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DNA</a:t>
            </a:r>
            <a:r>
              <a:rPr b="0" lang="en-US" sz="2000" spc="-1" strike="noStrike">
                <a:solidFill>
                  <a:srgbClr val="001933"/>
                </a:solidFill>
                <a:latin typeface="Constantia"/>
              </a:rPr>
              <a:t>, the sugar is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deoxyribose</a:t>
            </a:r>
            <a:r>
              <a:rPr b="0" lang="en-US" sz="2000" spc="-1" strike="noStrike">
                <a:solidFill>
                  <a:srgbClr val="001933"/>
                </a:solidFill>
                <a:latin typeface="Constantia"/>
              </a:rPr>
              <a:t>, which contains a hydrogen (H) at the second (</a:t>
            </a:r>
            <a:r>
              <a:rPr b="0" lang="en-US" sz="2000" spc="-1" strike="noStrike">
                <a:solidFill>
                  <a:srgbClr val="001933"/>
                </a:solidFill>
                <a:latin typeface="Calibri"/>
              </a:rPr>
              <a:t>2'</a:t>
            </a:r>
            <a:r>
              <a:rPr b="0" lang="en-US" sz="2000" spc="-1" strike="noStrike">
                <a:solidFill>
                  <a:srgbClr val="001933"/>
                </a:solidFill>
                <a:latin typeface="Constantia"/>
              </a:rPr>
              <a:t>) carb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3"/>
                </a:solidFill>
                <a:latin typeface="Constantia"/>
              </a:rPr>
              <a:t>The sugar in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RNA</a:t>
            </a:r>
            <a:r>
              <a:rPr b="0" lang="en-US" sz="2000" spc="-1" strike="noStrike">
                <a:solidFill>
                  <a:srgbClr val="001933"/>
                </a:solidFill>
                <a:latin typeface="Constantia"/>
              </a:rPr>
              <a:t> is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ribose</a:t>
            </a:r>
            <a:r>
              <a:rPr b="0" lang="en-US" sz="2000" spc="-1" strike="noStrike">
                <a:solidFill>
                  <a:srgbClr val="001933"/>
                </a:solidFill>
                <a:latin typeface="Constantia"/>
              </a:rPr>
              <a:t>, which contains a hydroxyl (OH) group at the </a:t>
            </a:r>
            <a:r>
              <a:rPr b="0" lang="en-US" sz="2000" spc="-1" strike="noStrike">
                <a:solidFill>
                  <a:srgbClr val="001933"/>
                </a:solidFill>
                <a:latin typeface="Calibri"/>
              </a:rPr>
              <a:t>2'</a:t>
            </a:r>
            <a:r>
              <a:rPr b="0" lang="en-US" sz="2000" spc="-1" strike="noStrike">
                <a:solidFill>
                  <a:srgbClr val="001933"/>
                </a:solidFill>
                <a:latin typeface="Constantia"/>
              </a:rPr>
              <a:t> carb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3"/>
                </a:solidFill>
                <a:latin typeface="Constantia"/>
              </a:rPr>
              <a:t>The carbons of the sugars are numbered </a:t>
            </a:r>
            <a:r>
              <a:rPr b="0" lang="en-US" sz="2000" spc="-1" strike="noStrike">
                <a:solidFill>
                  <a:srgbClr val="001933"/>
                </a:solidFill>
                <a:latin typeface="Calibri"/>
              </a:rPr>
              <a:t>1</a:t>
            </a:r>
            <a:r>
              <a:rPr b="0" lang="en-US" sz="2000" spc="-1" strike="noStrike">
                <a:solidFill>
                  <a:srgbClr val="001933"/>
                </a:solidFill>
                <a:latin typeface="Constantia"/>
              </a:rPr>
              <a:t> to </a:t>
            </a:r>
            <a:r>
              <a:rPr b="0" lang="en-US" sz="2000" spc="-1" strike="noStrike">
                <a:solidFill>
                  <a:srgbClr val="001933"/>
                </a:solidFill>
                <a:latin typeface="Calibri"/>
              </a:rPr>
              <a:t>5</a:t>
            </a:r>
            <a:r>
              <a:rPr b="0" lang="en-US" sz="2000" spc="-1" strike="noStrike">
                <a:solidFill>
                  <a:srgbClr val="001933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00" name="Picture 5" descr="hyd8760x_0708"/>
          <p:cNvPicPr/>
          <p:nvPr/>
        </p:nvPicPr>
        <p:blipFill>
          <a:blip r:embed="rId1"/>
          <a:srcRect l="0" t="2843" r="4944" b="51164"/>
          <a:stretch/>
        </p:blipFill>
        <p:spPr>
          <a:xfrm>
            <a:off x="5181480" y="2133720"/>
            <a:ext cx="3791160" cy="42116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/>
          </p:nvPr>
        </p:nvSpPr>
        <p:spPr>
          <a:xfrm>
            <a:off x="75960" y="1211400"/>
            <a:ext cx="8839080" cy="64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50000"/>
              </a:lnSpc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NA and RNA both hav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four nitrogen bases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rings of carbon and nitrogen),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two purin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two pyrimidin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in their nucleotide chain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0000" indent="-270000" algn="just">
              <a:lnSpc>
                <a:spcPct val="150000"/>
              </a:lnSpc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NA has the purine adenin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(A)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guanin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(G)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the pyrimidines cytosin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(C)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thymin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(T)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0000" indent="-270000" algn="just">
              <a:lnSpc>
                <a:spcPct val="150000"/>
              </a:lnSpc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NA has the purine adenin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(A)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guanin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(G)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the pyrimidines cytosin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(C)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uracil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(U)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0000" indent="-270000" algn="just">
              <a:lnSpc>
                <a:spcPct val="150000"/>
              </a:lnSpc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NA strands are held together by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hydrogen bounds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etween the basse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0000" indent="-270000" algn="just">
              <a:lnSpc>
                <a:spcPct val="150000"/>
              </a:lnSpc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Two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hydrogen bonds connect adenine and thymine an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thre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connect cytosine and guanin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0000" indent="-270000" algn="just">
              <a:lnSpc>
                <a:spcPct val="150000"/>
              </a:lnSpc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nucleotide is formed in the cell when a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bas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ttaches to the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1'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 carbon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f the sugar and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a phosphate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ttaches to th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5'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carbon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f the same sugar 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2" name="Rectangle 3"/>
          <p:cNvSpPr/>
          <p:nvPr/>
        </p:nvSpPr>
        <p:spPr>
          <a:xfrm>
            <a:off x="76320" y="30492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Nitrogen bases in DNA and RNA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3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4" name="Picture 5" descr="hyd8760x_0710"/>
          <p:cNvPicPr/>
          <p:nvPr/>
        </p:nvPicPr>
        <p:blipFill>
          <a:blip r:embed="rId1"/>
          <a:srcRect l="755" t="4005" r="2907" b="5234"/>
          <a:stretch/>
        </p:blipFill>
        <p:spPr>
          <a:xfrm>
            <a:off x="304920" y="990720"/>
            <a:ext cx="8515080" cy="561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05" name="Rectangle 3"/>
          <p:cNvSpPr/>
          <p:nvPr/>
        </p:nvSpPr>
        <p:spPr>
          <a:xfrm>
            <a:off x="76320" y="22860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Nitrogen bases in DNA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 txBox="1"/>
          <p:nvPr/>
        </p:nvSpPr>
        <p:spPr>
          <a:xfrm>
            <a:off x="2633760" y="347760"/>
            <a:ext cx="3799800" cy="599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round/>
          </a:ln>
        </p:spPr>
        <p:txBody>
          <a:bodyPr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nstantia"/>
              </a:rPr>
              <a:t>Structure of DN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07" name="Group 3"/>
          <p:cNvGrpSpPr/>
          <p:nvPr/>
        </p:nvGrpSpPr>
        <p:grpSpPr>
          <a:xfrm>
            <a:off x="1727280" y="2286000"/>
            <a:ext cx="1549440" cy="1296000"/>
            <a:chOff x="1727280" y="2286000"/>
            <a:chExt cx="1549440" cy="1296000"/>
          </a:xfrm>
        </p:grpSpPr>
        <p:sp>
          <p:nvSpPr>
            <p:cNvPr id="908" name="AutoShape 4"/>
            <p:cNvSpPr/>
            <p:nvPr/>
          </p:nvSpPr>
          <p:spPr>
            <a:xfrm>
              <a:off x="1905120" y="2609640"/>
              <a:ext cx="1066680" cy="609840"/>
            </a:xfrm>
            <a:prstGeom prst="pentagon">
              <a:avLst/>
            </a:prstGeom>
            <a:solidFill>
              <a:srgbClr val="ff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9" name="Text Box 5"/>
            <p:cNvSpPr/>
            <p:nvPr/>
          </p:nvSpPr>
          <p:spPr>
            <a:xfrm>
              <a:off x="2247840" y="2286000"/>
              <a:ext cx="32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o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10" name="Group 6"/>
            <p:cNvGrpSpPr/>
            <p:nvPr/>
          </p:nvGrpSpPr>
          <p:grpSpPr>
            <a:xfrm>
              <a:off x="2552760" y="2762280"/>
              <a:ext cx="482040" cy="819720"/>
              <a:chOff x="2552760" y="2762280"/>
              <a:chExt cx="482040" cy="819720"/>
            </a:xfrm>
          </p:grpSpPr>
          <p:sp>
            <p:nvSpPr>
              <p:cNvPr id="911" name="Line 7"/>
              <p:cNvSpPr/>
              <p:nvPr/>
            </p:nvSpPr>
            <p:spPr>
              <a:xfrm>
                <a:off x="2755800" y="3066840"/>
                <a:ext cx="12240" cy="30492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12" name="Text Box 8"/>
              <p:cNvSpPr/>
              <p:nvPr/>
            </p:nvSpPr>
            <p:spPr>
              <a:xfrm>
                <a:off x="2577960" y="32446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13" name="Text Box 9"/>
              <p:cNvSpPr/>
              <p:nvPr/>
            </p:nvSpPr>
            <p:spPr>
              <a:xfrm>
                <a:off x="2552760" y="27622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914" name="Text Box 10"/>
            <p:cNvSpPr/>
            <p:nvPr/>
          </p:nvSpPr>
          <p:spPr>
            <a:xfrm>
              <a:off x="2819520" y="30416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5" name="Line 11"/>
            <p:cNvSpPr/>
            <p:nvPr/>
          </p:nvSpPr>
          <p:spPr>
            <a:xfrm>
              <a:off x="2971800" y="291456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6" name="Line 12"/>
            <p:cNvSpPr/>
            <p:nvPr/>
          </p:nvSpPr>
          <p:spPr>
            <a:xfrm>
              <a:off x="2108160" y="3066840"/>
              <a:ext cx="25560" cy="43812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7" name="Text Box 13"/>
            <p:cNvSpPr/>
            <p:nvPr/>
          </p:nvSpPr>
          <p:spPr>
            <a:xfrm>
              <a:off x="1930320" y="28065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8" name="Line 14"/>
            <p:cNvSpPr/>
            <p:nvPr/>
          </p:nvSpPr>
          <p:spPr>
            <a:xfrm>
              <a:off x="1905120" y="2685960"/>
              <a:ext cx="12600" cy="38088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9" name="Text Box 15"/>
            <p:cNvSpPr/>
            <p:nvPr/>
          </p:nvSpPr>
          <p:spPr>
            <a:xfrm>
              <a:off x="1727280" y="29397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0" name="Text Box 16"/>
            <p:cNvSpPr/>
            <p:nvPr/>
          </p:nvSpPr>
          <p:spPr>
            <a:xfrm>
              <a:off x="1727280" y="239400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GB" sz="1800" spc="-1" strike="noStrike" baseline="-25000">
                  <a:solidFill>
                    <a:srgbClr val="003366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21" name="Group 17"/>
          <p:cNvGrpSpPr/>
          <p:nvPr/>
        </p:nvGrpSpPr>
        <p:grpSpPr>
          <a:xfrm>
            <a:off x="152280" y="965160"/>
            <a:ext cx="1218960" cy="1473120"/>
            <a:chOff x="152280" y="965160"/>
            <a:chExt cx="1218960" cy="1473120"/>
          </a:xfrm>
        </p:grpSpPr>
        <p:grpSp>
          <p:nvGrpSpPr>
            <p:cNvPr id="922" name="Group 18"/>
            <p:cNvGrpSpPr/>
            <p:nvPr/>
          </p:nvGrpSpPr>
          <p:grpSpPr>
            <a:xfrm>
              <a:off x="152280" y="965160"/>
              <a:ext cx="1218960" cy="1323360"/>
              <a:chOff x="152280" y="965160"/>
              <a:chExt cx="1218960" cy="1323360"/>
            </a:xfrm>
          </p:grpSpPr>
          <p:sp>
            <p:nvSpPr>
              <p:cNvPr id="923" name="Text Box 19"/>
              <p:cNvSpPr/>
              <p:nvPr/>
            </p:nvSpPr>
            <p:spPr>
              <a:xfrm>
                <a:off x="583920" y="96516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924" name="Group 20"/>
              <p:cNvGrpSpPr/>
              <p:nvPr/>
            </p:nvGrpSpPr>
            <p:grpSpPr>
              <a:xfrm>
                <a:off x="152280" y="1345680"/>
                <a:ext cx="1218960" cy="942840"/>
                <a:chOff x="152280" y="1345680"/>
                <a:chExt cx="1218960" cy="942840"/>
              </a:xfrm>
            </p:grpSpPr>
            <p:sp>
              <p:nvSpPr>
                <p:cNvPr id="925" name="Text Box 21"/>
                <p:cNvSpPr/>
                <p:nvPr/>
              </p:nvSpPr>
              <p:spPr>
                <a:xfrm>
                  <a:off x="609480" y="14986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cc"/>
                      </a:solidFill>
                      <a:latin typeface="Arial"/>
                    </a:rPr>
                    <a:t>P</a:t>
                  </a:r>
                  <a:endParaRPr b="0" lang="en-US" sz="20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26" name="Line 22"/>
                <p:cNvSpPr/>
                <p:nvPr/>
              </p:nvSpPr>
              <p:spPr>
                <a:xfrm>
                  <a:off x="888840" y="16509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27" name="Line 23"/>
                <p:cNvSpPr/>
                <p:nvPr/>
              </p:nvSpPr>
              <p:spPr>
                <a:xfrm flipH="1">
                  <a:off x="431280" y="1625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28" name="Line 24"/>
                <p:cNvSpPr/>
                <p:nvPr/>
              </p:nvSpPr>
              <p:spPr>
                <a:xfrm flipV="1">
                  <a:off x="761760" y="13456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29" name="Line 25"/>
                <p:cNvSpPr/>
                <p:nvPr/>
              </p:nvSpPr>
              <p:spPr>
                <a:xfrm>
                  <a:off x="761760" y="1765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30" name="Line 26"/>
                <p:cNvSpPr/>
                <p:nvPr/>
              </p:nvSpPr>
              <p:spPr>
                <a:xfrm flipH="1">
                  <a:off x="431280" y="1701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31" name="Text Box 27"/>
                <p:cNvSpPr/>
                <p:nvPr/>
              </p:nvSpPr>
              <p:spPr>
                <a:xfrm>
                  <a:off x="1050840" y="13842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32" name="Text Box 28"/>
                <p:cNvSpPr/>
                <p:nvPr/>
              </p:nvSpPr>
              <p:spPr>
                <a:xfrm>
                  <a:off x="152280" y="13968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33" name="Text Box 29"/>
                <p:cNvSpPr/>
                <p:nvPr/>
              </p:nvSpPr>
              <p:spPr>
                <a:xfrm>
                  <a:off x="583920" y="182880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4" name="Line 30"/>
            <p:cNvSpPr/>
            <p:nvPr/>
          </p:nvSpPr>
          <p:spPr>
            <a:xfrm>
              <a:off x="762120" y="220968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35" name="Text Box 31"/>
          <p:cNvSpPr/>
          <p:nvPr/>
        </p:nvSpPr>
        <p:spPr>
          <a:xfrm>
            <a:off x="609480" y="61563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Sugar-phosphate backb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36" name="Group 32"/>
          <p:cNvGrpSpPr/>
          <p:nvPr/>
        </p:nvGrpSpPr>
        <p:grpSpPr>
          <a:xfrm>
            <a:off x="4038480" y="2209680"/>
            <a:ext cx="838440" cy="685800"/>
            <a:chOff x="4038480" y="2209680"/>
            <a:chExt cx="838440" cy="685800"/>
          </a:xfrm>
        </p:grpSpPr>
        <p:sp>
          <p:nvSpPr>
            <p:cNvPr id="937" name="Line 33"/>
            <p:cNvSpPr/>
            <p:nvPr/>
          </p:nvSpPr>
          <p:spPr>
            <a:xfrm flipV="1">
              <a:off x="4114800" y="2514600"/>
              <a:ext cx="0" cy="3808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8" name="Rectangle 34"/>
            <p:cNvSpPr/>
            <p:nvPr/>
          </p:nvSpPr>
          <p:spPr>
            <a:xfrm>
              <a:off x="4038480" y="2209680"/>
              <a:ext cx="838440" cy="381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nstantia"/>
                </a:rPr>
                <a:t>Bas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39" name="Group 35"/>
          <p:cNvGrpSpPr/>
          <p:nvPr/>
        </p:nvGrpSpPr>
        <p:grpSpPr>
          <a:xfrm>
            <a:off x="1523880" y="3403440"/>
            <a:ext cx="2438640" cy="2616840"/>
            <a:chOff x="1523880" y="3403440"/>
            <a:chExt cx="2438640" cy="2616840"/>
          </a:xfrm>
        </p:grpSpPr>
        <p:grpSp>
          <p:nvGrpSpPr>
            <p:cNvPr id="940" name="Group 36"/>
            <p:cNvGrpSpPr/>
            <p:nvPr/>
          </p:nvGrpSpPr>
          <p:grpSpPr>
            <a:xfrm>
              <a:off x="1523880" y="3403440"/>
              <a:ext cx="1981080" cy="2616840"/>
              <a:chOff x="1523880" y="3403440"/>
              <a:chExt cx="1981080" cy="2616840"/>
            </a:xfrm>
          </p:grpSpPr>
          <p:grpSp>
            <p:nvGrpSpPr>
              <p:cNvPr id="941" name="Group 37"/>
              <p:cNvGrpSpPr/>
              <p:nvPr/>
            </p:nvGrpSpPr>
            <p:grpSpPr>
              <a:xfrm>
                <a:off x="1523880" y="3403440"/>
                <a:ext cx="1218960" cy="1323360"/>
                <a:chOff x="1523880" y="3403440"/>
                <a:chExt cx="1218960" cy="1323360"/>
              </a:xfrm>
            </p:grpSpPr>
            <p:sp>
              <p:nvSpPr>
                <p:cNvPr id="942" name="Text Box 38"/>
                <p:cNvSpPr/>
                <p:nvPr/>
              </p:nvSpPr>
              <p:spPr>
                <a:xfrm>
                  <a:off x="1955520" y="340344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943" name="Group 39"/>
                <p:cNvGrpSpPr/>
                <p:nvPr/>
              </p:nvGrpSpPr>
              <p:grpSpPr>
                <a:xfrm>
                  <a:off x="1523880" y="3783960"/>
                  <a:ext cx="1218960" cy="942840"/>
                  <a:chOff x="1523880" y="3783960"/>
                  <a:chExt cx="1218960" cy="942840"/>
                </a:xfrm>
              </p:grpSpPr>
              <p:sp>
                <p:nvSpPr>
                  <p:cNvPr id="944" name="Text Box 40"/>
                  <p:cNvSpPr/>
                  <p:nvPr/>
                </p:nvSpPr>
                <p:spPr>
                  <a:xfrm>
                    <a:off x="1981080" y="3936960"/>
                    <a:ext cx="304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cc"/>
                        </a:solidFill>
                        <a:latin typeface="Arial"/>
                      </a:rPr>
                      <a:t>P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Line 41"/>
                  <p:cNvSpPr/>
                  <p:nvPr/>
                </p:nvSpPr>
                <p:spPr>
                  <a:xfrm>
                    <a:off x="2260440" y="4089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Line 42"/>
                  <p:cNvSpPr/>
                  <p:nvPr/>
                </p:nvSpPr>
                <p:spPr>
                  <a:xfrm flipH="1">
                    <a:off x="1802880" y="40636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Line 43"/>
                  <p:cNvSpPr/>
                  <p:nvPr/>
                </p:nvSpPr>
                <p:spPr>
                  <a:xfrm flipV="1">
                    <a:off x="2133360" y="378396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" name="Line 44"/>
                  <p:cNvSpPr/>
                  <p:nvPr/>
                </p:nvSpPr>
                <p:spPr>
                  <a:xfrm>
                    <a:off x="2133360" y="42037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" name="Line 45"/>
                  <p:cNvSpPr/>
                  <p:nvPr/>
                </p:nvSpPr>
                <p:spPr>
                  <a:xfrm flipH="1">
                    <a:off x="1802880" y="41400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Text Box 46"/>
                  <p:cNvSpPr/>
                  <p:nvPr/>
                </p:nvSpPr>
                <p:spPr>
                  <a:xfrm>
                    <a:off x="2422440" y="38224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Text Box 47"/>
                  <p:cNvSpPr/>
                  <p:nvPr/>
                </p:nvSpPr>
                <p:spPr>
                  <a:xfrm>
                    <a:off x="1523880" y="38350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Text Box 48"/>
                  <p:cNvSpPr/>
                  <p:nvPr/>
                </p:nvSpPr>
                <p:spPr>
                  <a:xfrm>
                    <a:off x="1955520" y="4267080"/>
                    <a:ext cx="320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3" name="Group 49"/>
              <p:cNvGrpSpPr/>
              <p:nvPr/>
            </p:nvGrpSpPr>
            <p:grpSpPr>
              <a:xfrm>
                <a:off x="1955520" y="4724280"/>
                <a:ext cx="1549440" cy="1296000"/>
                <a:chOff x="1955520" y="4724280"/>
                <a:chExt cx="1549440" cy="1296000"/>
              </a:xfrm>
            </p:grpSpPr>
            <p:sp>
              <p:nvSpPr>
                <p:cNvPr id="954" name="AutoShape 50"/>
                <p:cNvSpPr/>
                <p:nvPr/>
              </p:nvSpPr>
              <p:spPr>
                <a:xfrm>
                  <a:off x="2133360" y="5047920"/>
                  <a:ext cx="1066680" cy="609840"/>
                </a:xfrm>
                <a:prstGeom prst="pentagon">
                  <a:avLst/>
                </a:prstGeom>
                <a:solidFill>
                  <a:srgbClr val="ffff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55" name="Text Box 51"/>
                <p:cNvSpPr/>
                <p:nvPr/>
              </p:nvSpPr>
              <p:spPr>
                <a:xfrm>
                  <a:off x="2476080" y="4724280"/>
                  <a:ext cx="320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2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32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956" name="Group 52"/>
                <p:cNvGrpSpPr/>
                <p:nvPr/>
              </p:nvGrpSpPr>
              <p:grpSpPr>
                <a:xfrm>
                  <a:off x="2781000" y="5200560"/>
                  <a:ext cx="482040" cy="819720"/>
                  <a:chOff x="2781000" y="5200560"/>
                  <a:chExt cx="482040" cy="819720"/>
                </a:xfrm>
              </p:grpSpPr>
              <p:sp>
                <p:nvSpPr>
                  <p:cNvPr id="957" name="Line 53"/>
                  <p:cNvSpPr/>
                  <p:nvPr/>
                </p:nvSpPr>
                <p:spPr>
                  <a:xfrm>
                    <a:off x="2984040" y="5505120"/>
                    <a:ext cx="12240" cy="30492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8" name="Text Box 54"/>
                  <p:cNvSpPr/>
                  <p:nvPr/>
                </p:nvSpPr>
                <p:spPr>
                  <a:xfrm>
                    <a:off x="2806200" y="56829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" name="Text Box 55"/>
                  <p:cNvSpPr/>
                  <p:nvPr/>
                </p:nvSpPr>
                <p:spPr>
                  <a:xfrm>
                    <a:off x="2781000" y="52005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0" name="Text Box 56"/>
                <p:cNvSpPr/>
                <p:nvPr/>
              </p:nvSpPr>
              <p:spPr>
                <a:xfrm>
                  <a:off x="3047760" y="547992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61" name="Line 57"/>
                <p:cNvSpPr/>
                <p:nvPr/>
              </p:nvSpPr>
              <p:spPr>
                <a:xfrm>
                  <a:off x="3200040" y="53528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62" name="Line 58"/>
                <p:cNvSpPr/>
                <p:nvPr/>
              </p:nvSpPr>
              <p:spPr>
                <a:xfrm>
                  <a:off x="2336400" y="5505120"/>
                  <a:ext cx="25560" cy="43812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63" name="Text Box 59"/>
                <p:cNvSpPr/>
                <p:nvPr/>
              </p:nvSpPr>
              <p:spPr>
                <a:xfrm>
                  <a:off x="2158560" y="52448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64" name="Line 60"/>
                <p:cNvSpPr/>
                <p:nvPr/>
              </p:nvSpPr>
              <p:spPr>
                <a:xfrm>
                  <a:off x="2133360" y="5124240"/>
                  <a:ext cx="12600" cy="38088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65" name="Text Box 61"/>
                <p:cNvSpPr/>
                <p:nvPr/>
              </p:nvSpPr>
              <p:spPr>
                <a:xfrm>
                  <a:off x="1955520" y="53780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66" name="Text Box 62"/>
                <p:cNvSpPr/>
                <p:nvPr/>
              </p:nvSpPr>
              <p:spPr>
                <a:xfrm>
                  <a:off x="1955520" y="4832280"/>
                  <a:ext cx="6858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1" lang="en-GB" sz="1800" spc="-1" strike="noStrike" baseline="-25000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Line 63"/>
              <p:cNvSpPr/>
              <p:nvPr/>
            </p:nvSpPr>
            <p:spPr>
              <a:xfrm>
                <a:off x="2133360" y="4647960"/>
                <a:ext cx="0" cy="2286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968" name="Group 64"/>
            <p:cNvGrpSpPr/>
            <p:nvPr/>
          </p:nvGrpSpPr>
          <p:grpSpPr>
            <a:xfrm>
              <a:off x="3124080" y="4572000"/>
              <a:ext cx="838440" cy="685800"/>
              <a:chOff x="3124080" y="4572000"/>
              <a:chExt cx="838440" cy="685800"/>
            </a:xfrm>
          </p:grpSpPr>
          <p:sp>
            <p:nvSpPr>
              <p:cNvPr id="969" name="Line 65"/>
              <p:cNvSpPr/>
              <p:nvPr/>
            </p:nvSpPr>
            <p:spPr>
              <a:xfrm flipV="1">
                <a:off x="3200400" y="4876920"/>
                <a:ext cx="0" cy="3808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0" name="Rectangle 66"/>
              <p:cNvSpPr/>
              <p:nvPr/>
            </p:nvSpPr>
            <p:spPr>
              <a:xfrm>
                <a:off x="3124080" y="4572000"/>
                <a:ext cx="838440" cy="381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nstantia"/>
                  </a:rPr>
                  <a:t>Base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971" name="Group 67"/>
          <p:cNvGrpSpPr/>
          <p:nvPr/>
        </p:nvGrpSpPr>
        <p:grpSpPr>
          <a:xfrm>
            <a:off x="4191120" y="1143000"/>
            <a:ext cx="1904760" cy="2514600"/>
            <a:chOff x="4191120" y="1143000"/>
            <a:chExt cx="1904760" cy="2514600"/>
          </a:xfrm>
        </p:grpSpPr>
        <p:sp>
          <p:nvSpPr>
            <p:cNvPr id="972" name="AutoShape 68"/>
            <p:cNvSpPr/>
            <p:nvPr/>
          </p:nvSpPr>
          <p:spPr>
            <a:xfrm>
              <a:off x="4191120" y="1143000"/>
              <a:ext cx="380880" cy="25146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3" name="Text Box 69"/>
            <p:cNvSpPr/>
            <p:nvPr/>
          </p:nvSpPr>
          <p:spPr>
            <a:xfrm>
              <a:off x="4419720" y="2133720"/>
              <a:ext cx="167616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nstantia"/>
                </a:rPr>
                <a:t>DNA nucleotid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Arial"/>
                </a:rPr>
                <a:t>نيوكليوتيدة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74" name="Group 70"/>
          <p:cNvGrpSpPr/>
          <p:nvPr/>
        </p:nvGrpSpPr>
        <p:grpSpPr>
          <a:xfrm>
            <a:off x="5943600" y="1219320"/>
            <a:ext cx="3047760" cy="5333400"/>
            <a:chOff x="5943600" y="1219320"/>
            <a:chExt cx="3047760" cy="5333400"/>
          </a:xfrm>
        </p:grpSpPr>
        <p:sp>
          <p:nvSpPr>
            <p:cNvPr id="975" name="Rectangle 71"/>
            <p:cNvSpPr/>
            <p:nvPr/>
          </p:nvSpPr>
          <p:spPr>
            <a:xfrm>
              <a:off x="5943600" y="1292040"/>
              <a:ext cx="2946600" cy="52606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6" name="Text Box 72"/>
            <p:cNvSpPr/>
            <p:nvPr/>
          </p:nvSpPr>
          <p:spPr>
            <a:xfrm>
              <a:off x="7637760" y="1219320"/>
              <a:ext cx="132588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7" name="AutoShape 73"/>
            <p:cNvSpPr/>
            <p:nvPr/>
          </p:nvSpPr>
          <p:spPr>
            <a:xfrm>
              <a:off x="7121880" y="2463840"/>
              <a:ext cx="147240" cy="1171800"/>
            </a:xfrm>
            <a:custGeom>
              <a:avLst/>
              <a:gdLst>
                <a:gd name="textAreaLeft" fmla="*/ 0 w 147240"/>
                <a:gd name="textAreaRight" fmla="*/ 53280 w 147240"/>
                <a:gd name="textAreaTop" fmla="*/ 30240 h 1171800"/>
                <a:gd name="textAreaBottom" fmla="*/ 1141560 h 11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8" name="Text Box 74"/>
            <p:cNvSpPr/>
            <p:nvPr/>
          </p:nvSpPr>
          <p:spPr>
            <a:xfrm>
              <a:off x="6846120" y="1438920"/>
              <a:ext cx="123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Constantia"/>
                </a:rPr>
                <a:t>Bases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9" name="Text Box 75"/>
            <p:cNvSpPr/>
            <p:nvPr/>
          </p:nvSpPr>
          <p:spPr>
            <a:xfrm>
              <a:off x="5943600" y="5759640"/>
              <a:ext cx="1252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Constantia"/>
                </a:rPr>
                <a:t>Thymine (T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0" name="Text Box 76"/>
            <p:cNvSpPr/>
            <p:nvPr/>
          </p:nvSpPr>
          <p:spPr>
            <a:xfrm>
              <a:off x="5943600" y="2390760"/>
              <a:ext cx="1252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Constantia"/>
                </a:rPr>
                <a:t>Adenine (A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1" name="Text Box 77"/>
            <p:cNvSpPr/>
            <p:nvPr/>
          </p:nvSpPr>
          <p:spPr>
            <a:xfrm>
              <a:off x="5943600" y="4865400"/>
              <a:ext cx="1252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80"/>
                  </a:solidFill>
                  <a:latin typeface="Constantia"/>
                </a:rPr>
                <a:t>Cytosine (C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2" name="Text Box 78"/>
            <p:cNvSpPr/>
            <p:nvPr/>
          </p:nvSpPr>
          <p:spPr>
            <a:xfrm>
              <a:off x="5943600" y="3254400"/>
              <a:ext cx="1252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00"/>
                  </a:solidFill>
                  <a:latin typeface="Constantia"/>
                </a:rPr>
                <a:t>Guanine (G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3" name="AutoShape 79"/>
            <p:cNvSpPr/>
            <p:nvPr/>
          </p:nvSpPr>
          <p:spPr>
            <a:xfrm>
              <a:off x="7158960" y="4929480"/>
              <a:ext cx="147240" cy="1171800"/>
            </a:xfrm>
            <a:custGeom>
              <a:avLst/>
              <a:gdLst>
                <a:gd name="textAreaLeft" fmla="*/ 0 w 147240"/>
                <a:gd name="textAreaRight" fmla="*/ 53280 w 147240"/>
                <a:gd name="textAreaTop" fmla="*/ 30240 h 1171800"/>
                <a:gd name="textAreaBottom" fmla="*/ 1141560 h 11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4" name="Text Box 80"/>
            <p:cNvSpPr/>
            <p:nvPr/>
          </p:nvSpPr>
          <p:spPr>
            <a:xfrm>
              <a:off x="7269480" y="2860920"/>
              <a:ext cx="132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nstantia"/>
                </a:rPr>
                <a:t>Purine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5" name="Text Box 81"/>
            <p:cNvSpPr/>
            <p:nvPr/>
          </p:nvSpPr>
          <p:spPr>
            <a:xfrm>
              <a:off x="7297200" y="5311080"/>
              <a:ext cx="169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nstantia"/>
                </a:rPr>
                <a:t>Pyrimidine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6" name="Text Box 82"/>
          <p:cNvSpPr/>
          <p:nvPr/>
        </p:nvSpPr>
        <p:spPr>
          <a:xfrm>
            <a:off x="2895480" y="37018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Deoxyribos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7" name="Line 83"/>
          <p:cNvSpPr/>
          <p:nvPr/>
        </p:nvSpPr>
        <p:spPr>
          <a:xfrm flipH="1" flipV="1">
            <a:off x="2666880" y="3124080"/>
            <a:ext cx="99072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8" name="Text Box 84"/>
          <p:cNvSpPr/>
          <p:nvPr/>
        </p:nvSpPr>
        <p:spPr>
          <a:xfrm>
            <a:off x="0" y="24382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Phosphate group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89" name="Group 85"/>
          <p:cNvGrpSpPr/>
          <p:nvPr/>
        </p:nvGrpSpPr>
        <p:grpSpPr>
          <a:xfrm>
            <a:off x="1587600" y="2349360"/>
            <a:ext cx="1638360" cy="1168560"/>
            <a:chOff x="1587600" y="2349360"/>
            <a:chExt cx="1638360" cy="1168560"/>
          </a:xfrm>
        </p:grpSpPr>
        <p:sp>
          <p:nvSpPr>
            <p:cNvPr id="990" name="Text Box 86"/>
            <p:cNvSpPr/>
            <p:nvPr/>
          </p:nvSpPr>
          <p:spPr>
            <a:xfrm>
              <a:off x="2921040" y="2717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91" name="Text Box 87"/>
            <p:cNvSpPr/>
            <p:nvPr/>
          </p:nvSpPr>
          <p:spPr>
            <a:xfrm>
              <a:off x="2438280" y="3149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92" name="Text Box 88"/>
            <p:cNvSpPr/>
            <p:nvPr/>
          </p:nvSpPr>
          <p:spPr>
            <a:xfrm>
              <a:off x="1866960" y="3111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93" name="Text Box 89"/>
            <p:cNvSpPr/>
            <p:nvPr/>
          </p:nvSpPr>
          <p:spPr>
            <a:xfrm>
              <a:off x="1612800" y="2692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94" name="Text Box 90"/>
            <p:cNvSpPr/>
            <p:nvPr/>
          </p:nvSpPr>
          <p:spPr>
            <a:xfrm>
              <a:off x="1587600" y="2349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95" name="Text Box 91"/>
          <p:cNvSpPr/>
          <p:nvPr/>
        </p:nvSpPr>
        <p:spPr>
          <a:xfrm>
            <a:off x="2057400" y="5562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96" name="Group 92"/>
          <p:cNvGrpSpPr/>
          <p:nvPr/>
        </p:nvGrpSpPr>
        <p:grpSpPr>
          <a:xfrm>
            <a:off x="596880" y="914400"/>
            <a:ext cx="546120" cy="5244840"/>
            <a:chOff x="596880" y="914400"/>
            <a:chExt cx="546120" cy="5244840"/>
          </a:xfrm>
        </p:grpSpPr>
        <p:sp>
          <p:nvSpPr>
            <p:cNvPr id="997" name="Line 93"/>
            <p:cNvSpPr/>
            <p:nvPr/>
          </p:nvSpPr>
          <p:spPr>
            <a:xfrm>
              <a:off x="799920" y="1371600"/>
              <a:ext cx="0" cy="434340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98" name="Text Box 94"/>
            <p:cNvSpPr/>
            <p:nvPr/>
          </p:nvSpPr>
          <p:spPr>
            <a:xfrm>
              <a:off x="609480" y="914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99" name="Text Box 95"/>
            <p:cNvSpPr/>
            <p:nvPr/>
          </p:nvSpPr>
          <p:spPr>
            <a:xfrm>
              <a:off x="59688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00" name="Group 96"/>
          <p:cNvGrpSpPr/>
          <p:nvPr/>
        </p:nvGrpSpPr>
        <p:grpSpPr>
          <a:xfrm>
            <a:off x="127080" y="952560"/>
            <a:ext cx="609480" cy="5145840"/>
            <a:chOff x="127080" y="952560"/>
            <a:chExt cx="609480" cy="5145840"/>
          </a:xfrm>
        </p:grpSpPr>
        <p:sp>
          <p:nvSpPr>
            <p:cNvPr id="1001" name="Line 97"/>
            <p:cNvSpPr/>
            <p:nvPr/>
          </p:nvSpPr>
          <p:spPr>
            <a:xfrm flipV="1">
              <a:off x="304920" y="1371240"/>
              <a:ext cx="0" cy="434304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2" name="Text Box 98"/>
            <p:cNvSpPr/>
            <p:nvPr/>
          </p:nvSpPr>
          <p:spPr>
            <a:xfrm>
              <a:off x="127080" y="5638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3" name="Text Box 99"/>
            <p:cNvSpPr/>
            <p:nvPr/>
          </p:nvSpPr>
          <p:spPr>
            <a:xfrm>
              <a:off x="127080" y="952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0.125 -0.00371 E">
                                      <p:cBhvr>
                                        <p:cTn id="6" dur="2000" fill="hold"/>
                                        <p:tgtEl>
                                          <p:spTgt spid="9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-0.12083 -0.00555 E">
                                      <p:cBhvr>
                                        <p:cTn id="10" dur="2000" fill="hold"/>
                                        <p:tgtEl>
                                          <p:spTgt spid="9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" dur="3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2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2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4" name="Picture 2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648320" y="380880"/>
            <a:ext cx="4343400" cy="624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05" name="Rectangle 3"/>
          <p:cNvSpPr/>
          <p:nvPr/>
        </p:nvSpPr>
        <p:spPr>
          <a:xfrm>
            <a:off x="2608200" y="160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6" name="Picture 5" descr=""/>
          <p:cNvPicPr/>
          <p:nvPr/>
        </p:nvPicPr>
        <p:blipFill>
          <a:blip r:embed="rId2"/>
          <a:srcRect l="28180" t="2847" r="26695" b="14699"/>
          <a:stretch/>
        </p:blipFill>
        <p:spPr>
          <a:xfrm>
            <a:off x="380880" y="2690640"/>
            <a:ext cx="3859200" cy="393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07" name="Rectangle 1"/>
          <p:cNvSpPr/>
          <p:nvPr/>
        </p:nvSpPr>
        <p:spPr>
          <a:xfrm>
            <a:off x="0" y="60804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20000"/>
              </a:lnSpc>
              <a:buClr>
                <a:srgbClr val="00b050"/>
              </a:buClr>
              <a:buSzPct val="7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Nucleotides are linked together by th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phosphodiester bond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etween th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phosphate at th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5'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carbon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f one nucleotide and th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hydroxyl group at th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3'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carbon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f an adjacent suga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3"/>
          <p:cNvSpPr/>
          <p:nvPr/>
        </p:nvSpPr>
        <p:spPr>
          <a:xfrm>
            <a:off x="76320" y="30492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nstantia"/>
              </a:rPr>
              <a:t>The Differences between DNA and RNA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9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10" name=""/>
          <p:cNvGraphicFramePr/>
          <p:nvPr/>
        </p:nvGraphicFramePr>
        <p:xfrm>
          <a:off x="228600" y="1295280"/>
          <a:ext cx="8686800" cy="5394600"/>
        </p:xfrm>
        <a:graphic>
          <a:graphicData uri="http://schemas.openxmlformats.org/drawingml/2006/table">
            <a:tbl>
              <a:tblPr/>
              <a:tblGrid>
                <a:gridCol w="2998800"/>
                <a:gridCol w="2844720"/>
                <a:gridCol w="284328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DN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RN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Deoxyribonucleic Acid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Ribonucleic Acid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umber of strand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Double-stranded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Single-stranded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ype of sugar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Deoxyribos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Ribos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ypes of nitrogen bas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Adenine (A), thymine (T), cytosine (C), and  guanine (G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adenine, uracil (U), guanine, and cytosin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ase Pairi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Adenine links to thymine (A-T) and cytosine links to guanine (C-G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Adenine links to uracil (A-U) and cytosine links to guanine (C-G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oca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DNA is found in the nucleus, Mitochondria and chloroplast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RNA is found in the nucleus, cytoplasm, and ribosom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</a:tr>
            </a:tbl>
          </a:graphicData>
        </a:graphic>
      </p:graphicFrame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19:37:04Z</dcterms:created>
  <dc:creator>User</dc:creator>
  <dc:description/>
  <dc:language>en-US</dc:language>
  <cp:lastModifiedBy>Dell</cp:lastModifiedBy>
  <dcterms:modified xsi:type="dcterms:W3CDTF">2015-09-29T21:47:39Z</dcterms:modified>
  <cp:revision>275</cp:revision>
  <dc:subject/>
  <dc:title>Slide 1</dc:title>
</cp:coreProperties>
</file>