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EFD-C237-4452-B9CB-6CF61101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38C-8049-4D3D-B745-6B9502E1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D00BD-9850-414B-A595-25F6D5C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6E870-320D-4CE0-AF5E-ABFFA65D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AFBA1-4440-4229-A671-0019C8D4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CF8F6-90A2-4BA0-B38D-2DF4684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C720A-2544-498E-A0D0-A0C47F5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A4E68-2FFC-4D2F-A315-E55BD10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30F3E-4E16-412F-B8AB-DC7547D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6614-8FF8-498F-991B-237E3B57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99C5D-0AA8-4F4D-8745-2B2D758D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151D9-3277-4FDE-AE55-20E753FD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6B6-6498-4808-BBBD-EA90903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48A1-A046-4E6A-A288-22C698F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56A85-6844-415A-A879-FFA4FF2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1FD51-430B-49DF-86C0-6A760E9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8C602-B7F3-46D2-AC87-9D1C5AD9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6E78F-A640-48C7-8BBD-3D8212A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8CBB8-2754-4097-B212-122DF12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09C9A-5C59-4157-A87F-CFEA967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F1961-6946-47CD-B653-387E34F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4191F-B01D-474D-B83B-CAF05A9B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989EB-FCAA-4402-8FF3-F23906C8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908-8F50-4A44-B223-1D4C6CA1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30E45-FD35-489A-9D5F-FCDC3F2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1048C-8B30-4157-8C55-05CB1609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A7F5-18EA-4422-87EE-AD77408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AFA7-EFB5-412D-8163-3C77956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26FE-AE63-4078-AE11-CA1F6A97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D221-A131-48AD-94CD-5DF67733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4DB52-58D6-45F7-AA32-2E22803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0961A-02E5-4EE6-92CE-AEF6123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1FBD7-1DD0-4599-941F-9CF89C6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1E699-0F8D-41D0-852C-11774545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89F4-4712-4F9C-B357-A8F0DAFD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759BA-B2E7-4C70-A16F-3D98C36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2B04B-2ACD-403E-B4C5-F54AA3AA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B1216-3204-4288-84EA-8B18A877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026E9-0D0A-48B6-B4BB-32B63B05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979C4-DB2E-48EE-A139-5B1BC326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67191-A5FF-4A66-9192-6F2AD9A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2C995-EB80-4BB0-9B30-1C84CDE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6A2DE-9391-4940-A26B-989BFED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C48EF-4F65-48A7-B931-E82CB79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7D207-E562-4D98-BF43-987D4E0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3F2C-A3C2-4109-BD81-E7349E4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EEEB7-F054-4152-8062-2B5DF49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6A021-5AEB-4FAD-9840-0E27761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03C3F-3996-4753-992B-C10B7EDA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2C46-C4F4-48F4-9131-CDC521C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98453-1FA0-4387-89C0-7EDF3A90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AF9D2-CDEC-40AB-AB5A-F46DF6BF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3CA26-43BF-45B8-A413-33BE326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BFBB4-6548-444F-923A-9B5DB2DC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CDAB0-C5D1-483A-A65E-37BF7D5E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C97AF-953F-4C91-8B38-0F167403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7D5-0AC3-4D5A-8119-21408BD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8E69B-EAD0-4F5D-BF78-51D829FE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E0C2E-65BF-4598-A8E4-88EBB62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AA9E1-EBF5-41D7-9A43-73F980F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F5A38-1166-4757-A2DE-D37BD25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8AAB9-84CC-4560-ADEB-0C421C8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DEBEB-814B-4667-BC3E-6E6EC314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BC88B-ADCB-4963-A076-E4BC37C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49792-904A-42F1-80C6-251C503B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0CF10-D372-4284-9399-B9886E6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15305-3E10-489D-82A3-BB8CAE86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426-96FF-4F3F-AB13-91E2D4FF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EBE751-4DDB-40AA-B6D9-C2D628E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D63B6-A14C-48C8-B712-64AA377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205A4-AECF-479D-977D-732DD22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E6C7D-17AB-4105-8866-9DB5E4C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90BA2-40A8-4316-91BB-2EDB5EBE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5A828-1387-4924-B94C-E1D0FBDB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43C50-1A6C-4FA8-BCA5-BFFB86F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A317E-A2A1-4D1B-B973-9AC52B92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F470E-AE99-4194-BD2A-CBE19DE0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7BCF6-8C8B-4EE2-8A8F-B599AD0B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7302-266C-4CB7-8FB6-28602AA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F983E-B256-4CCA-BB6E-6C7BA0E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A077B-2528-4888-99F7-7DB5612A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C3DE7-0A32-420C-91E2-64C765E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894BDC-F907-4ACC-92E1-40E5AC60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A585A-1F5B-484D-B3AD-3239D6C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90428-F83F-4F7B-9980-E5FCD72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F551A-EB75-45F7-85CA-F67FD8E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2540F-113D-4119-9EAB-B89A484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DF39A-C3C4-43F3-A138-9207D61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79049-F6CF-4AD0-9251-4C49511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B99-FC8B-4656-8EB2-3C490FC3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A66A6-D980-43A6-A8C8-EF1F6D43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E216C-1EDF-44E2-A958-A7F6B4F9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2738E-BA71-45C3-85D8-37A6ECBB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6AEDB-5556-44BF-B45B-161BA64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670D0-0738-4BA2-B935-F5C3412A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DA7CB-DD28-4AA1-83F7-1FF9EF33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4F2A6-BC06-4E97-9CB1-EAC90463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1297E-0C10-4414-AEE7-667F951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97FC67-F9C0-4337-A839-17453208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31B98-1855-4887-B7B1-804E055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3980-1B91-4145-B26F-CCBD585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5BA4B-5E88-4443-9133-98E0077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73658-C8B5-4F32-B6E4-E1D5D84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B47A2-EF7D-4784-9978-497AEF2D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2C189-B8CE-4742-8113-8C69B9ED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664F6-5D28-4478-B733-675E31A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5FBD6-3338-4A5D-95EE-FD1C297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F19CD-9840-44CB-B047-987B7C5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FC539-E6C0-4967-8910-D234E351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9A735-003A-4DBC-B4DA-54E69DA3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2B756-A032-49F5-B0CC-2F96F906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93D-AD28-438A-BF30-09AB9376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0612-945D-4D64-8DFE-7152AAB2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69333-40FD-41A4-BAEC-210BCFB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6C28B-FE37-4FB3-A7B6-EA31167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22E61-57B9-439A-A22D-EF6829DF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5AA87-B877-4D8E-BBAD-240637E6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084D7-833D-4B45-97F4-2EA24E4C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20AA0-590C-4709-93A4-E492FBDF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49440-A50E-45B3-8822-6A4B3D1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4FF10-485B-4F25-B0BE-2F4CF0FE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641D5-70EB-4C05-8756-FE8CE9E7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00ED5-F3C2-4021-8B29-325DB9C9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9BE-A6F6-4FF6-9B86-7624861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46C84-1BB2-406C-99A2-FC85F86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DB707-7DB3-4F69-B411-424AE89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799AC-D524-498B-8175-0A6B038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F4D51-6F72-4CA9-AAC6-0C451A5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4694D-9FCC-4CDF-A8DF-429451D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F3E71-BE00-4BCC-BCC6-8C9DB881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5312C-2379-4A32-AD92-D047FD4D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8B9-F528-4178-9D03-DCE2D6B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9762-6245-4B62-83A8-C7D759D1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26E-3361-4B3F-AB35-C249F75C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BA44C-E43B-47BA-AA74-06F87CAC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8C95-D26D-4A42-AE72-5121C29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097D-441D-49F1-BF27-0161783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83E9-804A-4C1B-9C38-A749AEE4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35E6-6F04-4346-A981-D6683637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727-9785-40E5-A9B8-A99B291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78A3-89B7-43BA-9EB0-F451BAD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6792-50F8-4F5F-BDB7-925633C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B705-AA1F-4A0A-B164-2C36F53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29E1-53FA-4520-8426-4E4D292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1949-9605-4667-BA88-15554B84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886C-23C8-4B39-BDF1-328D641F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B56D-404D-486F-A563-EB01ABF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04A3-4414-4B42-812C-0D6B68B9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A2CC-FE77-4C49-BECB-3F7D55C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BF13-4415-4404-AEA4-333499E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BCD-66EF-4D4D-8EC6-DB13298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66F7-4D3E-4C92-AD13-CEF25F3E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E72B-C606-4E69-9B5F-382D90D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326B-5DBD-43A1-963A-678972D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472D-9733-4DBB-9A54-741D2B5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36FC-D6D0-49B1-B663-858015E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603A-9B55-4DE2-A533-2D158F7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935BD-422B-4C92-843D-AEBB284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62A20-72BA-43BD-9D8A-A591F9E4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8610-DB0A-4893-B285-F9204D86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ABF5-5BB7-4B16-A1E5-2B862DED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428-830B-43D9-AB92-D954BD8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81D4-5342-4C54-AFFB-6918162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6A07-5355-43C9-BB19-2FD492E1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01E0-47E8-4275-BB36-DAE2245F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C2DA-E755-41BC-8E22-E5FB8B29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0FAF-3E6E-415A-904B-55A4075D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9A7B-E920-46E4-B533-DCCFBFCC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2C2D-2231-48F2-B8E9-C753A7B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7864-6901-48C1-B0F0-67B6C13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32D8-8E98-424E-B6D2-84C02F0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9538-0ED5-4D73-A5BD-DAE6E54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F60-5627-4B29-B995-F927F81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FC25-73CC-4569-8C34-9B3D4B5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61BE-8772-478D-ADDD-FA2790E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DA4D-0850-4270-A9EE-2C0D2906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6D2F-43C9-4373-915E-5FE807DF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AC3D9-F9F0-42C3-8D94-3438B2D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BA1E-B1A1-4E2E-83A8-0159C92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6BEDD-4A1C-431F-8E65-6ED20FDF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45AD-C6AF-4879-9271-7FA138D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2B4C2-4923-4582-AB3D-B6422D9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FBA5-C45A-43D7-A471-007F54B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A73-65D4-4591-8D5D-2B66FC6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69F0-AEC3-4C6E-A526-A3D2594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0443-0043-4507-93D7-6272AC84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7E93-1786-4813-AAB0-369DE0A0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03AD-4902-4F78-A0F0-37DE9C28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710BD-18FD-4C89-BF25-75FE2465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BDC5-602F-4181-B9B0-1EF05F8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FE6B-4B1A-4EB4-9643-938536A3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87DD-0655-477F-B0AC-4DCA018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3ABC6-760A-4A9C-8B3F-8E6B3A7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F246-EF2D-4E18-A8E5-2A2F3E8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E1F-3EC3-4517-B1E8-284FCAB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7AE5-1679-4DBF-BE86-FC41172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0F11-44DB-4082-9583-0FB72BF7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2404-F733-4865-878D-E543027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30823-5E90-4D6C-AEFA-726AA183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4A92B-4708-4A85-BE31-74428201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2F23F-6949-4B81-8250-A1CCAF1B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6A60-035A-40F5-B61C-CEEE58D0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8179-13EA-493D-9481-89AD79C2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91C26-9183-48A4-A36F-F8E11DA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C487-EDC3-436E-8817-FD4B12BA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983-5F56-4945-86E3-3D69F04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DCAFB-0A1B-44B6-BA90-434391AC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AD6C7-6F97-4FA0-84F5-585F199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3F3B1-618C-43C5-B3B7-6D92C87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7E2CD-C943-4CA4-817E-2636455F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C7B9-3313-489A-AC3F-B6EA7F0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123B8-68F1-4FDB-A669-27FD40ED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9C9E-30E4-4608-B7FB-181CCD06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AF297-C18B-4479-BE75-FC1D1762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37604-811F-432D-8314-E5DF020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85ABE-544D-4845-9D74-7FCD949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954-9692-463C-9C8F-F143408CCCB6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C56-9397-461B-BD6A-F0DA96FF744A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F1FE-3F8C-45CD-8529-84B4BAE9C355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1EEF-6F60-400E-A154-1EF030AEF532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95EB-741E-4838-B882-98BC42DC72F6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7942-E3F3-4881-85D7-BC2A9588421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0672-6552-4583-8DCA-62B18D0A19B8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7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F72-0209-4D86-842A-E2950E12992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584-834F-458D-9EE5-48FCF90804EE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9F85-7F52-4931-AAA7-9E42F6A6D237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2120-CCE7-4A61-BF45-E5A342CF490C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D524-04AC-411D-B347-EAAF39566F17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5B91-E449-4DD3-8BF2-AAFAE9FC2B81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8BD6-25C3-4498-A822-0218858A863D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9144-C810-4AD5-AA26-950ACB44B29E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2BB2-69A6-42E0-B315-D6C70525B871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5B3-8054-4183-BD00-52D4FCB0A89A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E132-A022-4605-8810-A0BB6892E729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0"/>
          <p:cNvSpPr/>
          <p:nvPr/>
        </p:nvSpPr>
        <p:spPr>
          <a:xfrm>
            <a:off x="-135720" y="587520"/>
            <a:ext cx="932652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Nucleic acids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DNA &amp; RN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82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883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884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76320" y="4343400"/>
            <a:ext cx="8534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s are normally hundreds to thousands of nucleotides long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linear ord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الترتيب التتابع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 bases in a gene specif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يُح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order of amino aci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رتيب الأحماض الأم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the monomers of a protein)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76320" y="1295280"/>
            <a:ext cx="8534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ssenger RNA (m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carries the DNA sequence information from the nucleus to the ribosom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ransfer RNA (t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brings the amino acids and transport them to the ribosome for making prote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Ribosomal RNA (r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tructural and functional part of the ribosome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457200" y="1239840"/>
            <a:ext cx="3733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7200" y="2001960"/>
            <a:ext cx="33526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sphate - Sugar - 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457200" y="268776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8" name="Group 5"/>
          <p:cNvGrpSpPr/>
          <p:nvPr/>
        </p:nvGrpSpPr>
        <p:grpSpPr>
          <a:xfrm>
            <a:off x="4495680" y="1163520"/>
            <a:ext cx="4191120" cy="947160"/>
            <a:chOff x="4495680" y="1163520"/>
            <a:chExt cx="4191120" cy="947160"/>
          </a:xfrm>
        </p:grpSpPr>
        <p:sp>
          <p:nvSpPr>
            <p:cNvPr id="1019" name="Text Box 6"/>
            <p:cNvSpPr/>
            <p:nvPr/>
          </p:nvSpPr>
          <p:spPr>
            <a:xfrm>
              <a:off x="5867280" y="116352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backb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0" name="AutoShape 7"/>
            <p:cNvSpPr/>
            <p:nvPr/>
          </p:nvSpPr>
          <p:spPr>
            <a:xfrm>
              <a:off x="4495680" y="129528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1" name="Group 8"/>
          <p:cNvGrpSpPr/>
          <p:nvPr/>
        </p:nvGrpSpPr>
        <p:grpSpPr>
          <a:xfrm>
            <a:off x="4495680" y="1925640"/>
            <a:ext cx="4191120" cy="947160"/>
            <a:chOff x="4495680" y="1925640"/>
            <a:chExt cx="4191120" cy="947160"/>
          </a:xfrm>
        </p:grpSpPr>
        <p:sp>
          <p:nvSpPr>
            <p:cNvPr id="1022" name="Text Box 9"/>
            <p:cNvSpPr/>
            <p:nvPr/>
          </p:nvSpPr>
          <p:spPr>
            <a:xfrm>
              <a:off x="5867280" y="192564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One nucleotid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3" name="AutoShape 10"/>
            <p:cNvSpPr/>
            <p:nvPr/>
          </p:nvSpPr>
          <p:spPr>
            <a:xfrm>
              <a:off x="4495680" y="1981080"/>
              <a:ext cx="11430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4" name="Group 11"/>
          <p:cNvGrpSpPr/>
          <p:nvPr/>
        </p:nvGrpSpPr>
        <p:grpSpPr>
          <a:xfrm>
            <a:off x="4495680" y="2687760"/>
            <a:ext cx="4191120" cy="520560"/>
            <a:chOff x="4495680" y="2687760"/>
            <a:chExt cx="4191120" cy="520560"/>
          </a:xfrm>
        </p:grpSpPr>
        <p:sp>
          <p:nvSpPr>
            <p:cNvPr id="1025" name="Text Box 12"/>
            <p:cNvSpPr/>
            <p:nvPr/>
          </p:nvSpPr>
          <p:spPr>
            <a:xfrm>
              <a:off x="5867280" y="2687760"/>
              <a:ext cx="2819520" cy="52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Molecul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6" name="AutoShape 13"/>
            <p:cNvSpPr/>
            <p:nvPr/>
          </p:nvSpPr>
          <p:spPr>
            <a:xfrm>
              <a:off x="4495680" y="2743200"/>
              <a:ext cx="1143000" cy="380520"/>
            </a:xfrm>
            <a:prstGeom prst="rightArrow">
              <a:avLst>
                <a:gd name="adj1" fmla="val 50000"/>
                <a:gd name="adj2" fmla="val 15519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7" name="Group 16"/>
          <p:cNvGrpSpPr/>
          <p:nvPr/>
        </p:nvGrpSpPr>
        <p:grpSpPr>
          <a:xfrm>
            <a:off x="762120" y="4800600"/>
            <a:ext cx="6705360" cy="1251720"/>
            <a:chOff x="762120" y="4800600"/>
            <a:chExt cx="6705360" cy="1251720"/>
          </a:xfrm>
        </p:grpSpPr>
        <p:grpSp>
          <p:nvGrpSpPr>
            <p:cNvPr id="1028" name="Group 16"/>
            <p:cNvGrpSpPr/>
            <p:nvPr/>
          </p:nvGrpSpPr>
          <p:grpSpPr>
            <a:xfrm>
              <a:off x="2438280" y="4800600"/>
              <a:ext cx="457200" cy="840600"/>
              <a:chOff x="2438280" y="4800600"/>
              <a:chExt cx="457200" cy="840600"/>
            </a:xfrm>
          </p:grpSpPr>
          <p:sp>
            <p:nvSpPr>
              <p:cNvPr id="1029" name="Text Box 17"/>
              <p:cNvSpPr/>
              <p:nvPr/>
            </p:nvSpPr>
            <p:spPr>
              <a:xfrm>
                <a:off x="24382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0" name="Line 18"/>
              <p:cNvSpPr/>
              <p:nvPr/>
            </p:nvSpPr>
            <p:spPr>
              <a:xfrm flipV="1">
                <a:off x="26668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19"/>
            <p:cNvGrpSpPr/>
            <p:nvPr/>
          </p:nvGrpSpPr>
          <p:grpSpPr>
            <a:xfrm>
              <a:off x="3048120" y="4800600"/>
              <a:ext cx="457200" cy="840600"/>
              <a:chOff x="3048120" y="4800600"/>
              <a:chExt cx="457200" cy="840600"/>
            </a:xfrm>
          </p:grpSpPr>
          <p:sp>
            <p:nvSpPr>
              <p:cNvPr id="1032" name="Text Box 20"/>
              <p:cNvSpPr/>
              <p:nvPr/>
            </p:nvSpPr>
            <p:spPr>
              <a:xfrm>
                <a:off x="30481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3" name="Line 21"/>
              <p:cNvSpPr/>
              <p:nvPr/>
            </p:nvSpPr>
            <p:spPr>
              <a:xfrm flipV="1">
                <a:off x="32767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2"/>
            <p:cNvGrpSpPr/>
            <p:nvPr/>
          </p:nvGrpSpPr>
          <p:grpSpPr>
            <a:xfrm>
              <a:off x="3657600" y="4800600"/>
              <a:ext cx="457200" cy="840600"/>
              <a:chOff x="3657600" y="4800600"/>
              <a:chExt cx="457200" cy="840600"/>
            </a:xfrm>
          </p:grpSpPr>
          <p:sp>
            <p:nvSpPr>
              <p:cNvPr id="1035" name="Text Box 23"/>
              <p:cNvSpPr/>
              <p:nvPr/>
            </p:nvSpPr>
            <p:spPr>
              <a:xfrm>
                <a:off x="36576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6" name="Line 24"/>
              <p:cNvSpPr/>
              <p:nvPr/>
            </p:nvSpPr>
            <p:spPr>
              <a:xfrm flipV="1">
                <a:off x="38862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5"/>
            <p:cNvGrpSpPr/>
            <p:nvPr/>
          </p:nvGrpSpPr>
          <p:grpSpPr>
            <a:xfrm>
              <a:off x="4267080" y="4800600"/>
              <a:ext cx="457200" cy="840600"/>
              <a:chOff x="4267080" y="4800600"/>
              <a:chExt cx="457200" cy="840600"/>
            </a:xfrm>
          </p:grpSpPr>
          <p:sp>
            <p:nvSpPr>
              <p:cNvPr id="1038" name="Text Box 26"/>
              <p:cNvSpPr/>
              <p:nvPr/>
            </p:nvSpPr>
            <p:spPr>
              <a:xfrm>
                <a:off x="42670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9" name="Line 27"/>
              <p:cNvSpPr/>
              <p:nvPr/>
            </p:nvSpPr>
            <p:spPr>
              <a:xfrm flipV="1">
                <a:off x="44956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28"/>
            <p:cNvGrpSpPr/>
            <p:nvPr/>
          </p:nvGrpSpPr>
          <p:grpSpPr>
            <a:xfrm>
              <a:off x="4876920" y="4800600"/>
              <a:ext cx="457200" cy="840600"/>
              <a:chOff x="4876920" y="4800600"/>
              <a:chExt cx="457200" cy="840600"/>
            </a:xfrm>
          </p:grpSpPr>
          <p:sp>
            <p:nvSpPr>
              <p:cNvPr id="1041" name="Text Box 29"/>
              <p:cNvSpPr/>
              <p:nvPr/>
            </p:nvSpPr>
            <p:spPr>
              <a:xfrm>
                <a:off x="48769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2" name="Line 30"/>
              <p:cNvSpPr/>
              <p:nvPr/>
            </p:nvSpPr>
            <p:spPr>
              <a:xfrm flipV="1">
                <a:off x="51055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31"/>
            <p:cNvGrpSpPr/>
            <p:nvPr/>
          </p:nvGrpSpPr>
          <p:grpSpPr>
            <a:xfrm>
              <a:off x="5486400" y="4800600"/>
              <a:ext cx="457200" cy="840600"/>
              <a:chOff x="5486400" y="4800600"/>
              <a:chExt cx="457200" cy="840600"/>
            </a:xfrm>
          </p:grpSpPr>
          <p:sp>
            <p:nvSpPr>
              <p:cNvPr id="1044" name="Text Box 32"/>
              <p:cNvSpPr/>
              <p:nvPr/>
            </p:nvSpPr>
            <p:spPr>
              <a:xfrm>
                <a:off x="54864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5" name="Line 33"/>
              <p:cNvSpPr/>
              <p:nvPr/>
            </p:nvSpPr>
            <p:spPr>
              <a:xfrm flipV="1">
                <a:off x="57150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34"/>
            <p:cNvGrpSpPr/>
            <p:nvPr/>
          </p:nvGrpSpPr>
          <p:grpSpPr>
            <a:xfrm>
              <a:off x="6095880" y="4800600"/>
              <a:ext cx="457200" cy="840600"/>
              <a:chOff x="6095880" y="4800600"/>
              <a:chExt cx="457200" cy="840600"/>
            </a:xfrm>
          </p:grpSpPr>
          <p:sp>
            <p:nvSpPr>
              <p:cNvPr id="1047" name="Text Box 35"/>
              <p:cNvSpPr/>
              <p:nvPr/>
            </p:nvSpPr>
            <p:spPr>
              <a:xfrm>
                <a:off x="60958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8" name="Line 36"/>
              <p:cNvSpPr/>
              <p:nvPr/>
            </p:nvSpPr>
            <p:spPr>
              <a:xfrm flipV="1">
                <a:off x="63244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5"/>
            <p:cNvGrpSpPr/>
            <p:nvPr/>
          </p:nvGrpSpPr>
          <p:grpSpPr>
            <a:xfrm>
              <a:off x="762120" y="5105160"/>
              <a:ext cx="6705360" cy="947160"/>
              <a:chOff x="762120" y="5105160"/>
              <a:chExt cx="6705360" cy="947160"/>
            </a:xfrm>
          </p:grpSpPr>
          <p:sp>
            <p:nvSpPr>
              <p:cNvPr id="1050" name="Line 46"/>
              <p:cNvSpPr/>
              <p:nvPr/>
            </p:nvSpPr>
            <p:spPr>
              <a:xfrm>
                <a:off x="6553080" y="541008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1" name="Text Box 50"/>
              <p:cNvSpPr/>
              <p:nvPr/>
            </p:nvSpPr>
            <p:spPr>
              <a:xfrm>
                <a:off x="762120" y="510516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Constantia"/>
                  </a:rPr>
                  <a:t>mRNA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Group 14"/>
          <p:cNvGrpSpPr/>
          <p:nvPr/>
        </p:nvGrpSpPr>
        <p:grpSpPr>
          <a:xfrm>
            <a:off x="838080" y="4343400"/>
            <a:ext cx="6629400" cy="520560"/>
            <a:chOff x="838080" y="4343400"/>
            <a:chExt cx="6629400" cy="520560"/>
          </a:xfrm>
        </p:grpSpPr>
        <p:grpSp>
          <p:nvGrpSpPr>
            <p:cNvPr id="1053" name="Group 37"/>
            <p:cNvGrpSpPr/>
            <p:nvPr/>
          </p:nvGrpSpPr>
          <p:grpSpPr>
            <a:xfrm>
              <a:off x="2438280" y="4343400"/>
              <a:ext cx="5029200" cy="459720"/>
              <a:chOff x="2438280" y="4343400"/>
              <a:chExt cx="5029200" cy="459720"/>
            </a:xfrm>
          </p:grpSpPr>
          <p:sp>
            <p:nvSpPr>
              <p:cNvPr id="1054" name="Text Box 38"/>
              <p:cNvSpPr/>
              <p:nvPr/>
            </p:nvSpPr>
            <p:spPr>
              <a:xfrm>
                <a:off x="24382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5" name="Text Box 39"/>
              <p:cNvSpPr/>
              <p:nvPr/>
            </p:nvSpPr>
            <p:spPr>
              <a:xfrm>
                <a:off x="30481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6" name="Text Box 40"/>
              <p:cNvSpPr/>
              <p:nvPr/>
            </p:nvSpPr>
            <p:spPr>
              <a:xfrm>
                <a:off x="54864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7" name="Text Box 41"/>
              <p:cNvSpPr/>
              <p:nvPr/>
            </p:nvSpPr>
            <p:spPr>
              <a:xfrm>
                <a:off x="36576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8" name="Text Box 42"/>
              <p:cNvSpPr/>
              <p:nvPr/>
            </p:nvSpPr>
            <p:spPr>
              <a:xfrm>
                <a:off x="42670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9" name="Text Box 43"/>
              <p:cNvSpPr/>
              <p:nvPr/>
            </p:nvSpPr>
            <p:spPr>
              <a:xfrm>
                <a:off x="48769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0" name="Text Box 44"/>
              <p:cNvSpPr/>
              <p:nvPr/>
            </p:nvSpPr>
            <p:spPr>
              <a:xfrm>
                <a:off x="60958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1" name="Line 45"/>
              <p:cNvSpPr/>
              <p:nvPr/>
            </p:nvSpPr>
            <p:spPr>
              <a:xfrm>
                <a:off x="6553080" y="457200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62" name="Text Box 51"/>
            <p:cNvSpPr/>
            <p:nvPr/>
          </p:nvSpPr>
          <p:spPr>
            <a:xfrm>
              <a:off x="83808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nstantia"/>
                </a:rPr>
                <a:t>D</a:t>
              </a:r>
              <a:r>
                <a:rPr b="1" lang="en-US" sz="2800" spc="-1" strike="noStrike">
                  <a:solidFill>
                    <a:srgbClr val="ff3300"/>
                  </a:solidFill>
                  <a:latin typeface="Constantia"/>
                </a:rPr>
                <a:t>N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89154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There are two types of nucleic acids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eoxyr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 (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D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the genetic material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ادة الوراثية</a:t>
            </a:r>
            <a:r>
              <a:rPr b="0" lang="en-US" sz="22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most organisms (humans, animals, bacteria, plants, and some viruses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R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(R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some viruses, RNA serves as the genetic mater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Nucleic acids store and transmit genetic information 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علومات الوراثية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Organisms inherit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رث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DNA from their parent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DNA molecule is very long and usually consists of hundreds to thousands of ge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gene is a small region in the DNA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a cell divides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نقسم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its DNA is copied and passed to the next generation of cell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Watson-Crick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6"/>
          <p:cNvSpPr/>
          <p:nvPr/>
        </p:nvSpPr>
        <p:spPr>
          <a:xfrm>
            <a:off x="76320" y="48434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ructur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iscovered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Watson and Crick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They found the DNA is double helix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حلزون مزدو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 sugar-phosphate backbones on the outside and the bases on the insid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1" name="Group 3"/>
          <p:cNvGrpSpPr/>
          <p:nvPr/>
        </p:nvGrpSpPr>
        <p:grpSpPr>
          <a:xfrm>
            <a:off x="609480" y="1371600"/>
            <a:ext cx="7805880" cy="3200400"/>
            <a:chOff x="609480" y="1371600"/>
            <a:chExt cx="7805880" cy="3200400"/>
          </a:xfrm>
        </p:grpSpPr>
        <p:grpSp>
          <p:nvGrpSpPr>
            <p:cNvPr id="892" name="Group 6"/>
            <p:cNvGrpSpPr/>
            <p:nvPr/>
          </p:nvGrpSpPr>
          <p:grpSpPr>
            <a:xfrm>
              <a:off x="609480" y="1371600"/>
              <a:ext cx="7805880" cy="3200400"/>
              <a:chOff x="609480" y="1371600"/>
              <a:chExt cx="7805880" cy="3200400"/>
            </a:xfrm>
          </p:grpSpPr>
          <p:pic>
            <p:nvPicPr>
              <p:cNvPr id="893" name="Picture 8" descr=""/>
              <p:cNvPicPr/>
              <p:nvPr/>
            </p:nvPicPr>
            <p:blipFill>
              <a:blip r:embed="rId1"/>
              <a:srcRect l="0" t="0" r="25689" b="4968"/>
              <a:stretch/>
            </p:blipFill>
            <p:spPr>
              <a:xfrm>
                <a:off x="609480" y="1422360"/>
                <a:ext cx="4586400" cy="31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Rectangle 10"/>
              <p:cNvSpPr/>
              <p:nvPr/>
            </p:nvSpPr>
            <p:spPr>
              <a:xfrm>
                <a:off x="609480" y="1371600"/>
                <a:ext cx="7805880" cy="3200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895" name="Picture 17" descr="hyd8760x_0714"/>
            <p:cNvPicPr/>
            <p:nvPr/>
          </p:nvPicPr>
          <p:blipFill>
            <a:blip r:embed="rId2"/>
            <a:srcRect l="0" t="3021" r="0" b="2328"/>
            <a:stretch/>
          </p:blipFill>
          <p:spPr>
            <a:xfrm>
              <a:off x="5186520" y="1400040"/>
              <a:ext cx="3152880" cy="314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91540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ic acids (polymers) are made of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تتكون من</a:t>
            </a:r>
            <a:r>
              <a:rPr b="0" lang="en-US" sz="20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(monomers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Each nucleotide consists of three component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phosphate group (P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جموعة فوسفا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itrogen b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قاعدة نيتروجيني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basic structure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76320" y="30607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s in DNA and RNA differ at a single position.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the suga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eoxy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gen (H) at the second (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)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xyl (OH) group at the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carbons of the sugars are numbered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to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0" name="Picture 5" descr="hyd8760x_0708"/>
          <p:cNvPicPr/>
          <p:nvPr/>
        </p:nvPicPr>
        <p:blipFill>
          <a:blip r:embed="rId1"/>
          <a:srcRect l="0" t="2843" r="4944" b="51164"/>
          <a:stretch/>
        </p:blipFill>
        <p:spPr>
          <a:xfrm>
            <a:off x="5181480" y="2133720"/>
            <a:ext cx="3791160" cy="421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83908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and RNA both hav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our nitrogen bas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rings of carbon and nitrogen)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ur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yrimid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their nucleotide chai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ym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uraci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U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strands are held together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ydrogen boun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bas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drogen bonds connect adenine and thymine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nect cytosine and guan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ucleotide is formed in the cell when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ttaches to the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'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ugar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 phospha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taches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ame sugar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 and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5" descr="hyd8760x_0710"/>
          <p:cNvPicPr/>
          <p:nvPr/>
        </p:nvPicPr>
        <p:blipFill>
          <a:blip r:embed="rId1"/>
          <a:srcRect l="755" t="4005" r="2907" b="5234"/>
          <a:stretch/>
        </p:blipFill>
        <p:spPr>
          <a:xfrm>
            <a:off x="304920" y="990720"/>
            <a:ext cx="851508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5" name="Rectangle 3"/>
          <p:cNvSpPr/>
          <p:nvPr/>
        </p:nvSpPr>
        <p:spPr>
          <a:xfrm>
            <a:off x="76320" y="2286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2633760" y="347760"/>
            <a:ext cx="3799800" cy="599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round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Structure of D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0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90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1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91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91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2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2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2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93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94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94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94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94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95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5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95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96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nstantia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Group 67"/>
          <p:cNvGrpSpPr/>
          <p:nvPr/>
        </p:nvGrpSpPr>
        <p:grpSpPr>
          <a:xfrm>
            <a:off x="4191120" y="1143000"/>
            <a:ext cx="1904760" cy="2514600"/>
            <a:chOff x="4191120" y="1143000"/>
            <a:chExt cx="1904760" cy="2514600"/>
          </a:xfrm>
        </p:grpSpPr>
        <p:sp>
          <p:nvSpPr>
            <p:cNvPr id="972" name="AutoShape 68"/>
            <p:cNvSpPr/>
            <p:nvPr/>
          </p:nvSpPr>
          <p:spPr>
            <a:xfrm>
              <a:off x="4191120" y="11430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3" name="Text Box 69"/>
            <p:cNvSpPr/>
            <p:nvPr/>
          </p:nvSpPr>
          <p:spPr>
            <a:xfrm>
              <a:off x="4419720" y="21337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4" name="Group 70"/>
          <p:cNvGrpSpPr/>
          <p:nvPr/>
        </p:nvGrpSpPr>
        <p:grpSpPr>
          <a:xfrm>
            <a:off x="5943600" y="1219320"/>
            <a:ext cx="3047760" cy="5333400"/>
            <a:chOff x="5943600" y="1219320"/>
            <a:chExt cx="3047760" cy="5333400"/>
          </a:xfrm>
        </p:grpSpPr>
        <p:sp>
          <p:nvSpPr>
            <p:cNvPr id="975" name="Rectangle 71"/>
            <p:cNvSpPr/>
            <p:nvPr/>
          </p:nvSpPr>
          <p:spPr>
            <a:xfrm>
              <a:off x="5943600" y="1292040"/>
              <a:ext cx="2946600" cy="5260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6" name="Text Box 72"/>
            <p:cNvSpPr/>
            <p:nvPr/>
          </p:nvSpPr>
          <p:spPr>
            <a:xfrm>
              <a:off x="7637760" y="1219320"/>
              <a:ext cx="13258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7" name="AutoShape 73"/>
            <p:cNvSpPr/>
            <p:nvPr/>
          </p:nvSpPr>
          <p:spPr>
            <a:xfrm>
              <a:off x="7121880" y="246384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8" name="Text Box 74"/>
            <p:cNvSpPr/>
            <p:nvPr/>
          </p:nvSpPr>
          <p:spPr>
            <a:xfrm>
              <a:off x="6846120" y="14389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9" name="Text Box 75"/>
            <p:cNvSpPr/>
            <p:nvPr/>
          </p:nvSpPr>
          <p:spPr>
            <a:xfrm>
              <a:off x="5943600" y="575964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Constantia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0" name="Text Box 76"/>
            <p:cNvSpPr/>
            <p:nvPr/>
          </p:nvSpPr>
          <p:spPr>
            <a:xfrm>
              <a:off x="5943600" y="23907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1" name="Text Box 77"/>
            <p:cNvSpPr/>
            <p:nvPr/>
          </p:nvSpPr>
          <p:spPr>
            <a:xfrm>
              <a:off x="5943600" y="48654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Constantia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2" name="Text Box 78"/>
            <p:cNvSpPr/>
            <p:nvPr/>
          </p:nvSpPr>
          <p:spPr>
            <a:xfrm>
              <a:off x="5943600" y="32544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Constantia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3" name="AutoShape 79"/>
            <p:cNvSpPr/>
            <p:nvPr/>
          </p:nvSpPr>
          <p:spPr>
            <a:xfrm>
              <a:off x="7158960" y="492948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4" name="Text Box 80"/>
            <p:cNvSpPr/>
            <p:nvPr/>
          </p:nvSpPr>
          <p:spPr>
            <a:xfrm>
              <a:off x="7269480" y="2860920"/>
              <a:ext cx="132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5" name="Text Box 81"/>
            <p:cNvSpPr/>
            <p:nvPr/>
          </p:nvSpPr>
          <p:spPr>
            <a:xfrm>
              <a:off x="7297200" y="531108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6" name="Text Box 82"/>
          <p:cNvSpPr/>
          <p:nvPr/>
        </p:nvSpPr>
        <p:spPr>
          <a:xfrm>
            <a:off x="2895480" y="37018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99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9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99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8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0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001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2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3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10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380880"/>
            <a:ext cx="43434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5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6" name="Picture 5" descr=""/>
          <p:cNvPicPr/>
          <p:nvPr/>
        </p:nvPicPr>
        <p:blipFill>
          <a:blip r:embed="rId2"/>
          <a:srcRect l="28180" t="2847" r="26695" b="14699"/>
          <a:stretch/>
        </p:blipFill>
        <p:spPr>
          <a:xfrm>
            <a:off x="380880" y="2690640"/>
            <a:ext cx="3859200" cy="39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7" name="Rectangle 1"/>
          <p:cNvSpPr/>
          <p:nvPr/>
        </p:nvSpPr>
        <p:spPr>
          <a:xfrm>
            <a:off x="0" y="608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buClr>
                <a:srgbClr val="00b05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are linked together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odiester bo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ate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one nucleotide an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droxyl group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n adjacent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Differences between DNA and 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28600" y="1295280"/>
          <a:ext cx="8686800" cy="5394600"/>
        </p:xfrm>
        <a:graphic>
          <a:graphicData uri="http://schemas.openxmlformats.org/drawingml/2006/table">
            <a:tbl>
              <a:tblPr/>
              <a:tblGrid>
                <a:gridCol w="2998800"/>
                <a:gridCol w="2844720"/>
                <a:gridCol w="28432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str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oub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ing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 of sug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nitrogen ba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 (A), thymine (T), cytosine (C), and  guanine (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, uracil (U), guanine, and cytos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Pai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thymine (A-T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uracil (A-U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is found in the nucleus, Mitochondria and chloroplast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RNA is found in the nucleus, cytoplasm, and riboso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Dell</cp:lastModifiedBy>
  <dcterms:modified xsi:type="dcterms:W3CDTF">2015-09-29T21:47:39Z</dcterms:modified>
  <cp:revision>275</cp:revision>
  <dc:subject/>
  <dc:title>Slide 1</dc:title>
</cp:coreProperties>
</file>