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4FA-4215-4CD3-ABE3-DE1A1A7B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D34-6E1A-4452-9AAE-3D0C54D5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9EA0-8EB0-4754-A6EB-E3D4A34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F2833-E0A6-43B0-AAE0-49A7EE04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455E-BC3A-4A81-9B25-67D58A0A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913FC-9693-45D1-ACC9-92A4BC9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A7CF8-A71F-4227-AA11-53B7355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D175-E597-496E-BFD9-D6CA1A1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9A85-F149-42D1-A19A-F99A2567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B4648-BA8C-4390-BF24-2A1F5FEC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E6203-B26C-488A-A10F-55106EB9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75C70-B272-4EE9-B2D3-37B2CC59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54D-FB6F-4916-B1A1-BFA00A5D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B1775-EE80-4033-831A-C32D97B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9C5C-F8D4-4957-83EB-1075FAB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AFEF8-6C18-4E4B-81A1-80ED5A0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3F347-0475-4ED5-8E4B-AC45D2A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8BFE0-832B-4417-A037-9BA2B1F9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43F2-8EF5-4A14-857F-8E59B29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03AB7-1BCB-4AF0-B742-C1927C0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96206-A165-410E-AD84-4E7D22B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4A64-16F9-46E8-BF4C-61ED948B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A142C-DD9D-4DDD-85B2-F157084B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DDD-BC27-43CA-B614-477E6BD2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E2C58-42C1-4AAC-97C2-B10C7E92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B6D25-BA73-4A79-BEBE-C8962778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BCBEB-389B-4F4F-8B5A-D345D8B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EBF6-C831-48FD-94E4-98184B56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FA792-1BD9-4294-BB0B-620F5D2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8A01-28A1-4D98-8C77-AF34737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B4DB-1380-4E5E-BFD8-15F78C1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1041-F9D4-4A09-8215-035A548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8E35-D217-4406-9E1D-21DA3EB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D19B0-BAA0-4E7D-847C-63A1A24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0DA8-CA20-41DE-8FA0-011957B3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E3427-C7F1-479C-9B30-CE1E305F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4F888-F7AD-4EF4-A3A0-5528C724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27F8D-89FE-4019-A63C-E4698125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7A863-DC82-4D2F-9C84-FF99471D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2ADB3-0158-4D39-8EAD-E792C77F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2538D-21AB-4AED-AB41-1B87120F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D6921-A74B-4A46-AA88-6DDEB08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EB85D-39BA-411D-9D89-2793264A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BB0AE-E2A4-4C3D-B87F-B3E0504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6ED92-2964-4F06-9C69-E2BE2B9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2476-AEB6-4E9D-93AF-654D670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7EEA-8BC3-404D-B029-F07127C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5E171-6376-483E-8CCD-D12C3B7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56D9F-192F-46D0-8D31-17888BBE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537D6-4BFC-4C6C-8053-539C94D2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433B4-7263-4517-93D0-FEAEE902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4B181-5118-456A-890A-E940B17E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80084-801E-43F4-AEAE-8D189354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EA23E-8B4E-4E96-A2CB-E8391AA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25614-49F0-4A62-BA2B-69FD9D7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728CD-B4AF-437C-8F66-F7D6CA57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C86-E1D6-4E68-BCE4-33687CA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87386-877F-4CD8-BF9B-2538729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87B2E-BA0C-4CAC-9BB2-7C684B0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ABCA9-9C89-402C-AE61-D24E50B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3764A-B6CA-4BFA-848D-92B31D5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C8B51-36C5-4179-8228-FF94DBD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6759B-EE7D-4F57-838E-89BBAB1B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3B800-7A9C-40A3-BDED-921D29AE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03149-B2D3-468E-8362-112111AD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F083C-1D09-4C99-9437-787C3639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F4BE6-5B97-422D-B725-07A0A39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05E9-CFFB-4B01-B5DF-3D505DF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F8A10-7F35-4CCA-8509-D410E500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7AF8B-DBEC-401C-A7D0-76890CB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07603-A1A6-48DE-8A14-8CB9138D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8D1F4-5741-4F5A-857D-0B56DF4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95A01-9CCD-4928-B03B-C5BE7169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27F42-DB51-4B41-9569-7CD56BFD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6D740-6CB0-49A7-8537-6E7CB71B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451B5-6CD1-416D-8438-15B34A92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347E4-6DB1-45B1-8381-9310AB44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57D66-012D-44FE-8F93-52D79C9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ADE-0C41-47DB-B8D5-740431E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29291-2077-4C2C-AEFA-96602F4D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341CF-1AFB-4D20-8CE0-3A96D42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A71DD-5BCB-47E7-98F1-99A6F12F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0332C-7277-48D2-BCA6-51E85F9A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EE42B-C61A-42BD-8B25-249CEF7B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2AB6E-8DE8-4D58-AAC6-7088869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B7B3C-F7FB-4820-8D32-C64B046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CA9A3-1811-4801-B650-8CA2E52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455A5-5601-4EDE-BA2C-7E8F077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DB531-BD26-4C7E-9A83-FC6940C4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E90E-8637-44A7-B53E-E718A68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E958E-B65D-4583-90A8-25AA90D6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A69E8-D3D4-4A48-BA0B-7E7B53D1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0681C-D549-4158-896E-2ADAF0C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58982-4253-4D02-9677-91E73F9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33941-DE93-4B7F-B32E-2D36A71F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56121-0ECE-4729-A89F-375BF1A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D05C5-5F4A-42A0-BBFC-4541EB3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D4B4F-0CA6-44E6-BCE6-3C2DCA64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F27A7-B6A9-4971-BB92-41B397F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C29E3-AB86-412E-8D2C-2758B24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E86-F014-40DE-BC87-DB31F6B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9EE0D-9244-4D05-9BF2-5CCA2B2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BCE52-1E4E-436F-AA81-C28E5D66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93E5D-D03C-44D0-AE5F-78F20AB8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9D918-1B91-45C8-88E9-E38F675C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B5E8B-888C-4174-99C3-6AAA9585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E3C5F-2BB8-4D2D-A715-5CBDFDD5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6FC2C-21B9-4E03-87CE-D41D4809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00220-ADBC-4772-9D52-2BBBADE7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449B8-A12A-4A98-A691-4EA7CC3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95B0F-CAE0-40D5-9CEA-75783F5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314-35D5-4969-9FC6-DE4B62A4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5785-3BAA-4FF7-B56D-8314E9E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DF161-7092-4A8B-A527-7800882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0722E-FE9C-460D-8278-BEFB9404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CD4A7-EEAC-458D-8CE6-73A722A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FECC6-B2E1-4A6E-A2B9-26DAABA8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64F56-93F1-4B96-9FFC-C524FBD7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CD036-E39D-4239-ADF2-CCF4411A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EE2D1-CAE8-4DE4-9687-622B3D1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60591-4AAC-46AB-A0E0-ED54C665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DDAB1-972B-49D1-9BDA-9A2FB22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5E3AA-9110-4FFD-840C-D61210D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2587-24F7-4C9F-8105-0250F67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3D79A-7E35-422A-ABC8-D311B42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86AA5-5FDB-4B41-BB02-B85F951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5B297-8890-4E1E-94E7-57B1896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7B6B6-77C7-46D7-AD66-6B81D75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78121-E01A-4F48-9054-A3C7443E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82ECA-36D0-4FFB-83CC-C1B6FF6E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29E68-77AB-49D2-836D-8106142D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976-26CE-49EA-8A70-DCF9AE0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EBB-A827-47AD-A6FA-C9EEF633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FBA-B8B2-4581-BE4B-DF0813D2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03C1-C669-4E63-BAA9-C888EA00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450C-58BD-4FC2-993F-4FA45C15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AF40-C106-486F-84BB-01AA8922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47A4-91A0-473E-B752-0023DB5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5CB7-7248-43C3-BDE1-06A750E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D97-FCB8-4DEE-BC9D-D7181A82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2514-44CE-4524-B2D1-F322C365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05F6-A6CF-48A4-A97D-A8A80AE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0148-B50E-4405-8F34-0D55A33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6092-DDEA-49E4-AB3A-EF1517D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7582-06B6-4D58-9EB5-8DC34BB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9FEB-71A2-4E7E-AB4D-5541A2DC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1957-7AB1-4B33-87D6-4C35B39B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CE0E-D9DB-40D1-ADCD-08317ED9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0B68-97EC-4A91-BCB7-BB98103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8F9C-89CE-4A3F-AD2A-412BD8B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6B8-1995-4CBD-B9C0-590C01E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A498-FBC6-43C8-A076-3FEC3A9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7EE3-1781-4FD4-ABBE-8B947215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91B2-A18E-45DC-A155-99BCA33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65A5-B16F-455B-AB33-171AA51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0027-40D6-4901-B431-9113B04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19EC-BA64-4A8F-8D69-2274061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4171-5CFE-4B4C-AD9F-A95519A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E05F-4BAB-4200-925B-5E3D1B41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7D8D-F8F3-4CC2-A06D-DA860245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2F8D-6137-422F-A5F5-1FA1249C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1F5-9E00-4962-90F0-01882496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33FA-9775-428F-9711-9C5A981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92B0-061B-4623-B5F3-896A7E1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CAB3-287C-4458-A48D-C7F20A1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602A-0472-4A79-BC2F-8041BDC8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98BA-AF39-4404-9BBC-C9A67C67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9BB81-F99A-41FC-A63E-CD7F6CE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FABF-0E6E-4BB8-8155-681E061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DEE8-C33F-4768-ACB1-17CE59C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76F7-A580-4D2D-9245-0543E6B4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D304-64CB-4C67-8602-C3E1C042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810-CEBB-4484-81D0-E61401C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7940-7FAF-44C0-B0BA-847C6415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3234-AF2C-46EB-8BF8-4E3355C4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0FE6-72A8-4590-B1D6-A119771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C78E-0C54-46E1-B247-8A455B3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F7EE-5619-4D9B-B610-F1D655B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9B5E-F8BB-4A37-A5DD-926717D7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9B7F-96AE-4E62-B048-34C670D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6077C-3A80-4B39-8EEA-41BE933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74C4-820C-4369-B38F-0FA0E38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AE2F-A664-4424-9670-E4D141E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6DE-AC84-43DA-8AFE-94166A0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9F725-DACE-45F8-B0A1-5BE7FC8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E478-C527-4248-A723-7304B400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E406-0743-4188-B88C-1C74EB18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C8EB-20C2-4103-921E-56D2257D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1426-5C77-4B82-8FBC-251F466F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448D-F7E9-4B93-BD1E-80C01A1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2CAD-80C9-4948-AC3D-19EACF3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802D-0EA5-48E4-AAAC-CE9AFA8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4429E-76EE-4F46-B0FB-FAFF8E4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F79D-6778-4B69-AF76-2465160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002-E120-47BC-B24C-CDCFA4B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349B-520D-4E96-9DAE-C2B5855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89635-0076-45BB-9CAA-37EC8B2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AD3D-0160-4DA3-8F63-B63F338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8037-9C1E-4D36-B832-5653A747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7EA9-8D28-45C7-86FD-5D4D5424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EF1D6-7139-4279-93CE-5F7AB498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68C1-3AAB-465A-B0FE-00E184A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5274C-D55A-4910-9770-0BE6710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70ED-64DA-4543-92D2-021D1FA3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CE0E1-51C4-49C6-AD9E-825B25B2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784-99A2-4BCF-B88C-DA6E313E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D0D13-E6CB-43B6-960C-A47E7C6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8EF9-AD3C-491A-8F2E-CF518B3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B023-CBAE-4FB9-8BD6-7F10646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838F-D61B-435F-9F11-622AD00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D730-AFA5-493C-ACBD-9A200F5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D241D-F18B-4023-99DF-9D99752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AAB7-AE9B-41ED-9D21-D6DBDD24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1B971-DA85-48B6-A70F-A4555259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0E6B4-9329-4FBF-95B2-AF08A720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85B0E-9195-4959-B811-E383202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A550-C855-4511-B054-E1F56158B026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5A93-0EFF-4881-8B17-4D4D7027F3B1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CA5-C16B-4ADA-A861-79F0CBB5B464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2A0-37E6-4796-B018-3DFF57356C94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602F-88AC-4779-B2A9-A43EE2ACA6EB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FCC-C529-4CE8-8C9E-FEB86678BB11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ACA-8E9E-458C-BC4A-77DA612B3DA9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7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B64-6731-4553-99FB-F17C010492A7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479-DB72-4257-A557-0E313D73612F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C048-3F06-4068-AB02-829A289EB0D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C11-1CD3-40E5-84FE-0CB034443372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8EBD-BC61-4DF2-8376-F9EE05F6938B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F087-E7A6-4094-A8B7-BA5F68ADB695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2336-B125-40A9-B637-A3F04D0EF4FA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0D74-7241-41F3-9A10-78D8655C93B3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CFE-7174-4B19-87ED-08BE6432F54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8C5-F458-4750-9D48-D92B1454A6CC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169-2F3D-4024-A2C5-B9416016AEC1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0"/>
          <p:cNvSpPr/>
          <p:nvPr/>
        </p:nvSpPr>
        <p:spPr>
          <a:xfrm>
            <a:off x="-135720" y="587520"/>
            <a:ext cx="932652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Nucleic acids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DNA &amp; RN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82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883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884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76320" y="4343400"/>
            <a:ext cx="8534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s are normally hundreds to thousands of nucleotides long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linear ord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الترتيب التتابع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 bases in a gene specif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يُح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order of amino aci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رتيب الأحماض الأم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the monomers of a protein)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76320" y="1295280"/>
            <a:ext cx="8534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ssenger RNA (m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carries the DNA sequence information from the nucleus to the ribosom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ransfer RNA (t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brings the amino acids and transport them to the ribosome for making prote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Ribosomal RNA (r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tructural and functional part of the ribosome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457200" y="1239840"/>
            <a:ext cx="3733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7200" y="2001960"/>
            <a:ext cx="33526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sphate - Sugar - 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457200" y="268776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8" name="Group 5"/>
          <p:cNvGrpSpPr/>
          <p:nvPr/>
        </p:nvGrpSpPr>
        <p:grpSpPr>
          <a:xfrm>
            <a:off x="4495680" y="1163520"/>
            <a:ext cx="4191120" cy="947160"/>
            <a:chOff x="4495680" y="1163520"/>
            <a:chExt cx="4191120" cy="947160"/>
          </a:xfrm>
        </p:grpSpPr>
        <p:sp>
          <p:nvSpPr>
            <p:cNvPr id="1019" name="Text Box 6"/>
            <p:cNvSpPr/>
            <p:nvPr/>
          </p:nvSpPr>
          <p:spPr>
            <a:xfrm>
              <a:off x="5867280" y="116352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backb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0" name="AutoShape 7"/>
            <p:cNvSpPr/>
            <p:nvPr/>
          </p:nvSpPr>
          <p:spPr>
            <a:xfrm>
              <a:off x="4495680" y="129528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1" name="Group 8"/>
          <p:cNvGrpSpPr/>
          <p:nvPr/>
        </p:nvGrpSpPr>
        <p:grpSpPr>
          <a:xfrm>
            <a:off x="4495680" y="1925640"/>
            <a:ext cx="4191120" cy="947160"/>
            <a:chOff x="4495680" y="1925640"/>
            <a:chExt cx="4191120" cy="947160"/>
          </a:xfrm>
        </p:grpSpPr>
        <p:sp>
          <p:nvSpPr>
            <p:cNvPr id="1022" name="Text Box 9"/>
            <p:cNvSpPr/>
            <p:nvPr/>
          </p:nvSpPr>
          <p:spPr>
            <a:xfrm>
              <a:off x="5867280" y="192564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One nucleotid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3" name="AutoShape 10"/>
            <p:cNvSpPr/>
            <p:nvPr/>
          </p:nvSpPr>
          <p:spPr>
            <a:xfrm>
              <a:off x="4495680" y="1981080"/>
              <a:ext cx="11430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4" name="Group 11"/>
          <p:cNvGrpSpPr/>
          <p:nvPr/>
        </p:nvGrpSpPr>
        <p:grpSpPr>
          <a:xfrm>
            <a:off x="4495680" y="2687760"/>
            <a:ext cx="4191120" cy="520560"/>
            <a:chOff x="4495680" y="2687760"/>
            <a:chExt cx="4191120" cy="520560"/>
          </a:xfrm>
        </p:grpSpPr>
        <p:sp>
          <p:nvSpPr>
            <p:cNvPr id="1025" name="Text Box 12"/>
            <p:cNvSpPr/>
            <p:nvPr/>
          </p:nvSpPr>
          <p:spPr>
            <a:xfrm>
              <a:off x="5867280" y="2687760"/>
              <a:ext cx="2819520" cy="52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Molecul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6" name="AutoShape 13"/>
            <p:cNvSpPr/>
            <p:nvPr/>
          </p:nvSpPr>
          <p:spPr>
            <a:xfrm>
              <a:off x="4495680" y="2743200"/>
              <a:ext cx="1143000" cy="380520"/>
            </a:xfrm>
            <a:prstGeom prst="rightArrow">
              <a:avLst>
                <a:gd name="adj1" fmla="val 50000"/>
                <a:gd name="adj2" fmla="val 15519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7" name="Group 16"/>
          <p:cNvGrpSpPr/>
          <p:nvPr/>
        </p:nvGrpSpPr>
        <p:grpSpPr>
          <a:xfrm>
            <a:off x="762120" y="4800600"/>
            <a:ext cx="6705360" cy="1251720"/>
            <a:chOff x="762120" y="4800600"/>
            <a:chExt cx="6705360" cy="1251720"/>
          </a:xfrm>
        </p:grpSpPr>
        <p:grpSp>
          <p:nvGrpSpPr>
            <p:cNvPr id="1028" name="Group 16"/>
            <p:cNvGrpSpPr/>
            <p:nvPr/>
          </p:nvGrpSpPr>
          <p:grpSpPr>
            <a:xfrm>
              <a:off x="2438280" y="4800600"/>
              <a:ext cx="457200" cy="840600"/>
              <a:chOff x="2438280" y="4800600"/>
              <a:chExt cx="457200" cy="840600"/>
            </a:xfrm>
          </p:grpSpPr>
          <p:sp>
            <p:nvSpPr>
              <p:cNvPr id="1029" name="Text Box 17"/>
              <p:cNvSpPr/>
              <p:nvPr/>
            </p:nvSpPr>
            <p:spPr>
              <a:xfrm>
                <a:off x="24382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0" name="Line 18"/>
              <p:cNvSpPr/>
              <p:nvPr/>
            </p:nvSpPr>
            <p:spPr>
              <a:xfrm flipV="1">
                <a:off x="26668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19"/>
            <p:cNvGrpSpPr/>
            <p:nvPr/>
          </p:nvGrpSpPr>
          <p:grpSpPr>
            <a:xfrm>
              <a:off x="3048120" y="4800600"/>
              <a:ext cx="457200" cy="840600"/>
              <a:chOff x="3048120" y="4800600"/>
              <a:chExt cx="457200" cy="840600"/>
            </a:xfrm>
          </p:grpSpPr>
          <p:sp>
            <p:nvSpPr>
              <p:cNvPr id="1032" name="Text Box 20"/>
              <p:cNvSpPr/>
              <p:nvPr/>
            </p:nvSpPr>
            <p:spPr>
              <a:xfrm>
                <a:off x="30481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3" name="Line 21"/>
              <p:cNvSpPr/>
              <p:nvPr/>
            </p:nvSpPr>
            <p:spPr>
              <a:xfrm flipV="1">
                <a:off x="32767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2"/>
            <p:cNvGrpSpPr/>
            <p:nvPr/>
          </p:nvGrpSpPr>
          <p:grpSpPr>
            <a:xfrm>
              <a:off x="3657600" y="4800600"/>
              <a:ext cx="457200" cy="840600"/>
              <a:chOff x="3657600" y="4800600"/>
              <a:chExt cx="457200" cy="840600"/>
            </a:xfrm>
          </p:grpSpPr>
          <p:sp>
            <p:nvSpPr>
              <p:cNvPr id="1035" name="Text Box 23"/>
              <p:cNvSpPr/>
              <p:nvPr/>
            </p:nvSpPr>
            <p:spPr>
              <a:xfrm>
                <a:off x="36576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6" name="Line 24"/>
              <p:cNvSpPr/>
              <p:nvPr/>
            </p:nvSpPr>
            <p:spPr>
              <a:xfrm flipV="1">
                <a:off x="38862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5"/>
            <p:cNvGrpSpPr/>
            <p:nvPr/>
          </p:nvGrpSpPr>
          <p:grpSpPr>
            <a:xfrm>
              <a:off x="4267080" y="4800600"/>
              <a:ext cx="457200" cy="840600"/>
              <a:chOff x="4267080" y="4800600"/>
              <a:chExt cx="457200" cy="840600"/>
            </a:xfrm>
          </p:grpSpPr>
          <p:sp>
            <p:nvSpPr>
              <p:cNvPr id="1038" name="Text Box 26"/>
              <p:cNvSpPr/>
              <p:nvPr/>
            </p:nvSpPr>
            <p:spPr>
              <a:xfrm>
                <a:off x="42670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9" name="Line 27"/>
              <p:cNvSpPr/>
              <p:nvPr/>
            </p:nvSpPr>
            <p:spPr>
              <a:xfrm flipV="1">
                <a:off x="44956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28"/>
            <p:cNvGrpSpPr/>
            <p:nvPr/>
          </p:nvGrpSpPr>
          <p:grpSpPr>
            <a:xfrm>
              <a:off x="4876920" y="4800600"/>
              <a:ext cx="457200" cy="840600"/>
              <a:chOff x="4876920" y="4800600"/>
              <a:chExt cx="457200" cy="840600"/>
            </a:xfrm>
          </p:grpSpPr>
          <p:sp>
            <p:nvSpPr>
              <p:cNvPr id="1041" name="Text Box 29"/>
              <p:cNvSpPr/>
              <p:nvPr/>
            </p:nvSpPr>
            <p:spPr>
              <a:xfrm>
                <a:off x="48769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2" name="Line 30"/>
              <p:cNvSpPr/>
              <p:nvPr/>
            </p:nvSpPr>
            <p:spPr>
              <a:xfrm flipV="1">
                <a:off x="51055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31"/>
            <p:cNvGrpSpPr/>
            <p:nvPr/>
          </p:nvGrpSpPr>
          <p:grpSpPr>
            <a:xfrm>
              <a:off x="5486400" y="4800600"/>
              <a:ext cx="457200" cy="840600"/>
              <a:chOff x="5486400" y="4800600"/>
              <a:chExt cx="457200" cy="840600"/>
            </a:xfrm>
          </p:grpSpPr>
          <p:sp>
            <p:nvSpPr>
              <p:cNvPr id="1044" name="Text Box 32"/>
              <p:cNvSpPr/>
              <p:nvPr/>
            </p:nvSpPr>
            <p:spPr>
              <a:xfrm>
                <a:off x="54864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5" name="Line 33"/>
              <p:cNvSpPr/>
              <p:nvPr/>
            </p:nvSpPr>
            <p:spPr>
              <a:xfrm flipV="1">
                <a:off x="57150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34"/>
            <p:cNvGrpSpPr/>
            <p:nvPr/>
          </p:nvGrpSpPr>
          <p:grpSpPr>
            <a:xfrm>
              <a:off x="6095880" y="4800600"/>
              <a:ext cx="457200" cy="840600"/>
              <a:chOff x="6095880" y="4800600"/>
              <a:chExt cx="457200" cy="840600"/>
            </a:xfrm>
          </p:grpSpPr>
          <p:sp>
            <p:nvSpPr>
              <p:cNvPr id="1047" name="Text Box 35"/>
              <p:cNvSpPr/>
              <p:nvPr/>
            </p:nvSpPr>
            <p:spPr>
              <a:xfrm>
                <a:off x="60958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8" name="Line 36"/>
              <p:cNvSpPr/>
              <p:nvPr/>
            </p:nvSpPr>
            <p:spPr>
              <a:xfrm flipV="1">
                <a:off x="63244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5"/>
            <p:cNvGrpSpPr/>
            <p:nvPr/>
          </p:nvGrpSpPr>
          <p:grpSpPr>
            <a:xfrm>
              <a:off x="762120" y="5105160"/>
              <a:ext cx="6705360" cy="947160"/>
              <a:chOff x="762120" y="5105160"/>
              <a:chExt cx="6705360" cy="947160"/>
            </a:xfrm>
          </p:grpSpPr>
          <p:sp>
            <p:nvSpPr>
              <p:cNvPr id="1050" name="Line 46"/>
              <p:cNvSpPr/>
              <p:nvPr/>
            </p:nvSpPr>
            <p:spPr>
              <a:xfrm>
                <a:off x="6553080" y="541008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1" name="Text Box 50"/>
              <p:cNvSpPr/>
              <p:nvPr/>
            </p:nvSpPr>
            <p:spPr>
              <a:xfrm>
                <a:off x="762120" y="510516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Constantia"/>
                  </a:rPr>
                  <a:t>mRNA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Group 14"/>
          <p:cNvGrpSpPr/>
          <p:nvPr/>
        </p:nvGrpSpPr>
        <p:grpSpPr>
          <a:xfrm>
            <a:off x="838080" y="4343400"/>
            <a:ext cx="6629400" cy="520560"/>
            <a:chOff x="838080" y="4343400"/>
            <a:chExt cx="6629400" cy="520560"/>
          </a:xfrm>
        </p:grpSpPr>
        <p:grpSp>
          <p:nvGrpSpPr>
            <p:cNvPr id="1053" name="Group 37"/>
            <p:cNvGrpSpPr/>
            <p:nvPr/>
          </p:nvGrpSpPr>
          <p:grpSpPr>
            <a:xfrm>
              <a:off x="2438280" y="4343400"/>
              <a:ext cx="5029200" cy="459720"/>
              <a:chOff x="2438280" y="4343400"/>
              <a:chExt cx="5029200" cy="459720"/>
            </a:xfrm>
          </p:grpSpPr>
          <p:sp>
            <p:nvSpPr>
              <p:cNvPr id="1054" name="Text Box 38"/>
              <p:cNvSpPr/>
              <p:nvPr/>
            </p:nvSpPr>
            <p:spPr>
              <a:xfrm>
                <a:off x="24382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5" name="Text Box 39"/>
              <p:cNvSpPr/>
              <p:nvPr/>
            </p:nvSpPr>
            <p:spPr>
              <a:xfrm>
                <a:off x="30481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6" name="Text Box 40"/>
              <p:cNvSpPr/>
              <p:nvPr/>
            </p:nvSpPr>
            <p:spPr>
              <a:xfrm>
                <a:off x="54864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7" name="Text Box 41"/>
              <p:cNvSpPr/>
              <p:nvPr/>
            </p:nvSpPr>
            <p:spPr>
              <a:xfrm>
                <a:off x="36576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8" name="Text Box 42"/>
              <p:cNvSpPr/>
              <p:nvPr/>
            </p:nvSpPr>
            <p:spPr>
              <a:xfrm>
                <a:off x="42670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9" name="Text Box 43"/>
              <p:cNvSpPr/>
              <p:nvPr/>
            </p:nvSpPr>
            <p:spPr>
              <a:xfrm>
                <a:off x="48769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0" name="Text Box 44"/>
              <p:cNvSpPr/>
              <p:nvPr/>
            </p:nvSpPr>
            <p:spPr>
              <a:xfrm>
                <a:off x="60958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1" name="Line 45"/>
              <p:cNvSpPr/>
              <p:nvPr/>
            </p:nvSpPr>
            <p:spPr>
              <a:xfrm>
                <a:off x="6553080" y="457200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62" name="Text Box 51"/>
            <p:cNvSpPr/>
            <p:nvPr/>
          </p:nvSpPr>
          <p:spPr>
            <a:xfrm>
              <a:off x="83808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nstantia"/>
                </a:rPr>
                <a:t>D</a:t>
              </a:r>
              <a:r>
                <a:rPr b="1" lang="en-US" sz="2800" spc="-1" strike="noStrike">
                  <a:solidFill>
                    <a:srgbClr val="ff3300"/>
                  </a:solidFill>
                  <a:latin typeface="Constantia"/>
                </a:rPr>
                <a:t>N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89154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There are two types of nucleic acids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eoxyr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 (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D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the genetic material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ادة الوراثية</a:t>
            </a:r>
            <a:r>
              <a:rPr b="0" lang="en-US" sz="22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most organisms (humans, animals, bacteria, plants, and some viruses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R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(R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some viruses, RNA serves as the genetic mater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Nucleic acids store and transmit genetic information 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علومات الوراثية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Organisms inherit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رث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DNA from their parent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DNA molecule is very long and usually consists of hundreds to thousands of ge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gene is a small region in the DNA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a cell divides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نقسم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its DNA is copied and passed to the next generation of cell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Watson-Crick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6"/>
          <p:cNvSpPr/>
          <p:nvPr/>
        </p:nvSpPr>
        <p:spPr>
          <a:xfrm>
            <a:off x="76320" y="48434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ructur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iscovered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Watson and Crick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They found the DNA is double helix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حلزون مزدو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 sugar-phosphate backbones on the outside and the bases on the insid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1" name="Group 3"/>
          <p:cNvGrpSpPr/>
          <p:nvPr/>
        </p:nvGrpSpPr>
        <p:grpSpPr>
          <a:xfrm>
            <a:off x="609480" y="1371600"/>
            <a:ext cx="7805880" cy="3200400"/>
            <a:chOff x="609480" y="1371600"/>
            <a:chExt cx="7805880" cy="3200400"/>
          </a:xfrm>
        </p:grpSpPr>
        <p:grpSp>
          <p:nvGrpSpPr>
            <p:cNvPr id="892" name="Group 6"/>
            <p:cNvGrpSpPr/>
            <p:nvPr/>
          </p:nvGrpSpPr>
          <p:grpSpPr>
            <a:xfrm>
              <a:off x="609480" y="1371600"/>
              <a:ext cx="7805880" cy="3200400"/>
              <a:chOff x="609480" y="1371600"/>
              <a:chExt cx="7805880" cy="3200400"/>
            </a:xfrm>
          </p:grpSpPr>
          <p:pic>
            <p:nvPicPr>
              <p:cNvPr id="893" name="Picture 8" descr=""/>
              <p:cNvPicPr/>
              <p:nvPr/>
            </p:nvPicPr>
            <p:blipFill>
              <a:blip r:embed="rId1"/>
              <a:srcRect l="0" t="0" r="25689" b="4968"/>
              <a:stretch/>
            </p:blipFill>
            <p:spPr>
              <a:xfrm>
                <a:off x="609480" y="1422360"/>
                <a:ext cx="4586400" cy="31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Rectangle 10"/>
              <p:cNvSpPr/>
              <p:nvPr/>
            </p:nvSpPr>
            <p:spPr>
              <a:xfrm>
                <a:off x="609480" y="1371600"/>
                <a:ext cx="7805880" cy="3200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895" name="Picture 17" descr="hyd8760x_0714"/>
            <p:cNvPicPr/>
            <p:nvPr/>
          </p:nvPicPr>
          <p:blipFill>
            <a:blip r:embed="rId2"/>
            <a:srcRect l="0" t="3021" r="0" b="2328"/>
            <a:stretch/>
          </p:blipFill>
          <p:spPr>
            <a:xfrm>
              <a:off x="5186520" y="1400040"/>
              <a:ext cx="3152880" cy="314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91540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ic acids (polymers) are made of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تتكون من</a:t>
            </a:r>
            <a:r>
              <a:rPr b="0" lang="en-US" sz="20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(monomers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Each nucleotide consists of three component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phosphate group (P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جموعة فوسفا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itrogen b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قاعدة نيتروجيني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basic structure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76320" y="30607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s in DNA and RNA differ at a single position.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the suga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eoxy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gen (H) at the second (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)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xyl (OH) group at the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carbons of the sugars are numbered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to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0" name="Picture 5" descr="hyd8760x_0708"/>
          <p:cNvPicPr/>
          <p:nvPr/>
        </p:nvPicPr>
        <p:blipFill>
          <a:blip r:embed="rId1"/>
          <a:srcRect l="0" t="2843" r="4944" b="51164"/>
          <a:stretch/>
        </p:blipFill>
        <p:spPr>
          <a:xfrm>
            <a:off x="5181480" y="2133720"/>
            <a:ext cx="3791160" cy="421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83908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and RNA both hav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our nitrogen bas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rings of carbon and nitrogen)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ur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yrimid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their nucleotide chai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ym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uraci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U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strands are held together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ydrogen boun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bas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drogen bonds connect adenine and thymine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nect cytosine and guan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ucleotide is formed in the cell when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ttaches to the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'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ugar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 phospha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taches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ame sugar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 and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5" descr="hyd8760x_0710"/>
          <p:cNvPicPr/>
          <p:nvPr/>
        </p:nvPicPr>
        <p:blipFill>
          <a:blip r:embed="rId1"/>
          <a:srcRect l="755" t="4005" r="2907" b="5234"/>
          <a:stretch/>
        </p:blipFill>
        <p:spPr>
          <a:xfrm>
            <a:off x="304920" y="990720"/>
            <a:ext cx="851508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5" name="Rectangle 3"/>
          <p:cNvSpPr/>
          <p:nvPr/>
        </p:nvSpPr>
        <p:spPr>
          <a:xfrm>
            <a:off x="76320" y="2286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2633760" y="347760"/>
            <a:ext cx="3799800" cy="599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round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Structure of D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0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90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1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91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91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1295280" y="942840"/>
            <a:ext cx="1218960" cy="1473120"/>
            <a:chOff x="1295280" y="942840"/>
            <a:chExt cx="1218960" cy="1473120"/>
          </a:xfrm>
        </p:grpSpPr>
        <p:grpSp>
          <p:nvGrpSpPr>
            <p:cNvPr id="922" name="Group 18"/>
            <p:cNvGrpSpPr/>
            <p:nvPr/>
          </p:nvGrpSpPr>
          <p:grpSpPr>
            <a:xfrm>
              <a:off x="1295280" y="942840"/>
              <a:ext cx="1218960" cy="1323360"/>
              <a:chOff x="1295280" y="942840"/>
              <a:chExt cx="1218960" cy="1323360"/>
            </a:xfrm>
          </p:grpSpPr>
          <p:sp>
            <p:nvSpPr>
              <p:cNvPr id="923" name="Text Box 19"/>
              <p:cNvSpPr/>
              <p:nvPr/>
            </p:nvSpPr>
            <p:spPr>
              <a:xfrm>
                <a:off x="1726920" y="942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1295280" y="1323360"/>
                <a:ext cx="1218960" cy="942840"/>
                <a:chOff x="1295280" y="1323360"/>
                <a:chExt cx="1218960" cy="942840"/>
              </a:xfrm>
            </p:grpSpPr>
            <p:sp>
              <p:nvSpPr>
                <p:cNvPr id="925" name="Text Box 21"/>
                <p:cNvSpPr/>
                <p:nvPr/>
              </p:nvSpPr>
              <p:spPr>
                <a:xfrm>
                  <a:off x="1752480" y="1476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2"/>
                <p:cNvSpPr/>
                <p:nvPr/>
              </p:nvSpPr>
              <p:spPr>
                <a:xfrm>
                  <a:off x="2031840" y="16286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7" name="Line 23"/>
                <p:cNvSpPr/>
                <p:nvPr/>
              </p:nvSpPr>
              <p:spPr>
                <a:xfrm flipH="1">
                  <a:off x="1574280" y="1603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4"/>
                <p:cNvSpPr/>
                <p:nvPr/>
              </p:nvSpPr>
              <p:spPr>
                <a:xfrm flipV="1">
                  <a:off x="1904760" y="13233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5"/>
                <p:cNvSpPr/>
                <p:nvPr/>
              </p:nvSpPr>
              <p:spPr>
                <a:xfrm>
                  <a:off x="1904760" y="17431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0" name="Line 26"/>
                <p:cNvSpPr/>
                <p:nvPr/>
              </p:nvSpPr>
              <p:spPr>
                <a:xfrm flipH="1">
                  <a:off x="1574280" y="1679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27"/>
                <p:cNvSpPr/>
                <p:nvPr/>
              </p:nvSpPr>
              <p:spPr>
                <a:xfrm>
                  <a:off x="2193840" y="136188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28"/>
                <p:cNvSpPr/>
                <p:nvPr/>
              </p:nvSpPr>
              <p:spPr>
                <a:xfrm>
                  <a:off x="1295280" y="137448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29"/>
                <p:cNvSpPr/>
                <p:nvPr/>
              </p:nvSpPr>
              <p:spPr>
                <a:xfrm>
                  <a:off x="1726920" y="180648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30"/>
            <p:cNvSpPr/>
            <p:nvPr/>
          </p:nvSpPr>
          <p:spPr>
            <a:xfrm>
              <a:off x="1905120" y="21873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6" name="Group 32"/>
          <p:cNvGrpSpPr/>
          <p:nvPr/>
        </p:nvGrpSpPr>
        <p:grpSpPr>
          <a:xfrm>
            <a:off x="2895480" y="2071800"/>
            <a:ext cx="838440" cy="685800"/>
            <a:chOff x="2895480" y="2071800"/>
            <a:chExt cx="838440" cy="685800"/>
          </a:xfrm>
        </p:grpSpPr>
        <p:sp>
          <p:nvSpPr>
            <p:cNvPr id="937" name="Line 33"/>
            <p:cNvSpPr/>
            <p:nvPr/>
          </p:nvSpPr>
          <p:spPr>
            <a:xfrm flipV="1">
              <a:off x="2971800" y="237672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Rectangle 34"/>
            <p:cNvSpPr/>
            <p:nvPr/>
          </p:nvSpPr>
          <p:spPr>
            <a:xfrm>
              <a:off x="2895480" y="207180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94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94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94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94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95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5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95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96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nstantia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Group 67"/>
          <p:cNvGrpSpPr/>
          <p:nvPr/>
        </p:nvGrpSpPr>
        <p:grpSpPr>
          <a:xfrm>
            <a:off x="4417920" y="1176480"/>
            <a:ext cx="1904760" cy="2586960"/>
            <a:chOff x="4417920" y="1176480"/>
            <a:chExt cx="1904760" cy="2586960"/>
          </a:xfrm>
        </p:grpSpPr>
        <p:sp>
          <p:nvSpPr>
            <p:cNvPr id="972" name="AutoShape 68"/>
            <p:cNvSpPr/>
            <p:nvPr/>
          </p:nvSpPr>
          <p:spPr>
            <a:xfrm>
              <a:off x="4417920" y="1176480"/>
              <a:ext cx="380880" cy="2586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7320 h 2586960"/>
                <a:gd name="textAreaBottom" fmla="*/ 2519640 h 258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3" name="Text Box 69"/>
            <p:cNvSpPr/>
            <p:nvPr/>
          </p:nvSpPr>
          <p:spPr>
            <a:xfrm>
              <a:off x="4646520" y="219564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4" name="Group 70"/>
          <p:cNvGrpSpPr/>
          <p:nvPr/>
        </p:nvGrpSpPr>
        <p:grpSpPr>
          <a:xfrm>
            <a:off x="6224760" y="1231920"/>
            <a:ext cx="3047400" cy="5333760"/>
            <a:chOff x="6224760" y="1231920"/>
            <a:chExt cx="3047400" cy="5333760"/>
          </a:xfrm>
        </p:grpSpPr>
        <p:sp>
          <p:nvSpPr>
            <p:cNvPr id="975" name="Rectangle 71"/>
            <p:cNvSpPr/>
            <p:nvPr/>
          </p:nvSpPr>
          <p:spPr>
            <a:xfrm>
              <a:off x="6224760" y="1304640"/>
              <a:ext cx="2946240" cy="5261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6" name="Text Box 72"/>
            <p:cNvSpPr/>
            <p:nvPr/>
          </p:nvSpPr>
          <p:spPr>
            <a:xfrm>
              <a:off x="7918920" y="1231920"/>
              <a:ext cx="13258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7" name="AutoShape 73"/>
            <p:cNvSpPr/>
            <p:nvPr/>
          </p:nvSpPr>
          <p:spPr>
            <a:xfrm>
              <a:off x="7403040" y="247680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8" name="Text Box 74"/>
            <p:cNvSpPr/>
            <p:nvPr/>
          </p:nvSpPr>
          <p:spPr>
            <a:xfrm>
              <a:off x="7126920" y="14515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9" name="Text Box 75"/>
            <p:cNvSpPr/>
            <p:nvPr/>
          </p:nvSpPr>
          <p:spPr>
            <a:xfrm>
              <a:off x="6224760" y="57726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Constantia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0" name="Text Box 76"/>
            <p:cNvSpPr/>
            <p:nvPr/>
          </p:nvSpPr>
          <p:spPr>
            <a:xfrm>
              <a:off x="6224760" y="24033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1" name="Text Box 77"/>
            <p:cNvSpPr/>
            <p:nvPr/>
          </p:nvSpPr>
          <p:spPr>
            <a:xfrm>
              <a:off x="6224760" y="48783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Constantia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2" name="Text Box 78"/>
            <p:cNvSpPr/>
            <p:nvPr/>
          </p:nvSpPr>
          <p:spPr>
            <a:xfrm>
              <a:off x="6224760" y="32670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Constantia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3" name="AutoShape 79"/>
            <p:cNvSpPr/>
            <p:nvPr/>
          </p:nvSpPr>
          <p:spPr>
            <a:xfrm>
              <a:off x="7439760" y="494244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4" name="Text Box 80"/>
            <p:cNvSpPr/>
            <p:nvPr/>
          </p:nvSpPr>
          <p:spPr>
            <a:xfrm>
              <a:off x="7550640" y="2873520"/>
              <a:ext cx="132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5" name="Text Box 81"/>
            <p:cNvSpPr/>
            <p:nvPr/>
          </p:nvSpPr>
          <p:spPr>
            <a:xfrm>
              <a:off x="7578000" y="532404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6" name="Text Box 82"/>
          <p:cNvSpPr/>
          <p:nvPr/>
        </p:nvSpPr>
        <p:spPr>
          <a:xfrm>
            <a:off x="3186000" y="366696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99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96" name="Group 92"/>
          <p:cNvGrpSpPr/>
          <p:nvPr/>
        </p:nvGrpSpPr>
        <p:grpSpPr>
          <a:xfrm>
            <a:off x="1100160" y="882720"/>
            <a:ext cx="546120" cy="5244840"/>
            <a:chOff x="1100160" y="882720"/>
            <a:chExt cx="546120" cy="5244840"/>
          </a:xfrm>
        </p:grpSpPr>
        <p:sp>
          <p:nvSpPr>
            <p:cNvPr id="997" name="Line 93"/>
            <p:cNvSpPr/>
            <p:nvPr/>
          </p:nvSpPr>
          <p:spPr>
            <a:xfrm>
              <a:off x="1303200" y="133992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8" name="Text Box 94"/>
            <p:cNvSpPr/>
            <p:nvPr/>
          </p:nvSpPr>
          <p:spPr>
            <a:xfrm>
              <a:off x="1112760" y="882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9" name="Text Box 95"/>
            <p:cNvSpPr/>
            <p:nvPr/>
          </p:nvSpPr>
          <p:spPr>
            <a:xfrm>
              <a:off x="1100160" y="5607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0" name="Group 96"/>
          <p:cNvGrpSpPr/>
          <p:nvPr/>
        </p:nvGrpSpPr>
        <p:grpSpPr>
          <a:xfrm>
            <a:off x="-31680" y="954000"/>
            <a:ext cx="609480" cy="5146200"/>
            <a:chOff x="-31680" y="954000"/>
            <a:chExt cx="609480" cy="5146200"/>
          </a:xfrm>
        </p:grpSpPr>
        <p:sp>
          <p:nvSpPr>
            <p:cNvPr id="1001" name="Line 97"/>
            <p:cNvSpPr/>
            <p:nvPr/>
          </p:nvSpPr>
          <p:spPr>
            <a:xfrm flipV="1">
              <a:off x="146160" y="137268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2" name="Text Box 98"/>
            <p:cNvSpPr/>
            <p:nvPr/>
          </p:nvSpPr>
          <p:spPr>
            <a:xfrm>
              <a:off x="-31680" y="564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3" name="Text Box 99"/>
            <p:cNvSpPr/>
            <p:nvPr/>
          </p:nvSpPr>
          <p:spPr>
            <a:xfrm>
              <a:off x="-31680" y="95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0.125 -0.00371 E">
                                      <p:cBhvr>
                                        <p:cTn id="6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10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380880"/>
            <a:ext cx="43434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5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6" name="Picture 5" descr=""/>
          <p:cNvPicPr/>
          <p:nvPr/>
        </p:nvPicPr>
        <p:blipFill>
          <a:blip r:embed="rId2"/>
          <a:srcRect l="28180" t="2847" r="26695" b="14699"/>
          <a:stretch/>
        </p:blipFill>
        <p:spPr>
          <a:xfrm>
            <a:off x="380880" y="2690640"/>
            <a:ext cx="3859200" cy="39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7" name="Rectangle 1"/>
          <p:cNvSpPr/>
          <p:nvPr/>
        </p:nvSpPr>
        <p:spPr>
          <a:xfrm>
            <a:off x="0" y="608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buClr>
                <a:srgbClr val="00b05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are linked together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odiester bo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ate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one nucleotide an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droxyl group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n adjacent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Differences between DNA and 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28600" y="1295280"/>
          <a:ext cx="8686800" cy="5394600"/>
        </p:xfrm>
        <a:graphic>
          <a:graphicData uri="http://schemas.openxmlformats.org/drawingml/2006/table">
            <a:tbl>
              <a:tblPr/>
              <a:tblGrid>
                <a:gridCol w="2998800"/>
                <a:gridCol w="2844720"/>
                <a:gridCol w="28432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str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oub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ing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 of sug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nitrogen ba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 (A), thymine (T), cytosine (C), and  guanine (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, uracil (U), guanine, and cytos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Pai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thymine (A-T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uracil (A-U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is found in the nucleus, Mitochondria and chloroplast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RNA is found in the nucleus, cytoplasm, and riboso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Mohammed Albeshr</cp:lastModifiedBy>
  <dcterms:modified xsi:type="dcterms:W3CDTF">2017-11-06T20:14:02Z</dcterms:modified>
  <cp:revision>280</cp:revision>
  <dc:subject/>
  <dc:title>Slide 1</dc:title>
</cp:coreProperties>
</file>