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DDC-52D6-4C24-9A3E-0F99DE83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EEE-02AC-4550-87EB-2740925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1EE81-81D9-4E06-A48E-3F4ADDC0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958B0-47E4-42BB-B327-2634916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96C49-0C52-4200-951D-2025219C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DDEA9-7865-4D34-8C20-A0B43E84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6A15A-18E2-45E1-84A6-FCFC841C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DB91A-1400-4331-860E-F06BD81D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39208-8F1D-4B59-A476-C9B78D78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4D411-DAE9-4D51-B137-F7840852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57F80-B708-44DD-BA8A-6B7E7399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52ABE-4BE4-411C-9598-F29BE743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B4D-F28B-4248-AF98-140CF52A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68198-4ADA-4CA6-BD33-497141B6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072E7-257D-4CE0-8541-68494617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3C47B-7EF3-470F-A961-6DFCF867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F4654-85AF-4FBB-89DB-4B11BDA0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8F7D4-A50A-430C-A049-9AA1F655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56066-9064-46C0-9E82-30DC0A1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E5283-4548-4E04-950D-B91E4E9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FE1BB-4BEE-4B9A-A149-5644971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9C5CA-922E-4C97-9D8A-08C81804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88CF3-FD1E-4D57-A6C0-AF782220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1F1-F7D4-4253-A072-098E3A06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59AB1-7C20-498E-B0A0-4FA11ACB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69023-F5F4-41F0-9015-8E6441C1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71D78-B8CF-4D2F-AD4F-75EE1F34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8302D-1E7A-435C-B939-B72F8702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28BB6-993B-4049-B0EB-647A5DC9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673C8-AF68-4CA5-97B5-36C6622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D1F57-3374-4749-9D1B-EC23072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043D7-ADC3-4DE7-BD1F-DE979D85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A86C8-1299-4CD3-BFDE-3C240DFF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8CFA3-713F-4438-89E8-B024D885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54E5-AB36-4828-B82E-20B6E4D6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8FFF6-CBC3-4DF5-96C4-DE89D9A5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1A3E2-1266-4305-8806-C73278EA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88CBC-F41A-4673-BFE7-90DC2107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24CF5-3CA8-4777-B9D1-33E040AD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CC4AD-B7D8-402D-9605-09DAF3AF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E50C5-2794-468A-8E56-84FC7129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8D51D-4F88-4711-B92D-0A36C4AA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2F822-1221-4665-A504-18AD1813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82FF7-C0BD-46E5-A9E0-F3457B3A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71CAB-7592-4D60-9CAB-EA1A3C70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6CB4-2C58-4D98-A2AF-7C0638C7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AB44C-0DF1-427D-BCCD-C6EA4534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FD1F3-E696-45DF-AF00-3EF4925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B4DC4-90C9-4EEE-85AC-2FCAA092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9D180-360F-4B60-A14F-F82CA637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23AB4-AB05-4B54-A0D2-9B9F4CBF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AD9B4-953B-4F7B-84E3-AAB4CC97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C5AAB-9EEC-47C9-ADF8-0535D9FB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9E086-9A92-4AAA-8655-74F0A69F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71BE7-AF19-41E3-AF63-0B5CA788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EF75A-A390-4338-B735-6692A07B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DF53-8272-4495-82D3-1087CC77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B900B-F766-4298-A4BF-BE1AE31F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C1D43-9FEB-4530-87AC-4D3588BD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AC40D-92B5-4AAE-A69B-A69B520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DF541-E12D-46A7-BA52-1CA146E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5BDCE-D6F6-47BB-B629-E3F2BF2B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97585-4EEC-4412-B223-389A3CCA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D46F2-5D88-46B2-BE71-AD4EDAF0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E0B1B-1B21-432D-8F96-EC877207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0660A-7D35-4594-B645-D166546F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BAE3D-2583-4B3F-9D44-00995EEF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6C2A-AF83-43AD-8729-F12470BF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4607B-5AAD-4755-B0C7-DFC4C95A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D3566-5E57-4B6F-94E2-AAE3CF2C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1018A-AE46-48F0-81EB-C05DBC97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7A8AD-F0D6-4C81-911E-B4460B48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312AF-11CA-48F7-9739-9CE6B279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0E7C2-C11F-4AC9-ACD5-B5F9AA1A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641A9-7B55-44B0-B0A7-9BD0F83C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7AE81-B855-4D5C-98A8-D3966B6D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9AC2E-8D2B-4E32-BCAD-BF2F26DA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93F52-93CD-462C-8402-69BA1FA9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81AF-DBBE-4B96-ADC0-BAA8A978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88B21-980F-4794-807F-A6FD7BF5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859D1-9716-4993-9842-42C12875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AED73-7948-45B2-8647-4018F048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EE2F8-A4D1-4E15-A9A2-7D0EFD4C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71417-55F0-48B5-8755-CC36E624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A424F-3D84-4A2F-9B68-B3F9181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01B0FD-B07A-4F29-BE4A-3BB9A5F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1B7CF-C5F3-4219-A746-D2BDDDF0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2DA7B-F0CB-4D83-8DC7-9243A976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48E88-8FF0-4670-8744-B94F1413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7517-A120-4DBD-AE33-D08C51E7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A4534-2951-4CC4-9E5E-40916848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B4458-C283-49F5-8B1A-88FE49C9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A939B-C55B-4CD3-8A2C-3069AC72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ECA56-DE42-4137-A98D-6A45C51E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25435-0BCC-45AD-A928-9F0E70A8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14F21-D494-4868-90C9-3E1A06B4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57369-9926-460F-85C9-0F3CD0A5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4C1F6-7584-4499-8106-E99CD46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2A1C8-99EC-4E32-8A16-67FAE6CA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172A2-FCCC-4DFF-86A8-A6C439F3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B11A-58EA-4F32-8D6C-BBCFBCFA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39E33-02A8-4225-9BA2-6871ED94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8D35C-38AB-4359-A607-7AB701AC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E1F9C-33AB-427B-B56D-20469D1D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CA6AD-791F-4C58-872F-CABFCB85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9C79D-5694-423B-A6AC-2F5285DE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D25B6-E7EA-4B3E-977B-738890D7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F34B4-5059-49A0-AE25-BA59515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162C9-0DC9-4F58-ACA0-527853DA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5886A-5C12-4E45-9FC7-AE40E74B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046EF-818A-4413-A63B-1D74B77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442-3109-4BBD-86D2-F7DBED38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81DF-B9E5-4D73-B9B8-8609071F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051103-E1E1-4870-926A-1401ACC0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655E7-E652-49EC-B49A-CF8CD662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0A665-FA1A-4EF3-89C3-7520276B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70464-72FC-4EA7-8880-48BE637D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8FB3C-7021-4FFD-95A7-166EFDCB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09CA7-03DF-4D71-BA5C-034029CD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C3A32-F526-4FCF-ACFA-D6E5F461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DCA01-2433-40CF-B803-65F37078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2AE94-B7E2-4F49-AD9C-18A9DA1E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A7550-E584-478E-B92D-4A00FD45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6A81-1128-47C3-86D0-3EB2FDA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04401-DD0A-4B12-A7F8-842B3461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C5D23-18EE-4142-B40C-AEB679B3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E9664-DD3D-4C7C-A11F-F0A80867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B6A22-79E3-4241-BE28-5A259ED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0897E-FDFC-465E-BFBC-CA009615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F3331-A2FF-4EA6-8582-6EC84822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23CE2-4B0C-4F7C-9D7F-E977C737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8219-3338-4F44-AAC4-C70E3500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7A30-6F74-4FE8-B692-C1D5D287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D9E0-D34D-4655-899A-0C9BAF26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4E6B-D3FB-4F40-B123-05628639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7533-0C6F-4253-87EC-1CD36B2D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5025-6781-4680-81C8-30C05CC3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C2B6-72D5-43E8-B570-3C08B4C2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18C3-8ED8-4CEE-9887-0BC4143F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F8E-D256-434F-BF81-0C4D7BD1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F26E-C403-443E-8580-64F7A97D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C3FB-B072-47D1-8A21-8E18F527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BE63-F2AE-4C3F-9420-F02FA167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ABC76-C3F5-4CE1-92EA-956EB556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ED46-0695-445C-A9F6-53F83C3D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0693-17C6-4B03-BDD4-C7C16E51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AD500-5B2B-4D72-B6B5-7722091E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A1E6-162A-4382-BAB7-0862EAF1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A97B6-7CF3-4DD1-A234-B6A0417B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CF46-DC99-47A6-BF3B-C1A8D985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830-7E29-4A30-BF84-A208817B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4E27-7E50-4473-95DF-7937CFBE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8ABF-8ACA-47FE-A61E-55AAC997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6B5BF-5F23-43CF-87BD-BA0B8644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0BFF0-E9D5-4BD5-8048-3C3C2842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8A51-5D2E-4BCF-B9EC-AD57800A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AD6D-A771-4847-AE8F-845939F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0F6F-CA99-40A4-A284-E4DE967E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84434-BA0E-4E3D-BFAA-163FBDAD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2D5F-5489-4619-A928-6DAE96C6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21B3-F669-41E5-80F2-65151470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4DB-7041-45CF-A994-F4C49FD3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16E8-45B5-4148-A8EE-8EA8D761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4F57-13A9-479A-A5B0-388F4D4A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4179C-F323-4572-9AE0-3D573F4E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0039-5A67-4DA6-A686-22C65684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DD12-5BAA-4842-B0DA-89D0A389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8D498-71D5-46D6-85BA-445638A3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BE466-27CF-4B3A-8908-69F6801E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DB1D3-9E2F-45FD-B121-67D859EF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66759-5893-45FF-814F-A745217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B678-367C-40C6-BDA9-7CB66ACD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1CE-98B2-4146-AFCC-F69C29A8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2B69F-EF58-402C-B2D9-93F8EFCD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1299D-D401-4963-B4CE-C893A5C1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D2AAA-0625-4C35-9555-9B2128B2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95BBB-5631-4675-ADD0-D49D099A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DC2BB-4733-463A-BAE1-1D1692BC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7A9BD-3F66-4503-991A-4CC03769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47E1B-B607-4498-A454-DAC6A827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69A9-44CB-4E09-938D-448D10E8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F4203-B8D9-493B-8586-83FCB01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73B1B-44C0-48A8-A744-EBAAD4F0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6A5-7B06-4EBA-AAA4-A86AED34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513D-C65F-462C-B986-655CA495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8BC44-05B3-426D-B3EB-E7F0E256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4CDD9-E8EF-44C7-BFEC-0B4A40BF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04C7-0A0A-4AA9-9EC6-4EDA19E7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58DD6-7A00-41D7-9594-81CAA24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D3966-3199-4202-A0FD-C41948DD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D5C0C-AF37-4048-B028-479BE52B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11D06-C521-4FE1-BF03-B1691F6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5FC86-262C-4B35-9151-75DDC34B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4398D-DF5D-4487-906F-848201A6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9A4-E4A5-4499-AD2C-1AE777CF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F2959-6775-4F23-B8F8-F7C6641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8F3E9-4146-4E09-9467-76BF10E8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F17AC-9D4E-4987-98BD-03D09FDB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AA214-A68A-46E0-A3FD-2A2E1674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302AC-E683-4B02-8B02-F48F6195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3E85C-E8E1-40D9-A175-2A435757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01C3A-F786-4497-AE64-560A7998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9E62F-013C-461D-83BC-08CCD965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DE05F-BD70-4835-BC08-90223BB1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46E37-987B-4224-A8AE-51EB44E1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3251-D86A-4E4A-A644-4CB86F6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0E5E1-DA12-4F31-A967-FFA04E46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15780-A28D-4153-80D7-3A1726F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8A76E-94C4-4B56-97F7-E782CB03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0A866-9340-4AC7-BB04-34C4E02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B3A9-8455-4C85-A181-45107E76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DA272-364C-4550-A062-B6EFA15C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411F-5CAB-4F1F-967C-A10DB179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9068E-C90D-4CC3-89F8-3BBA972C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4FF6A-0E20-45E3-8CE9-B18A68E1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585A-694C-406B-A6F5-6AC97E5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C04-8478-4280-99EE-BF3BA7F5981C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4D26-396A-45D6-B392-0FA620AE9DAA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5F90-BFE2-4422-B651-C67EEDAB30C0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CB44-279C-4A88-9694-E9E75F20365F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71EB-C9CD-4039-94DA-17AE53A6CC9A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B4D-01D0-43C5-90A9-FEE83065517C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5B59-DC71-4AE8-92CD-3AE46A221722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7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25C2-513C-45EC-8E87-266499C845D4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8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9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E574-A0F0-4567-8CFC-0A26A6564CB9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5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5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5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84CB-C4B8-47C7-911A-D23B5EC121E4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7AAF-F98B-48FA-86BD-335A97F05927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5761-971D-4318-ADA0-2A5907CF6D66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AA6A-FFF4-4919-B4A4-D6F00828B071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5269-F25E-4EC3-84C5-4CF4746DB9B8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4F98-6BA6-44F4-AF6B-AE768E3A7B9A}" type="slidenum">
              <a:rPr b="0" lang="ar-E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EDFA-7BE4-4A4D-B9B8-D9E22EA60EBD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B9E-A5F2-4D06-AAD1-85CAB869E2DD}" type="slidenum">
              <a:rPr b="0" lang="ar-E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4553-6E2A-4A72-87F1-C880440410ED}" type="slidenum">
              <a:rPr b="0" lang="ar-E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0"/>
          <p:cNvSpPr/>
          <p:nvPr/>
        </p:nvSpPr>
        <p:spPr>
          <a:xfrm>
            <a:off x="-135720" y="587520"/>
            <a:ext cx="9326520" cy="70344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: Nucleic acids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(DNA &amp; RNA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82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883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884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76320" y="4343400"/>
            <a:ext cx="8534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nes are normally hundreds to thousands of nucleotides long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linear order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الترتيب التتابع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ي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f bases in a gene specifie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يُح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ّ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د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order of amino acid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</a:rPr>
              <a:t>ترتيب الأحماض الأميني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the monomers of a protein)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ypes of R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76320" y="1295280"/>
            <a:ext cx="85341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Messenger RNA (m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lecule in cells that carries the DNA sequence information from the nucleus to the ribosom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ransfer RNA (t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lecule in cells that brings the amino acids and transport them to the ribosome for making protei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00b050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Ribosomal RNA (rRNA)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structural and functional part of the ribosome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2"/>
          <p:cNvSpPr/>
          <p:nvPr/>
        </p:nvSpPr>
        <p:spPr>
          <a:xfrm>
            <a:off x="457200" y="1239840"/>
            <a:ext cx="37339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457200" y="2001960"/>
            <a:ext cx="33526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sphate - Sugar - 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Text Box 4"/>
          <p:cNvSpPr/>
          <p:nvPr/>
        </p:nvSpPr>
        <p:spPr>
          <a:xfrm>
            <a:off x="457200" y="268776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18" name="Group 5"/>
          <p:cNvGrpSpPr/>
          <p:nvPr/>
        </p:nvGrpSpPr>
        <p:grpSpPr>
          <a:xfrm>
            <a:off x="4495680" y="1163520"/>
            <a:ext cx="4191120" cy="947160"/>
            <a:chOff x="4495680" y="1163520"/>
            <a:chExt cx="4191120" cy="947160"/>
          </a:xfrm>
        </p:grpSpPr>
        <p:sp>
          <p:nvSpPr>
            <p:cNvPr id="1019" name="Text Box 6"/>
            <p:cNvSpPr/>
            <p:nvPr/>
          </p:nvSpPr>
          <p:spPr>
            <a:xfrm>
              <a:off x="5867280" y="1163520"/>
              <a:ext cx="2819520" cy="947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DNA backbon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0" name="AutoShape 7"/>
            <p:cNvSpPr/>
            <p:nvPr/>
          </p:nvSpPr>
          <p:spPr>
            <a:xfrm>
              <a:off x="4495680" y="129528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1" name="Group 8"/>
          <p:cNvGrpSpPr/>
          <p:nvPr/>
        </p:nvGrpSpPr>
        <p:grpSpPr>
          <a:xfrm>
            <a:off x="4495680" y="1925640"/>
            <a:ext cx="4191120" cy="947160"/>
            <a:chOff x="4495680" y="1925640"/>
            <a:chExt cx="4191120" cy="947160"/>
          </a:xfrm>
        </p:grpSpPr>
        <p:sp>
          <p:nvSpPr>
            <p:cNvPr id="1022" name="Text Box 9"/>
            <p:cNvSpPr/>
            <p:nvPr/>
          </p:nvSpPr>
          <p:spPr>
            <a:xfrm>
              <a:off x="5867280" y="1925640"/>
              <a:ext cx="2819520" cy="9471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One nucleotid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3" name="AutoShape 10"/>
            <p:cNvSpPr/>
            <p:nvPr/>
          </p:nvSpPr>
          <p:spPr>
            <a:xfrm>
              <a:off x="4495680" y="1981080"/>
              <a:ext cx="11430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4" name="Group 11"/>
          <p:cNvGrpSpPr/>
          <p:nvPr/>
        </p:nvGrpSpPr>
        <p:grpSpPr>
          <a:xfrm>
            <a:off x="4495680" y="2687760"/>
            <a:ext cx="4191120" cy="520560"/>
            <a:chOff x="4495680" y="2687760"/>
            <a:chExt cx="4191120" cy="520560"/>
          </a:xfrm>
        </p:grpSpPr>
        <p:sp>
          <p:nvSpPr>
            <p:cNvPr id="1025" name="Text Box 12"/>
            <p:cNvSpPr/>
            <p:nvPr/>
          </p:nvSpPr>
          <p:spPr>
            <a:xfrm>
              <a:off x="5867280" y="2687760"/>
              <a:ext cx="2819520" cy="520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Constantia"/>
                </a:rPr>
                <a:t>DNA Molecul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6" name="AutoShape 13"/>
            <p:cNvSpPr/>
            <p:nvPr/>
          </p:nvSpPr>
          <p:spPr>
            <a:xfrm>
              <a:off x="4495680" y="2743200"/>
              <a:ext cx="1143000" cy="380520"/>
            </a:xfrm>
            <a:prstGeom prst="rightArrow">
              <a:avLst>
                <a:gd name="adj1" fmla="val 50000"/>
                <a:gd name="adj2" fmla="val 155195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7" name="Group 16"/>
          <p:cNvGrpSpPr/>
          <p:nvPr/>
        </p:nvGrpSpPr>
        <p:grpSpPr>
          <a:xfrm>
            <a:off x="762120" y="4800600"/>
            <a:ext cx="6705360" cy="1251720"/>
            <a:chOff x="762120" y="4800600"/>
            <a:chExt cx="6705360" cy="1251720"/>
          </a:xfrm>
        </p:grpSpPr>
        <p:grpSp>
          <p:nvGrpSpPr>
            <p:cNvPr id="1028" name="Group 16"/>
            <p:cNvGrpSpPr/>
            <p:nvPr/>
          </p:nvGrpSpPr>
          <p:grpSpPr>
            <a:xfrm>
              <a:off x="2438280" y="4800600"/>
              <a:ext cx="457200" cy="840600"/>
              <a:chOff x="2438280" y="4800600"/>
              <a:chExt cx="457200" cy="840600"/>
            </a:xfrm>
          </p:grpSpPr>
          <p:sp>
            <p:nvSpPr>
              <p:cNvPr id="1029" name="Text Box 17"/>
              <p:cNvSpPr/>
              <p:nvPr/>
            </p:nvSpPr>
            <p:spPr>
              <a:xfrm>
                <a:off x="24382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0" name="Line 18"/>
              <p:cNvSpPr/>
              <p:nvPr/>
            </p:nvSpPr>
            <p:spPr>
              <a:xfrm flipV="1">
                <a:off x="26668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19"/>
            <p:cNvGrpSpPr/>
            <p:nvPr/>
          </p:nvGrpSpPr>
          <p:grpSpPr>
            <a:xfrm>
              <a:off x="3048120" y="4800600"/>
              <a:ext cx="457200" cy="840600"/>
              <a:chOff x="3048120" y="4800600"/>
              <a:chExt cx="457200" cy="840600"/>
            </a:xfrm>
          </p:grpSpPr>
          <p:sp>
            <p:nvSpPr>
              <p:cNvPr id="1032" name="Text Box 20"/>
              <p:cNvSpPr/>
              <p:nvPr/>
            </p:nvSpPr>
            <p:spPr>
              <a:xfrm>
                <a:off x="304812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3" name="Line 21"/>
              <p:cNvSpPr/>
              <p:nvPr/>
            </p:nvSpPr>
            <p:spPr>
              <a:xfrm flipV="1">
                <a:off x="327672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22"/>
            <p:cNvGrpSpPr/>
            <p:nvPr/>
          </p:nvGrpSpPr>
          <p:grpSpPr>
            <a:xfrm>
              <a:off x="3657600" y="4800600"/>
              <a:ext cx="457200" cy="840600"/>
              <a:chOff x="3657600" y="4800600"/>
              <a:chExt cx="457200" cy="840600"/>
            </a:xfrm>
          </p:grpSpPr>
          <p:sp>
            <p:nvSpPr>
              <p:cNvPr id="1035" name="Text Box 23"/>
              <p:cNvSpPr/>
              <p:nvPr/>
            </p:nvSpPr>
            <p:spPr>
              <a:xfrm>
                <a:off x="365760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6" name="Line 24"/>
              <p:cNvSpPr/>
              <p:nvPr/>
            </p:nvSpPr>
            <p:spPr>
              <a:xfrm flipV="1">
                <a:off x="388620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5"/>
            <p:cNvGrpSpPr/>
            <p:nvPr/>
          </p:nvGrpSpPr>
          <p:grpSpPr>
            <a:xfrm>
              <a:off x="4267080" y="4800600"/>
              <a:ext cx="457200" cy="840600"/>
              <a:chOff x="4267080" y="4800600"/>
              <a:chExt cx="457200" cy="840600"/>
            </a:xfrm>
          </p:grpSpPr>
          <p:sp>
            <p:nvSpPr>
              <p:cNvPr id="1038" name="Text Box 26"/>
              <p:cNvSpPr/>
              <p:nvPr/>
            </p:nvSpPr>
            <p:spPr>
              <a:xfrm>
                <a:off x="42670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9" name="Line 27"/>
              <p:cNvSpPr/>
              <p:nvPr/>
            </p:nvSpPr>
            <p:spPr>
              <a:xfrm flipV="1">
                <a:off x="44956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0" name="Group 28"/>
            <p:cNvGrpSpPr/>
            <p:nvPr/>
          </p:nvGrpSpPr>
          <p:grpSpPr>
            <a:xfrm>
              <a:off x="4876920" y="4800600"/>
              <a:ext cx="457200" cy="840600"/>
              <a:chOff x="4876920" y="4800600"/>
              <a:chExt cx="457200" cy="840600"/>
            </a:xfrm>
          </p:grpSpPr>
          <p:sp>
            <p:nvSpPr>
              <p:cNvPr id="1041" name="Text Box 29"/>
              <p:cNvSpPr/>
              <p:nvPr/>
            </p:nvSpPr>
            <p:spPr>
              <a:xfrm>
                <a:off x="487692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2" name="Line 30"/>
              <p:cNvSpPr/>
              <p:nvPr/>
            </p:nvSpPr>
            <p:spPr>
              <a:xfrm flipV="1">
                <a:off x="510552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31"/>
            <p:cNvGrpSpPr/>
            <p:nvPr/>
          </p:nvGrpSpPr>
          <p:grpSpPr>
            <a:xfrm>
              <a:off x="5486400" y="4800600"/>
              <a:ext cx="457200" cy="840600"/>
              <a:chOff x="5486400" y="4800600"/>
              <a:chExt cx="457200" cy="840600"/>
            </a:xfrm>
          </p:grpSpPr>
          <p:sp>
            <p:nvSpPr>
              <p:cNvPr id="1044" name="Text Box 32"/>
              <p:cNvSpPr/>
              <p:nvPr/>
            </p:nvSpPr>
            <p:spPr>
              <a:xfrm>
                <a:off x="548640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5" name="Line 33"/>
              <p:cNvSpPr/>
              <p:nvPr/>
            </p:nvSpPr>
            <p:spPr>
              <a:xfrm flipV="1">
                <a:off x="571500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6" name="Group 34"/>
            <p:cNvGrpSpPr/>
            <p:nvPr/>
          </p:nvGrpSpPr>
          <p:grpSpPr>
            <a:xfrm>
              <a:off x="6095880" y="4800600"/>
              <a:ext cx="457200" cy="840600"/>
              <a:chOff x="6095880" y="4800600"/>
              <a:chExt cx="457200" cy="840600"/>
            </a:xfrm>
          </p:grpSpPr>
          <p:sp>
            <p:nvSpPr>
              <p:cNvPr id="1047" name="Text Box 35"/>
              <p:cNvSpPr/>
              <p:nvPr/>
            </p:nvSpPr>
            <p:spPr>
              <a:xfrm>
                <a:off x="6095880" y="518148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8" name="Line 36"/>
              <p:cNvSpPr/>
              <p:nvPr/>
            </p:nvSpPr>
            <p:spPr>
              <a:xfrm flipV="1">
                <a:off x="6324480" y="480060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15"/>
            <p:cNvGrpSpPr/>
            <p:nvPr/>
          </p:nvGrpSpPr>
          <p:grpSpPr>
            <a:xfrm>
              <a:off x="762120" y="5105160"/>
              <a:ext cx="6705360" cy="947160"/>
              <a:chOff x="762120" y="5105160"/>
              <a:chExt cx="6705360" cy="947160"/>
            </a:xfrm>
          </p:grpSpPr>
          <p:sp>
            <p:nvSpPr>
              <p:cNvPr id="1050" name="Line 46"/>
              <p:cNvSpPr/>
              <p:nvPr/>
            </p:nvSpPr>
            <p:spPr>
              <a:xfrm>
                <a:off x="6553080" y="5410080"/>
                <a:ext cx="9144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1" name="Text Box 50"/>
              <p:cNvSpPr/>
              <p:nvPr/>
            </p:nvSpPr>
            <p:spPr>
              <a:xfrm>
                <a:off x="762120" y="5105160"/>
                <a:ext cx="1295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Constantia"/>
                  </a:rPr>
                  <a:t>mRNA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052" name="Group 14"/>
          <p:cNvGrpSpPr/>
          <p:nvPr/>
        </p:nvGrpSpPr>
        <p:grpSpPr>
          <a:xfrm>
            <a:off x="838080" y="4343400"/>
            <a:ext cx="6629400" cy="520560"/>
            <a:chOff x="838080" y="4343400"/>
            <a:chExt cx="6629400" cy="520560"/>
          </a:xfrm>
        </p:grpSpPr>
        <p:grpSp>
          <p:nvGrpSpPr>
            <p:cNvPr id="1053" name="Group 37"/>
            <p:cNvGrpSpPr/>
            <p:nvPr/>
          </p:nvGrpSpPr>
          <p:grpSpPr>
            <a:xfrm>
              <a:off x="2438280" y="4343400"/>
              <a:ext cx="5029200" cy="459720"/>
              <a:chOff x="2438280" y="4343400"/>
              <a:chExt cx="5029200" cy="459720"/>
            </a:xfrm>
          </p:grpSpPr>
          <p:sp>
            <p:nvSpPr>
              <p:cNvPr id="1054" name="Text Box 38"/>
              <p:cNvSpPr/>
              <p:nvPr/>
            </p:nvSpPr>
            <p:spPr>
              <a:xfrm>
                <a:off x="24382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5" name="Text Box 39"/>
              <p:cNvSpPr/>
              <p:nvPr/>
            </p:nvSpPr>
            <p:spPr>
              <a:xfrm>
                <a:off x="304812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6" name="Text Box 40"/>
              <p:cNvSpPr/>
              <p:nvPr/>
            </p:nvSpPr>
            <p:spPr>
              <a:xfrm>
                <a:off x="548640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7" name="Text Box 41"/>
              <p:cNvSpPr/>
              <p:nvPr/>
            </p:nvSpPr>
            <p:spPr>
              <a:xfrm>
                <a:off x="365760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8" name="Text Box 42"/>
              <p:cNvSpPr/>
              <p:nvPr/>
            </p:nvSpPr>
            <p:spPr>
              <a:xfrm>
                <a:off x="42670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9" name="Text Box 43"/>
              <p:cNvSpPr/>
              <p:nvPr/>
            </p:nvSpPr>
            <p:spPr>
              <a:xfrm>
                <a:off x="487692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0" name="Text Box 44"/>
              <p:cNvSpPr/>
              <p:nvPr/>
            </p:nvSpPr>
            <p:spPr>
              <a:xfrm>
                <a:off x="6095880" y="4343400"/>
                <a:ext cx="45720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1" name="Line 45"/>
              <p:cNvSpPr/>
              <p:nvPr/>
            </p:nvSpPr>
            <p:spPr>
              <a:xfrm>
                <a:off x="6553080" y="4572000"/>
                <a:ext cx="91440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62" name="Text Box 51"/>
            <p:cNvSpPr/>
            <p:nvPr/>
          </p:nvSpPr>
          <p:spPr>
            <a:xfrm>
              <a:off x="83808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nstantia"/>
                </a:rPr>
                <a:t>D</a:t>
              </a:r>
              <a:r>
                <a:rPr b="1" lang="en-US" sz="2800" spc="-1" strike="noStrike">
                  <a:solidFill>
                    <a:srgbClr val="ff3300"/>
                  </a:solidFill>
                  <a:latin typeface="Constantia"/>
                </a:rPr>
                <a:t>NA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89154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There are two types of nucleic acids: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D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eoxyribo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ucleic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a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cid (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DNA)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 the genetic material 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المادة الوراثية</a:t>
            </a:r>
            <a:r>
              <a:rPr b="0" lang="en-US" sz="2200" spc="-1" strike="noStrike">
                <a:solidFill>
                  <a:srgbClr val="ff0000"/>
                </a:solidFill>
                <a:latin typeface="Maj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most organisms (humans, animals, bacteria, plants, and some viruses)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R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ibo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n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ucleic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nstantia"/>
              </a:rPr>
              <a:t>a</a:t>
            </a:r>
            <a:r>
              <a:rPr b="0" lang="en-US" sz="2200" spc="-1" strike="noStrike">
                <a:solidFill>
                  <a:srgbClr val="ff3300"/>
                </a:solidFill>
                <a:latin typeface="Constantia"/>
              </a:rPr>
              <a:t>cid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(RNA)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some viruses, RNA serves as the genetic material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Nucleic acids store and transmit genetic information  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المعلومات الوراثية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Organisms inherit </a:t>
            </a:r>
            <a:r>
              <a:rPr b="0" lang="ar-EG" sz="2200" spc="-1" strike="noStrike">
                <a:solidFill>
                  <a:srgbClr val="ff0000"/>
                </a:solidFill>
                <a:latin typeface="Maj"/>
              </a:rPr>
              <a:t>ت</a:t>
            </a:r>
            <a:r>
              <a:rPr b="0" lang="ar-SA" sz="2200" spc="-1" strike="noStrike">
                <a:solidFill>
                  <a:srgbClr val="ff0000"/>
                </a:solidFill>
                <a:latin typeface="Maj"/>
              </a:rPr>
              <a:t>رث</a:t>
            </a: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1933"/>
                </a:solidFill>
                <a:latin typeface="Constantia"/>
              </a:rPr>
              <a:t>DNA from their parent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ach DNA molecule is very long and usually consists of hundreds to thousands of gen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 gene is a small region in the DNA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65080" indent="-34272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a cell divides </a:t>
            </a:r>
            <a:r>
              <a:rPr b="0" lang="ar-EG" sz="2200" spc="-1" strike="noStrike">
                <a:solidFill>
                  <a:srgbClr val="ff0000"/>
                </a:solidFill>
                <a:latin typeface="Maj"/>
              </a:rPr>
              <a:t>تنقسم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its DNA is copied and passed to the next generation of cell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ypes of nucleic aci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3"/>
          <p:cNvSpPr/>
          <p:nvPr/>
        </p:nvSpPr>
        <p:spPr>
          <a:xfrm>
            <a:off x="685800" y="304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Watson-Crick mod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Rectangle 16"/>
          <p:cNvSpPr/>
          <p:nvPr/>
        </p:nvSpPr>
        <p:spPr>
          <a:xfrm>
            <a:off x="76320" y="48434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00b05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tructur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as discovered by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Watson and Crick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5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They found the DNA is double helix </a:t>
            </a:r>
            <a:r>
              <a:rPr b="0" lang="ar-SA" sz="2000" spc="-1" strike="noStrike">
                <a:solidFill>
                  <a:srgbClr val="ff0000"/>
                </a:solidFill>
                <a:latin typeface="Maj"/>
              </a:rPr>
              <a:t>حلزون مزدوج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 the sugar-phosphate backbones on the outside and the bases on the insid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91" name="Group 3"/>
          <p:cNvGrpSpPr/>
          <p:nvPr/>
        </p:nvGrpSpPr>
        <p:grpSpPr>
          <a:xfrm>
            <a:off x="609480" y="1371600"/>
            <a:ext cx="7805880" cy="3200400"/>
            <a:chOff x="609480" y="1371600"/>
            <a:chExt cx="7805880" cy="3200400"/>
          </a:xfrm>
        </p:grpSpPr>
        <p:grpSp>
          <p:nvGrpSpPr>
            <p:cNvPr id="892" name="Group 6"/>
            <p:cNvGrpSpPr/>
            <p:nvPr/>
          </p:nvGrpSpPr>
          <p:grpSpPr>
            <a:xfrm>
              <a:off x="609480" y="1371600"/>
              <a:ext cx="7805880" cy="3200400"/>
              <a:chOff x="609480" y="1371600"/>
              <a:chExt cx="7805880" cy="3200400"/>
            </a:xfrm>
          </p:grpSpPr>
          <p:pic>
            <p:nvPicPr>
              <p:cNvPr id="893" name="Picture 8" descr=""/>
              <p:cNvPicPr/>
              <p:nvPr/>
            </p:nvPicPr>
            <p:blipFill>
              <a:blip r:embed="rId1"/>
              <a:srcRect l="0" t="0" r="25689" b="4968"/>
              <a:stretch/>
            </p:blipFill>
            <p:spPr>
              <a:xfrm>
                <a:off x="609480" y="1422360"/>
                <a:ext cx="4586400" cy="31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Rectangle 10"/>
              <p:cNvSpPr/>
              <p:nvPr/>
            </p:nvSpPr>
            <p:spPr>
              <a:xfrm>
                <a:off x="609480" y="1371600"/>
                <a:ext cx="7805880" cy="3200400"/>
              </a:xfrm>
              <a:prstGeom prst="rect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pic>
          <p:nvPicPr>
            <p:cNvPr id="895" name="Picture 17" descr="hyd8760x_0714"/>
            <p:cNvPicPr/>
            <p:nvPr/>
          </p:nvPicPr>
          <p:blipFill>
            <a:blip r:embed="rId2"/>
            <a:srcRect l="0" t="3021" r="0" b="2328"/>
            <a:stretch/>
          </p:blipFill>
          <p:spPr>
            <a:xfrm>
              <a:off x="5186520" y="1400040"/>
              <a:ext cx="3152880" cy="3148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75960" y="1211400"/>
            <a:ext cx="891540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ic acids (polymers) are made of </a:t>
            </a:r>
            <a:r>
              <a:rPr b="0" lang="ar-SA" sz="2000" spc="-1" strike="noStrike">
                <a:solidFill>
                  <a:srgbClr val="ff0000"/>
                </a:solidFill>
                <a:latin typeface="Maj"/>
              </a:rPr>
              <a:t>تتكون من</a:t>
            </a:r>
            <a:r>
              <a:rPr b="0" lang="en-US" sz="2000" spc="-1" strike="noStrike">
                <a:solidFill>
                  <a:srgbClr val="ff0000"/>
                </a:solidFill>
                <a:latin typeface="Maj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otides (monomers)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0" algn="just">
              <a:lnSpc>
                <a:spcPct val="12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Each nucleotide consists of three component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phosphate group (P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مجموعة فوسفات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sug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nitrogen bas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</a:rPr>
              <a:t>قاعدة نيتروجينية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The basic structure of nucleic aci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76320" y="3060720"/>
            <a:ext cx="5029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sugars in DNA and RNA differ at a single position.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NA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the sugar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deoxyribose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which contains a hydrogen (H) at the second (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2'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) carb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sugar i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NA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i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ibose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, which contains a hydroxyl (OH) group at the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2'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carb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The carbons of the sugars are numbered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 to </a:t>
            </a:r>
            <a:r>
              <a:rPr b="0" lang="en-US" sz="2000" spc="-1" strike="noStrike">
                <a:solidFill>
                  <a:srgbClr val="001933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1933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00" name="Picture 5" descr="hyd8760x_0708"/>
          <p:cNvPicPr/>
          <p:nvPr/>
        </p:nvPicPr>
        <p:blipFill>
          <a:blip r:embed="rId1"/>
          <a:srcRect l="0" t="2843" r="4944" b="51164"/>
          <a:stretch/>
        </p:blipFill>
        <p:spPr>
          <a:xfrm>
            <a:off x="5181480" y="2133720"/>
            <a:ext cx="3791160" cy="4211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75960" y="1211400"/>
            <a:ext cx="8839080" cy="64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and RNA both hav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our nitrogen bas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rings of carbon and nitrogen)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 purin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 pyrimidin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n their nucleotide chai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has the purine aden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guan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G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pyrimidines cytos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ym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NA has the purine adenin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guan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G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pyrimidines cytosi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uracil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(U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NA strands are held together by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ydrogen bound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tween the bass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ydrogen bonds connect adenine and thymine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hre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connect cytosine and guan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000" indent="-270000" algn="just">
              <a:lnSpc>
                <a:spcPct val="150000"/>
              </a:lnSpc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nucleotide is formed in the cell when a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ttaches to the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'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he sugar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 phosphat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ttaches to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5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the same sugar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Nitrogen bases in DNA and R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5" descr="hyd8760x_0710"/>
          <p:cNvPicPr/>
          <p:nvPr/>
        </p:nvPicPr>
        <p:blipFill>
          <a:blip r:embed="rId1"/>
          <a:srcRect l="755" t="4005" r="2907" b="5234"/>
          <a:stretch/>
        </p:blipFill>
        <p:spPr>
          <a:xfrm>
            <a:off x="304920" y="990720"/>
            <a:ext cx="8515080" cy="56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5" name="Rectangle 3"/>
          <p:cNvSpPr/>
          <p:nvPr/>
        </p:nvSpPr>
        <p:spPr>
          <a:xfrm>
            <a:off x="76320" y="2286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Nitrogen bases in D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2633760" y="347760"/>
            <a:ext cx="3799800" cy="599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round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nstantia"/>
              </a:rPr>
              <a:t>Structure of D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07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908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10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911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2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3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914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1295280" y="942840"/>
            <a:ext cx="1218960" cy="1473120"/>
            <a:chOff x="1295280" y="942840"/>
            <a:chExt cx="1218960" cy="1473120"/>
          </a:xfrm>
        </p:grpSpPr>
        <p:grpSp>
          <p:nvGrpSpPr>
            <p:cNvPr id="922" name="Group 18"/>
            <p:cNvGrpSpPr/>
            <p:nvPr/>
          </p:nvGrpSpPr>
          <p:grpSpPr>
            <a:xfrm>
              <a:off x="1295280" y="942840"/>
              <a:ext cx="1218960" cy="1323360"/>
              <a:chOff x="1295280" y="942840"/>
              <a:chExt cx="1218960" cy="1323360"/>
            </a:xfrm>
          </p:grpSpPr>
          <p:sp>
            <p:nvSpPr>
              <p:cNvPr id="923" name="Text Box 19"/>
              <p:cNvSpPr/>
              <p:nvPr/>
            </p:nvSpPr>
            <p:spPr>
              <a:xfrm>
                <a:off x="1726920" y="94284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1295280" y="1323360"/>
                <a:ext cx="1218960" cy="942840"/>
                <a:chOff x="1295280" y="1323360"/>
                <a:chExt cx="1218960" cy="942840"/>
              </a:xfrm>
            </p:grpSpPr>
            <p:sp>
              <p:nvSpPr>
                <p:cNvPr id="925" name="Text Box 21"/>
                <p:cNvSpPr/>
                <p:nvPr/>
              </p:nvSpPr>
              <p:spPr>
                <a:xfrm>
                  <a:off x="1752480" y="14763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6" name="Line 22"/>
                <p:cNvSpPr/>
                <p:nvPr/>
              </p:nvSpPr>
              <p:spPr>
                <a:xfrm>
                  <a:off x="2031840" y="16286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7" name="Line 23"/>
                <p:cNvSpPr/>
                <p:nvPr/>
              </p:nvSpPr>
              <p:spPr>
                <a:xfrm flipH="1">
                  <a:off x="1574280" y="1603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8" name="Line 24"/>
                <p:cNvSpPr/>
                <p:nvPr/>
              </p:nvSpPr>
              <p:spPr>
                <a:xfrm flipV="1">
                  <a:off x="1904760" y="13233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9" name="Line 25"/>
                <p:cNvSpPr/>
                <p:nvPr/>
              </p:nvSpPr>
              <p:spPr>
                <a:xfrm>
                  <a:off x="1904760" y="17431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0" name="Line 26"/>
                <p:cNvSpPr/>
                <p:nvPr/>
              </p:nvSpPr>
              <p:spPr>
                <a:xfrm flipH="1">
                  <a:off x="1574280" y="1679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1" name="Text Box 27"/>
                <p:cNvSpPr/>
                <p:nvPr/>
              </p:nvSpPr>
              <p:spPr>
                <a:xfrm>
                  <a:off x="2193840" y="136188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2" name="Text Box 28"/>
                <p:cNvSpPr/>
                <p:nvPr/>
              </p:nvSpPr>
              <p:spPr>
                <a:xfrm>
                  <a:off x="1295280" y="137448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3" name="Text Box 29"/>
                <p:cNvSpPr/>
                <p:nvPr/>
              </p:nvSpPr>
              <p:spPr>
                <a:xfrm>
                  <a:off x="1726920" y="180648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Line 30"/>
            <p:cNvSpPr/>
            <p:nvPr/>
          </p:nvSpPr>
          <p:spPr>
            <a:xfrm>
              <a:off x="1905120" y="21873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5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36" name="Group 32"/>
          <p:cNvGrpSpPr/>
          <p:nvPr/>
        </p:nvGrpSpPr>
        <p:grpSpPr>
          <a:xfrm>
            <a:off x="2895480" y="2071800"/>
            <a:ext cx="838440" cy="685800"/>
            <a:chOff x="2895480" y="2071800"/>
            <a:chExt cx="838440" cy="685800"/>
          </a:xfrm>
        </p:grpSpPr>
        <p:sp>
          <p:nvSpPr>
            <p:cNvPr id="937" name="Line 33"/>
            <p:cNvSpPr/>
            <p:nvPr/>
          </p:nvSpPr>
          <p:spPr>
            <a:xfrm flipV="1">
              <a:off x="2971800" y="237672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Rectangle 34"/>
            <p:cNvSpPr/>
            <p:nvPr/>
          </p:nvSpPr>
          <p:spPr>
            <a:xfrm>
              <a:off x="2895480" y="207180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9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940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941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942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943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944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3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954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956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957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0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1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2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5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969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0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nstantia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971" name="Group 67"/>
          <p:cNvGrpSpPr/>
          <p:nvPr/>
        </p:nvGrpSpPr>
        <p:grpSpPr>
          <a:xfrm>
            <a:off x="4417920" y="1176480"/>
            <a:ext cx="1904760" cy="2586960"/>
            <a:chOff x="4417920" y="1176480"/>
            <a:chExt cx="1904760" cy="2586960"/>
          </a:xfrm>
        </p:grpSpPr>
        <p:sp>
          <p:nvSpPr>
            <p:cNvPr id="972" name="AutoShape 68"/>
            <p:cNvSpPr/>
            <p:nvPr/>
          </p:nvSpPr>
          <p:spPr>
            <a:xfrm>
              <a:off x="4417920" y="1176480"/>
              <a:ext cx="380880" cy="25869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7320 h 2586960"/>
                <a:gd name="textAreaBottom" fmla="*/ 2519640 h 258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3" name="Text Box 69"/>
            <p:cNvSpPr/>
            <p:nvPr/>
          </p:nvSpPr>
          <p:spPr>
            <a:xfrm>
              <a:off x="4646520" y="219564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nstantia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4" name="Group 70"/>
          <p:cNvGrpSpPr/>
          <p:nvPr/>
        </p:nvGrpSpPr>
        <p:grpSpPr>
          <a:xfrm>
            <a:off x="6224760" y="1231920"/>
            <a:ext cx="3047400" cy="5333760"/>
            <a:chOff x="6224760" y="1231920"/>
            <a:chExt cx="3047400" cy="5333760"/>
          </a:xfrm>
        </p:grpSpPr>
        <p:sp>
          <p:nvSpPr>
            <p:cNvPr id="975" name="Rectangle 71"/>
            <p:cNvSpPr/>
            <p:nvPr/>
          </p:nvSpPr>
          <p:spPr>
            <a:xfrm>
              <a:off x="6224760" y="1304640"/>
              <a:ext cx="2946240" cy="5261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6" name="Text Box 72"/>
            <p:cNvSpPr/>
            <p:nvPr/>
          </p:nvSpPr>
          <p:spPr>
            <a:xfrm>
              <a:off x="7918920" y="1231920"/>
              <a:ext cx="13258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7" name="AutoShape 73"/>
            <p:cNvSpPr/>
            <p:nvPr/>
          </p:nvSpPr>
          <p:spPr>
            <a:xfrm>
              <a:off x="7403040" y="2476800"/>
              <a:ext cx="147240" cy="1171800"/>
            </a:xfrm>
            <a:custGeom>
              <a:avLst/>
              <a:gdLst>
                <a:gd name="textAreaLeft" fmla="*/ 0 w 147240"/>
                <a:gd name="textAreaRight" fmla="*/ 53280 w 147240"/>
                <a:gd name="textAreaTop" fmla="*/ 30240 h 1171800"/>
                <a:gd name="textAreaBottom" fmla="*/ 11415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8" name="Text Box 74"/>
            <p:cNvSpPr/>
            <p:nvPr/>
          </p:nvSpPr>
          <p:spPr>
            <a:xfrm>
              <a:off x="7126920" y="1451520"/>
              <a:ext cx="12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Constantia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9" name="Text Box 75"/>
            <p:cNvSpPr/>
            <p:nvPr/>
          </p:nvSpPr>
          <p:spPr>
            <a:xfrm>
              <a:off x="6224760" y="577260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Constantia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0" name="Text Box 76"/>
            <p:cNvSpPr/>
            <p:nvPr/>
          </p:nvSpPr>
          <p:spPr>
            <a:xfrm>
              <a:off x="6224760" y="240336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nstantia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1" name="Text Box 77"/>
            <p:cNvSpPr/>
            <p:nvPr/>
          </p:nvSpPr>
          <p:spPr>
            <a:xfrm>
              <a:off x="6224760" y="487836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Constantia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2" name="Text Box 78"/>
            <p:cNvSpPr/>
            <p:nvPr/>
          </p:nvSpPr>
          <p:spPr>
            <a:xfrm>
              <a:off x="6224760" y="3267000"/>
              <a:ext cx="125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Constantia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3" name="AutoShape 79"/>
            <p:cNvSpPr/>
            <p:nvPr/>
          </p:nvSpPr>
          <p:spPr>
            <a:xfrm>
              <a:off x="7439760" y="4942440"/>
              <a:ext cx="147240" cy="1171800"/>
            </a:xfrm>
            <a:custGeom>
              <a:avLst/>
              <a:gdLst>
                <a:gd name="textAreaLeft" fmla="*/ 0 w 147240"/>
                <a:gd name="textAreaRight" fmla="*/ 53280 w 147240"/>
                <a:gd name="textAreaTop" fmla="*/ 30240 h 1171800"/>
                <a:gd name="textAreaBottom" fmla="*/ 1141560 h 11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4" name="Text Box 80"/>
            <p:cNvSpPr/>
            <p:nvPr/>
          </p:nvSpPr>
          <p:spPr>
            <a:xfrm>
              <a:off x="7550640" y="2873520"/>
              <a:ext cx="132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nstantia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5" name="Text Box 81"/>
            <p:cNvSpPr/>
            <p:nvPr/>
          </p:nvSpPr>
          <p:spPr>
            <a:xfrm>
              <a:off x="7578000" y="5324040"/>
              <a:ext cx="16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nstantia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6" name="Text Box 82"/>
          <p:cNvSpPr/>
          <p:nvPr/>
        </p:nvSpPr>
        <p:spPr>
          <a:xfrm>
            <a:off x="3186000" y="366696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9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990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1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2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3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4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5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96" name="Group 92"/>
          <p:cNvGrpSpPr/>
          <p:nvPr/>
        </p:nvGrpSpPr>
        <p:grpSpPr>
          <a:xfrm>
            <a:off x="1100160" y="882720"/>
            <a:ext cx="546120" cy="5244840"/>
            <a:chOff x="1100160" y="882720"/>
            <a:chExt cx="546120" cy="5244840"/>
          </a:xfrm>
        </p:grpSpPr>
        <p:sp>
          <p:nvSpPr>
            <p:cNvPr id="997" name="Line 93"/>
            <p:cNvSpPr/>
            <p:nvPr/>
          </p:nvSpPr>
          <p:spPr>
            <a:xfrm>
              <a:off x="1303200" y="133992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8" name="Text Box 94"/>
            <p:cNvSpPr/>
            <p:nvPr/>
          </p:nvSpPr>
          <p:spPr>
            <a:xfrm>
              <a:off x="1112760" y="8827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9" name="Text Box 95"/>
            <p:cNvSpPr/>
            <p:nvPr/>
          </p:nvSpPr>
          <p:spPr>
            <a:xfrm>
              <a:off x="1100160" y="5607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00" name="Group 96"/>
          <p:cNvGrpSpPr/>
          <p:nvPr/>
        </p:nvGrpSpPr>
        <p:grpSpPr>
          <a:xfrm>
            <a:off x="-31680" y="954000"/>
            <a:ext cx="609480" cy="5146200"/>
            <a:chOff x="-31680" y="954000"/>
            <a:chExt cx="609480" cy="5146200"/>
          </a:xfrm>
        </p:grpSpPr>
        <p:sp>
          <p:nvSpPr>
            <p:cNvPr id="1001" name="Line 97"/>
            <p:cNvSpPr/>
            <p:nvPr/>
          </p:nvSpPr>
          <p:spPr>
            <a:xfrm flipV="1">
              <a:off x="146160" y="137268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2" name="Text Box 98"/>
            <p:cNvSpPr/>
            <p:nvPr/>
          </p:nvSpPr>
          <p:spPr>
            <a:xfrm>
              <a:off x="-31680" y="564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3" name="Text Box 99"/>
            <p:cNvSpPr/>
            <p:nvPr/>
          </p:nvSpPr>
          <p:spPr>
            <a:xfrm>
              <a:off x="-31680" y="95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9259E-006 L 0.125 -0.00371 E">
                                      <p:cBhvr>
                                        <p:cTn id="6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10" dur="2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3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380880"/>
            <a:ext cx="43434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5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6" name="Picture 5" descr=""/>
          <p:cNvPicPr/>
          <p:nvPr/>
        </p:nvPicPr>
        <p:blipFill>
          <a:blip r:embed="rId2"/>
          <a:srcRect l="28180" t="2847" r="26695" b="14699"/>
          <a:stretch/>
        </p:blipFill>
        <p:spPr>
          <a:xfrm>
            <a:off x="380880" y="2690640"/>
            <a:ext cx="3859200" cy="39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7" name="Rectangle 1"/>
          <p:cNvSpPr/>
          <p:nvPr/>
        </p:nvSpPr>
        <p:spPr>
          <a:xfrm>
            <a:off x="0" y="6080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20000"/>
              </a:lnSpc>
              <a:buClr>
                <a:srgbClr val="00b050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ucleotides are linked together b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hosphodiester bon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twee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hosphate at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5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one nucleotide and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ydroxyl group at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'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carb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an adjacent sug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3"/>
          <p:cNvSpPr/>
          <p:nvPr/>
        </p:nvSpPr>
        <p:spPr>
          <a:xfrm>
            <a:off x="76320" y="30492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The Differences between DNA and RN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9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228600" y="1295280"/>
          <a:ext cx="8686800" cy="5394600"/>
        </p:xfrm>
        <a:graphic>
          <a:graphicData uri="http://schemas.openxmlformats.org/drawingml/2006/table">
            <a:tbl>
              <a:tblPr/>
              <a:tblGrid>
                <a:gridCol w="2998800"/>
                <a:gridCol w="2844720"/>
                <a:gridCol w="284328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Deoxyribonucleic Ac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Ribonucleic Aci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of stra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ouble-strand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ingle-strand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 of sug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Deoxyribo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Ribo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nitrogen bas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denine (A), thymine (T), cytosine (C), and  guanine (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adenine, uracil (U), guanine, and cytos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e Pair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Adenine links to thymine (A-T) and cytosine links to guanine (C-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Adenine links to uracil (A-U) and cytosine links to guanine (C-G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3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NA is found in the nucleus, Mitochondria and chloroplast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RNA is found in the nucleus, cytoplasm, and ribosom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Mohammed Albeshr</cp:lastModifiedBy>
  <dcterms:modified xsi:type="dcterms:W3CDTF">2017-11-06T20:14:02Z</dcterms:modified>
  <cp:revision>280</cp:revision>
  <dc:subject/>
  <dc:title>Slide 1</dc:title>
</cp:coreProperties>
</file>