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482-5E31-48EC-AAE3-0ACD7CD5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28F-F2DF-40B3-A5ED-DC3E867F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B53-53BE-45D7-B692-AF4D30D1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364-B8AE-4969-B211-E0C6677E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3005-28AF-44F8-BE6E-97E92403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7D17-2676-40F9-9BFD-3D2E843E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DE61-D65B-42AD-B1B6-0E7BDA6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DCC0-D98F-4DFF-8E14-158BD591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D574-2521-4887-A0E3-99D76F43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B0F8-C9BB-40D6-8F7C-942939A9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887F-5FAC-48C7-9A67-20FE3B4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8D0-BBF5-4846-91F3-EDCFADA6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8CB7-374A-4F98-9CD3-B2D21152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9E95-CBAB-4D77-9587-CE00B44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D298-B9C3-484A-BF98-98466CB3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B99B-B7C3-4C6B-9393-911781CA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91DD-754F-489D-851F-3093F187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3D5-A38C-4CCA-8F2B-9C3A278A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58D-F2B9-4799-863E-BA4B7CE7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082-8C2E-40F1-B60B-E00300E5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C28-E6BF-40CC-A1C0-B09D0507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1A2-7AC8-4E43-BD91-2221AF4A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9CC-B9E5-437D-A399-07060CE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AED-CFA5-49FA-BDFF-2C37E3A5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BD92-6402-4FB2-A1D5-2977F23B5011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33A3-8FAD-4E2F-8273-B25E02523742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0680"/>
            <a:ext cx="3657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</a:t>
            </a:r>
            <a:r>
              <a:rPr b="1" lang="ar-SA" sz="2400" spc="-1" strike="noStrike">
                <a:solidFill>
                  <a:srgbClr val="003366"/>
                </a:solidFill>
                <a:latin typeface="Arial"/>
              </a:rPr>
              <a:t>برنامج عمل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33520" y="914400"/>
            <a:ext cx="546120" cy="5244840"/>
            <a:chOff x="53352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3656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54612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335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600"/>
            <a:ext cx="853416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لاح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User</cp:lastModifiedBy>
  <dcterms:modified xsi:type="dcterms:W3CDTF">2015-10-22T18:06:55Z</dcterms:modified>
  <cp:revision>184</cp:revision>
  <dc:subject/>
  <dc:title>Slide 1</dc:title>
</cp:coreProperties>
</file>