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655-C7C5-49FD-9ABD-6E73BA16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090-7219-4877-9EAC-9C07754C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03-E5E9-4280-B5ED-A1D48578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348-A73B-4D9B-8263-E14ABD44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C331-8986-45E7-91F9-04EBC35E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02B-DEE3-4DD5-9DC5-BF2A0D8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B79-07D6-4D26-A32D-9117A9A2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BA9-52BB-4D24-95EC-36241CF0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4147-168D-45BA-8EFC-0061338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41F-6EA7-4548-9C6D-70FFACF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14D8-8EC3-4050-8987-0B4202D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194-47B4-4C5A-B009-7FE3A5F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1E5-6CF3-444C-87C7-29EB6B9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8A57-CD26-4192-A862-C5CD160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D39C-A7F7-4759-B94F-BA6E174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104F-18C7-4B97-A2B3-98CE48D8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62F0-20CF-4046-96EE-53F182D2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A9E-11F1-4038-855A-57A4E8A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575-0755-480A-89B8-88CDEFE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B54-5E31-4B13-BF5F-05F32CC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0C-3B63-440E-96FF-3435604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444-4B2A-4225-8607-8E16B79B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C61-F082-4484-8290-69F0432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649-AD24-401B-9838-8B6D581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A58-8764-4F5F-8652-36DB77B710DB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89D9-C683-435A-BEB6-246D7D62D00A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0680"/>
            <a:ext cx="3657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</a:t>
            </a:r>
            <a:r>
              <a:rPr b="1" lang="ar-SA" sz="2400" spc="-1" strike="noStrike">
                <a:solidFill>
                  <a:srgbClr val="003366"/>
                </a:solidFill>
                <a:latin typeface="Arial"/>
              </a:rPr>
              <a:t>برنامج عمل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33520" y="914400"/>
            <a:ext cx="546120" cy="5244840"/>
            <a:chOff x="53352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3656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612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335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600"/>
            <a:ext cx="853416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لاح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5-10-22T18:06:55Z</dcterms:modified>
  <cp:revision>184</cp:revision>
  <dc:subject/>
  <dc:title>Slide 1</dc:title>
</cp:coreProperties>
</file>