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716-E653-4572-9974-55552F6F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CAD-3A90-4C0C-A825-21594468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BC58-181B-40A6-879B-142BF6D7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1DD-3708-4F2D-9A8B-9A2006F5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16A7-F26D-485C-B24C-B65C5DE0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9701-1323-46BE-8CCB-1163B181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CCD5-B4AB-4AF8-A92A-9A2C7D3B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4007-8EFB-4A44-A454-8A844E0F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AF23-174C-4FDF-8A7F-FE1A1470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84E5-BE19-4B67-851A-09B6F774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2498-6BDD-4A87-9734-6544C2EC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AAD-6B01-4FE6-B3BB-BADB6C74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6DE3-1433-4D79-A048-A79825A7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484F-E5A7-4FBF-88A7-96E911AD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AF51-6A5D-41A5-B491-D6BB6ED1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7EC1-E0F6-4536-AB8B-DFC0F1C3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5A4E-2187-4EB4-BEDA-694E1705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CEF-A7FD-4E50-93CE-50C90FE8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D98-9C2C-41C5-A43B-FB8A9D75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A50-5E97-4A36-ADFB-CB51B177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C5A-6F7F-47C8-9C0D-BC60E55B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CC74-0BB8-4B77-AA5B-0766D839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4B6-EA94-4E28-B87F-023BE141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45F-11E5-4C9C-9E87-90C84D66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A500-18B2-43B3-AA0E-0B7D92F17D47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5A04-74F1-442D-BFDB-31ADAC5FD8DA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98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99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10"/>
          <p:cNvSpPr/>
          <p:nvPr/>
        </p:nvSpPr>
        <p:spPr>
          <a:xfrm>
            <a:off x="304920" y="501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cture 10: Nucleic acids (DNA &amp; RNA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581040"/>
            <a:ext cx="3657600" cy="49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028960" y="276480"/>
            <a:ext cx="51613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RN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0010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- Messenger RNA (mRNA) is the blueprint for construction of a prote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- Ribosomal RNA (rRNA) is the construction site where the protein is made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in the ribosom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- Transfer RNA (tRNA) is the truck delivering the proper amino acid to the site at the right t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89760" y="578880"/>
            <a:ext cx="6146280" cy="62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DNA                                     R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78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279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280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1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82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283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4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5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1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2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3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94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295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6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7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8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9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0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1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2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3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6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07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0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11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3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14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320" name="Text Box 6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AutoShape 7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323" name="Text Box 9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AutoShape 10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5" name="Group 11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326" name="Text Box 12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AutoShape 13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8" name="Text Box 14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Group 16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331" name="Text Box 17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Line 18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334" name="Text Box 20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337" name="Text Box 23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Line 2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340" name="Text Box 26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343" name="Text Box 29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Line 30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346" name="Text Box 32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Line 33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349" name="Text Box 35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Line 36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352" name="Text Box 3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Text Box 4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Text Box 4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Text Box 4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Text Box 4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Line 45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0" name="Line 46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1" name="Group 47"/>
          <p:cNvGrpSpPr/>
          <p:nvPr/>
        </p:nvGrpSpPr>
        <p:grpSpPr>
          <a:xfrm>
            <a:off x="2438280" y="5334120"/>
            <a:ext cx="2895840" cy="459720"/>
            <a:chOff x="2438280" y="5334120"/>
            <a:chExt cx="2895840" cy="459720"/>
          </a:xfrm>
        </p:grpSpPr>
        <p:sp>
          <p:nvSpPr>
            <p:cNvPr id="362" name="Text Box 48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Text Box 49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Text Box 50"/>
          <p:cNvSpPr/>
          <p:nvPr/>
        </p:nvSpPr>
        <p:spPr>
          <a:xfrm>
            <a:off x="76212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Text Box 51"/>
          <p:cNvSpPr/>
          <p:nvPr/>
        </p:nvSpPr>
        <p:spPr>
          <a:xfrm>
            <a:off x="838080" y="4572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2860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ى المزدوج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ى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106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960" y="304920"/>
            <a:ext cx="8915400" cy="58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gene is a small region in the D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cleic acids store and transmit hereditary information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معلومات</a:t>
            </a:r>
            <a:r>
              <a:rPr b="0" lang="ar-EG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وراثية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3366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560" y="106560"/>
            <a:ext cx="5120280" cy="425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13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5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16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3366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6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127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128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9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130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42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45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46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47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49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59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62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9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74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77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Text Box 69"/>
            <p:cNvSpPr/>
            <p:nvPr/>
          </p:nvSpPr>
          <p:spPr>
            <a:xfrm>
              <a:off x="4419720" y="1905120"/>
              <a:ext cx="16761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3366"/>
                  </a:solidFill>
                  <a:latin typeface="Arial"/>
                </a:rPr>
                <a:t>نيوكليوتيدة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9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80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3366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1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4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95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02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5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06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7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</a:rPr>
              <a:t>Fig. 16.3, Page 290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28600" y="457200"/>
            <a:ext cx="4343400" cy="58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O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ى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78040" y="254520"/>
            <a:ext cx="6730200" cy="3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Nitrogenous bases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0000ff"/>
                </a:solidFill>
                <a:uFillTx/>
                <a:latin typeface="Arial"/>
              </a:rPr>
              <a:t>القواعد النيتروجينية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15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7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18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1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32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36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37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1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244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248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0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251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254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8" name="Group 47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259" name="Text Box 48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Text Box 49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262" name="Text Box 51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Text Box 52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53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52280" y="145548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14240" y="333720"/>
            <a:ext cx="7943400" cy="39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 a polymer of nucleotid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رتيب التتابع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1600200"/>
            <a:ext cx="899136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د أشرف مشالي</cp:lastModifiedBy>
  <dcterms:modified xsi:type="dcterms:W3CDTF">2013-09-01T08:23:41Z</dcterms:modified>
  <cp:revision>182</cp:revision>
  <dc:subject/>
  <dc:title>Slide 1</dc:title>
</cp:coreProperties>
</file>