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05E-AEB1-40EB-A223-B8AC998C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663-9116-46FF-9080-41580D0C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0A2-CCBD-4407-8499-4C8FE098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6FB-310C-4F02-9DCE-54EB1253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EB47-3EAE-4446-954E-C9697C10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6CF-69C4-4E10-A4E7-CF97281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EA46-A326-4AC8-9AB3-967F28E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D30-5F38-4617-A464-54E9C89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D0E-F339-43C7-8338-238258DD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14A-CA72-437F-ABCA-50F4075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9FA6-AEA1-44EF-891C-AC654A5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D92-B289-457F-AC21-6E2AF471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AC03-586F-4D16-8C64-254A82A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EE1-14A8-4F60-AE4E-E3B5B15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4E92-58C2-426C-A606-2544C59E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497D-E139-4BBB-AE20-4E2F1B2F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1085-1063-40C6-99A9-8852AEF3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BAC-31A3-4AB7-9AD8-2732C24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3B4-B9EF-40D5-8B2B-D79E8F0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000-0A0B-4EBA-B464-E9E32D5F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CAE-91E8-4834-89EB-A12EDE9F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1C3-546B-4CAD-A702-B5B463E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989-50AE-4B77-8BCB-C3842E8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A16-839B-4F31-8D53-9E30CE3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993F-8A6B-4317-A8FB-E3E1CE37FC3C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2D8-3575-4D89-82C1-15A7AB92519F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د أشرف مشالي</cp:lastModifiedBy>
  <dcterms:modified xsi:type="dcterms:W3CDTF">2013-09-01T08:23:41Z</dcterms:modified>
  <cp:revision>182</cp:revision>
  <dc:subject/>
  <dc:title>Slide 1</dc:title>
</cp:coreProperties>
</file>