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C6C-228B-4A96-9368-E23160AA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9AC-E858-4B1F-B766-59052C36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C0E-E0AA-48BC-922E-EFE298BE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07C-030D-473A-B6C6-F177C8EB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FD5D-4C6D-4836-88A6-9439132A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BE4A-4A7D-44D9-AC20-5A2F0A5C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8FB5-7170-437C-8E31-651A30A3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A4BF-BCB4-4948-8A57-5328C8F9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F21D-51DE-4515-8DA3-C73C822A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8011-F27E-4505-BA7E-12FF22BD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0FBD-13F7-42C7-A4B6-6745DE68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E7C-8683-408C-B094-4B3937DC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BE09-7F82-4876-A476-E1D96732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801E-8256-4671-8491-FAB5D286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379D-C2D2-4997-88AF-33D214F2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2151-DB29-450F-ADA4-DF45DE1C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C360-FEEF-4D59-A8E8-B414865C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0D4-6543-4E9D-A209-8A7D4430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4F4-F528-42D2-9741-4AC99AEA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863-2211-4815-8B3F-1502C2D9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92D-E719-4273-AA0B-8E97DDCA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0BC-703C-4334-96DA-6000784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780-63DA-4242-91A4-079D4545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EA5-5E24-49F6-8F2B-94B4B8E5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FDFB-DE47-4465-AC0B-2A12C8085348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5D7F-56BB-4223-B8EA-F268D7FB8D07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1040"/>
            <a:ext cx="3657600" cy="49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Nitrogenous bases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0000ff"/>
                </a:solidFill>
                <a:uFillTx/>
                <a:latin typeface="Arial"/>
              </a:rPr>
              <a:t>القواعد النيتروجينية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User</cp:lastModifiedBy>
  <dcterms:modified xsi:type="dcterms:W3CDTF">2014-08-27T10:18:13Z</dcterms:modified>
  <cp:revision>182</cp:revision>
  <dc:subject/>
  <dc:title>Slide 1</dc:title>
</cp:coreProperties>
</file>