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482-AA69-48A3-9C8D-349882DB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4F8-BC93-4DFC-8DE0-4608964E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0F2-938F-4970-9070-6EAABFA6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EC6-B931-403E-AA28-74D23181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66AD-1F30-47EE-8293-FFBF0A72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413D-E795-48CB-BAB4-6F3E7FE3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DF2A-E18A-4CC5-94F6-B8C0EBD3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D27D-731D-4E2C-85D2-4F8A1BA7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A858-F57D-464E-A7DF-7CE753CB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A315-339C-4C6D-B936-A5ABB1DA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C7E5-8383-4C73-BB8D-A1B7F01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2B6-05BF-469C-97C0-A7AFC979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1DDF-9263-4197-A6A3-8A60513E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59A7-7ED3-4C57-A3F4-1E4978F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B29B-F677-40F1-933F-12CB04F5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425C-424A-443F-9D77-1D1D7DB5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5340-4B35-4F93-9307-35DAA32D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84A-31DD-4038-B1FD-28F2D56C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FEC-D74A-440B-815D-7C2F6A97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B00-232C-4387-AA59-44D36803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5A2-15C7-4D15-AD23-08CAEE16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257-716D-4797-BC4D-2AA7773E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D77-C745-4785-989A-C358B3C4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6F2-3DA6-424C-9AC7-F80BCD5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D98C-CEBB-4B58-B77E-A5FE1E413063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6B78-B417-4C3B-9A8A-6AA7E1139F89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User</cp:lastModifiedBy>
  <dcterms:modified xsi:type="dcterms:W3CDTF">2014-08-27T10:18:13Z</dcterms:modified>
  <cp:revision>182</cp:revision>
  <dc:subject/>
  <dc:title>Slide 1</dc:title>
</cp:coreProperties>
</file>