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441-3436-4F96-87CF-038AF381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448-FAD3-4710-9ECC-F8FDE57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E4F-7782-45E9-8E08-196C7C0C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374-0BC3-41C1-A1A6-0CF89A2B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0DF6-6CCF-4324-AB92-D4FEB2ED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E5A-E714-4510-B3DC-6A2C178D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5C7-E0FC-488B-BE6C-0711957E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C61-39EB-499E-9F2E-03AD6416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988D-EEFB-4136-9FCE-AF84524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B35F-46BB-4113-8097-99561C24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3FF-9C85-4ECB-94EC-AF263E5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38D-ABCA-4B60-B30E-DBFCBC8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1ABF-1004-4E1A-B502-54E1C36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7C7-8354-4848-B3CD-5D859AA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99E-C147-4EEF-84D0-6B8AC56E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525-FCAE-4B7F-80BD-186628D9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A7D-6B96-4640-BF8D-7243EBD5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AAE-8772-42D7-83C5-0724DA0E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612-90A9-4B3B-9977-4003C4FF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0AE-B604-419E-A0B2-47F5F558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128-D3FF-4011-B9F0-E0E6D2F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DBA-B4FB-41B3-B653-0171E65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925-40AE-41B9-89B5-5AEA74A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408-90EB-4055-AF00-33A0E66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B16-276A-4101-82FD-B7A02146F454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8826-A856-4A7A-A975-097C289F5313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د أشرف مشالي</cp:lastModifiedBy>
  <dcterms:modified xsi:type="dcterms:W3CDTF">2013-09-01T08:23:41Z</dcterms:modified>
  <cp:revision>182</cp:revision>
  <dc:subject/>
  <dc:title>Slide 1</dc:title>
</cp:coreProperties>
</file>