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4C849-E5A8-4BD3-A097-12692C7533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63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DB385-BDCF-4E60-85E4-7371AD4B61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37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4130640"/>
            <a:ext cx="37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8A5C9-2734-4913-ACFC-87C98EC1D9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45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4040" y="1981080"/>
            <a:ext cx="245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5600" y="1981080"/>
            <a:ext cx="245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45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4040" y="4130640"/>
            <a:ext cx="245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5600" y="4130640"/>
            <a:ext cx="245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B0F19-7320-42BD-9631-5AA47ABC0E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56AF5-3387-44A3-8CC5-E6BCE76BC5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FE77E-D850-4D92-A779-B99882B5C7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2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372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773C6-9502-4256-8E44-8D8F3C8C85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CFDE2-6F3C-4F74-9894-8410410360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609120"/>
            <a:ext cx="764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439CF-440B-403C-A4C1-9BD5A6BA2E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372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C35DE-BC72-4D30-B0BF-6CE9055F5A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2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37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4130640"/>
            <a:ext cx="37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BD847-43B5-4B0B-984D-156D32695A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37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63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3FA21-92F3-481D-8FB7-16EDB54324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ackground0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605640" y="637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5-</a:t>
            </a:r>
            <a:fld id="{3D6CD372-3BDC-481C-976C-C9D205F0F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1"/>
          <p:cNvSpPr/>
          <p:nvPr/>
        </p:nvSpPr>
        <p:spPr>
          <a:xfrm>
            <a:off x="604800" y="6373800"/>
            <a:ext cx="482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, 1998, Elsevier Science (USA)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2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ioid Analgesic Ag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ioid Analges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deine sulf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peridine HCl (Demero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adone HCl (Dolophi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phine sulf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xyphene H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ioid Analgesics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chanism of A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 to receptors on inhibitory fibers, stimulating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 stimulation of the G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 pain impulse transmissi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the br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03440" y="609120"/>
            <a:ext cx="775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ioid Analgesics: Therapeutic U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 use:  to alleviate moderate to severe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ioids are also used f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gh center sup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ment of constip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ioid Analgesics:  Side Effe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5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pho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5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usea and vom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5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iratory de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5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ary ret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5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phoresis and flus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5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pil constriction (mio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5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ip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iate Antagoni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loxone (Narc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ltrexone (Revi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iate antagon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nd to opiate receptors and prevent a respons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for complete or partial reversal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ioid-induced respiratory de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iates: Opioid Toler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mmon physiologic result of chronic opioid 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r dose of opioids are requir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maintain the same level of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ge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iates: Physical Depende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hysiologic adaptation of the body t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esence of an opio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0880" y="609120"/>
            <a:ext cx="771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iates: Psychological Dependence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addictio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attern of compulsive drug use characterized by a continued craving fo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opioid and the need to use the opioi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ffects other than pain reli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i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ioid tolerance and physical dependence are expected with long-term opioid treatment and should not be confused with psychological dependence (addictio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i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sunderstanding of these terms leads to ineffective pain management and contributes to the problem of undertreat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alges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tions that relieve pain without causing loss of conscious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nkil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i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dependence on opioids is seen when the opioid is abruptly discontinued or when an opioid antagonist is administe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rcotic withdraw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ioid abstinence syndr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i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rcotic Withdrawal Opioid Abstinence Syndr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ifested a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xiety, irritability, chills and hot flashes, joint pain, lacrimation, rhinorrhea, diaphoresis, nausea, vomiting, abdominal cramps, diarrh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ioid Analgesics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rsing Impl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fore beginning therapy, perform a thorough history regarding allergies, use of other medications,health history, and medical histo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 baseline vital signs and I &amp; 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 for potential contraindications and drug intera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ioid Analgesics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rsing Impl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m a thorough pain assessment, including nature and type of pain, precipitating and relieving factors, remedies, and other pain treat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ssment of pain is now being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“fifth vital sign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ioid Analgesics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rsing Impl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sure to medicate patients before the pain becomes severe as to provide adequate analgesia and pain contr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n management includes pharmacologic and nonpharmacologic approaches. Be sure to include other interventions as indic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ioid Analgesics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rsing Impl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al forms should be taken with food to minimize gastric up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sure safety measures, such as keeping side rails up, to prevent inj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hold dose and contact physician if there is a decline in the patient’s condition or if VS are abnormal—especially if respiratory rate is below 12 breaths/minu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ioid Analgesics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rsing Impl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llow proper administration guidelines for IM injections, including site rot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llow proper guidelines for IV administration, including dilution, rate of administration, and so forth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DOSAGES CAREFU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ioid Analgesics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rsing Impl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stipation is a common side effect and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y be prevented with adequate fluid and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ber intak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struct patients to follow directions for administration carefully, and to keep a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cord of their pain experience and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sponse to treatmen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tients should be instructed to change positions slowly to prevent possible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rthostatic hypotens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ioid Analgesics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rsing Impl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s should not take other medications or OTC preparations without checking with their physici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ruct patients to notify physician for signs of allergic reaction or adverse effe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ioid Analgesics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rsing Impl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 for side effec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 VS change, patient’s condition decline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pain continue, contact physician immediate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iratory depression may be manifested by respiratory rate of less than 12/min, dyspnea, diminished breath sounds, or shallow breath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assification of Pain By Sour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1929960"/>
            <a:ext cx="7635600" cy="43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scular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y originates from vascular o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vascular tissu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uropathic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s from injury to peripheral nerve fibers or damage to the CN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erficial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iginates from skin or mucous membra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ioid Analgesics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rsing Impl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 for therapeutic effec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eased complaints of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periods of comf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improved activities of daily living, appetite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sense of well-be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95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entral Nervous System Depressa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NS Depressant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da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s that have an inhibitory effect on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NS to the degree that they redu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rvous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it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rit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out causing slee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NS Depressant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no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m or soothe the CNS to the point that the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use sle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NS Depressa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dative-Hypnotics—dose depend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low doses, calm or soothe the CNS                       without inducing sle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high doses, calm or soothe the CNS to the point of causing sle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dative-Hypnotics: Barbitur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rbiturates have a very narrow therapeutic index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apeutic Ind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sage range within which the drug is eff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above which is rapidly toxi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dative-Hypnotics: Barbitur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 of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e of ac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ain stem (reticular form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rebral cort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inhibiting GABA, nerve impulses traveling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erebral cortex are also inhibi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dative-Hypnotics: Barbitur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2739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g Eff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2739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dose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dative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2739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2739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dose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notic effect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lso lowers respiratory rate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2739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orious enzyme induc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dative-Hypnotics: Barbitur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apeutic 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no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da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convuls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gical proced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dative-Hypnotics: Barbitur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de Eff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ody System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ff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owsiness, lethargy, vertig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tal depression, coma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irato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iratory depression, apnea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nchospasms, c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in Transmi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ssue injury causes the release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adykin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tam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ass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stagland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oton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substances stimulate nerve endings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ing the pain 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dative-Hypnotics: Barbitur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de Eff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ody System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ff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usea, vomiting, diarrhea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ranulocytosis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sodilation, hypotension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vens-Johnson syndr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dative-Hypnotics: Barbitur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xic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dose frequently leads to respiratory depression, and subsequently, respiratory arre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therapeuti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esthesia in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controllable seizures:  “phenobarbital com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NS Depressants: Benzodiazepi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 of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ss CNS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fect hypothalamic, thalamic, and limbic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s of the br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nzodiazepine recep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NS Depressants: Benzodiazepi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g Eff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ming effect on the C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ful in controlling agitation and anxi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NS Depressants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rsing Impl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fore beginning therapy, perform a thorough history regarding allergies, us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other medications,health history, and medical histo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 baseline vital signs and I &amp; O, including supine and erect B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 for potential disorders or conditions that may be contraindications, and for potential drug intera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NS Depressants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rsing Impl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15 to 30 minutes before bedtime for maximum effectiveness in inducing slee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benzodiazepines (except flurazepam) cause REM rebound and a tired feeling the next day; use with caution in the elder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s should be instructed to avoid alcohol and other CNS depressa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NS Depressants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rsing Impl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with physician before taking any other medications, including OTC medic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may take 2 to 3 weeks to notice improved sleep when taking barbitu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ruptly stopping these medications, especially barbiturates, may cause rebound insomn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NS Depressants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rsing Impl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12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fety is impor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ep side rails 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t permit smo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st patient with ambulati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specially the elderl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ep call light within re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12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 for side eff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NS Depressants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rsing Impl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 for therapeutic eff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ability to sleep at n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wer awaken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rter sleep induction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w side effects, such as hangover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d sense of well-being because of improved sle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in Transmi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ain fibers enter the spinal cor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ravel up to the br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int of spinal cord entry is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RSAL HOR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ORSAL HORN is the locati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the “GAT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in Transmi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gate regulates the flow of sensory impulses to the br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ing the gate stops the impul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no impulses are transmitted to higher centers in the brain, there is NO pain percep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in Transmi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dy has endogenous neurotransmit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kephal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rph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ed by body to fight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 to opioid recep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hibit transmission of pain by closing g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in Transmi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bbing a painful area with massage or liniment stimulates large sensory fi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TE closed, recognition of pain REDUC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pathway used by opi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ioid Analges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n relievers that contain opium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rived from the opium popp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cally related to opium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rcotics:  very strong pain relie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2T01:00:27Z</dcterms:created>
  <dc:creator>Jonathan &amp; Julie Snyder</dc:creator>
  <dc:description/>
  <dc:language>en-US</dc:language>
  <cp:lastModifiedBy>user</cp:lastModifiedBy>
  <dcterms:modified xsi:type="dcterms:W3CDTF">2016-04-14T18:31:31Z</dcterms:modified>
  <cp:revision>49</cp:revision>
  <dc:subject/>
  <dc:title>PowerPoint Presentation</dc:title>
</cp:coreProperties>
</file>