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3031-352B-4C4F-B970-DE6B93F78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63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6032-400D-4AD3-9F32-4A2868400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0127-A212-4520-ABD1-F92AB38C8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4040" y="198108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5600" y="198108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4040" y="413064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5600" y="4130640"/>
            <a:ext cx="245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E7AD-0BC8-4AA6-883E-9823321E4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5048-6A74-4F82-BE8B-858028DE4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B634-CD60-4301-92DD-DD7F1FBEE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3925-59B6-4D22-B936-3F2E82A5A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7988-A5A6-4CA8-AD41-AEAF6E28B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09120"/>
            <a:ext cx="764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72E1-E64D-419A-82A0-503508FDC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9570-D7A9-4866-8F90-DE467AC50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8D2F-27CF-489D-824F-F59716FC2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37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63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3125-2375-430E-9345-4300CFB18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0564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-</a:t>
            </a:r>
            <a:fld id="{A8D15888-D698-4B16-B4DF-1E25B63C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604800" y="6373800"/>
            <a:ext cx="482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, 1998, Elsevier Science (USA)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2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ioid Analgesic Ag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ine sulf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peridine HCl (Deme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 HCl (Doloph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xyphene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to receptors on inhibitory fibers, stimulating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stimulation of the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pain impulse transmiss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Therapeutic 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use:  to alleviate moderate to severe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s are also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gh center sup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of const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Side Eff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ph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phoresis and flu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pil constriction (mi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p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 Antagoni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loxone (Narc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ltrexone (Rev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ate antago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d to opiate receptors and prevent a respon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complete or partial reversal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-induced respiratory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: Opioid Tole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mon physiologic result of chronic opioid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dose of opioids are requi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intain the same level o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: Physical Depend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ysiologic adaptation of the body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an opi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: Psychological Dependenc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addic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ttern of compulsive drug use characterized by a continued craving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ioid and the need to use the opioi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ffects other than pain 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ioid tolerance and physical dependence are expected with long-term opioid treatment and should not be confused with psychological dependence (addi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understanding of these terms leads to ineffective pain management and contributes to the problem of under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lge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s that relieve pain without causing loss of consci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ki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dependence on opioids is seen when the opioid is abruptly discontinued or when an opioid antagonist is administ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cotic withdraw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 abstinence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cotic Withdrawal Opioid Abstinence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fested 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, irritability, chills and hot flashes, joint pain, lacrimation, rhinorrhea, diaphoresis, nausea, vomiting, abdominal cramps, diarrh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beginning therapy, perform a thorough history regarding allergies, use of other medications,health history, and medical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baseline vital signs and I &amp;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for potential contraindications and drug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a thorough pain assessment, including nature and type of pain, precipitating and relieving factors, remedies, and other pain trea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of pain is now being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fifth vital sig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o medicate patients before the pain becomes severe as to provide adequate analgesia and pain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management includes pharmacologic and nonpharmacologic approaches. Be sure to include other interventions as 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forms should be taken with food to minimize gastric up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afety measures, such as keeping side rails up, to prevent inj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hold dose and contact physician if there is a decline in the patient’s condition or if VS are abnormal—especially if respiratory rate is below 12 breaths/minu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proper administration guidelines for IM injections, including site ro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proper guidelines for IV administration, including dilution, rate of administration, and so fort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DOSAGES CARE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ipation is a common side effect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be prevented with adequate fluid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ber intak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ct patients to follow directions for administration carefully, and to keep a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ord of their pain experience a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onse to treat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s should be instructed to change positions slowly to prevent possibl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thostatic hypotens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should not take other medications or OTC preparations without checking with their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 patients to notify physician for signs of allergic reaction or adverse eff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side 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VS change, patient’s condition declin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in continue, contact physician immedi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depression may be manifested by respiratory rate of less than 12/min, dyspnea, diminished breath sounds, or shallow brea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assification of Pain By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29960"/>
            <a:ext cx="7635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y originates from vascular 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vascular tissu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pathic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from injury to peripheral nerve fibers or damage to the C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ficial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tes from skin or mucous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therapeutic eff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complaints of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periods of com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improved activities of daily living, appetite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sense of well-b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95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tral Nervous System Depress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that have an inhibitory effect on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 to the degree that they redu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vous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ri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causing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n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m or soothe the CNS to the point that the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ative-Hypnotics—dose depend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ow doses, calm or soothe the CNS                       without inducing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high doses, calm or soothe the CNS to the point of causing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biturates have a very narrow therapeutic index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age range within which the drug is eff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bove which is rapidly tox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of 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in stem (reticular form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ebr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inhibiting GABA, nerve impulses traveling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rebral cortex are also inhibi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os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notic effec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lso lowers respiratory rate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2739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orious enzyme indu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n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convul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gical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dy Syste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wsiness, lethargy, vertig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depression, com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depression, apnea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nchospasms, c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injury causes the release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dyki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tagland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ot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ubstances stimulate nerve ending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the pai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dy Syste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, vomiting, diarrh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anulocytosi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ion, hypotension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vens-Johnson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dative-Hypnotics: Barbitu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i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dose frequently leads to respiratory depression, and subsequently, respiratory ar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therapeu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sthesia in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able seizures:  “phenobarbital com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Benzodiazep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 CN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 hypothalamic, thalamic, and limb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of the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zodiazepine recep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Benzodiazep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ming effect on the C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in controlling agitation and anx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beginning therapy, perform a thorough history regarding allergies, u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other medications,health history, and medical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baseline vital signs and I &amp; O, including supine and erect B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for potential disorders or conditions that may be contraindications, and for potential drug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15 to 30 minutes before bedtime for maximum effectiveness in inducing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enzodiazepines (except flurazepam) cause REM rebound and a tired feeling the next day; use with caution in the elde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should be instructed to avoid alcohol and other CNS depress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with physician before taking any other medications, including OTC med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take 2 to 3 weeks to notice improved sleep when taking barbitu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uptly stopping these medications, especially barbiturates, may cause rebound insom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ty is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side rails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permit 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patient with ambula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specially the elder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call light within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NS Depressants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rsing Im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for therapeutic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ability to sleep at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awake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r sleep induc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ide effects, such as hangover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sense of well-being because of improved sl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ain fibers enter the spinal cor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ravel up to the b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spinal cord entry is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AL HO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RSAL HORN is the loc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“GA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gate regulates the flow of sensory impulses to the b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ing the gate stops the impul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impulses are transmitted to higher centers in the brain, there is NO pain perce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has endogenous neurotransmi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kephal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ph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 by body to figh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to opioid rece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 transmission of pain by closing 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Trans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bing a painful area with massage or liniment stimulates large sensory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E closed, recognition of pain RE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pathway used by op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ioid Analge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relievers that contain opium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d from the opium pop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ly related to opi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cotics:  very strong pain relie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user</cp:lastModifiedBy>
  <dcterms:modified xsi:type="dcterms:W3CDTF">2016-04-14T18:31:31Z</dcterms:modified>
  <cp:revision>49</cp:revision>
  <dc:subject/>
  <dc:title>PowerPoint Presentation</dc:title>
</cp:coreProperties>
</file>