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E634-0008-4824-86E2-9ED6B83959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DC6E-0ACF-489E-BA78-0A858E118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E079-6027-47CB-9DDE-D83C871554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D385-BA7E-4A0E-8AB3-3D1232E3C4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D6D3-673C-426A-814A-DB0C071A16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6939-3F3E-45FF-BD7B-2F2AD2D88B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624-3622-4542-A4B2-338289AD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E3B-7E25-4669-A38C-B968714D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5A7-E620-49EF-8C43-690A2823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F92-A308-4238-96D2-431F675E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D3A-8DAC-4848-ADE6-0D92CC58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BCF-5663-4853-8BF0-22E822D7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273-A7E8-4CE3-8F8E-63777CBA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5ED-6205-4D8D-8827-E57CB178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682-5C9F-4909-901E-95F2CBC5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ABE-925A-4536-8E8F-28A809ED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842-184F-4DBB-8A19-3CBAD3EDE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900-74A5-4771-8F0F-5E5C04C2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D29F-7B7A-450F-ADA6-571ABC04EF5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5FD6-1761-4F84-913D-7171FFCFF5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0" y="0"/>
            <a:ext cx="9144000" cy="6788160"/>
            <a:chOff x="0" y="0"/>
            <a:chExt cx="9144000" cy="6788160"/>
          </a:xfrm>
        </p:grpSpPr>
        <p:sp>
          <p:nvSpPr>
            <p:cNvPr id="50" name="Text Box 2"/>
            <p:cNvSpPr/>
            <p:nvPr/>
          </p:nvSpPr>
          <p:spPr>
            <a:xfrm>
              <a:off x="2057400" y="152280"/>
              <a:ext cx="518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APTER 5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RUCTURE AND FUNCTION OF MACROMOLECU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3"/>
            <p:cNvSpPr/>
            <p:nvPr/>
          </p:nvSpPr>
          <p:spPr>
            <a:xfrm>
              <a:off x="0" y="647712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ges 96 - 1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7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8" descr=""/>
            <p:cNvPicPr/>
            <p:nvPr/>
          </p:nvPicPr>
          <p:blipFill>
            <a:blip r:embed="rId3"/>
            <a:srcRect l="4303" t="21667" r="9999" b="21667"/>
            <a:stretch/>
          </p:blipFill>
          <p:spPr>
            <a:xfrm>
              <a:off x="76320" y="4038480"/>
              <a:ext cx="8991360" cy="274968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56" name="Text Box 9"/>
            <p:cNvSpPr/>
            <p:nvPr/>
          </p:nvSpPr>
          <p:spPr>
            <a:xfrm>
              <a:off x="2743200" y="76320"/>
              <a:ext cx="3886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CHAPTER 6</a:t>
              </a:r>
              <a:br>
                <a:rPr sz="2800"/>
              </a:b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 AN INTRODUCTION                                      TO METABOLI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76320" y="1600200"/>
              <a:ext cx="8991360" cy="2362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228600" y="1676520"/>
              <a:ext cx="876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Impact"/>
                </a:rPr>
                <a:t>Section C:</a:t>
              </a:r>
              <a:r>
                <a:rPr b="0" lang="en-US" sz="3600" spc="-1" strike="noStrike">
                  <a:solidFill>
                    <a:srgbClr val="ff0000"/>
                  </a:solidFill>
                  <a:latin typeface="Impact"/>
                </a:rPr>
                <a:t> The Control of Metabolis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152280" y="2727360"/>
              <a:ext cx="89154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abolic control often depends on allosteric regulation </a:t>
              </a:r>
              <a:r>
                <a:rPr b="1" lang="ar-EG" sz="1800" spc="-1" strike="noStrike">
                  <a:solidFill>
                    <a:srgbClr val="000000"/>
                  </a:solidFill>
                  <a:latin typeface="Arial"/>
                </a:rPr>
                <a:t>التحكم الجانب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 localization of enzymes within a cell helps order metabolis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5"/>
            <p:cNvSpPr/>
            <p:nvPr/>
          </p:nvSpPr>
          <p:spPr>
            <a:xfrm>
              <a:off x="2514600" y="220968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2800" spc="-1" strike="noStrike">
                  <a:solidFill>
                    <a:srgbClr val="000000"/>
                  </a:solidFill>
                  <a:latin typeface="Arial"/>
                  <a:cs typeface="AL-Hosam"/>
                </a:rPr>
                <a:t>التحكم فى الأي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97E1-0A66-4C41-8E76-46F4930032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799920"/>
            <a:ext cx="6095880" cy="24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many cases, the molecules that naturally regulate enzyme activity behave like reversible noncompetitive inhibi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olecules often bind weakly to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llosteric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which is a specific receptor on the enzyme that is not the active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molecules can either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hib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timul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nzyme a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3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tabolic control often depends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osteric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152280" y="6094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228600" y="3365640"/>
            <a:ext cx="480060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)- Allosteric Regulation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نظيم الألوستي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allosterically regulated enzymes are constructe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or more polypeptide ch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subunit has its ow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te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llosteric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t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 often located where subunits are jo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ole protein exists in two conformational shapes, one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one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ac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0" t="0" r="50012" b="7026"/>
          <a:stretch/>
        </p:blipFill>
        <p:spPr>
          <a:xfrm>
            <a:off x="5029200" y="3200400"/>
            <a:ext cx="4038480" cy="3056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185800" y="6485040"/>
            <a:ext cx="1561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8a, page 1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3"/>
          <p:cNvGrpSpPr/>
          <p:nvPr/>
        </p:nvGrpSpPr>
        <p:grpSpPr>
          <a:xfrm>
            <a:off x="6172200" y="685800"/>
            <a:ext cx="2971800" cy="1828800"/>
            <a:chOff x="6172200" y="685800"/>
            <a:chExt cx="2971800" cy="1828800"/>
          </a:xfrm>
        </p:grpSpPr>
        <p:pic>
          <p:nvPicPr>
            <p:cNvPr id="69" name="Picture 9" descr=""/>
            <p:cNvPicPr/>
            <p:nvPr/>
          </p:nvPicPr>
          <p:blipFill>
            <a:blip r:embed="rId2"/>
            <a:srcRect l="0" t="0" r="0" b="68252"/>
            <a:stretch/>
          </p:blipFill>
          <p:spPr>
            <a:xfrm>
              <a:off x="6172200" y="685800"/>
              <a:ext cx="297180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Group 12"/>
            <p:cNvGrpSpPr/>
            <p:nvPr/>
          </p:nvGrpSpPr>
          <p:grpSpPr>
            <a:xfrm>
              <a:off x="6616800" y="1333440"/>
              <a:ext cx="1396440" cy="914400"/>
              <a:chOff x="6616800" y="1333440"/>
              <a:chExt cx="1396440" cy="914400"/>
            </a:xfrm>
          </p:grpSpPr>
          <p:sp>
            <p:nvSpPr>
              <p:cNvPr id="71" name="Text Box 10"/>
              <p:cNvSpPr/>
              <p:nvPr/>
            </p:nvSpPr>
            <p:spPr>
              <a:xfrm>
                <a:off x="6616800" y="1333440"/>
                <a:ext cx="990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33cc"/>
                    </a:solidFill>
                    <a:latin typeface="Arial"/>
                  </a:rPr>
                  <a:t>Allosteric s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1"/>
              <p:cNvSpPr/>
              <p:nvPr/>
            </p:nvSpPr>
            <p:spPr>
              <a:xfrm>
                <a:off x="7099200" y="1638360"/>
                <a:ext cx="91404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613C-B288-4B33-8CC4-50038792311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320400"/>
            <a:ext cx="449568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)- Allosteric activa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ش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has a functional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)- Allosteric inhibitors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ثبطات</a:t>
            </a:r>
            <a:r>
              <a:rPr b="1" lang="ar-EG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bilizes the conformation that lacks an active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680" y="6561000"/>
            <a:ext cx="157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8b, Page 1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rcRect l="49993" t="0" r="0" b="4986"/>
          <a:stretch/>
        </p:blipFill>
        <p:spPr>
          <a:xfrm>
            <a:off x="4876920" y="76320"/>
            <a:ext cx="4267080" cy="3068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6320" y="3352680"/>
            <a:ext cx="8915400" cy="27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many cases, both inhibitors and activators are similar enough in shape that they compete for the same allosteric si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molecules may be products and substrates of a metabolic path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some catabolic pathways have allosteric sites that are inhibited when ATP binds, but activated when AMP (adenosine monophosphate) bi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TP levels are low, AMP levels are high, and the pathway is turned on until ATP levels rise, AMP levels fall and inhibition by ATP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EEC-40B6-40DC-B7B1-670AE4D2B6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191880"/>
            <a:ext cx="4114800" cy="66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C)- Feedback inhib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التثبيط</a:t>
            </a:r>
            <a:r>
              <a:rPr b="1" lang="ar-EG" sz="2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بالأثر الراجعى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one of the common methods of metabolic control in which a metabolic pathway is turned of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توق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ts end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تج النه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duction of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Isoleuc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Thereon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000" spc="-1" strike="noStrike">
                <a:solidFill>
                  <a:srgbClr val="cc0099"/>
                </a:solidFill>
                <a:latin typeface="Arial"/>
              </a:rPr>
              <a:t>Thereonine deamin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d product acts as an inhibitor of an enzyme in the path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product is abunda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ف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pathway is turned off, when rar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ل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hway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rcRect l="0" t="0" r="0" b="3572"/>
          <a:stretch/>
        </p:blipFill>
        <p:spPr>
          <a:xfrm>
            <a:off x="4343400" y="0"/>
            <a:ext cx="4800600" cy="63244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6888600" y="6477120"/>
            <a:ext cx="1108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9, 1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6A19-75C8-4A6B-8421-516A60600E6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38224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2)- Cooperativity regulation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نظيم</a:t>
            </a:r>
            <a:r>
              <a:rPr b="0" lang="ar-EG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ضامن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occurs In enzymes with                                              multiple catalytic subunits,                                                  binding by a substrate to                                                    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one active s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bilizes                                                favorable conformational                                                     changes at all other                                                       subunits, a process called                                           cooperativit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ضامن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echanism amplifi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زي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pon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ستجاب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enzymes to substrates, making the enzyme to accept additional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ضاف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rate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320" y="6567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20, Page 1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rcRect l="0" t="0" r="0" b="6338"/>
          <a:stretch/>
        </p:blipFill>
        <p:spPr>
          <a:xfrm>
            <a:off x="4572000" y="1197000"/>
            <a:ext cx="457200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530D-13D1-45CA-8902-F680BB6A04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1235160"/>
            <a:ext cx="8991360" cy="461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enzymes and enzyme complexes have fixed loca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وضع ثاب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s as structural components of particular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s are confin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membrane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losed eukaryoti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elles (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lysosom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       mitochondr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method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ntra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icie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زيادة الفبع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537240"/>
            <a:ext cx="190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21, Page 1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ocalization of enzymes within a cell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ضع الإنزيمات بالخل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 order metabolis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نظيم الأي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4162320" y="1981080"/>
            <a:ext cx="4302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D2F1-A210-474A-B76A-1CCFA56FD3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05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control of metabolism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activity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7772400" y="6400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52280" y="16905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1)-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llosteric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Regula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04920" y="112716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he cell is controlling its metabolism by regulating enzyme acti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80880" y="2209680"/>
            <a:ext cx="815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ulatory molecules that bind weakly to an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losteric si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enzyme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Allosteric Enzym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in order to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inhib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imulat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 enzyme activity (see Fig 6.18 carefu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32907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)- Allosteric activ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90720" y="374796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)- Allosteric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990720" y="42814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)- Feedback inhibi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52280" y="4876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2- Cooperati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09480" y="54100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bilizes  favorable conformational changes at all other                                                       subunits to make enzyme more e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43:05Z</dcterms:created>
  <dc:creator>User</dc:creator>
  <dc:description/>
  <dc:language>en-US</dc:language>
  <cp:lastModifiedBy>Ahmed</cp:lastModifiedBy>
  <dcterms:modified xsi:type="dcterms:W3CDTF">2009-03-03T12:20:22Z</dcterms:modified>
  <cp:revision>4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