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6A53F-4A1C-470E-A0DA-AE7BA102A99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663F9-D71A-4A0C-8D95-F707A9428E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4471F-4D4C-4C6B-A0EB-28D1429BE5D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A14A4-27BA-449B-8B8D-2365FC0E438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E1FF9-841A-4FC4-8269-932F47A9F74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90345-F8A7-4910-8D9A-2F4165E00AA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011A-DA18-47AB-A4AA-173B4E398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CBEB-6F2D-4CB8-8E9A-1D022096B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251C-8CF5-4785-B895-5898EB6D9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3ECC-B547-4B21-A16A-A6A73DE2F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8B8F-0127-4BBD-B448-6ACD0B12A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C73B-94BF-4EAD-A26C-1C7DCB242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20F2-6D3C-42C4-8CDC-672F8C9AB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6F26-074E-44C2-8CBA-780955FFF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605A-9EC4-42E6-B2B0-137175CD1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F718-6143-4A9D-843E-11ABB7775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8A38-ED07-4538-ACC9-2B1DB416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348A-B0F6-48AE-BD89-636F1842C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2EB64-6ACD-4EA7-9E9C-45B07225FD0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14552-D967-436D-AC70-FB3DCD6B270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6"/>
          <p:cNvGrpSpPr/>
          <p:nvPr/>
        </p:nvGrpSpPr>
        <p:grpSpPr>
          <a:xfrm>
            <a:off x="0" y="0"/>
            <a:ext cx="9144000" cy="6788160"/>
            <a:chOff x="0" y="0"/>
            <a:chExt cx="9144000" cy="6788160"/>
          </a:xfrm>
        </p:grpSpPr>
        <p:sp>
          <p:nvSpPr>
            <p:cNvPr id="50" name="Text Box 2"/>
            <p:cNvSpPr/>
            <p:nvPr/>
          </p:nvSpPr>
          <p:spPr>
            <a:xfrm>
              <a:off x="2057400" y="152280"/>
              <a:ext cx="5181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HAPTER 5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TRUCTURE AND FUNCTION OF MACROMOLECU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3"/>
            <p:cNvSpPr/>
            <p:nvPr/>
          </p:nvSpPr>
          <p:spPr>
            <a:xfrm>
              <a:off x="0" y="647712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ages 96 - 10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5"/>
            <p:cNvSpPr/>
            <p:nvPr/>
          </p:nvSpPr>
          <p:spPr>
            <a:xfrm>
              <a:off x="0" y="0"/>
              <a:ext cx="9144000" cy="15238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00ff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Picture 6" descr=""/>
            <p:cNvPicPr/>
            <p:nvPr/>
          </p:nvPicPr>
          <p:blipFill>
            <a:blip r:embed="rId1"/>
            <a:stretch/>
          </p:blipFill>
          <p:spPr>
            <a:xfrm>
              <a:off x="7729560" y="12600"/>
              <a:ext cx="126216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7" descr=""/>
            <p:cNvPicPr/>
            <p:nvPr/>
          </p:nvPicPr>
          <p:blipFill>
            <a:blip r:embed="rId2"/>
            <a:stretch/>
          </p:blipFill>
          <p:spPr>
            <a:xfrm>
              <a:off x="76320" y="81000"/>
              <a:ext cx="1752480" cy="136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8" descr=""/>
            <p:cNvPicPr/>
            <p:nvPr/>
          </p:nvPicPr>
          <p:blipFill>
            <a:blip r:embed="rId3"/>
            <a:srcRect l="4303" t="21667" r="9999" b="21667"/>
            <a:stretch/>
          </p:blipFill>
          <p:spPr>
            <a:xfrm>
              <a:off x="76320" y="4038480"/>
              <a:ext cx="8991360" cy="2749680"/>
            </a:xfrm>
            <a:prstGeom prst="rect">
              <a:avLst/>
            </a:prstGeom>
            <a:ln w="19080">
              <a:solidFill>
                <a:srgbClr val="ff0000"/>
              </a:solidFill>
              <a:miter/>
            </a:ln>
          </p:spPr>
        </p:pic>
        <p:sp>
          <p:nvSpPr>
            <p:cNvPr id="56" name="Text Box 9"/>
            <p:cNvSpPr/>
            <p:nvPr/>
          </p:nvSpPr>
          <p:spPr>
            <a:xfrm>
              <a:off x="2743200" y="76320"/>
              <a:ext cx="388620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CHAPTER 6</a:t>
              </a:r>
              <a:br>
                <a:rPr sz="2800"/>
              </a:b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 AN INTRODUCTION                                      TO METABOLIS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2"/>
            <p:cNvSpPr/>
            <p:nvPr/>
          </p:nvSpPr>
          <p:spPr>
            <a:xfrm>
              <a:off x="76320" y="1600200"/>
              <a:ext cx="8991360" cy="23623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13"/>
            <p:cNvSpPr/>
            <p:nvPr/>
          </p:nvSpPr>
          <p:spPr>
            <a:xfrm>
              <a:off x="228600" y="1676520"/>
              <a:ext cx="8763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Impact"/>
                </a:rPr>
                <a:t>Section C:</a:t>
              </a:r>
              <a:r>
                <a:rPr b="0" lang="en-US" sz="3600" spc="-1" strike="noStrike">
                  <a:solidFill>
                    <a:srgbClr val="ff0000"/>
                  </a:solidFill>
                  <a:latin typeface="Impact"/>
                </a:rPr>
                <a:t> The Control of Metabolism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14"/>
            <p:cNvSpPr/>
            <p:nvPr/>
          </p:nvSpPr>
          <p:spPr>
            <a:xfrm>
              <a:off x="152280" y="2727360"/>
              <a:ext cx="891540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25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etabolic control often depends on allosteric regulation </a:t>
              </a:r>
              <a:r>
                <a:rPr b="1" lang="ar-EG" sz="1800" spc="-1" strike="noStrike">
                  <a:solidFill>
                    <a:srgbClr val="000000"/>
                  </a:solidFill>
                  <a:latin typeface="Arial"/>
                </a:rPr>
                <a:t>التحكم الجانب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25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 localization of enzymes within a cell helps order metabolis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15"/>
            <p:cNvSpPr/>
            <p:nvPr/>
          </p:nvSpPr>
          <p:spPr>
            <a:xfrm>
              <a:off x="2514600" y="2209680"/>
              <a:ext cx="434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2800" spc="-1" strike="noStrike">
                  <a:solidFill>
                    <a:srgbClr val="000000"/>
                  </a:solidFill>
                  <a:latin typeface="Arial"/>
                  <a:cs typeface="AL-Hosam"/>
                </a:rPr>
                <a:t>التحكم فى الأي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C3089-E6D9-47DD-9235-9E5621A0169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28240" y="799920"/>
            <a:ext cx="6095880" cy="24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many cases, the molecules that naturally regulate enzyme activity behave like reversible noncompetitive inhibit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molecules often bind weakly to a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llosteric si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which is a specific receptor on the enzyme that is not the active s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molecules can either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nhibi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stimul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nzyme activ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3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Metabolic control often depends o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llosteric reg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5"/>
          <p:cNvSpPr/>
          <p:nvPr/>
        </p:nvSpPr>
        <p:spPr>
          <a:xfrm>
            <a:off x="152280" y="6094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228600" y="3365640"/>
            <a:ext cx="4800600" cy="33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1)- Allosteric Regulation: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تنظيم الألوستير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t allosterically regulated enzymes are constructed 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wo or more polypeptide chai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subunit has its ow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ct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te.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allosteric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ite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re often located where subunits are join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whole protein exists in two conformational shapes, one i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ct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one i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act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"/>
          <p:cNvPicPr/>
          <p:nvPr/>
        </p:nvPicPr>
        <p:blipFill>
          <a:blip r:embed="rId1"/>
          <a:srcRect l="0" t="0" r="50012" b="7026"/>
          <a:stretch/>
        </p:blipFill>
        <p:spPr>
          <a:xfrm>
            <a:off x="5029200" y="3200400"/>
            <a:ext cx="4038480" cy="305604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8"/>
          <p:cNvSpPr/>
          <p:nvPr/>
        </p:nvSpPr>
        <p:spPr>
          <a:xfrm>
            <a:off x="5185800" y="6485040"/>
            <a:ext cx="1561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6.18a, page 10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13"/>
          <p:cNvGrpSpPr/>
          <p:nvPr/>
        </p:nvGrpSpPr>
        <p:grpSpPr>
          <a:xfrm>
            <a:off x="6172200" y="685800"/>
            <a:ext cx="2971800" cy="1828800"/>
            <a:chOff x="6172200" y="685800"/>
            <a:chExt cx="2971800" cy="1828800"/>
          </a:xfrm>
        </p:grpSpPr>
        <p:pic>
          <p:nvPicPr>
            <p:cNvPr id="69" name="Picture 9" descr=""/>
            <p:cNvPicPr/>
            <p:nvPr/>
          </p:nvPicPr>
          <p:blipFill>
            <a:blip r:embed="rId2"/>
            <a:srcRect l="0" t="0" r="0" b="68252"/>
            <a:stretch/>
          </p:blipFill>
          <p:spPr>
            <a:xfrm>
              <a:off x="6172200" y="685800"/>
              <a:ext cx="297180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0" name="Group 12"/>
            <p:cNvGrpSpPr/>
            <p:nvPr/>
          </p:nvGrpSpPr>
          <p:grpSpPr>
            <a:xfrm>
              <a:off x="6616800" y="1333440"/>
              <a:ext cx="1396440" cy="914400"/>
              <a:chOff x="6616800" y="1333440"/>
              <a:chExt cx="1396440" cy="914400"/>
            </a:xfrm>
          </p:grpSpPr>
          <p:sp>
            <p:nvSpPr>
              <p:cNvPr id="71" name="Text Box 10"/>
              <p:cNvSpPr/>
              <p:nvPr/>
            </p:nvSpPr>
            <p:spPr>
              <a:xfrm>
                <a:off x="6616800" y="1333440"/>
                <a:ext cx="990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cc"/>
                    </a:solidFill>
                    <a:latin typeface="Arial"/>
                  </a:rPr>
                  <a:t>Allosteric sit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Line 11"/>
              <p:cNvSpPr/>
              <p:nvPr/>
            </p:nvSpPr>
            <p:spPr>
              <a:xfrm>
                <a:off x="7099200" y="1638360"/>
                <a:ext cx="91404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D771A-AE11-4DF3-8B97-042F894A933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04920" y="320400"/>
            <a:ext cx="449568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)- Allosteric activators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نشطات</a:t>
            </a:r>
            <a:r>
              <a:rPr b="1" lang="ar-EG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abilizes the conformation that has a functional active 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)- Allosteric inhibitors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ثبطات</a:t>
            </a:r>
            <a:r>
              <a:rPr b="1" lang="ar-EG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abilizes the conformation that lacks an active 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4680" y="6561000"/>
            <a:ext cx="1579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6.18b, Page 10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1"/>
          <a:srcRect l="49993" t="0" r="0" b="4986"/>
          <a:stretch/>
        </p:blipFill>
        <p:spPr>
          <a:xfrm>
            <a:off x="4876920" y="76320"/>
            <a:ext cx="4267080" cy="306864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6"/>
          <p:cNvSpPr/>
          <p:nvPr/>
        </p:nvSpPr>
        <p:spPr>
          <a:xfrm>
            <a:off x="76320" y="3352680"/>
            <a:ext cx="8915400" cy="27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many cases, both inhibitors and activators are similar enough in shape that they compete for the same allosteric si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molecules may be products and substrates of a metabolic pathw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example, some catabolic pathways have allosteric sites that are inhibited when ATP binds, but activated when AMP (adenosine monophosphate) bi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n ATP levels are low, AMP levels are high, and the pathway is turned on until ATP levels rise, AMP levels fall and inhibition by ATP occu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1B568-5101-4074-AF53-1C8A57A44E6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04920" y="191880"/>
            <a:ext cx="4114800" cy="66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C)- Feedback inhibi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التثبيط</a:t>
            </a:r>
            <a:r>
              <a:rPr b="1" lang="ar-EG" sz="24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بالأثر الراجعى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one of the common methods of metabolic control in which a metabolic pathway is turned off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توق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its end produc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ناتج النهائ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Arial"/>
              </a:rPr>
              <a:t>Example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roduction of </a:t>
            </a:r>
            <a:r>
              <a:rPr b="1" lang="en-US" sz="2000" spc="-1" strike="noStrike">
                <a:solidFill>
                  <a:srgbClr val="cc0099"/>
                </a:solidFill>
                <a:latin typeface="Arial"/>
              </a:rPr>
              <a:t>Isoleuc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1" lang="en-US" sz="2000" spc="-1" strike="noStrike">
                <a:solidFill>
                  <a:srgbClr val="cc0099"/>
                </a:solidFill>
                <a:latin typeface="Arial"/>
              </a:rPr>
              <a:t>Thereon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1" lang="en-US" sz="2000" spc="-1" strike="noStrike">
                <a:solidFill>
                  <a:srgbClr val="cc0099"/>
                </a:solidFill>
                <a:latin typeface="Arial"/>
              </a:rPr>
              <a:t>Thereonine deamina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nd product acts as an inhibitor of an enzyme in the pathw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the product is abundan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توف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pathway is turned off, when rar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قلي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athway is ac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rcRect l="0" t="0" r="0" b="3572"/>
          <a:stretch/>
        </p:blipFill>
        <p:spPr>
          <a:xfrm>
            <a:off x="4343400" y="0"/>
            <a:ext cx="4800600" cy="632448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5"/>
          <p:cNvSpPr/>
          <p:nvPr/>
        </p:nvSpPr>
        <p:spPr>
          <a:xfrm>
            <a:off x="6888600" y="6477120"/>
            <a:ext cx="11088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6.19, 10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DC897-9183-48DE-98A0-4787AE7076A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52280" y="304560"/>
            <a:ext cx="8382240" cy="57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cc"/>
                </a:solidFill>
                <a:uFillTx/>
                <a:latin typeface="Arial"/>
              </a:rPr>
              <a:t>2)- Cooperativity regulation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تنظيم</a:t>
            </a:r>
            <a:r>
              <a:rPr b="0" lang="ar-EG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تضامن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occurs In enzymes with                                              multiple catalytic subunits,                                                  binding by a substrate to                                                     </a:t>
            </a:r>
            <a:r>
              <a:rPr b="1" lang="en-US" sz="2400" spc="-1" strike="noStrike" u="sng">
                <a:solidFill>
                  <a:srgbClr val="3333ff"/>
                </a:solidFill>
                <a:uFillTx/>
                <a:latin typeface="Arial"/>
              </a:rPr>
              <a:t>one active si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abilizes                                                favorable conformational                                                     changes at all other                                                       subunits, a process called                                           cooperativity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تضامن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mechanism amplifie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ـُزي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spons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ستجاب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enzymes to substrates, making the enzyme to accept additional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إضاف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strates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4320" y="6567480"/>
            <a:ext cx="1488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6.20, Page 10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rcRect l="0" t="0" r="0" b="6338"/>
          <a:stretch/>
        </p:blipFill>
        <p:spPr>
          <a:xfrm>
            <a:off x="4572000" y="1197000"/>
            <a:ext cx="4572000" cy="32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7564E-9FD2-45F3-B3CC-0F8A7973553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76320" y="1235160"/>
            <a:ext cx="8991360" cy="461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enzymes and enzyme complexes have fixed location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وضع ثاب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in the cells as structural components of particular membra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hers are confined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in membrane-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closed eukaryotic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ganelles (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lysosom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                                                                          mitochondr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th method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centrat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zymes for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fficienc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لزيادة الفبعل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6537240"/>
            <a:ext cx="190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6.21, Page 10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localization of enzymes within a cell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وضع الإنزيمات بالخل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lps order metabolism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نظيم الأي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7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rcRect l="0" t="0" r="0" b="3000"/>
          <a:stretch/>
        </p:blipFill>
        <p:spPr>
          <a:xfrm>
            <a:off x="4162320" y="1981080"/>
            <a:ext cx="430236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E1482-8BFF-4B55-87B7-2437FACF740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0556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control of metabolism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nzyme activity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7772400" y="64008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ge 1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152280" y="169056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1)-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Allosteric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Regulatio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304920" y="112716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The cell is controlling its metabolism by regulating enzyme activi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380880" y="2209680"/>
            <a:ext cx="815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ulatory molecules that bind weakly to an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losteric sit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of the enzyme (</a:t>
            </a:r>
            <a:r>
              <a:rPr b="1" lang="en-GB" sz="1800" spc="-1" strike="noStrike" u="sng">
                <a:solidFill>
                  <a:srgbClr val="ff0000"/>
                </a:solidFill>
                <a:uFillTx/>
                <a:latin typeface="Arial"/>
              </a:rPr>
              <a:t>Allosteric Enzyme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 in order to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inhibi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stimulat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he enzyme activity (see Fig 6.18 carefull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990720" y="329076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)- Allosteric activat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990720" y="374796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)- Allosteric inhib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9"/>
          <p:cNvSpPr/>
          <p:nvPr/>
        </p:nvSpPr>
        <p:spPr>
          <a:xfrm>
            <a:off x="152280" y="8380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990720" y="42814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)- Feedback inhibi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152280" y="48769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33cc"/>
                </a:solidFill>
                <a:uFillTx/>
                <a:latin typeface="Arial"/>
              </a:rPr>
              <a:t>2- Cooperativi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609480" y="54100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bilizes  favorable conformational changes at all other                                                       subunits to make enzyme more effici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19:43:05Z</dcterms:created>
  <dc:creator>User</dc:creator>
  <dc:description/>
  <dc:language>en-US</dc:language>
  <cp:lastModifiedBy>Ahmed</cp:lastModifiedBy>
  <dcterms:modified xsi:type="dcterms:W3CDTF">2009-03-03T12:20:22Z</dcterms:modified>
  <cp:revision>4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