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971-88DF-44F4-A560-F63B4FE113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art of a euglena used for storag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entral organelle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ractile vacuo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avity of the euglena that is able to contrac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llic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membrane that envelops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lorop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organelle of the euglena responsible for photosynthesi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ol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pherical body that contains the nucleus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g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ight-sensitive part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agell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ong, mobile filament used by the euglena for loco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AED-9129-4D36-9A9B-849A799AC1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79F-C83C-41D3-876F-271CD78D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B14-F5F5-4A3E-8099-029E989E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7CD-EB37-4748-B6B1-BC40C7C3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ACB-707C-41B2-986D-71205DBD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197-496D-4616-8C5F-48CE04D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4F2-B6D9-4D15-A333-68A88C43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79B-0509-4D65-8B32-ED86BDE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276-95DF-48AB-8685-AB83E5B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9FB-60E7-448B-801C-F04E06B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36A-CD5D-4C0F-B285-5A0F6E2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B3-6740-4819-8BB3-297E875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823-0C9D-4D1A-8E0B-A9BFD86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125-1B94-471E-871F-C788B47822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Ka6aVZ-6bQ1ATM&amp;tbnid=IFCKeaEL9Zn_uM:&amp;ved=0CAUQjRw&amp;url=http%3A%2F%2Fohscience.tumblr.com%2Fpost%2F4462833122&amp;ei=GThlUpDeJ-X30gWixoGQBg&amp;psig=AFQjCNEwfb2IMf8iGoyF2fGMHbRiEVj98Q&amp;ust=138245156169724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3773160"/>
            <a:ext cx="8645400" cy="2865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 mostly in fresh wa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nicell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utotrophs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hoto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when there is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re is no light = no photosynthesis they can b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heterotroph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ingest fo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ell wall 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ellic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up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ike animals, i.e ar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moti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flagell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tore their foods as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aramylon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ype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olysacchar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50920" y="1189080"/>
            <a:ext cx="8645400" cy="25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حالب اليوجيلينية معظمها توجد في المياه العذ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وحيدة الخ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ذاتي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وجود الضوء فقط  وتقوم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عملية البناء الضوئ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عندما لا يوجد الضوء لا تقوم بعملية البناء الضوئي وتصبح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متغاير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يث يمكنها أبتلاع الغذ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 تحتوي على جدر خلوية , وأنم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طبقة رقيق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تكون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بروت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شبة الحيوانات من ناح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أمتلاكه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أسو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خزن غذائها على هيئ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اراميلون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و نوع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سكريات الع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1547640" y="1197000"/>
            <a:ext cx="6553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97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حالب العصوية (الداياتومات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0280" y="3609720"/>
            <a:ext cx="8229600" cy="324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Unicellula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sms of different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il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Autotro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 can live in marine or freshwater environ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chlorophyll as well as pigmen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carotenoi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 shel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mble small boxes with lids. These shells are covered with grooves and pores, giving them a decorated appear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reproduce asexuall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halves of the shell separate, each producing a new shell that fits inside the original half.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w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generation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produces offspring that are smaller than the par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point, the diatom produces gametes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male/fema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hat fuse with gametes from other diatoms to produce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zygot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exual reprodu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atoms die, their shells form deposi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diatomaceous 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store their foods a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oi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leu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620640"/>
            <a:ext cx="8212320" cy="3503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هي كائن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وحيدة الخلي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لها  أشكال مختلف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جدر الخلوية فيها تحتوي عل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سيليك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ذاتية التغذية </a:t>
            </a:r>
            <a:r>
              <a:rPr b="0" lang="en-US" sz="1400" spc="-1" strike="noStrike" u="sng">
                <a:solidFill>
                  <a:srgbClr val="558ed5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ها العيش في المياة البحرية أو المياه العذب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نها تحتوي على الكلوروفيل، كما أنها تحتوي أصباغ أخرى تسم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كاروتينا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التي تعطيها اللون الأصفر البرتقال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قشرتها تشبه المربعات الصغيرة مع وجود أغطية. تغطي هذه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قشور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بأخاديد ومسامات  مما يعطيها مظهر جمي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تكاثر لا جنسياَ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حيث كل نصفين من الدياتومة ينفصلوا عن بعض ويكونوا دايوتوم جديد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كل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جيل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من الأجيال الجديدة تنتج ذرية أصغر من الأصل (جيل الآباء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عند هذه النقطة، الدياتوم تنتج الأمشاج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مذكرة/مؤنث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 التي تلتحم مع الأمشاج من الدياتومات الأخرى لإنتاج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اقحة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تكاثر الجنس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. اللاقحة تنمو لتصبح دياتومات بالحجم الكامل الذي يمكن أن يبدأ مرة أخرى بالتكاثراللاجنس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عندما تموت الدياتومات، تشكل قشور الرواسب التي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سمى الارض الداياتوم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 جمع هذه الرواسب وأستخدامها  كمادة تضاف إلى الدهانات لتعطيها التأل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تخزن غذائها على هيئة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زيو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وكوز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أشكال الدياتومات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25.media.tumblr.com/tumblr_ljbaujkync1qhyly2o1_12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341360"/>
            <a:ext cx="5472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wi.de/fileadmin/user_upload/News/Press_Releases/2005/2._Quarter/Hustedt3_p.jpg"/>
          <p:cNvPicPr/>
          <p:nvPr/>
        </p:nvPicPr>
        <p:blipFill>
          <a:blip r:embed="rId1"/>
          <a:stretch/>
        </p:blipFill>
        <p:spPr>
          <a:xfrm>
            <a:off x="1692360" y="1125360"/>
            <a:ext cx="58323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Naiyf Alharbi</cp:lastModifiedBy>
  <dcterms:modified xsi:type="dcterms:W3CDTF">2014-04-05T11:29:31Z</dcterms:modified>
  <cp:revision>18</cp:revision>
  <dc:subject/>
  <dc:title>Euglenophyta (Euglenoids)</dc:title>
</cp:coreProperties>
</file>