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34B0-09E6-4884-AAB8-BAC8E157E04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ervo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part of a euglena used for storage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central organelle of a euglena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ractile vacuo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cavity of the euglena that is able to contract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ellic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membrane that envelops a euglena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lorop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organelle of the euglena responsible for photosynthesi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ucleol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spherical body that contains the nucleus of a euglena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ig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light-sensitive part of a euglena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lagell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long, mobile filament used by the euglena for locomo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432D-A6CA-4FD2-9F3D-D4B1054D3BD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D06-1DC4-489F-86CF-C439656A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C96-7DFA-4E24-BE17-F462C48F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011-3D35-4482-9A37-CE44CCEB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091-87FB-4EDB-9006-ED329244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E6D-477E-4C2A-A6D7-E73C3C24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395-4223-4D74-BE68-0085BCD1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BD0C-002A-4562-A261-23EC2CDF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0DC-64AC-4786-A230-B8DAB728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EEF-5D7E-4A3C-A30C-1495195C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BBE-8AD2-4111-8F2A-31855A2D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366-20E7-4659-899C-9865EC71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561-77B5-4999-82B2-B144CD0A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24D6-3DD0-42FE-A216-ABA51B7F4AF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frm=1&amp;source=images&amp;cd=&amp;cad=rja&amp;docid=Ka6aVZ-6bQ1ATM&amp;tbnid=IFCKeaEL9Zn_uM:&amp;ved=0CAUQjRw&amp;url=http%3A%2F%2Fohscience.tumblr.com%2Fpost%2F4462833122&amp;ei=GThlUpDeJ-X30gWixoGQBg&amp;psig=AFQjCNEwfb2IMf8iGoyF2fGMHbRiEVj98Q&amp;ust=138245156169724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19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طحالب اليوجيلينية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uglenophyta (Euglenoids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560" y="3773160"/>
            <a:ext cx="8645400" cy="2865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nd mostly in fresh wa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Unicell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Autotrophs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hotosynthe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,when there is l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there is no light = no photosynthesis they can be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heterotroph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can ingest foo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cell wall =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ellicle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de up of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like animals, i.e are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motile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ing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flagellu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store their foods as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aramylon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type of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olysaccharid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250920" y="1189080"/>
            <a:ext cx="8645400" cy="2533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طحالب اليوجيلينية معظمها توجد في المياه العذب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وحيدة الخ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ذاتية التغذي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في وجود الضوء فقط  وتقوم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بعملية البناء الضوئي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عندما لا يوجد الضوء لا تقوم بعملية البناء الضوئي وتصبح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متغايرة التغذي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حيث يمكنها أبتلاع الغذ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لا تحتوي على جدر خلوية , وأنما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طبقة رقيق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تكون من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البروتي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شبة الحيوانات من ناحية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الحركة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وأمتلاكها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أسوا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خزن غذائها على هيئية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باراميلون</a:t>
            </a:r>
            <a:r>
              <a:rPr b="0" lang="ar-SA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هو نوع من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السكريات العديد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ugl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rcRect l="34848" t="21467" r="13382" b="16975"/>
          <a:stretch/>
        </p:blipFill>
        <p:spPr>
          <a:xfrm>
            <a:off x="1547640" y="1197000"/>
            <a:ext cx="655344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9760" y="1155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طحالب العصوية (الداياتومات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cillariophyta (Diatoms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0280" y="3609720"/>
            <a:ext cx="8229600" cy="3243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30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Unicellula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sms of different fo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silic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 their cell wa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Autotro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 can live in marine or freshwater environ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chlorophyll as well as pigments called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carotenoid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which give them an orange-yellow colou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 shel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mble small boxes with lids. These shells are covered with grooves and pores, giving them a decorated appeara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toms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reproduce asexually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halves of the shell separate, each producing a new shell that fits inside the original half.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ew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generation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, produces offspring that are smaller than the par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is point, the diatom produces gametes (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male/fema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that fuse with gametes from other diatoms to produce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zygot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sexual reprodu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. The zygotes develop into full sized diatoms that can begin asexual reproduction once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atoms die, their shells form deposits called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diatomaceous ear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posits can be collected and used  as an additive to give certain paints their spark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toms store their foods as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oi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leuc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39640" y="620640"/>
            <a:ext cx="8212320" cy="3503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هي كائنات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وحيدة الخلي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ولها  أشكال مختلفة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جدر الخلوية فيها تحتوي على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السيليكا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ذاتية التغذية </a:t>
            </a:r>
            <a:r>
              <a:rPr b="0" lang="en-US" sz="1400" spc="-1" strike="noStrike" u="sng">
                <a:solidFill>
                  <a:srgbClr val="558ed5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مكنها العيش في المياة البحرية أو المياه العذبة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أنها تحتوي على الكلوروفيل، كما أنها تحتوي أصباغ أخرى تسمى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الكاروتينا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، التي تعطيها اللون الأصفر البرتقالي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قشرتها تشبه المربعات الصغيرة مع وجود أغطية. تغطي هذه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القشور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بأخاديد ومسامات  مما يعطيها مظهر جمي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دياتومات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تتكاثر لا جنسياَ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، حيث كل نصفين من الدياتومة ينفصلوا عن بعض ويكونوا دايوتوم جديد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كل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جيل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من الأجيال الجديدة تنتج ذرية أصغر من الأصل (جيل الآباء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عند هذه النقطة، الدياتوم تنتج الأمشاج (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مذكرة/مؤنث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) التي تلتحم مع الأمشاج من الدياتومات الأخرى لإنتاج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لاقحة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التكاثر الجنسي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). اللاقحة تنمو لتصبح دياتومات بالحجم الكامل الذي يمكن أن يبدأ مرة أخرى بالتكاثراللاجنسي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عندما تموت الدياتومات، تشكل قشور الرواسب التي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تسمى الارض الداياتومي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مكن جمع هذه الرواسب وأستخدامها  كمادة تضاف إلى الدهانات لتعطيها التأل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دياتومات تخزن غذائها على هيئة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زيو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لوكوزي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أشكال الدياتومات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s of diato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17170" t="29358" r="27271" b="21714"/>
          <a:stretch/>
        </p:blipFill>
        <p:spPr>
          <a:xfrm>
            <a:off x="1285920" y="1571760"/>
            <a:ext cx="64389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25.media.tumblr.com/tumblr_ljbaujkync1qhyly2o1_128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341360"/>
            <a:ext cx="54720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awi.de/fileadmin/user_upload/News/Press_Releases/2005/2._Quarter/Hustedt3_p.jpg"/>
          <p:cNvPicPr/>
          <p:nvPr/>
        </p:nvPicPr>
        <p:blipFill>
          <a:blip r:embed="rId1"/>
          <a:stretch/>
        </p:blipFill>
        <p:spPr>
          <a:xfrm>
            <a:off x="1692360" y="1125360"/>
            <a:ext cx="583236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07:47:24Z</dcterms:created>
  <dc:creator>DELL</dc:creator>
  <dc:description/>
  <dc:language>en-US</dc:language>
  <cp:lastModifiedBy>Naiyf Alharbi</cp:lastModifiedBy>
  <dcterms:modified xsi:type="dcterms:W3CDTF">2014-04-05T11:29:31Z</dcterms:modified>
  <cp:revision>18</cp:revision>
  <dc:subject/>
  <dc:title>Euglenophyta (Euglenoids)</dc:title>
</cp:coreProperties>
</file>