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44D-CDBC-49BC-9610-06E8A967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497-47C3-4F4E-8DBD-9EE839F5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FD9-D39B-44E5-83FE-C3A485AF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C38-F25F-442B-8DA9-F7605BE0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08E-6108-4134-8AD3-9FEDDA7D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DE4-43A0-4A27-BDD1-CA1799D4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037-8BF9-463F-A531-96DFBE0B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87C-E587-496C-9EA0-D57E36C9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C83-E941-4BAD-B9E2-B38C8D8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C7B-96AC-485D-BA0C-3A476F5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850-C03C-41C2-9D74-355195F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450-F594-4C66-B20B-09D783C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5DE0-70EE-460B-90EF-B68B8621C8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FC3D-F502-4A52-BDD2-E76843AB42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905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tion B: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E81C-2A3E-4DB4-9A2E-769637155C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04920" y="4168800"/>
            <a:ext cx="86104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6749-EC47-412C-9540-5005089212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77676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a chemical agent that accelerate the reaction without being consumed by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t is the minimum amount of energy needed  to start a reaction. It is the amount of energy needed for the reaction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6700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0E56-B942-45F9-9DE2-6B70D7DEC9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57200" y="55627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1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5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3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6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User</cp:lastModifiedBy>
  <dcterms:modified xsi:type="dcterms:W3CDTF">2014-01-03T17:27:32Z</dcterms:modified>
  <cp:revision>239</cp:revision>
  <dc:subject/>
  <dc:title>Enzymes</dc:title>
</cp:coreProperties>
</file>