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FA54-CA16-42CF-AA80-9626AD591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0B88-074D-401A-B618-B3A144678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F3F1-4404-49BF-A088-5614FDC8D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ED8B-A757-45D3-83B9-C0E41285F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EE81-CAB3-4E3B-A12A-FB76DC4D5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ECC1-A541-4058-BAD7-99ED836FB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A204-CC86-4C8A-94AA-CB6D662D9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9069-BF48-4B55-825E-2A0223F3F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CB04-4A29-4D77-8929-548D2C708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6893-C935-47EA-8FF9-9108846FB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373B-08E3-45A7-91D7-97F4C601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2036-847B-4923-A72D-D57931763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6FDE5-A5A5-4B8B-B015-8F824CC4CBA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C3AA2-2A31-4F59-805D-150CB418FAA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1"/>
          <p:cNvSpPr/>
          <p:nvPr/>
        </p:nvSpPr>
        <p:spPr>
          <a:xfrm>
            <a:off x="0" y="6477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ges 96 - 1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7729560" y="12600"/>
            <a:ext cx="1262160" cy="1600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"/>
          <p:cNvPicPr/>
          <p:nvPr/>
        </p:nvPicPr>
        <p:blipFill>
          <a:blip r:embed="rId2"/>
          <a:srcRect l="4303" t="21667" r="9999" b="21667"/>
          <a:stretch/>
        </p:blipFill>
        <p:spPr>
          <a:xfrm>
            <a:off x="76320" y="4038480"/>
            <a:ext cx="8991360" cy="274968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sp>
        <p:nvSpPr>
          <p:cNvPr id="46" name="Text Box 13"/>
          <p:cNvSpPr/>
          <p:nvPr/>
        </p:nvSpPr>
        <p:spPr>
          <a:xfrm>
            <a:off x="2743200" y="272880"/>
            <a:ext cx="3886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INTRODUCTION                                      TO METABO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228600" y="16002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Enzy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5"/>
          <p:cNvSpPr/>
          <p:nvPr/>
        </p:nvSpPr>
        <p:spPr>
          <a:xfrm>
            <a:off x="228600" y="2209680"/>
            <a:ext cx="8763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zymes speed up metabolic reactions by lowering energy barri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zymes are substrate specif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  The active site is an enzyme’s catalytic cen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  A cell’s physical and chemical environment affects enzyme activ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76320" y="1600200"/>
            <a:ext cx="8991360" cy="23623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3809880" y="4237200"/>
            <a:ext cx="259092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ENZYMES: </a:t>
            </a:r>
            <a:br>
              <a:rPr sz="1400"/>
            </a:b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 protein with catalytic properties due to its power of specific acti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9" descr=""/>
          <p:cNvPicPr/>
          <p:nvPr/>
        </p:nvPicPr>
        <p:blipFill>
          <a:blip r:embed="rId3"/>
          <a:srcRect l="18600" t="8056" r="4040" b="0"/>
          <a:stretch/>
        </p:blipFill>
        <p:spPr>
          <a:xfrm>
            <a:off x="19080" y="28440"/>
            <a:ext cx="1292040" cy="14194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4"/>
          <p:cNvSpPr/>
          <p:nvPr/>
        </p:nvSpPr>
        <p:spPr>
          <a:xfrm>
            <a:off x="304920" y="12193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- The substrate binds to the active site of enzy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380880" y="1905120"/>
            <a:ext cx="861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- This forms an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Enzyme-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Substrat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omplex (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via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ak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hydrogen bond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380880" y="295596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- The active site catalyses the conversion of the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substrate to final products 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iginal component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 by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breaking bon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380880" y="42670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- The resulting products release from the enzy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380880" y="48769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5- The enzyme starts another reaction over and over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380880" y="54864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6- Thus, the enzyme can have a huge metabolic effect in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the catalytic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1066680" y="15228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Catalytic Cycle of Enzy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76320" y="511200"/>
            <a:ext cx="8991360" cy="55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single enzyme molecule can catalyze thousands or more reactions a seco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zymes are unaffected by the reaction and are reusabl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ـُعاد استخدامه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metabolic enzym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إنزيمات الأيض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catalyze a reaction in both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orwar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ver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ir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ctual direction depends on the relative concentrations of products and reacta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zymes catalyze reactions in the direction of equilibrium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عاد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zymes lower activation energy and speed a re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ate that a specific number of enzymes converts substrates to products depends in part on substrate concentr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some substrate concentrations, the active sites on all enzymes are engage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شغول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called enzyme satura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شبع الإنزيم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0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043BE-EF2E-4455-95A5-A8F252F1B9E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" descr=""/>
          <p:cNvPicPr/>
          <p:nvPr/>
        </p:nvPicPr>
        <p:blipFill>
          <a:blip r:embed="rId1"/>
          <a:srcRect l="0" t="0" r="0" b="51124"/>
          <a:stretch/>
        </p:blipFill>
        <p:spPr>
          <a:xfrm>
            <a:off x="4724280" y="2971800"/>
            <a:ext cx="4419720" cy="335268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228600" y="1294920"/>
            <a:ext cx="8686800" cy="16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nges in shape of the enzyme molecule  influence the reaction r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conditions lead to the most active conformation and lead to optimal rate of reaction. These factors are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990720" y="2282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A)-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ellular factors affecting enzym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76320" y="2895480"/>
            <a:ext cx="4876560" cy="33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emperatur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s a major impact on reaction r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 temperature increases, reaction between substrate and active sites occur fas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owever, at some point thermal increase begins to denature the enzy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ach enzyme has an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optimal temperatu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درجة حرارة مُثل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1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304920" y="4168800"/>
            <a:ext cx="861048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3. Cofacto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عوامل المساعد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non-protein helpers for catalytic activity of enzymes. They bind permanently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دائم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the enzyme and include two types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a)- Inorgani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cofactors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clud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zinc, iron, and copp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)- Organic cofacto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includ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vitami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r molecules derive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from vitamins.(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enzy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04560" y="609480"/>
            <a:ext cx="838188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2. p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lso influences the reaction rate, each enzyme has an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optimal p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alls between pH 6 - 8 for most enzy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ever, digestive enzymes in the                                               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oma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re designed to work best                                                              at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H 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hile those in 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test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are optimal at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H 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both matching                                                                    their working environ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rcRect l="3702" t="50129" r="3702" b="8220"/>
          <a:stretch/>
        </p:blipFill>
        <p:spPr>
          <a:xfrm>
            <a:off x="4952880" y="2057400"/>
            <a:ext cx="381024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B33AB-D12B-4A2D-9325-7A0BB2054C1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-360" y="2330280"/>
            <a:ext cx="8534520" cy="6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Competitive inhibitio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ثبيط تنافس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the inhibitor binds to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 same site as the substr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thus prevent the enzymatic rea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rcRect l="0" t="0" r="0" b="68252"/>
          <a:stretch/>
        </p:blipFill>
        <p:spPr>
          <a:xfrm>
            <a:off x="152280" y="2895480"/>
            <a:ext cx="4419720" cy="1981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"/>
          <p:cNvPicPr/>
          <p:nvPr/>
        </p:nvPicPr>
        <p:blipFill>
          <a:blip r:embed="rId2"/>
          <a:srcRect l="0" t="31754" r="0" b="37468"/>
          <a:stretch/>
        </p:blipFill>
        <p:spPr>
          <a:xfrm>
            <a:off x="4572000" y="2955960"/>
            <a:ext cx="4419720" cy="192096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7"/>
          <p:cNvSpPr/>
          <p:nvPr/>
        </p:nvSpPr>
        <p:spPr>
          <a:xfrm>
            <a:off x="1828800" y="30492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)- Enzyme inhibitors: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مُـثـبِّطات الإنزيم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9" descr=""/>
          <p:cNvPicPr/>
          <p:nvPr/>
        </p:nvPicPr>
        <p:blipFill>
          <a:blip r:embed="rId3"/>
          <a:srcRect l="0" t="62690" r="0" b="3118"/>
          <a:stretch/>
        </p:blipFill>
        <p:spPr>
          <a:xfrm>
            <a:off x="4952880" y="4834080"/>
            <a:ext cx="4038840" cy="1947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10"/>
          <p:cNvSpPr/>
          <p:nvPr/>
        </p:nvSpPr>
        <p:spPr>
          <a:xfrm>
            <a:off x="228600" y="5165640"/>
            <a:ext cx="472428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Non</a:t>
            </a:r>
            <a:r>
              <a:rPr b="1" lang="ar-EG" sz="1800" spc="-1" strike="noStrike" u="sng">
                <a:solidFill>
                  <a:srgbClr val="ff0000"/>
                </a:solidFill>
                <a:uFillTx/>
                <a:latin typeface="Arial"/>
              </a:rPr>
              <a:t>-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competitive inhibitio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ثبيط لا تنافس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inhibitor binds somewhere other than the active site,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sulting in changing enzyme shape. Finally, deactivat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ـُخمد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active s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2"/>
          <p:cNvSpPr/>
          <p:nvPr/>
        </p:nvSpPr>
        <p:spPr>
          <a:xfrm>
            <a:off x="380880" y="1219320"/>
            <a:ext cx="86108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hibitors are chemicals that reduce the rate of enzymic reac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are usually specific and they work at low concentr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y block the enzyme but they do not usually destroy i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ny drugs and poisons are inhibitors of enzymes in the nervous system.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4" descr=""/>
          <p:cNvPicPr/>
          <p:nvPr/>
        </p:nvPicPr>
        <p:blipFill>
          <a:blip r:embed="rId4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10"/>
          <p:cNvSpPr/>
          <p:nvPr/>
        </p:nvSpPr>
        <p:spPr>
          <a:xfrm>
            <a:off x="304920" y="144792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The insecticide </a:t>
            </a: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DDT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 is inhibitor for key enzymes of nervous system in insects results in dea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304920" y="2590920"/>
            <a:ext cx="853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Many antibiotics (e.g. </a:t>
            </a: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Penicillin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) inhibits enzymes that help bacteria to make their cell wa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2"/>
          <p:cNvSpPr/>
          <p:nvPr/>
        </p:nvSpPr>
        <p:spPr>
          <a:xfrm>
            <a:off x="1143000" y="5410080"/>
            <a:ext cx="66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Impact"/>
              </a:rPr>
              <a:t>Activation and inhibition of enzymes are essential for metabolic contr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5"/>
          <p:cNvSpPr/>
          <p:nvPr/>
        </p:nvSpPr>
        <p:spPr>
          <a:xfrm>
            <a:off x="1523880" y="30492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ome benefits of enzyme inhibi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4"/>
          <p:cNvSpPr/>
          <p:nvPr/>
        </p:nvSpPr>
        <p:spPr>
          <a:xfrm>
            <a:off x="457200" y="47242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 the next lecture we will see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240" y="274680"/>
            <a:ext cx="6553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Hydrolysis of sucrose 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ble sugar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990720" y="13096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lucose + Fruct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"/>
          <p:cNvGrpSpPr/>
          <p:nvPr/>
        </p:nvGrpSpPr>
        <p:grpSpPr>
          <a:xfrm>
            <a:off x="3809880" y="1066680"/>
            <a:ext cx="4267440" cy="667080"/>
            <a:chOff x="3809880" y="1066680"/>
            <a:chExt cx="4267440" cy="667080"/>
          </a:xfrm>
        </p:grpSpPr>
        <p:sp>
          <p:nvSpPr>
            <p:cNvPr id="55" name="Text Box 7"/>
            <p:cNvSpPr/>
            <p:nvPr/>
          </p:nvSpPr>
          <p:spPr>
            <a:xfrm>
              <a:off x="6705720" y="133488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Sucro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Group 19"/>
            <p:cNvGrpSpPr/>
            <p:nvPr/>
          </p:nvGrpSpPr>
          <p:grpSpPr>
            <a:xfrm>
              <a:off x="3809880" y="1066680"/>
              <a:ext cx="2743200" cy="623880"/>
              <a:chOff x="3809880" y="1066680"/>
              <a:chExt cx="2743200" cy="623880"/>
            </a:xfrm>
          </p:grpSpPr>
          <p:sp>
            <p:nvSpPr>
              <p:cNvPr id="57" name="AutoShape 6"/>
              <p:cNvSpPr/>
              <p:nvPr/>
            </p:nvSpPr>
            <p:spPr>
              <a:xfrm>
                <a:off x="3809880" y="1385640"/>
                <a:ext cx="2743200" cy="304920"/>
              </a:xfrm>
              <a:prstGeom prst="rightArrow">
                <a:avLst>
                  <a:gd name="adj1" fmla="val 50000"/>
                  <a:gd name="adj2" fmla="val 224911"/>
                </a:avLst>
              </a:prstGeom>
              <a:solidFill>
                <a:srgbClr val="ff0000"/>
              </a:solidFill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Text Box 8"/>
              <p:cNvSpPr/>
              <p:nvPr/>
            </p:nvSpPr>
            <p:spPr>
              <a:xfrm>
                <a:off x="4191120" y="1066680"/>
                <a:ext cx="1600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ff"/>
                    </a:solidFill>
                    <a:latin typeface="Arial"/>
                  </a:rPr>
                  <a:t>Dehydr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21"/>
          <p:cNvGrpSpPr/>
          <p:nvPr/>
        </p:nvGrpSpPr>
        <p:grpSpPr>
          <a:xfrm>
            <a:off x="3733920" y="1523880"/>
            <a:ext cx="4266720" cy="1892160"/>
            <a:chOff x="3733920" y="1523880"/>
            <a:chExt cx="4266720" cy="1892160"/>
          </a:xfrm>
        </p:grpSpPr>
        <p:sp>
          <p:nvSpPr>
            <p:cNvPr id="60" name="Line 12"/>
            <p:cNvSpPr/>
            <p:nvPr/>
          </p:nvSpPr>
          <p:spPr>
            <a:xfrm>
              <a:off x="8000640" y="1523880"/>
              <a:ext cx="0" cy="1447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3"/>
            <p:cNvSpPr/>
            <p:nvPr/>
          </p:nvSpPr>
          <p:spPr>
            <a:xfrm flipH="1">
              <a:off x="3733920" y="2971800"/>
              <a:ext cx="4266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5"/>
            <p:cNvSpPr/>
            <p:nvPr/>
          </p:nvSpPr>
          <p:spPr>
            <a:xfrm>
              <a:off x="5367960" y="2604960"/>
              <a:ext cx="1906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Hydration </a:t>
              </a:r>
              <a:r>
                <a:rPr b="1" lang="en-GB" sz="1800" spc="-1" strike="noStrike">
                  <a:solidFill>
                    <a:srgbClr val="990000"/>
                  </a:solidFill>
                  <a:latin typeface="Arial"/>
                </a:rPr>
                <a:t>(H</a:t>
              </a:r>
              <a:r>
                <a:rPr b="1" lang="en-GB" sz="1800" spc="-1" strike="noStrike" baseline="-25000">
                  <a:solidFill>
                    <a:srgbClr val="990000"/>
                  </a:solidFill>
                  <a:latin typeface="Arial"/>
                </a:rPr>
                <a:t>2</a:t>
              </a:r>
              <a:r>
                <a:rPr b="1" lang="en-GB" sz="1800" spc="-1" strike="noStrike">
                  <a:solidFill>
                    <a:srgbClr val="990000"/>
                  </a:solidFill>
                  <a:latin typeface="Arial"/>
                </a:rPr>
                <a:t>O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16"/>
            <p:cNvSpPr/>
            <p:nvPr/>
          </p:nvSpPr>
          <p:spPr>
            <a:xfrm>
              <a:off x="5277240" y="2895480"/>
              <a:ext cx="190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00"/>
                  </a:solidFill>
                  <a:latin typeface="Arial"/>
                </a:rPr>
                <a:t>Sucra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Text Box 17"/>
          <p:cNvSpPr/>
          <p:nvPr/>
        </p:nvSpPr>
        <p:spPr>
          <a:xfrm>
            <a:off x="1066680" y="274320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lucose + Fruct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8"/>
          <p:cNvSpPr/>
          <p:nvPr/>
        </p:nvSpPr>
        <p:spPr>
          <a:xfrm>
            <a:off x="304920" y="35053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ydrolysis of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sucros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in the presence of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Sucras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results in its two monosaccharide compon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228600" y="45720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his process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609480" y="518148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- Breaking the bond between Glucose and Fructo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4"/>
          <p:cNvSpPr/>
          <p:nvPr/>
        </p:nvSpPr>
        <p:spPr>
          <a:xfrm>
            <a:off x="609480" y="565308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- Then, forming new bonds with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GB" sz="1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H</a:t>
            </a:r>
            <a:r>
              <a:rPr b="1" lang="en-GB" sz="18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from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6"/>
          <p:cNvSpPr/>
          <p:nvPr/>
        </p:nvSpPr>
        <p:spPr>
          <a:xfrm>
            <a:off x="228600" y="6172200"/>
            <a:ext cx="800100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This process consum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ستهلك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energy (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Activation Energy;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n-GB" sz="1800" spc="-1" strike="noStrike" baseline="-25000">
                <a:solidFill>
                  <a:srgbClr val="ff0000"/>
                </a:solidFill>
                <a:latin typeface="Arial"/>
              </a:rPr>
              <a:t>A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4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52280" y="1533600"/>
            <a:ext cx="8763120" cy="25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ataly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ُحف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a chemical agent that changes the rate of a reaction without being consume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دون أن يُستهل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the re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n enzyme is a catalytic prote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mical reactions between molecules involve both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ond break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ond form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o hydrolyze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ydration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ucrose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, the bond between glucose and fructose must be broken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via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hydrolysis in the presence of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ucrase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he catalyst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1294920" y="1519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zymes speed up metabolic reactions by lowering energy barriers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حواجز الطاق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5"/>
          <a:srcRect l="0" t="6429" r="1751" b="12593"/>
          <a:stretch/>
        </p:blipFill>
        <p:spPr>
          <a:xfrm>
            <a:off x="76320" y="4437000"/>
            <a:ext cx="8915400" cy="19638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8"/>
          <p:cNvSpPr/>
          <p:nvPr/>
        </p:nvSpPr>
        <p:spPr>
          <a:xfrm>
            <a:off x="3966120" y="4435560"/>
            <a:ext cx="11181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Sucras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6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8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5"/>
          <p:cNvSpPr/>
          <p:nvPr/>
        </p:nvSpPr>
        <p:spPr>
          <a:xfrm>
            <a:off x="304920" y="3657600"/>
            <a:ext cx="853416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Catalyst</a:t>
            </a:r>
            <a:r>
              <a:rPr b="1" lang="en-GB" sz="2400" spc="-1" strike="noStrike" u="sng">
                <a:solidFill>
                  <a:srgbClr val="990000"/>
                </a:solidFill>
                <a:uFillTx/>
                <a:latin typeface="Arial"/>
              </a:rPr>
              <a:t>: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is a chemical agent that accelerate the reaction without being consumed by the re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693720" y="4800600"/>
            <a:ext cx="7620120" cy="10688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nzyme is a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catalytic protein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بروتين مساعد/محفز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304920" y="1305000"/>
            <a:ext cx="861048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Activation Energy: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is the minimum amount of energy needed  to start a reaction. It is the amount of energy needed for the reaction (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etween enzyme &amp; substrate)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o complete (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o break the bond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357120" y="258120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aising the temperature for these reactions to complete will either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denatur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the compounds or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kill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304920" y="3200400"/>
            <a:ext cx="82296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us, organisms must therefore use a </a:t>
            </a:r>
            <a:r>
              <a:rPr b="1" lang="en-GB" sz="2000" spc="-1" strike="noStrike" u="sng">
                <a:solidFill>
                  <a:srgbClr val="0000ff"/>
                </a:solidFill>
                <a:uFillTx/>
                <a:latin typeface="Arial"/>
              </a:rPr>
              <a:t>catalys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عامل محفز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1752480" y="2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Enzymes and Activation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457200" y="5757840"/>
            <a:ext cx="8381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nzyme is a specific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متخصص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atalyst for specific reactants at any time in the cell (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e.g. Sucrase for only Sucros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71ED3-516E-471D-BA23-DE9FA29C585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1"/>
          <a:srcRect l="0" t="0" r="0" b="5249"/>
          <a:stretch/>
        </p:blipFill>
        <p:spPr>
          <a:xfrm>
            <a:off x="5105520" y="4129200"/>
            <a:ext cx="3962160" cy="2652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"/>
          <p:cNvPicPr/>
          <p:nvPr/>
        </p:nvPicPr>
        <p:blipFill>
          <a:blip r:embed="rId2"/>
          <a:srcRect l="0" t="0" r="0" b="3357"/>
          <a:stretch/>
        </p:blipFill>
        <p:spPr>
          <a:xfrm>
            <a:off x="5029200" y="685800"/>
            <a:ext cx="3962520" cy="3162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75960" y="228240"/>
            <a:ext cx="5181480" cy="747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Activation energy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the amount of energy necessary to push the reactants over an energy barr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92400" indent="-282600">
              <a:lnSpc>
                <a:spcPct val="135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the transition state, the molecules                                                     are at an unstable poi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2400" indent="-282600">
              <a:lnSpc>
                <a:spcPct val="135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ifference between free energy                                                         of the products and the free energy                                                             of the reactants is the delta 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2400" indent="-282600">
              <a:lnSpc>
                <a:spcPct val="135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zym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an increase the rate of                                                  rea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lowering E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2400" indent="-282600">
              <a:lnSpc>
                <a:spcPct val="135000"/>
              </a:lnSpc>
              <a:spcBef>
                <a:spcPts val="499"/>
              </a:spcBef>
              <a:buSzPct val="102812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ransition state can then                                                                   be reached even at moderate                                                        temperatur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51920" y="1223640"/>
            <a:ext cx="8915400" cy="198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ubstrat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ادة المطلوب هضمها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a reactant which binds to an enzy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a substrate binds to an enzyme, the enzyme catalyz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سه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onvers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حوي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the substrate to the produc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كوناتها البنائ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crase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ataly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is an enzyme that binds to sucrose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ubstr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and breaks the disaccharide into fructose and glucose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rodu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1523520" y="304560"/>
            <a:ext cx="7086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Enzymes are substrate speci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457200" y="3289320"/>
            <a:ext cx="2514600" cy="6094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ubst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8"/>
          <p:cNvGrpSpPr/>
          <p:nvPr/>
        </p:nvGrpSpPr>
        <p:grpSpPr>
          <a:xfrm>
            <a:off x="6019920" y="3213000"/>
            <a:ext cx="2666880" cy="838080"/>
            <a:chOff x="6019920" y="3213000"/>
            <a:chExt cx="2666880" cy="838080"/>
          </a:xfrm>
        </p:grpSpPr>
        <p:sp>
          <p:nvSpPr>
            <p:cNvPr id="95" name="Oval 9"/>
            <p:cNvSpPr/>
            <p:nvPr/>
          </p:nvSpPr>
          <p:spPr>
            <a:xfrm>
              <a:off x="6019920" y="3213000"/>
              <a:ext cx="1371600" cy="8380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101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0"/>
            <p:cNvSpPr/>
            <p:nvPr/>
          </p:nvSpPr>
          <p:spPr>
            <a:xfrm>
              <a:off x="7315200" y="3213000"/>
              <a:ext cx="1371600" cy="8380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61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Text Box 11"/>
          <p:cNvSpPr/>
          <p:nvPr/>
        </p:nvSpPr>
        <p:spPr>
          <a:xfrm>
            <a:off x="6324480" y="336564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Product 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12"/>
          <p:cNvGrpSpPr/>
          <p:nvPr/>
        </p:nvGrpSpPr>
        <p:grpSpPr>
          <a:xfrm>
            <a:off x="3124080" y="3124080"/>
            <a:ext cx="2743200" cy="698400"/>
            <a:chOff x="3124080" y="3124080"/>
            <a:chExt cx="2743200" cy="698400"/>
          </a:xfrm>
        </p:grpSpPr>
        <p:sp>
          <p:nvSpPr>
            <p:cNvPr id="99" name="AutoShape 13"/>
            <p:cNvSpPr/>
            <p:nvPr/>
          </p:nvSpPr>
          <p:spPr>
            <a:xfrm>
              <a:off x="3124080" y="3441600"/>
              <a:ext cx="2743200" cy="380880"/>
            </a:xfrm>
            <a:prstGeom prst="rightArrow">
              <a:avLst>
                <a:gd name="adj1" fmla="val 50000"/>
                <a:gd name="adj2" fmla="val 180057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14"/>
            <p:cNvSpPr/>
            <p:nvPr/>
          </p:nvSpPr>
          <p:spPr>
            <a:xfrm>
              <a:off x="3124080" y="312408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Enzyme (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 catalyst</a:t>
              </a: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15"/>
          <p:cNvGrpSpPr/>
          <p:nvPr/>
        </p:nvGrpSpPr>
        <p:grpSpPr>
          <a:xfrm>
            <a:off x="380880" y="4267080"/>
            <a:ext cx="8458200" cy="814680"/>
            <a:chOff x="380880" y="4267080"/>
            <a:chExt cx="8458200" cy="814680"/>
          </a:xfrm>
        </p:grpSpPr>
        <p:sp>
          <p:nvSpPr>
            <p:cNvPr id="102" name="Text Box 16"/>
            <p:cNvSpPr/>
            <p:nvPr/>
          </p:nvSpPr>
          <p:spPr>
            <a:xfrm>
              <a:off x="380880" y="4571640"/>
              <a:ext cx="251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Sucrose + H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Group 17"/>
            <p:cNvGrpSpPr/>
            <p:nvPr/>
          </p:nvGrpSpPr>
          <p:grpSpPr>
            <a:xfrm>
              <a:off x="2819520" y="4267080"/>
              <a:ext cx="2743200" cy="609480"/>
              <a:chOff x="2819520" y="4267080"/>
              <a:chExt cx="2743200" cy="609480"/>
            </a:xfrm>
          </p:grpSpPr>
          <p:sp>
            <p:nvSpPr>
              <p:cNvPr id="104" name="AutoShape 18"/>
              <p:cNvSpPr/>
              <p:nvPr/>
            </p:nvSpPr>
            <p:spPr>
              <a:xfrm>
                <a:off x="2819520" y="4724280"/>
                <a:ext cx="2743200" cy="152280"/>
              </a:xfrm>
              <a:prstGeom prst="rightArrow">
                <a:avLst>
                  <a:gd name="adj1" fmla="val 50000"/>
                  <a:gd name="adj2" fmla="val 450355"/>
                </a:avLst>
              </a:prstGeom>
              <a:solidFill>
                <a:srgbClr val="99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Text Box 19"/>
              <p:cNvSpPr/>
              <p:nvPr/>
            </p:nvSpPr>
            <p:spPr>
              <a:xfrm>
                <a:off x="3124440" y="4267080"/>
                <a:ext cx="1447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ff"/>
                    </a:solidFill>
                    <a:latin typeface="Arial"/>
                  </a:rPr>
                  <a:t>Sucras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Text Box 20"/>
            <p:cNvSpPr/>
            <p:nvPr/>
          </p:nvSpPr>
          <p:spPr>
            <a:xfrm>
              <a:off x="5715000" y="453384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Glucose + Fructo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Text Box 21"/>
          <p:cNvSpPr/>
          <p:nvPr/>
        </p:nvSpPr>
        <p:spPr>
          <a:xfrm>
            <a:off x="304920" y="5254560"/>
            <a:ext cx="86104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pecificity of enzym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خصصية الإنزيم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fers to the shape of its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Active Site</a:t>
            </a: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ركز النشط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t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ich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fits </a:t>
            </a:r>
            <a:r>
              <a:rPr b="0" lang="ar-EG" sz="1800" spc="-1" strike="noStrike" u="sng">
                <a:solidFill>
                  <a:srgbClr val="000000"/>
                </a:solidFill>
                <a:uFillTx/>
                <a:latin typeface="Arial"/>
              </a:rPr>
              <a:t>يـُناسب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he surfac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of the subst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560" y="1217160"/>
            <a:ext cx="8839080" cy="21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ctive s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كان النش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an enzymes is the groove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جيب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 the surface of the enzyme into which the substrate f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pecificity of an enzyme is due to the fit betwee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ناسب بي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ctive s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at of 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ubstr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the substrate binds, the enzyme changes shape to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i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ubstr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bringing chemical groups in position to catalyze the re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4"/>
          <a:srcRect l="4303" t="21667" r="9999" b="21667"/>
          <a:stretch/>
        </p:blipFill>
        <p:spPr>
          <a:xfrm>
            <a:off x="380880" y="3416400"/>
            <a:ext cx="8305920" cy="31366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e active site is an enzyme’s catalytic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0" descr=""/>
          <p:cNvPicPr/>
          <p:nvPr/>
        </p:nvPicPr>
        <p:blipFill>
          <a:blip r:embed="rId5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3" descr=""/>
          <p:cNvPicPr/>
          <p:nvPr/>
        </p:nvPicPr>
        <p:blipFill>
          <a:blip r:embed="rId1"/>
          <a:srcRect l="0" t="0" r="0" b="3155"/>
          <a:stretch/>
        </p:blipFill>
        <p:spPr>
          <a:xfrm>
            <a:off x="1371600" y="555480"/>
            <a:ext cx="6858000" cy="61502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76320" y="763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Catalytic Cycle of Enzy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457200" y="2430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Active site of enzyme and Catalytic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12"/>
          <p:cNvSpPr/>
          <p:nvPr/>
        </p:nvSpPr>
        <p:spPr>
          <a:xfrm>
            <a:off x="2666880" y="2057400"/>
            <a:ext cx="3810240" cy="3048120"/>
          </a:xfrm>
          <a:prstGeom prst="ellipse">
            <a:avLst/>
          </a:prstGeom>
          <a:gradFill rotWithShape="0">
            <a:gsLst>
              <a:gs pos="0">
                <a:srgbClr val="ff00ff"/>
              </a:gs>
              <a:gs pos="100000">
                <a:srgbClr val="9900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17"/>
          <p:cNvGrpSpPr/>
          <p:nvPr/>
        </p:nvGrpSpPr>
        <p:grpSpPr>
          <a:xfrm>
            <a:off x="3619440" y="3137040"/>
            <a:ext cx="1676160" cy="685800"/>
            <a:chOff x="3619440" y="3137040"/>
            <a:chExt cx="1676160" cy="685800"/>
          </a:xfrm>
        </p:grpSpPr>
        <p:sp>
          <p:nvSpPr>
            <p:cNvPr id="120" name="AutoShape 18"/>
            <p:cNvSpPr/>
            <p:nvPr/>
          </p:nvSpPr>
          <p:spPr>
            <a:xfrm>
              <a:off x="4609800" y="3137040"/>
              <a:ext cx="685800" cy="6858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19"/>
            <p:cNvSpPr/>
            <p:nvPr/>
          </p:nvSpPr>
          <p:spPr>
            <a:xfrm>
              <a:off x="3619440" y="3137040"/>
              <a:ext cx="685800" cy="6858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20"/>
            <p:cNvSpPr/>
            <p:nvPr/>
          </p:nvSpPr>
          <p:spPr>
            <a:xfrm>
              <a:off x="4305240" y="3365640"/>
              <a:ext cx="30456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16"/>
          <p:cNvGrpSpPr/>
          <p:nvPr/>
        </p:nvGrpSpPr>
        <p:grpSpPr>
          <a:xfrm>
            <a:off x="380880" y="3124080"/>
            <a:ext cx="1676160" cy="685800"/>
            <a:chOff x="380880" y="3124080"/>
            <a:chExt cx="1676160" cy="685800"/>
          </a:xfrm>
        </p:grpSpPr>
        <p:sp>
          <p:nvSpPr>
            <p:cNvPr id="124" name="AutoShape 13"/>
            <p:cNvSpPr/>
            <p:nvPr/>
          </p:nvSpPr>
          <p:spPr>
            <a:xfrm>
              <a:off x="1371240" y="3124080"/>
              <a:ext cx="685800" cy="68580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14"/>
            <p:cNvSpPr/>
            <p:nvPr/>
          </p:nvSpPr>
          <p:spPr>
            <a:xfrm>
              <a:off x="380880" y="3124080"/>
              <a:ext cx="685800" cy="68580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5"/>
            <p:cNvSpPr/>
            <p:nvPr/>
          </p:nvSpPr>
          <p:spPr>
            <a:xfrm>
              <a:off x="1066680" y="3352680"/>
              <a:ext cx="304560" cy="2286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AutoShape 23"/>
          <p:cNvSpPr/>
          <p:nvPr/>
        </p:nvSpPr>
        <p:spPr>
          <a:xfrm>
            <a:off x="4610160" y="3124080"/>
            <a:ext cx="685800" cy="6858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99cc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24"/>
          <p:cNvSpPr/>
          <p:nvPr/>
        </p:nvSpPr>
        <p:spPr>
          <a:xfrm>
            <a:off x="3619440" y="3124080"/>
            <a:ext cx="685800" cy="6858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99cc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5"/>
          <p:cNvSpPr/>
          <p:nvPr/>
        </p:nvSpPr>
        <p:spPr>
          <a:xfrm>
            <a:off x="4305240" y="3352680"/>
            <a:ext cx="304920" cy="228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6"/>
          <p:cNvSpPr/>
          <p:nvPr/>
        </p:nvSpPr>
        <p:spPr>
          <a:xfrm>
            <a:off x="3657600" y="20574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ucr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7"/>
          <p:cNvSpPr/>
          <p:nvPr/>
        </p:nvSpPr>
        <p:spPr>
          <a:xfrm>
            <a:off x="380880" y="22096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cr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8"/>
          <p:cNvSpPr/>
          <p:nvPr/>
        </p:nvSpPr>
        <p:spPr>
          <a:xfrm>
            <a:off x="7772400" y="30621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9"/>
          <p:cNvSpPr/>
          <p:nvPr/>
        </p:nvSpPr>
        <p:spPr>
          <a:xfrm>
            <a:off x="7772400" y="4114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ruct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1"/>
          <p:cNvSpPr/>
          <p:nvPr/>
        </p:nvSpPr>
        <p:spPr>
          <a:xfrm>
            <a:off x="3962520" y="4114800"/>
            <a:ext cx="1143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00"/>
                </a:solidFill>
                <a:latin typeface="Arial"/>
              </a:rPr>
              <a:t>H</a:t>
            </a:r>
            <a:r>
              <a:rPr b="1" lang="en-GB" sz="32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1" lang="en-GB" sz="3200" spc="-1" strike="noStrike">
                <a:solidFill>
                  <a:srgbClr val="00ff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32"/>
          <p:cNvSpPr/>
          <p:nvPr/>
        </p:nvSpPr>
        <p:spPr>
          <a:xfrm>
            <a:off x="152280" y="59436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5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35834 0.00555 E">
                                      <p:cBhvr>
                                        <p:cTn id="223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5.55556E-006 L 0.25833 -0.02223 E">
                                      <p:cBhvr>
                                        <p:cTn id="251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4444E-006 L 0.36667 0.11111 E">
                                      <p:cBhvr>
                                        <p:cTn id="259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04:47:08Z</dcterms:created>
  <dc:creator>Ash Ahm</dc:creator>
  <dc:description/>
  <dc:language>en-US</dc:language>
  <cp:lastModifiedBy>HP</cp:lastModifiedBy>
  <dcterms:modified xsi:type="dcterms:W3CDTF">2014-01-07T16:32:15Z</dcterms:modified>
  <cp:revision>240</cp:revision>
  <dc:subject/>
  <dc:title>Enzym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75229755-9252-4FC6-A750-583FBB9E108A</vt:lpwstr>
  </property>
  <property fmtid="{D5CDD505-2E9C-101B-9397-08002B2CF9AE}" pid="3" name="ArticulatePath">
    <vt:lpwstr>Lecture 11</vt:lpwstr>
  </property>
</Properties>
</file>