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357-3149-4CFA-84D6-57113222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EC9-31BE-4AF3-A302-6C08ECCF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8C9-A345-4953-B33A-213B6E8C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7F9-C716-40F0-BD1F-EC2BEE04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193-E8F1-4411-B61C-BB8C6923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106-C92D-4D9E-B3C1-CF0788A5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C4E-367D-4185-B99B-E7FEBD64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3C7-C75A-4622-8145-18A0FE72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4B0-ED1F-402B-BA4C-FCD16C5D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6B4-6C98-4EB3-96A2-95E1FB99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2D8-8C51-462A-A179-BA7C668B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EE4-1FEE-4B8C-9932-70E9C093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8403-DAEC-4971-B71A-968867F7DE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1C93-ECC8-4D1D-92A8-FA9E337B90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2897-5B2B-49FD-BEFF-E1ED4D24A0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AFCE-6732-4D0A-BF87-10927B994B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2FAE-A3AB-4FE9-8BBC-CB506FD637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0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4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HP</cp:lastModifiedBy>
  <dcterms:modified xsi:type="dcterms:W3CDTF">2014-01-07T16:32:15Z</dcterms:modified>
  <cp:revision>240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