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E4E-BE1C-4FA5-A009-3339FC69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D9F-790C-4FB4-9AD3-F8D10D41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9DE-7449-487B-8B38-3140E4EE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8B8F-8D2A-46B8-90D5-A0746FCF8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F7B-1FB5-45B5-A778-254F1B94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54A-E505-4F59-B160-4E3DFB0A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709-AC60-4F79-ACF1-518E82CC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9B61-FA5B-4B0F-9D85-40453040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0C5-A00F-4B29-90DE-0237577E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8B3-684E-40FC-9FA1-AA859325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97E-349B-4636-AE41-AA50C9FC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3E8-96A3-4003-B07B-9CD2683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071-158D-4EAE-A4F5-890C1F357D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B9BE-A554-481E-8DFF-3E9B1E11A9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2"/>
          <a:srcRect l="4303" t="21667" r="9999" b="21667"/>
          <a:stretch/>
        </p:blipFill>
        <p:spPr>
          <a:xfrm>
            <a:off x="76320" y="4038480"/>
            <a:ext cx="8991360" cy="2749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46" name="Text Box 13"/>
          <p:cNvSpPr/>
          <p:nvPr/>
        </p:nvSpPr>
        <p:spPr>
          <a:xfrm>
            <a:off x="2743200" y="27288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TRODUCTION                                      TO 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228600" y="1600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228600" y="2209680"/>
            <a:ext cx="8763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zymes are substrate specif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The active site is an enzyme’s catalytic cen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A cell’s physical and chemical environment affects enzyme activ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76320" y="1600200"/>
            <a:ext cx="8991360" cy="23623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3809880" y="4237200"/>
            <a:ext cx="2590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ZYMES: </a:t>
            </a:r>
            <a:br>
              <a:rPr sz="1400"/>
            </a:b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 protein with catalytic properties due to its power of specific 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9" descr=""/>
          <p:cNvPicPr/>
          <p:nvPr/>
        </p:nvPicPr>
        <p:blipFill>
          <a:blip r:embed="rId3"/>
          <a:srcRect l="18600" t="8056" r="4040" b="0"/>
          <a:stretch/>
        </p:blipFill>
        <p:spPr>
          <a:xfrm>
            <a:off x="19080" y="28440"/>
            <a:ext cx="1292040" cy="1419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s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s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80880" y="5486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8981-915A-4748-A700-EED579753B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16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of the enzyme molecule 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9907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"/>
          <p:cNvPicPr/>
          <p:nvPr/>
        </p:nvPicPr>
        <p:blipFill>
          <a:blip r:embed="rId2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04920" y="4168800"/>
            <a:ext cx="861048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from vitamins.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enzy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3702" t="50129" r="3702" b="8220"/>
          <a:stretch/>
        </p:blipFill>
        <p:spPr>
          <a:xfrm>
            <a:off x="4952880" y="205740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E3D3-C3A1-4744-95DB-E538CAB5EE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-360" y="233028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he inhibitor binds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us prevent the enzymat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895480"/>
            <a:ext cx="4419720" cy="1981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955960"/>
            <a:ext cx="4419720" cy="1920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828800" y="3049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)- Enzyme inhibitors: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ـثـبِّطات ال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834080"/>
            <a:ext cx="4038840" cy="1947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0"/>
          <p:cNvSpPr/>
          <p:nvPr/>
        </p:nvSpPr>
        <p:spPr>
          <a:xfrm>
            <a:off x="228600" y="5165640"/>
            <a:ext cx="472428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</a:t>
            </a: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mpetitive inhibi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ثبيط لا تنافس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hibitor binds somewhere other than the active site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80880" y="1219320"/>
            <a:ext cx="8610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s are chemicals that reduce the rate of enzymic re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re usually specific and they work at low concent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block the enzyme but they do not usually destro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y drugs and poisons are inhibitors of enzymes in the nervous system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4" descr=""/>
          <p:cNvPicPr/>
          <p:nvPr/>
        </p:nvPicPr>
        <p:blipFill>
          <a:blip r:embed="rId4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0"/>
          <p:cNvSpPr/>
          <p:nvPr/>
        </p:nvSpPr>
        <p:spPr>
          <a:xfrm>
            <a:off x="304920" y="1447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 is inhibitor for key enzymes of nervous system in insects results in de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04920" y="259092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1143000" y="54100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Impact"/>
              </a:rPr>
              <a:t>Activation and inhibition of enzymes are essential for metabolic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1523880" y="3049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me benefits of 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457200" y="4724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the next lecture we will se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74680"/>
            <a:ext cx="655308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55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57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0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228600" y="6172200"/>
            <a:ext cx="80010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هلك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52280" y="153360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76320" y="4437000"/>
            <a:ext cx="8915400" cy="196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6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657600"/>
            <a:ext cx="853416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a chemical agent that accelerate the reaction without being consumed 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93720" y="4800600"/>
            <a:ext cx="7620120" cy="1068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وتين مساعد/محفز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04920" y="1305000"/>
            <a:ext cx="86104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minimum amount of energy needed  to start a reaction. It is the amount of energy needed for the reaction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57120" y="2581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304920" y="3200400"/>
            <a:ext cx="8229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752480" y="2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57200" y="5757840"/>
            <a:ext cx="8381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تخصص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1010-3F66-4B09-9C9F-9605739E7F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029200" y="685800"/>
            <a:ext cx="3962520" cy="3162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747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        of the products and the free energy                                                             of the reactants is the delta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increase the rate of                                                  rea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lowering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2400" indent="-282600">
              <a:lnSpc>
                <a:spcPct val="135000"/>
              </a:lnSpc>
              <a:spcBef>
                <a:spcPts val="499"/>
              </a:spcBef>
              <a:buSzPct val="10281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ransition state can then                                                                   be reached even at moderate                                                        tempera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12236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95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99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02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04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1"/>
          <p:cNvSpPr/>
          <p:nvPr/>
        </p:nvSpPr>
        <p:spPr>
          <a:xfrm>
            <a:off x="304920" y="5254560"/>
            <a:ext cx="8610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the shape of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s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the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3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217160"/>
            <a:ext cx="88390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كان النش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enzymes is the groove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يب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ناسب ب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416400"/>
            <a:ext cx="8305920" cy="3136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5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57200" y="2430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20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24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3962520" y="4114800"/>
            <a:ext cx="1143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</a:t>
            </a:r>
            <a:r>
              <a:rPr b="1" lang="en-GB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43080" y="1114560"/>
            <a:ext cx="83055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5" descr=""/>
          <p:cNvPicPr/>
          <p:nvPr/>
        </p:nvPicPr>
        <p:blipFill>
          <a:blip r:embed="rId1"/>
          <a:srcRect l="18589" t="8072" r="4045" b="0"/>
          <a:stretch/>
        </p:blipFill>
        <p:spPr>
          <a:xfrm>
            <a:off x="38160" y="76320"/>
            <a:ext cx="971640" cy="1066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5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HP</cp:lastModifiedBy>
  <dcterms:modified xsi:type="dcterms:W3CDTF">2014-01-07T16:32:15Z</dcterms:modified>
  <cp:revision>240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75229755-9252-4FC6-A750-583FBB9E108A</vt:lpwstr>
  </property>
  <property fmtid="{D5CDD505-2E9C-101B-9397-08002B2CF9AE}" pid="3" name="ArticulatePath">
    <vt:lpwstr>Lecture 11</vt:lpwstr>
  </property>
</Properties>
</file>