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3CE-F39F-448D-8DDB-D1D300C1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077-776D-4506-9E6D-26AC9577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B94-1958-4EE7-B770-62C62C38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DBF-A73C-499E-91B3-59865E21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015-4453-4669-972E-1251D2D0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B06-1EAC-40DA-9B48-57BAD688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D0E-8F71-4F4C-A761-2346CDB7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F6D-E518-4C9F-B248-0D57D14D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DEC-A5E5-4305-8F04-2EA570E8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F03-B241-42D4-BA21-8A5AFCFB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CAA-A5B7-42E8-81A6-489C4985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31C-FBA8-45CD-80DE-B9D21E5F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5C49-39DF-4E0E-B723-B3452D6AD3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42B3-FEF0-45D3-B841-9AA4714601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DFBD-9B1C-4791-9FBA-5EF07AC4CB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AD7E-D7FA-403D-BD8F-2C350AB4D9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FAF6-C32B-481E-A10B-A76C8A765E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0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4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HP</cp:lastModifiedBy>
  <dcterms:modified xsi:type="dcterms:W3CDTF">2014-01-07T16:32:15Z</dcterms:modified>
  <cp:revision>240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