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483B-A7F2-4D57-9CA4-C9A874B5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E6C-470E-45C8-8E29-1B736C12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3C9-D4B3-456B-B092-56F9B624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944-0C54-4F48-AE22-8BC069A4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3B77-E9DF-431C-814E-B009825A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71C3-5174-4B80-B882-275C126E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BE8-6321-46EA-8356-C13B04B6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4A83-7851-471C-ABEA-57059712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4ED-A7FC-4089-9D21-0F24459B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536E-1C5A-48B4-B04C-54DA05D3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DAAF-023A-4D51-9101-396E34D8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BEB-0AB9-4E01-9823-6C6CB7A1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E6CD-6819-4C59-A009-3D50F7ADE5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DF1F-E8D3-4C17-8172-4EA8756BF4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Text Box 13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1600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28600" y="220968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are substrate specif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The active site is an enzyme’s catalytic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A cell’s physical and chemical environment affects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809880" y="4237200"/>
            <a:ext cx="259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ZYMES: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 protein with catalytic properties due to its power of specific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3"/>
          <a:srcRect l="18600" t="8056" r="4040" b="0"/>
          <a:stretch/>
        </p:blipFill>
        <p:spPr>
          <a:xfrm>
            <a:off x="19080" y="28440"/>
            <a:ext cx="1292040" cy="1419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- The substrate binds to the active site of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80880" y="19051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- This forms a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nzyme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plex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a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hydrogen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880" y="29559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 The active site catalyses the conversion of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substrate to final product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componen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b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breaking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8088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- The resulting products release from th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- The enzyme starts another reaction over and ov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088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- Thus, the enzyme can have a huge metabolic effect i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the cata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Catalytic Cycle of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6320" y="511200"/>
            <a:ext cx="89913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enzyme molecule can catalyze thousands or more reactions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are unaffected by the reaction and are reus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عاد استخدام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etabolic enzy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ات الأيض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talyze a reaction in bo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tual direction depends on the relative concentrations of products and reac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reactions in the direction of equilibri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عاد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lower activation energy and speed a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that a specific number of enzymes converts substrates to products depends in part on substrate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ome substrate concentrations, the active sites on all enzymes are engag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شغو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lled enzyme satur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شبع الإنز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0BCC-616B-4D8D-A975-56CEE14CCD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of the enzyme molecule 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04920" y="4168800"/>
            <a:ext cx="86104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from vitamins.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enzy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3702" t="50129" r="3702" b="8220"/>
          <a:stretch/>
        </p:blipFill>
        <p:spPr>
          <a:xfrm>
            <a:off x="4952880" y="205740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B296-C9DF-443C-B0E1-B8315BB6BC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23302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he inhibitor bind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us prevent the enzymat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895480"/>
            <a:ext cx="4419720" cy="19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955960"/>
            <a:ext cx="4419720" cy="1920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828800" y="304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)- Enzyme inhibitors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ـثـبِّطات ال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834080"/>
            <a:ext cx="4038840" cy="1947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28600" y="5165640"/>
            <a:ext cx="4724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لا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hibitor binds somewhere other than the active site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80880" y="1219320"/>
            <a:ext cx="8610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s are chemicals that reduce the rate of enzym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re usually specific and they work at low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block the enzyme but they do not usually destro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drugs and poisons are inhibitors of enzymes in the nervous system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0"/>
          <p:cNvSpPr/>
          <p:nvPr/>
        </p:nvSpPr>
        <p:spPr>
          <a:xfrm>
            <a:off x="304920" y="1447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he insecticide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DDT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is inhibitor for key enzymes of nervous system in insects results in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04920" y="25909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any antibiotics (e.g.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Penicillin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) inhibits enzymes that help bacteria to make their cell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143000" y="5410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Activation and inhibition of enzymes are essential for metabolic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5238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me benefits of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45720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next lecture we will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74680"/>
            <a:ext cx="6553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55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57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0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228600" y="6172200"/>
            <a:ext cx="800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ستهلك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153360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76320" y="4437000"/>
            <a:ext cx="8915400" cy="196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6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04920" y="3657600"/>
            <a:ext cx="853416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chemical agent that accelerate the reaction without being consumed 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93720" y="4800600"/>
            <a:ext cx="7620120" cy="1068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وتين مساعد/محفز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920" y="1305000"/>
            <a:ext cx="86104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inimum amount of energy needed  to start a reaction. It is the amount of energy needed for the reaction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7120" y="2581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04920" y="3200400"/>
            <a:ext cx="8229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52480" y="2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57200" y="5757840"/>
            <a:ext cx="8381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تخص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ADE0-A701-4BA0-BF80-8757DD2AA3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0" t="0" r="0" b="5249"/>
          <a:stretch/>
        </p:blipFill>
        <p:spPr>
          <a:xfrm>
            <a:off x="5105520" y="4129200"/>
            <a:ext cx="3962160" cy="26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029200" y="685800"/>
            <a:ext cx="3962520" cy="3162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74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energy necessary to push the reactants over an energy b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transition state, the molecules                                                     are at an unstab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fference between free energy                                                         of the products and the free energy                                                             of the reactants is the delt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increase the rate of                                                  rea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lowering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99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ansition state can then                                                                   be reached even at moderate                                                        temper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2236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95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99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102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04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1"/>
          <p:cNvSpPr/>
          <p:nvPr/>
        </p:nvSpPr>
        <p:spPr>
          <a:xfrm>
            <a:off x="304920" y="525456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the shape of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s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217160"/>
            <a:ext cx="88390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كان النش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enzymes is the groove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يب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ناسب ب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416400"/>
            <a:ext cx="8305920" cy="3136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57200" y="2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120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124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3962520" y="4114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GB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22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25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HP</cp:lastModifiedBy>
  <dcterms:modified xsi:type="dcterms:W3CDTF">2014-01-07T16:32:15Z</dcterms:modified>
  <cp:revision>240</cp:revision>
  <dc:subject/>
  <dc:title>Enzy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5229755-9252-4FC6-A750-583FBB9E108A</vt:lpwstr>
  </property>
  <property fmtid="{D5CDD505-2E9C-101B-9397-08002B2CF9AE}" pid="3" name="ArticulatePath">
    <vt:lpwstr>Lecture 11</vt:lpwstr>
  </property>
</Properties>
</file>