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64C-8365-492B-A29C-89663588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0441-E872-4E34-A27D-19830780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C64B-D56A-4866-A8F0-01D88B70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2614-2D5E-4D1A-9C2D-01FF7D6D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7E25-695C-4A47-BE42-8749692A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2C1A-DF68-445B-B2D5-8CE492F9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B16A-EBF1-41DB-B980-B50EA9EB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CFAA-292A-40B9-B2AB-30047469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0EBE-56E9-456E-B445-494BC475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44B5-040E-4603-BCA1-52857190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5556-43B8-4346-B555-99A987F7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5A9D-82B5-4B93-8BE1-AFB79183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4F68-5236-4EBA-A9BE-31663270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DB6C-13A1-4FE1-A4FE-9675287C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370D-6997-4815-B77F-4C9EACD3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4D0B-EA13-4F55-A400-1C21F844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9F09-1CEE-48B2-A5F4-91886FFF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18528-6072-450D-9D55-9D441A8C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79BC2-B4B0-4C7D-A74D-350FF8B8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8B0FC-3E76-4AD1-8145-CA58C0B3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5FFDB-8859-40E7-BB6A-0068E237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1B9D3-46B1-40AD-9A67-79E76E10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0A8C-93A6-4DB1-9EAA-BB56F0DB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071A2-39A8-47D2-9746-400D0FA4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F6A40-9A0C-4E3D-A671-63D13262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FF61F-31D7-42D9-A07F-E7312C8C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A0480-D222-4707-80D1-59D11F23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2C726-8796-473D-8B4F-F83CB0F1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D50CE-D058-480B-B58A-59A6D19F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35CC3-0775-40D3-8AC3-C462A44A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6EDF8-57B3-4A05-93BE-2D3D3329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61C0F-AF8F-4838-8E5E-16A36A59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42BA0-DB9A-499B-A8AB-37D15168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C5F-C7AA-4533-B4EB-97BC00A6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805AE-A3AF-46F6-AE00-1CBD22D2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70582-DD7F-4006-A043-3EE40504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1CA4B-330A-49A1-9969-D93E5E97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46B83-C9CB-4D54-87E7-224BD515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1181B-A156-4DA3-93AB-64C825A1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93B62-D6EF-407F-B428-278AAA2B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DC494-4F21-4F94-BCEB-E4F3CB7F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EE5A7-0677-46A2-ABED-14A87837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2D71D-413E-4670-AFC8-15239237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0F5-218A-4B7C-B943-FB71FB46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FAC-558E-49C1-B414-854BB36B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D1F5-C6FB-4E8A-AED6-CB336CF7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EDEB-1914-49E0-AFD5-C829CCE8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A07-C6A8-492F-9F5C-5A43936B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B1F2-09FC-42C3-B4B0-9280E5D1F56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1430-A815-4203-BE8E-BF91DA52EB92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507E-77FF-4B6B-937B-D134E6BDB642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AF75-9A17-41F1-BF38-E3E15C069C9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mc.maricopa.edu/faculty/farabee/BIOBK/BioBookglossE.html#endocrine system" TargetMode="Externa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26504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</a:t>
            </a:r>
            <a:r>
              <a:rPr b="1" lang="ar-SA" sz="28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 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cs typeface="Traditional Arabic"/>
              </a:rPr>
              <a:t>أنسجة الحيوان</a:t>
            </a:r>
            <a:r>
              <a:rPr b="1" lang="ar-SA" sz="28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(Histology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cs typeface="Traditional Arabic"/>
              </a:rPr>
              <a:t>علم الأنسجة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280" y="2214360"/>
            <a:ext cx="868680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imals are multicellular organisms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كائنات عديدة الخلايا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ith their specialized cells grouped into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most animals, combinations of various tissues make up functional units calle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rga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groups of organs that work together form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system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example, the human digestive system consists of a stomach, small intestine, large intestine, and several other organs, each a composite of different tissues.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62320" y="351000"/>
            <a:ext cx="4114800" cy="563400"/>
          </a:xfrm>
          <a:prstGeom prst="rect">
            <a:avLst/>
          </a:prstGeom>
          <a:solidFill>
            <a:srgbClr val="007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1: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61722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 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أنسجة الحيوان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(Histology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2649240"/>
            <a:ext cx="419076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in animals are composed of a number of differen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 typ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are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, which are in turn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4648320" y="2374920"/>
            <a:ext cx="4038480" cy="2976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</p:pic>
      <p:sp>
        <p:nvSpPr>
          <p:cNvPr id="201" name="Text Box 5"/>
          <p:cNvSpPr/>
          <p:nvPr/>
        </p:nvSpPr>
        <p:spPr>
          <a:xfrm>
            <a:off x="2209680" y="16002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ganization of the Animal Bo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 (Histology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612800"/>
            <a:ext cx="8381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270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 tissu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s a group of cells with a commo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ifferent types of tissues have different structures that are especially suited to their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tissue may be held by a sticky extra-cellular matrix that coats the cells or weaves them together in a fabric of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270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ypes of tissues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1- Epithelial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طلائ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2- Connectiv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ضام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3- Nervous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صب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4- Muscl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ضل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(1) Epithelial Tissues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الأنسجة الطلائية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440" y="1447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over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غطي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surfaces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in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بطن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cavities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133720" y="23623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of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80880" y="3962520"/>
            <a:ext cx="1981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in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طين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352680" y="3962520"/>
            <a:ext cx="25146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حماية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629400" y="4038480"/>
            <a:ext cx="22860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ming g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كوين الغد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6"/>
          <p:cNvGrpSpPr/>
          <p:nvPr/>
        </p:nvGrpSpPr>
        <p:grpSpPr>
          <a:xfrm>
            <a:off x="1295280" y="2895480"/>
            <a:ext cx="6400800" cy="990360"/>
            <a:chOff x="1295280" y="2895480"/>
            <a:chExt cx="6400800" cy="990360"/>
          </a:xfrm>
        </p:grpSpPr>
        <p:sp>
          <p:nvSpPr>
            <p:cNvPr id="211" name="Line 10"/>
            <p:cNvSpPr/>
            <p:nvPr/>
          </p:nvSpPr>
          <p:spPr>
            <a:xfrm>
              <a:off x="3200400" y="289548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1"/>
            <p:cNvSpPr/>
            <p:nvPr/>
          </p:nvSpPr>
          <p:spPr>
            <a:xfrm>
              <a:off x="4572000" y="289548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1295280" y="342864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12952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4"/>
            <p:cNvSpPr/>
            <p:nvPr/>
          </p:nvSpPr>
          <p:spPr>
            <a:xfrm>
              <a:off x="457200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5"/>
            <p:cNvSpPr/>
            <p:nvPr/>
          </p:nvSpPr>
          <p:spPr>
            <a:xfrm>
              <a:off x="76960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7"/>
          <p:cNvSpPr/>
          <p:nvPr/>
        </p:nvSpPr>
        <p:spPr>
          <a:xfrm>
            <a:off x="380880" y="5105520"/>
            <a:ext cx="62485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ands can be single epithelial cells, such as the goblet cell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كأس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line the intest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cellular gland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عديدة الخلا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 the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endocrine gland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9" descr=""/>
          <p:cNvPicPr/>
          <p:nvPr/>
        </p:nvPicPr>
        <p:blipFill>
          <a:blip r:embed="rId2"/>
          <a:stretch/>
        </p:blipFill>
        <p:spPr>
          <a:xfrm>
            <a:off x="6858000" y="5105520"/>
            <a:ext cx="1523880" cy="171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52280" y="609120"/>
            <a:ext cx="838224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036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pithelia are classified 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umber of cell lay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shape of cell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n the free surfa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imple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بسيط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is a single layer of cell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tratified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ي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multiple layers of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seudostratifi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epithelium: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ذ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a single layer of cells                                                         but appear to form two laye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l cell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-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uboida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كعب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Columna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عمود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Squamou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حرشف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0" name="Group 12"/>
          <p:cNvGrpSpPr/>
          <p:nvPr/>
        </p:nvGrpSpPr>
        <p:grpSpPr>
          <a:xfrm>
            <a:off x="4278240" y="990720"/>
            <a:ext cx="4865760" cy="5717160"/>
            <a:chOff x="4278240" y="990720"/>
            <a:chExt cx="4865760" cy="571716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rcRect l="0" t="0" r="0" b="3244"/>
            <a:stretch/>
          </p:blipFill>
          <p:spPr>
            <a:xfrm>
              <a:off x="4278240" y="990720"/>
              <a:ext cx="48657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6"/>
            <p:cNvSpPr/>
            <p:nvPr/>
          </p:nvSpPr>
          <p:spPr>
            <a:xfrm>
              <a:off x="7543800" y="289584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7620120" y="441972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8"/>
            <p:cNvSpPr/>
            <p:nvPr/>
          </p:nvSpPr>
          <p:spPr>
            <a:xfrm>
              <a:off x="75438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9"/>
            <p:cNvSpPr/>
            <p:nvPr/>
          </p:nvSpPr>
          <p:spPr>
            <a:xfrm>
              <a:off x="4343400" y="44640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مكعب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0"/>
            <p:cNvSpPr/>
            <p:nvPr/>
          </p:nvSpPr>
          <p:spPr>
            <a:xfrm>
              <a:off x="43434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4419720" y="27432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مهدبة طبقية كاذب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0880" y="812880"/>
            <a:ext cx="8382240" cy="28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Muscle tissu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يج العضلي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omposed of long cells called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uscle fib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ألياف عض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capable of contracting when stimulated by nerve impuls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has large numbers of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fibri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لُيَيفات عضل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de of the contractile proteins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cti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كتين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si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يوسي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uscle is the most abundant tissue in most animals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9" name="Group 8"/>
          <p:cNvGrpSpPr/>
          <p:nvPr/>
        </p:nvGrpSpPr>
        <p:grpSpPr>
          <a:xfrm>
            <a:off x="685800" y="3733920"/>
            <a:ext cx="7772400" cy="2666880"/>
            <a:chOff x="685800" y="3733920"/>
            <a:chExt cx="7772400" cy="2666880"/>
          </a:xfrm>
        </p:grpSpPr>
        <p:pic>
          <p:nvPicPr>
            <p:cNvPr id="230" name="Picture 6" descr=""/>
            <p:cNvPicPr/>
            <p:nvPr/>
          </p:nvPicPr>
          <p:blipFill>
            <a:blip r:embed="rId1"/>
            <a:stretch/>
          </p:blipFill>
          <p:spPr>
            <a:xfrm>
              <a:off x="4190760" y="3733920"/>
              <a:ext cx="4267440" cy="266688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231" name="Picture 7" descr=""/>
            <p:cNvPicPr/>
            <p:nvPr/>
          </p:nvPicPr>
          <p:blipFill>
            <a:blip r:embed="rId2"/>
            <a:srcRect l="15842" t="0" r="0" b="0"/>
            <a:stretch/>
          </p:blipFill>
          <p:spPr>
            <a:xfrm>
              <a:off x="685800" y="3733920"/>
              <a:ext cx="3238560" cy="264780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</p:grpSp>
    </p:spTree>
  </p:cSld>
  <p:transition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04560" y="958320"/>
            <a:ext cx="838188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re are three types of muscle tissue in the vertebrate body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3124080" y="2286000"/>
            <a:ext cx="5867640" cy="4343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2280" y="3009960"/>
            <a:ext cx="3124440" cy="22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keletal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هيكل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rdiac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قلب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mooth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ملساء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3124080" y="3960720"/>
            <a:ext cx="5410440" cy="2745000"/>
            <a:chOff x="3124080" y="3960720"/>
            <a:chExt cx="5410440" cy="2745000"/>
          </a:xfrm>
        </p:grpSpPr>
        <p:sp>
          <p:nvSpPr>
            <p:cNvPr id="236" name="Rectangle 7"/>
            <p:cNvSpPr/>
            <p:nvPr/>
          </p:nvSpPr>
          <p:spPr>
            <a:xfrm>
              <a:off x="3124080" y="43290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5257800" y="64008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9"/>
            <p:cNvSpPr/>
            <p:nvPr/>
          </p:nvSpPr>
          <p:spPr>
            <a:xfrm>
              <a:off x="7162920" y="396072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04920" y="68544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01640" indent="-609480">
              <a:spcBef>
                <a:spcPts val="601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keletal muscl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It attaches to bones by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end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أوتار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keletal muscle is responsible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voluntary movement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ات الإراد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Also called striated muscl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لات مخطط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diac muscle</a:t>
            </a: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ms the contractile wa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f the hear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Cardiac cells are branch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mooth muscle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o striatio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found in the walls of the digestive tract,                                           urinary bladder, arteries, and other internal orga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s cells are spindle-shap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4343400" y="2139840"/>
            <a:ext cx="4800600" cy="3270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8:12:48Z</dcterms:created>
  <dc:creator>User</dc:creator>
  <dc:description/>
  <dc:language>en-US</dc:language>
  <cp:lastModifiedBy>د أشرف مشالي</cp:lastModifiedBy>
  <dcterms:modified xsi:type="dcterms:W3CDTF">2013-09-01T08:31:28Z</dcterms:modified>
  <cp:revision>218</cp:revision>
  <dc:subject/>
  <dc:title>Slide 1</dc:title>
</cp:coreProperties>
</file>