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246-D78F-43E4-B49B-C7205DF3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8619-0CE3-418C-A856-9FBA49BB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519-F79B-4EE3-B569-52C85BA6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09A-9666-4BFE-B2F6-C6616840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E0EB-EBA6-4137-B3AF-E56A36AE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9153-C859-4A34-A3A5-86EA71B7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313C-1322-4A56-B231-E4E45E60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19FD-D51A-428D-8BE7-6602A5E7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E839-1437-4821-B65B-254A6F26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6D69-55E1-44A1-AE64-9EB94864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9EB6-5FF9-44D0-951E-56070242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E2E-E907-4E81-A93D-C7705DB4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90AE-9591-47DE-B0CA-7EC08469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A23B-AF3E-4826-9217-7A2A5105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7EF8-6B9C-43FE-892F-8B49E7E2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9A86-B798-494C-AAE3-4CF1716A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223F-049F-496C-B22A-B62C0A7D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AF548-EFD8-4391-AF82-2EF15145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80BFD-4FAA-4087-9E79-52247BD1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FFCD0-CB33-40C5-AEF1-DF683993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024A0-07FA-4CB5-9EBB-7727A7BE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049FF-DD58-407A-A853-C30B9462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BFF-9D6C-429F-8A64-64F8ED45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E4814-AEEC-41F8-9B33-BF1BD3B3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5CE6D-AD40-4970-BA3D-A248A51A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008AC-AF08-4665-A41A-DD183E5B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70289-AE1A-4867-B9FB-B53A0C10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34B62-0BA3-4BC2-A431-BD601095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4A995-4EF5-4DFC-B008-C4F43311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8FEAF-17E5-43C4-9635-7F7A5DA8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B5B84-F80D-415A-AD85-AA4099AE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16C67-7A9B-4CEC-8591-17BDB622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7E9DB-42E1-4F19-8966-A0B10C8F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D41-7C6D-4B8E-8526-87A4AD30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DAA6E-E1A8-4365-97AA-BF1D014E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76109-074B-41FF-BD38-1786180C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FFEC6-7D8E-4788-B0E5-AC3BE4E0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D58E2-F137-4D7C-99F2-EDCA3447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DBF3C-93CD-4B7B-98EF-FB56CE8C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E9A44-978D-4086-882C-E0DE3B91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C7306-8D6F-4676-971F-18E587C3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737BC-C70B-4129-9D7D-D41B302F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2D9A2-5269-4132-80B6-E17B2DA6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B20-0E75-463D-A21C-7E66A805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FD8-D150-4C5A-A5A6-2323B739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CA5-E8CA-4F83-BAA2-22607FE0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35B3-11C7-4DDB-BACD-EC76200F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387-365D-4F20-A0F1-67C8682C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FD1D-727F-44BF-AD79-BE2C01F48AF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07C8-A800-44DF-B910-5DF3FE38838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CAAB-6F4A-4DA9-B5AC-045054F4AC3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9C95-7ADA-468B-9A45-B3B21EAB90A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mc.maricopa.edu/faculty/farabee/BIOBK/BioBookglossE.html#endocrine system" TargetMode="Externa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26504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</a:t>
            </a:r>
            <a:r>
              <a:rPr b="1" lang="ar-SA" sz="28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 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cs typeface="Traditional Arabic"/>
              </a:rPr>
              <a:t>أنسجة الحيوان</a:t>
            </a:r>
            <a:r>
              <a:rPr b="1" lang="ar-SA" sz="28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(Histology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cs typeface="Traditional Arabic"/>
              </a:rPr>
              <a:t>علم الأنسجة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280" y="2214360"/>
            <a:ext cx="868680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imals are multicellular organisms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كائنات عديدة الخلايا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ith their specialized cells grouped into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most animals, combinations of various tissues make up functional units calle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rga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groups of organs that work together form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system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example, the human digestive system consists of a stomach, small intestine, large intestine, and several other organs, each a composite of different tissues.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62320" y="351000"/>
            <a:ext cx="4114800" cy="563400"/>
          </a:xfrm>
          <a:prstGeom prst="rect">
            <a:avLst/>
          </a:prstGeom>
          <a:solidFill>
            <a:srgbClr val="007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1: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61722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 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أنسجة الحيوان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(Histology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2649240"/>
            <a:ext cx="419076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in animals are composed of a number of differen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 typ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are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, which are in turn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4648320" y="2374920"/>
            <a:ext cx="4038480" cy="2976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</p:pic>
      <p:sp>
        <p:nvSpPr>
          <p:cNvPr id="201" name="Text Box 5"/>
          <p:cNvSpPr/>
          <p:nvPr/>
        </p:nvSpPr>
        <p:spPr>
          <a:xfrm>
            <a:off x="2209680" y="16002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ganization of the Animal Bo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 (Histology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612800"/>
            <a:ext cx="8381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270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 tissu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s a group of cells with a commo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ifferent types of tissues have different structures that are especially suited to their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tissue may be held by a sticky extra-cellular matrix that coats the cells or weaves them together in a fabric of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270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ypes of tissues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1- Epithelial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طلائ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2- Connectiv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ضام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3- Nervous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صب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4- Muscl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ضل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(1) Epithelial Tissues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الأنسجة الطلائية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440" y="1447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over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غطي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surfaces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in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بطن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cavities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133720" y="23623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of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80880" y="3962520"/>
            <a:ext cx="1981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in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طين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352680" y="3962520"/>
            <a:ext cx="25146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حماية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629400" y="4038480"/>
            <a:ext cx="22860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ming g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كوين الغد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6"/>
          <p:cNvGrpSpPr/>
          <p:nvPr/>
        </p:nvGrpSpPr>
        <p:grpSpPr>
          <a:xfrm>
            <a:off x="1295280" y="2895480"/>
            <a:ext cx="6400800" cy="990360"/>
            <a:chOff x="1295280" y="2895480"/>
            <a:chExt cx="6400800" cy="990360"/>
          </a:xfrm>
        </p:grpSpPr>
        <p:sp>
          <p:nvSpPr>
            <p:cNvPr id="211" name="Line 10"/>
            <p:cNvSpPr/>
            <p:nvPr/>
          </p:nvSpPr>
          <p:spPr>
            <a:xfrm>
              <a:off x="3200400" y="289548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1"/>
            <p:cNvSpPr/>
            <p:nvPr/>
          </p:nvSpPr>
          <p:spPr>
            <a:xfrm>
              <a:off x="4572000" y="289548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1295280" y="342864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12952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4"/>
            <p:cNvSpPr/>
            <p:nvPr/>
          </p:nvSpPr>
          <p:spPr>
            <a:xfrm>
              <a:off x="457200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5"/>
            <p:cNvSpPr/>
            <p:nvPr/>
          </p:nvSpPr>
          <p:spPr>
            <a:xfrm>
              <a:off x="76960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7"/>
          <p:cNvSpPr/>
          <p:nvPr/>
        </p:nvSpPr>
        <p:spPr>
          <a:xfrm>
            <a:off x="380880" y="5105520"/>
            <a:ext cx="62485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ands can be single epithelial cells, such as the goblet cell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كأس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line the intest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cellular gland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عديدة الخلا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 the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endocrine gland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9" descr=""/>
          <p:cNvPicPr/>
          <p:nvPr/>
        </p:nvPicPr>
        <p:blipFill>
          <a:blip r:embed="rId2"/>
          <a:stretch/>
        </p:blipFill>
        <p:spPr>
          <a:xfrm>
            <a:off x="6858000" y="5105520"/>
            <a:ext cx="1523880" cy="171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52280" y="609120"/>
            <a:ext cx="838224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036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pithelia are classified 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umber of cell lay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shape of cell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n the free surfa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imple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بسيط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is a single layer of cell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tratified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ي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multiple layers of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seudostratifi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epithelium: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ذ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a single layer of cells                                                         but appear to form two laye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l cell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-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uboida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كعب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Columna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عمود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Squamou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حرشف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0" name="Group 12"/>
          <p:cNvGrpSpPr/>
          <p:nvPr/>
        </p:nvGrpSpPr>
        <p:grpSpPr>
          <a:xfrm>
            <a:off x="4278240" y="990720"/>
            <a:ext cx="4865760" cy="5717160"/>
            <a:chOff x="4278240" y="990720"/>
            <a:chExt cx="4865760" cy="571716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rcRect l="0" t="0" r="0" b="3244"/>
            <a:stretch/>
          </p:blipFill>
          <p:spPr>
            <a:xfrm>
              <a:off x="4278240" y="990720"/>
              <a:ext cx="48657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6"/>
            <p:cNvSpPr/>
            <p:nvPr/>
          </p:nvSpPr>
          <p:spPr>
            <a:xfrm>
              <a:off x="7543800" y="289584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7620120" y="441972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8"/>
            <p:cNvSpPr/>
            <p:nvPr/>
          </p:nvSpPr>
          <p:spPr>
            <a:xfrm>
              <a:off x="75438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9"/>
            <p:cNvSpPr/>
            <p:nvPr/>
          </p:nvSpPr>
          <p:spPr>
            <a:xfrm>
              <a:off x="4343400" y="44640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مكعب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0"/>
            <p:cNvSpPr/>
            <p:nvPr/>
          </p:nvSpPr>
          <p:spPr>
            <a:xfrm>
              <a:off x="43434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4419720" y="27432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مهدبة طبقية كاذب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0880" y="812880"/>
            <a:ext cx="8382240" cy="28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Muscle tissu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يج العضلي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omposed of long cells called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uscle fib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ألياف عض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capable of contracting when stimulated by nerve impuls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has large numbers of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fibri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لُيَيفات عضل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de of the contractile proteins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cti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كتين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si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يوسي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uscle is the most abundant tissue in most animals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9" name="Group 8"/>
          <p:cNvGrpSpPr/>
          <p:nvPr/>
        </p:nvGrpSpPr>
        <p:grpSpPr>
          <a:xfrm>
            <a:off x="685800" y="3733920"/>
            <a:ext cx="7772400" cy="2666880"/>
            <a:chOff x="685800" y="3733920"/>
            <a:chExt cx="7772400" cy="2666880"/>
          </a:xfrm>
        </p:grpSpPr>
        <p:pic>
          <p:nvPicPr>
            <p:cNvPr id="230" name="Picture 6" descr=""/>
            <p:cNvPicPr/>
            <p:nvPr/>
          </p:nvPicPr>
          <p:blipFill>
            <a:blip r:embed="rId1"/>
            <a:stretch/>
          </p:blipFill>
          <p:spPr>
            <a:xfrm>
              <a:off x="4190760" y="3733920"/>
              <a:ext cx="4267440" cy="266688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231" name="Picture 7" descr=""/>
            <p:cNvPicPr/>
            <p:nvPr/>
          </p:nvPicPr>
          <p:blipFill>
            <a:blip r:embed="rId2"/>
            <a:srcRect l="15842" t="0" r="0" b="0"/>
            <a:stretch/>
          </p:blipFill>
          <p:spPr>
            <a:xfrm>
              <a:off x="685800" y="3733920"/>
              <a:ext cx="3238560" cy="264780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</p:grpSp>
    </p:spTree>
  </p:cSld>
  <p:transition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04560" y="958320"/>
            <a:ext cx="838188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re are three types of muscle tissue in the vertebrate body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3124080" y="2286000"/>
            <a:ext cx="5867640" cy="4343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2280" y="3009960"/>
            <a:ext cx="3124440" cy="22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keletal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هيكل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rdiac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قلب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mooth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ملساء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3124080" y="3960720"/>
            <a:ext cx="5410440" cy="2745000"/>
            <a:chOff x="3124080" y="3960720"/>
            <a:chExt cx="5410440" cy="2745000"/>
          </a:xfrm>
        </p:grpSpPr>
        <p:sp>
          <p:nvSpPr>
            <p:cNvPr id="236" name="Rectangle 7"/>
            <p:cNvSpPr/>
            <p:nvPr/>
          </p:nvSpPr>
          <p:spPr>
            <a:xfrm>
              <a:off x="3124080" y="43290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5257800" y="64008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9"/>
            <p:cNvSpPr/>
            <p:nvPr/>
          </p:nvSpPr>
          <p:spPr>
            <a:xfrm>
              <a:off x="7162920" y="396072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04920" y="68544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01640" indent="-609480">
              <a:spcBef>
                <a:spcPts val="601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keletal muscl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It attaches to bones by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end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أوتار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keletal muscle is responsible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voluntary movement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ات الإراد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Also called striated muscl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لات مخطط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diac muscle</a:t>
            </a: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ms the contractile wa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f the hear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Cardiac cells are branch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mooth muscle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o striatio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found in the walls of the digestive tract,                                           urinary bladder, arteries, and other internal orga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s cells are spindle-shap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4343400" y="2139840"/>
            <a:ext cx="4800600" cy="3270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8:12:48Z</dcterms:created>
  <dc:creator>User</dc:creator>
  <dc:description/>
  <dc:language>en-US</dc:language>
  <cp:lastModifiedBy>User</cp:lastModifiedBy>
  <dcterms:modified xsi:type="dcterms:W3CDTF">2015-03-11T03:36:39Z</dcterms:modified>
  <cp:revision>218</cp:revision>
  <dc:subject/>
  <dc:title>Slide 1</dc:title>
</cp:coreProperties>
</file>