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0E1-3799-4C21-863C-ABCDE2B7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F6C-8674-4122-AF15-0C3D068A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1CC-457A-4B5A-AF95-828EEAAF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A82-8D36-45AB-8CD4-F5AABFBB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65B5-8C02-48A3-A60A-C938B248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3AFC-BED2-4C21-ADEB-75E754E7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0AFF-7D90-4B6E-977B-B24DC92E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B410-7777-41D7-8730-8509D56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A140-7B96-4DF9-8015-4D27F2B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FAB8-C316-42E0-A0A3-D652C62D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AD48-A8CF-4386-A49D-5E0BA53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7F2-3993-4534-98F0-770C1644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5C32-8BCA-4DD9-A28C-1CE1253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61F3-875E-4912-9658-BD894B76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3CDF-DF3E-49CE-89B9-237F569E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D1BF-5E24-44C2-8A0D-AFFBCD6A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99A4-AC99-4998-BA20-AAFAA829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0134-06F5-4CEF-982C-11BCDED1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C717-7541-4965-8888-FB463278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724B-3F9A-4DA8-9038-BF6D841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6AAE-28C1-4D78-9143-CE06157A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EE58-B125-413B-ACCB-B721554E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6E4-D69E-422F-B8EF-26F3D3BE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A6C7-97F2-4A9C-B143-9E8C33C0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44CA-CE1C-42B8-9625-0164829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122E-817D-4F54-921B-0D75DFC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23AD-71C3-4311-A755-C56990B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A649-3A34-463C-BD92-8400DCE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6C43-0479-408E-AB56-8AB11911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0710-B46E-432A-B35C-6A5E9853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6F42-D73B-43B6-B269-0DAE501D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8BE7-747B-4EC8-B280-2BF27C09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8042-D45B-4A88-83D8-8F1F2991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665-4B9A-4520-9CAB-CBCCB0D0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89DB8-BD97-4525-A3F3-4C73105A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A5CD-D86A-4386-9531-75462E1D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8CFF-2D20-4B34-8232-BC8C31D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B5E4-55D5-453A-B5E5-4F5614E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9A60-90A4-4146-926A-EBC2C33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5787-616D-451E-A5D2-AFFDAF6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B246-CA88-4CAD-B1E2-5F158EA3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DCCF-3678-4C23-820D-F14B0B0D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BC27-515A-4B49-8FB1-696D95B3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439-950D-4CC1-9B0D-C96F817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710-B807-4BCE-87FE-4905A965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5CF-32F9-4596-9F23-1CA847E7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6A7-3641-428B-AFE8-E1A7695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0A2-BE8C-48BB-A60A-7CED0D9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D571-A533-46F8-AC9C-ED98538B1BA5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1C87-FAB5-477D-B93C-BE4E1C23CA29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B399-3C04-422C-89A4-1F038066B95F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B91E-359B-48D6-8936-A71A95D69DB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E.html#endocrine system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265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 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cs typeface="Traditional Arabic"/>
              </a:rPr>
              <a:t>علم الأنسجة</a:t>
            </a:r>
            <a:r>
              <a:rPr b="1" lang="ar-SA" sz="2000" spc="-1" strike="noStrike" u="sng">
                <a:solidFill>
                  <a:srgbClr val="04617b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280" y="2214360"/>
            <a:ext cx="86868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imals are multicellular organisms</a:t>
            </a:r>
            <a:r>
              <a:rPr b="1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كائنات عديدة الخلايا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their specialized cells grouped into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most animals, combinations of various tissues make up functional units calle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organ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and groups of organs that work together form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example, the human digestive system consists of a stomach, small intestine, large intestine, and several other organs, each a composite of different tissues.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362320" y="351000"/>
            <a:ext cx="4114800" cy="563400"/>
          </a:xfrm>
          <a:prstGeom prst="rect">
            <a:avLst/>
          </a:prstGeom>
          <a:solidFill>
            <a:srgbClr val="007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cture 11: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nimal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أنسجة الحيوان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(Histology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64924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in animals are composed of a number of differ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 typ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Organs are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issu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, which are in turn compose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2374920"/>
            <a:ext cx="4038480" cy="297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bf5f9">
                <a:alpha val="50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2209680" y="1600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zation of the Anima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  <a:ea typeface="Traditional Arabic"/>
              </a:rPr>
              <a:t>Animal Tissues (Histology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2703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 tissu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is a group of cells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fferent types of tissues have different structures that are especially suited to their functio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-2437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 tissue may be held by a sticky extra-cellular matrix that coats the cells or weaves them together in a fabric of fibe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6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270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Types of tissues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1- Epithelial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طلائ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2- Connectiv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ضام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3- Nervous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صب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4- Muscle tissue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نسيج عضلي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(1) Epithelial Tissues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Calibri"/>
                <a:cs typeface="Traditional Arabic"/>
              </a:rPr>
              <a:t>الأنسجة الطلائية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ver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غطي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surfaces and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ines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بطن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ody cavities</a:t>
            </a: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362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of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80880" y="3962520"/>
            <a:ext cx="19814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n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بطين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352680" y="3962520"/>
            <a:ext cx="251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ng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ماية الأعض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629400" y="4038480"/>
            <a:ext cx="228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ing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كوين الغد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6"/>
          <p:cNvGrpSpPr/>
          <p:nvPr/>
        </p:nvGrpSpPr>
        <p:grpSpPr>
          <a:xfrm>
            <a:off x="1295280" y="2895480"/>
            <a:ext cx="6400800" cy="990360"/>
            <a:chOff x="1295280" y="2895480"/>
            <a:chExt cx="6400800" cy="990360"/>
          </a:xfrm>
        </p:grpSpPr>
        <p:sp>
          <p:nvSpPr>
            <p:cNvPr id="211" name="Line 10"/>
            <p:cNvSpPr/>
            <p:nvPr/>
          </p:nvSpPr>
          <p:spPr>
            <a:xfrm>
              <a:off x="3200400" y="289548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4572000" y="2895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1295280" y="342864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952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457200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>
              <a:off x="7696080" y="3428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7"/>
          <p:cNvSpPr/>
          <p:nvPr/>
        </p:nvSpPr>
        <p:spPr>
          <a:xfrm>
            <a:off x="380880" y="5105520"/>
            <a:ext cx="624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ands can be single epithelial cells, such as the goblet cell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خلايا الكأ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line the intest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cellular glan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عديدة الخلا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endocrine gland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9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523880" cy="17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609120"/>
            <a:ext cx="838224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036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Epithelia are classified by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umber of cell lay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shape of cell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n the free surf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mple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بسيط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is a single layer of cell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tratified epithelium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ي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multiple layers of cell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seudostratified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epithelium: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كاذب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طبقي</a:t>
            </a:r>
            <a:r>
              <a:rPr b="0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 single layer of cells                                                         but appear to form two lay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buClr>
                <a:srgbClr val="000000"/>
              </a:buClr>
              <a:buSzPct val="95000"/>
              <a:buFont typeface="Constantia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Types of epithelial cell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-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uboid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مكعب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Columnar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عمود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03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- Squamou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حرشف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0" name="Group 12"/>
          <p:cNvGrpSpPr/>
          <p:nvPr/>
        </p:nvGrpSpPr>
        <p:grpSpPr>
          <a:xfrm>
            <a:off x="4278240" y="990720"/>
            <a:ext cx="4865760" cy="5717160"/>
            <a:chOff x="4278240" y="990720"/>
            <a:chExt cx="4865760" cy="571716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4278240" y="990720"/>
              <a:ext cx="4865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"/>
            <p:cNvSpPr/>
            <p:nvPr/>
          </p:nvSpPr>
          <p:spPr>
            <a:xfrm>
              <a:off x="7543800" y="28958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620120" y="44197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حرشف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75438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4343400" y="44640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مكعبة بسيط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343400" y="64008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طبق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4419720" y="27432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Arial"/>
                </a:rPr>
                <a:t>عمودية مهدبة طبقية كاذب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0880" y="812880"/>
            <a:ext cx="8382240" cy="28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uscle tissue 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نسيج العضلي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composed of long cells call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muscle fiber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ألياف عضل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at are capable of contracting when stimulated by nerve impul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t has large numbers of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fibril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ُيَيفات عضل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de of the contractile proteins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ctin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كتين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myosin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يوسي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scle is the most abundant tissue in most animals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685800" y="3733920"/>
            <a:ext cx="7772400" cy="2666880"/>
            <a:chOff x="685800" y="3733920"/>
            <a:chExt cx="7772400" cy="266688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4190760" y="37339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231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685800" y="37339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560" y="958320"/>
            <a:ext cx="838188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e are three types of muscle tissue in the vertebrate bod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124080" y="2286000"/>
            <a:ext cx="5867640" cy="43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2280" y="3009960"/>
            <a:ext cx="312444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keletal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هيكل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rdiac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قلب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ooth mus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ضلات الملساء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124080" y="3960720"/>
            <a:ext cx="5410440" cy="2745000"/>
            <a:chOff x="3124080" y="3960720"/>
            <a:chExt cx="5410440" cy="2745000"/>
          </a:xfrm>
        </p:grpSpPr>
        <p:sp>
          <p:nvSpPr>
            <p:cNvPr id="236" name="Rectangle 7"/>
            <p:cNvSpPr/>
            <p:nvPr/>
          </p:nvSpPr>
          <p:spPr>
            <a:xfrm>
              <a:off x="3124080" y="43290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5257800" y="640080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7162920" y="3960720"/>
              <a:ext cx="13716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04920" y="6854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1640" indent="-609480">
              <a:spcBef>
                <a:spcPts val="601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keletal muscl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It attaches to bones by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end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cs typeface="Majalla UI"/>
              </a:rPr>
              <a:t>الأوتار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skeletal muscle is responsible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 voluntary movement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حركات الإراد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Also called striated muscl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عضلات مخططة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ardiac muscle</a:t>
            </a:r>
            <a:r>
              <a:rPr b="1" lang="en-GB" sz="26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orms the contractile wal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the hear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Cardiac cells are branc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93880" indent="-5335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mooth muscle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o striation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s found in the walls of the digestive tract,                                           urinary bladder, arteries, and other internal organ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701640" indent="-609480">
              <a:spcBef>
                <a:spcPts val="499"/>
              </a:spcBef>
              <a:buClr>
                <a:srgbClr val="339933"/>
              </a:buClr>
              <a:buSzPct val="95000"/>
              <a:buFont typeface="Constantia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s cells are spindle-sha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4343400" y="2139840"/>
            <a:ext cx="4800600" cy="327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8:12:48Z</dcterms:created>
  <dc:creator>User</dc:creator>
  <dc:description/>
  <dc:language>en-US</dc:language>
  <cp:lastModifiedBy>User</cp:lastModifiedBy>
  <dcterms:modified xsi:type="dcterms:W3CDTF">2015-03-11T03:36:39Z</dcterms:modified>
  <cp:revision>218</cp:revision>
  <dc:subject/>
  <dc:title>Slide 1</dc:title>
</cp:coreProperties>
</file>