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40FD-D7DB-4A50-818A-B192E7C3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03B-1B78-4C6C-9F1E-A12956C8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6C83D-966D-4877-BE15-7E512082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77F2F-BED4-4942-AC4C-3A182D20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24BDF-2A5C-4CCE-80F2-D6CF5227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BAB0E-7A1A-47EE-8E06-E7495F6D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2220A-D447-43FF-96B7-50D4345F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284D3-9D1F-47A7-A64E-8AAB6EC0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D70E1-C5EA-4E29-A348-D49776B1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B7489-D3E4-49E0-81F1-0FF3201C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F7BF2-A7CD-4C6A-92C1-5B3F30A3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E1B91-7B55-4E53-A845-C4012DDB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23F-7457-46AB-9D1B-B1E28E65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5F5C1-2908-4C37-847F-C8BFCCDA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345CD-9A17-4FB7-B7EF-DC78B615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33B17-05D7-42CB-BDCB-7F743F35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00AF8-1B2B-4265-A6CA-EF49CCA1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FF000-719F-4C9C-A886-7363E01B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703DE-4B6D-442B-82E1-E1CBB1FE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22C38-979F-43CF-BD26-B496A882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88BF7-0552-404A-91F6-1E81DA76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F0EC7-FEB1-4D1C-A975-4B435EB9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0AA6E-C2E7-4DF8-B2CC-9FA86875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873-293D-468D-BF7A-8FBE34BE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839B4-6E50-459F-AF35-E2FEFC8A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13321-C433-48AA-A3AA-C905577E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BA782-10B9-450D-9B75-D0FF904D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9832F-A5E6-4806-BCE6-7824EABE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33B1A-70F0-4765-A3BF-93E08F6C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AFF38-CB15-4696-A390-160494E4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6B791-9BC8-43FE-A819-563A80FC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A0D0A-CFF3-446D-A6D6-CBFB5034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D8366-7130-483D-ADE5-10CF4F14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D7884-3945-456A-8771-B30CD216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8D22-0243-4651-BA11-5A44C88E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DC371-784A-4EB8-A5B4-89B0240C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10D18-E806-405E-ADFA-B1059158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AC927-8CBA-4D2D-A8DD-1D658C77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FF022-3FBC-4EDB-B795-4C67C5E9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8EED5-3851-4E9B-8634-2180C4EF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A1029-B6A7-4EB1-9863-D109EBB9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46A86-F617-4AB2-9B8E-8626E2D2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74759-C4DA-4EB1-A1AA-C954B14D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EC604-C532-46BA-B996-189C2E03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11B0F-FA8F-4F5A-8F1D-794D6701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845E-EA81-4B05-B9A5-1F7E817E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868E0-63C5-401E-B2A7-AD21BAE4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8D166-60DC-4F19-8FA8-848FDC96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4CEB5-82C0-4F34-82BA-ED980A64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5B92C-CC1E-470B-BF2D-AF1F6AF3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EB6C3-88DD-47F0-89B8-1FE142AF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B31F-C204-4783-9DE5-D634A0CA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A0B5-8A88-4592-A025-ED210FCA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182D-BBE1-4010-B01F-32F66568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53DD-CA2A-4106-9BB9-03905047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D0A5-833B-4A73-B0A7-65826266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E65-6E92-4EFE-B749-A5FBF6AC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80C8-0E58-409A-B263-043AF024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DEF1-B2D8-4040-AD7E-B993932C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F0ED-0E58-4FAB-8C73-B76D9047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ACE3-C4F7-41E6-9E64-9FC3794B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6410-9F39-4FB4-9700-3E858BBB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553BD-606C-41CC-8A05-EC00F925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62A9B-4FF5-45FB-8F81-A42CF60F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B2C64-B2D6-4E54-AE80-581619C2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54748-A6FE-4A9B-B684-3874A6C1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2F535-DE55-4C87-B04E-36718039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9D7-43C5-4E3E-AF91-1C25AFDF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203B8-619F-49D6-810D-3A8AF390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26A3C-9D59-404C-B296-D44E5C1A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C0745-39C3-42E4-8D4F-DCFFF6BC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B849D-E6AC-421A-AB77-B415FC61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FEF67-CF58-4D41-97AB-D1C8E631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50653-4D42-4118-A833-172F36CF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C176D-4BFB-4E9A-8B8F-F359C6C8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5E931-C33A-44DC-BF1D-17E039BF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4B563-1CD6-44A8-A830-CF956D6A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5CEAE-020E-4D94-976C-2A4AE68E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E733-D828-4FCA-A1ED-86D93FC0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A243D-CC5D-4C96-8539-33ED5134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3548A-38A8-4821-89D3-0585D399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44962-F924-494E-B38E-758E4463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38B22-2E6A-4A76-9B62-37ACBF63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25260-FAF4-4EA4-838D-F4941378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372A5-E404-4AA2-9DCA-35D4C836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53CD4-E4D4-46BC-AA8E-30AC35CE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9B3E2-C5F7-44C7-956E-BE5184D6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B4ACC-12AF-4030-A38A-DAA2D5B4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CB055-41C4-4746-A179-C64FF1CE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3DD3-D267-4DDD-BC32-EDCADFA8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460DF-4532-43A1-83FF-7DD6BB55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DF6DA-290D-4274-8524-DDB50F3B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3D66B-EAFD-4568-9977-ECFE865A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104A8-998E-4125-8B14-46107398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6434B-648A-4AE1-9864-C9E3E2D8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C6E20-225C-4EAC-BB06-06E68F10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A9CCF-574A-4F43-B610-B99B234B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2654A-DC89-4C23-BA49-4D4A8E88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D6230-A095-498F-B394-8B686EB3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13E21-7C65-4657-BFB6-70963C93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458-1239-4145-8972-8E73B077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1B29A-6294-49DC-B158-E6FB9999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CC79D-9C3C-45D6-80E0-3725455C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B4EAF-A7B9-4698-AAC7-6ACB7924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ABC49-FC44-4EF5-8803-475F8EC3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F6C07-5766-4375-9231-F6C3C2C9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B1632-4D9C-45C6-9B63-D281982D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EEBA0-8B2A-4FF9-9E73-B96E781B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ACB65-114C-48B0-98A2-603AF1AE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B28FC-926E-4D9E-9761-3D4D18E2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3485E-FD09-4756-B840-6737F070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59C2-D5C9-4CD2-858C-675345C9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5920D-F3D1-4C39-820B-2A4A2A1E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F64DE-4F3A-45B7-A711-E664CC77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36350-5EC0-4F50-A0A6-29A734BD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CFE3C-B99A-4F14-A8D6-F86FFEFD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901AD-F1C8-4A0F-B010-3CD8C736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046C0-EBF2-427F-AE9D-0FC69168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606F6-F95A-4844-839B-E296DE22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29369-6658-4DF2-AA2C-1B6D3E33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EFB70-FAA3-4FA9-979D-46992C82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09D81-A1AB-4C93-AB6C-48A05451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16E-8A52-4A8A-A80E-B5167A7D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B4EF2-B837-4416-A0E9-36F37B57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ADC33-E849-41B2-8764-54D9E6C1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4DB6D-C448-4720-8265-548A8D53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3C871-577B-401D-B470-9A3D840C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3A125-A973-4BE7-9711-56B12923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034B5-EA10-441F-B83B-426A447D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1C7A0-8F05-4AE3-9C5B-EF4C3E31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A5B7C-9A3F-4D5E-80EF-82565EFA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AFCBF-8389-4700-9A4B-FF28DA34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18CEE-A8FA-464C-A4CB-4EEEE877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E38-04CE-4AC7-ADF4-5B41E5F7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DFAAC-3DCF-41AF-ABFC-12DA4D0B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1E7AB-14E2-4E80-AEF1-D050CA9A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1BA56-61FF-460E-A348-EAAF7F26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10967-BD74-439C-B18D-AC91B131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C371D-2127-4594-81E1-9430832F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0CEC0-86C7-4FC5-BCEA-B2737A89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9F91D-A4B6-4297-ADED-70630969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B29E3-EE73-4E91-890A-F2EDF8D3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5443A-B35C-42BB-95EC-4B48254D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D5387-AE26-4EE5-AE27-DA285780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4529-410A-45C8-A118-AA41F7A6311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3311-3456-46C7-A22A-59ADFD382052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532C-0104-42A6-9002-88C93CB7C79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9A98-10AB-4030-8E9C-D3080AD3E38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76FA-F771-48F7-8A63-873455D8F8C0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7710-7BCD-4A65-B312-6D199F668EA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B999-48A6-4BD4-9C78-BD526E6BB41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A8BB-5ACC-40A4-AE15-356D94646260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647F-327B-4679-8E05-8E0D457F95F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C80C-C620-488F-ACE0-E649207533EA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7540-4BE8-4604-8274-E8BAD0F3763A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7402-9DCA-4E4D-90C1-D3351450D72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4"/>
          <p:cNvSpPr/>
          <p:nvPr/>
        </p:nvSpPr>
        <p:spPr>
          <a:xfrm>
            <a:off x="685800" y="380880"/>
            <a:ext cx="7772400" cy="76428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: Animal Tiss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76320" y="1544760"/>
            <a:ext cx="883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Histology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لم الأنسج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s the study of plants and animal tissues by examining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فحص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issu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under a light microscope or an electron microsc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onstantia"/>
                <a:ea typeface="Arial"/>
              </a:rPr>
              <a:t>A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issue</a:t>
            </a:r>
            <a:r>
              <a:rPr b="0" lang="en-US" sz="2000" spc="-1" strike="noStrike">
                <a:solidFill>
                  <a:srgbClr val="0d0d0d"/>
                </a:solidFill>
                <a:latin typeface="Constantia"/>
                <a:ea typeface="Arial"/>
              </a:rPr>
              <a:t> is a group of cells that carry out a particular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nimals are multicellular organisms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كائنات عديدة الخلايا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with their specializ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grouped into t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 most animals, combinations of variou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issu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make up functional units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orga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, and groups of organs that work together are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ystem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For example, the animal digestive system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جهاز الهضم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onsists of a stomach, small intestine, large intestine, and several other organs, each comprises of different tissu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152280" y="30492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B-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Adipose Proper Connective Tissue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يج الضام الأصيل الده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"/>
          <p:cNvSpPr/>
          <p:nvPr/>
        </p:nvSpPr>
        <p:spPr>
          <a:xfrm>
            <a:off x="76320" y="1600200"/>
            <a:ext cx="4038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Function as storage cells for adipose (lipid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dipose cell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خلايا الدهن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ontain a large vacuole which in the live cell contains lip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ell nucleus and cytoplasm are pushed out to edge of cell memb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2" descr="http://i265.photobucket.com/albums/ii211/CollinAlexander/Adipose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48320" cy="314172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694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152280" y="30492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C-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Fibrous Proper Connective Tissue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يج الضام الأصيل الليف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76320" y="2362320"/>
            <a:ext cx="426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contains large number of collagenous fi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functions of this tissue are to attach muscles to bones (tendo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وتار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, and connect bones to other bones (ligament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ربط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 at joint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فاصل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2" descr="https://figures.boundless.com/19480/large/figure-33-02-07.jpe"/>
          <p:cNvPicPr/>
          <p:nvPr/>
        </p:nvPicPr>
        <p:blipFill>
          <a:blip r:embed="rId1"/>
          <a:stretch/>
        </p:blipFill>
        <p:spPr>
          <a:xfrm>
            <a:off x="4572000" y="1828800"/>
            <a:ext cx="4419720" cy="43876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7" descr="http://www2.estrellamountain.edu/faculty/farabee/Biobk/stomTS.gif"/>
          <p:cNvPicPr/>
          <p:nvPr/>
        </p:nvPicPr>
        <p:blipFill>
          <a:blip r:embed="rId1"/>
          <a:stretch/>
        </p:blipFill>
        <p:spPr>
          <a:xfrm>
            <a:off x="1781280" y="228600"/>
            <a:ext cx="5305320" cy="391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9" name="Rectangle 2"/>
          <p:cNvSpPr/>
          <p:nvPr/>
        </p:nvSpPr>
        <p:spPr>
          <a:xfrm>
            <a:off x="76320" y="426708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Orga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in animals are composed of different types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issu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Each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issu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is composed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Level of organiza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عظي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in anim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6"/>
          <p:cNvGrpSpPr/>
          <p:nvPr/>
        </p:nvGrpSpPr>
        <p:grpSpPr>
          <a:xfrm>
            <a:off x="304920" y="5943600"/>
            <a:ext cx="8458200" cy="1008720"/>
            <a:chOff x="304920" y="5943600"/>
            <a:chExt cx="8458200" cy="1008720"/>
          </a:xfrm>
        </p:grpSpPr>
        <p:sp>
          <p:nvSpPr>
            <p:cNvPr id="591" name="TextBox 3"/>
            <p:cNvSpPr/>
            <p:nvPr/>
          </p:nvSpPr>
          <p:spPr>
            <a:xfrm>
              <a:off x="304920" y="5943600"/>
              <a:ext cx="76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Cells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خلاي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Box 10"/>
            <p:cNvSpPr/>
            <p:nvPr/>
          </p:nvSpPr>
          <p:spPr>
            <a:xfrm>
              <a:off x="1752480" y="5943600"/>
              <a:ext cx="99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Tissues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أنسج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11"/>
            <p:cNvSpPr/>
            <p:nvPr/>
          </p:nvSpPr>
          <p:spPr>
            <a:xfrm>
              <a:off x="3429000" y="5943600"/>
              <a:ext cx="99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Organs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أعضا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12"/>
            <p:cNvSpPr/>
            <p:nvPr/>
          </p:nvSpPr>
          <p:spPr>
            <a:xfrm>
              <a:off x="5105520" y="594360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Systems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أجهز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13"/>
            <p:cNvSpPr/>
            <p:nvPr/>
          </p:nvSpPr>
          <p:spPr>
            <a:xfrm>
              <a:off x="6858360" y="5943600"/>
              <a:ext cx="1904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Organism body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جسم الكائن الح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6" name="Straight Arrow Connector 5"/>
            <p:cNvCxnSpPr/>
            <p:nvPr/>
          </p:nvCxnSpPr>
          <p:spPr>
            <a:xfrm>
              <a:off x="1142640" y="6124320"/>
              <a:ext cx="6102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7" name="Straight Arrow Connector 16"/>
            <p:cNvCxnSpPr/>
            <p:nvPr/>
          </p:nvCxnSpPr>
          <p:spPr>
            <a:xfrm>
              <a:off x="2819160" y="6130440"/>
              <a:ext cx="6102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8" name="Straight Arrow Connector 17"/>
            <p:cNvCxnSpPr/>
            <p:nvPr/>
          </p:nvCxnSpPr>
          <p:spPr>
            <a:xfrm>
              <a:off x="4495680" y="6130440"/>
              <a:ext cx="6102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9" name="Straight Arrow Connector 18"/>
            <p:cNvCxnSpPr/>
            <p:nvPr/>
          </p:nvCxnSpPr>
          <p:spPr>
            <a:xfrm>
              <a:off x="6248160" y="6130440"/>
              <a:ext cx="6102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685800" y="304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ypes of Animals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"/>
          <p:cNvSpPr/>
          <p:nvPr/>
        </p:nvSpPr>
        <p:spPr>
          <a:xfrm>
            <a:off x="76320" y="114300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Different types of tissues have different structures and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 tissue may be held by a sticky extracellular matrix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ادة بين خلوية لزج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at bind the cells together in a fabric of fibers (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Tissue= cells + extracellular matrix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3"/>
          <p:cNvGrpSpPr/>
          <p:nvPr/>
        </p:nvGrpSpPr>
        <p:grpSpPr>
          <a:xfrm>
            <a:off x="76320" y="2905200"/>
            <a:ext cx="9002520" cy="3513960"/>
            <a:chOff x="76320" y="2905200"/>
            <a:chExt cx="9002520" cy="3513960"/>
          </a:xfrm>
        </p:grpSpPr>
        <p:grpSp>
          <p:nvGrpSpPr>
            <p:cNvPr id="604" name="Group 4"/>
            <p:cNvGrpSpPr/>
            <p:nvPr/>
          </p:nvGrpSpPr>
          <p:grpSpPr>
            <a:xfrm>
              <a:off x="76320" y="3505680"/>
              <a:ext cx="7695720" cy="2107800"/>
              <a:chOff x="76320" y="3505680"/>
              <a:chExt cx="7695720" cy="2107800"/>
            </a:xfrm>
          </p:grpSpPr>
          <p:sp>
            <p:nvSpPr>
              <p:cNvPr id="605" name="Text Box 4"/>
              <p:cNvSpPr/>
              <p:nvPr/>
            </p:nvSpPr>
            <p:spPr>
              <a:xfrm>
                <a:off x="76320" y="4778640"/>
                <a:ext cx="2590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1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Epithelial tissue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نسيج الطلائي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Group 10"/>
              <p:cNvGrpSpPr/>
              <p:nvPr/>
            </p:nvGrpSpPr>
            <p:grpSpPr>
              <a:xfrm>
                <a:off x="1371600" y="3505680"/>
                <a:ext cx="6400440" cy="2107800"/>
                <a:chOff x="1371600" y="3505680"/>
                <a:chExt cx="6400440" cy="2107800"/>
              </a:xfrm>
            </p:grpSpPr>
            <p:sp>
              <p:nvSpPr>
                <p:cNvPr id="607" name="Line 11"/>
                <p:cNvSpPr/>
                <p:nvPr/>
              </p:nvSpPr>
              <p:spPr>
                <a:xfrm>
                  <a:off x="4558680" y="3505680"/>
                  <a:ext cx="0" cy="641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Line 12"/>
                <p:cNvSpPr/>
                <p:nvPr/>
              </p:nvSpPr>
              <p:spPr>
                <a:xfrm>
                  <a:off x="1371600" y="4146840"/>
                  <a:ext cx="64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3"/>
                <p:cNvSpPr/>
                <p:nvPr/>
              </p:nvSpPr>
              <p:spPr>
                <a:xfrm>
                  <a:off x="2971440" y="4146840"/>
                  <a:ext cx="0" cy="1466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0" name="Line 14"/>
            <p:cNvSpPr/>
            <p:nvPr/>
          </p:nvSpPr>
          <p:spPr>
            <a:xfrm>
              <a:off x="7760160" y="41310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4"/>
            <p:cNvSpPr/>
            <p:nvPr/>
          </p:nvSpPr>
          <p:spPr>
            <a:xfrm>
              <a:off x="1383120" y="41310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3"/>
            <p:cNvSpPr/>
            <p:nvPr/>
          </p:nvSpPr>
          <p:spPr>
            <a:xfrm>
              <a:off x="6171840" y="414252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4"/>
            <p:cNvSpPr/>
            <p:nvPr/>
          </p:nvSpPr>
          <p:spPr>
            <a:xfrm>
              <a:off x="1687320" y="571536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2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Connective tissue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نسيج الضا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4"/>
            <p:cNvSpPr/>
            <p:nvPr/>
          </p:nvSpPr>
          <p:spPr>
            <a:xfrm>
              <a:off x="4888080" y="571536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3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Muscular tissue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نسج العض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4"/>
            <p:cNvSpPr/>
            <p:nvPr/>
          </p:nvSpPr>
          <p:spPr>
            <a:xfrm>
              <a:off x="6488280" y="480060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4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Nervous tissue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نسيج العصب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4"/>
            <p:cNvSpPr/>
            <p:nvPr/>
          </p:nvSpPr>
          <p:spPr>
            <a:xfrm>
              <a:off x="2590920" y="2905200"/>
              <a:ext cx="39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d0d0d"/>
                  </a:solidFill>
                  <a:uFillTx/>
                  <a:latin typeface="Constantia"/>
                </a:rPr>
                <a:t>Types of tissu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5"/>
          <p:cNvGrpSpPr/>
          <p:nvPr/>
        </p:nvGrpSpPr>
        <p:grpSpPr>
          <a:xfrm>
            <a:off x="204840" y="2828880"/>
            <a:ext cx="8634240" cy="1891440"/>
            <a:chOff x="204840" y="2828880"/>
            <a:chExt cx="8634240" cy="1891440"/>
          </a:xfrm>
        </p:grpSpPr>
        <p:sp>
          <p:nvSpPr>
            <p:cNvPr id="618" name="Text Box 6"/>
            <p:cNvSpPr/>
            <p:nvPr/>
          </p:nvSpPr>
          <p:spPr>
            <a:xfrm>
              <a:off x="2133360" y="2828880"/>
              <a:ext cx="487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f0000"/>
                  </a:solidFill>
                  <a:uFillTx/>
                  <a:latin typeface="Constantia"/>
                </a:rPr>
                <a:t>Functions of Epitheliu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7"/>
            <p:cNvSpPr/>
            <p:nvPr/>
          </p:nvSpPr>
          <p:spPr>
            <a:xfrm>
              <a:off x="204840" y="3917880"/>
              <a:ext cx="2514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Protection 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حما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(ski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8"/>
            <p:cNvSpPr/>
            <p:nvPr/>
          </p:nvSpPr>
          <p:spPr>
            <a:xfrm>
              <a:off x="3165480" y="3940200"/>
              <a:ext cx="281916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Absorption 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امتصا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(Intestinal villi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خملات</a:t>
              </a: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9"/>
            <p:cNvSpPr/>
            <p:nvPr/>
          </p:nvSpPr>
          <p:spPr>
            <a:xfrm>
              <a:off x="6553080" y="394020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Secretion 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افراز</a:t>
              </a:r>
              <a:r>
                <a:rPr b="1" lang="ar-SA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(glandular cell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Group 16"/>
            <p:cNvGrpSpPr/>
            <p:nvPr/>
          </p:nvGrpSpPr>
          <p:grpSpPr>
            <a:xfrm>
              <a:off x="1447560" y="3280680"/>
              <a:ext cx="6248160" cy="625320"/>
              <a:chOff x="1447560" y="3280680"/>
              <a:chExt cx="6248160" cy="625320"/>
            </a:xfrm>
          </p:grpSpPr>
          <p:sp>
            <p:nvSpPr>
              <p:cNvPr id="623" name="Line 11"/>
              <p:cNvSpPr/>
              <p:nvPr/>
            </p:nvSpPr>
            <p:spPr>
              <a:xfrm>
                <a:off x="4571640" y="32806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12"/>
              <p:cNvSpPr/>
              <p:nvPr/>
            </p:nvSpPr>
            <p:spPr>
              <a:xfrm>
                <a:off x="1447560" y="3459960"/>
                <a:ext cx="6248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13"/>
              <p:cNvSpPr/>
              <p:nvPr/>
            </p:nvSpPr>
            <p:spPr>
              <a:xfrm>
                <a:off x="1458720" y="34488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14"/>
              <p:cNvSpPr/>
              <p:nvPr/>
            </p:nvSpPr>
            <p:spPr>
              <a:xfrm>
                <a:off x="4571640" y="34488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15"/>
              <p:cNvSpPr/>
              <p:nvPr/>
            </p:nvSpPr>
            <p:spPr>
              <a:xfrm>
                <a:off x="7684560" y="34488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Rectangle 3"/>
          <p:cNvSpPr/>
          <p:nvPr/>
        </p:nvSpPr>
        <p:spPr>
          <a:xfrm>
            <a:off x="45720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First: Epithelial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Arial"/>
              </a:rPr>
              <a:t>الأنسجة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Arial"/>
              </a:rPr>
              <a:t>الطلائ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"/>
          <p:cNvSpPr/>
          <p:nvPr/>
        </p:nvSpPr>
        <p:spPr>
          <a:xfrm>
            <a:off x="76320" y="1143000"/>
            <a:ext cx="8839080" cy="19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Characterized by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تميز بما يلي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ells tightly link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presence of a cell secretion called the basement membran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غشاء القاع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over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ُغط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lin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ُبطن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ther tissues and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2"/>
          <p:cNvSpPr/>
          <p:nvPr/>
        </p:nvSpPr>
        <p:spPr>
          <a:xfrm>
            <a:off x="76320" y="479268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Glands can b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epithelial cells, such as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goblet cell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خلايا الكأس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at found in the stomach and intestines to secrete mucu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خاط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Multicellular gland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غدد عديدة الخلايا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clude the endocrine gland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غدد الصم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8" descr="https://classconnection.s3.amazonaws.com/276/flashcards/583276/jpg/goblet_cell_sketch_with_label_copy1318481738128.jpg"/>
          <p:cNvPicPr/>
          <p:nvPr/>
        </p:nvPicPr>
        <p:blipFill>
          <a:blip r:embed="rId1"/>
          <a:srcRect l="11125" t="0" r="0" b="0"/>
          <a:stretch/>
        </p:blipFill>
        <p:spPr>
          <a:xfrm>
            <a:off x="6629400" y="4684680"/>
            <a:ext cx="2336760" cy="20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75960" y="1166760"/>
            <a:ext cx="838188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pithelia are classified by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number of cell layer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shape of 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n the free surfa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Classification based on numbe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of cell layer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0b050"/>
              </a:buClr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nstantia"/>
              </a:rPr>
              <a:t>S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imple epithelium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سيط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s a One layer of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0b050"/>
              </a:buClr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tratified epithelium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طبق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re than one layer of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0b050"/>
              </a:buClr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seudostratifi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epithelium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طبقي كاذب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ne layer of cells but appear to form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wo lay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Classification based on cell shap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uboidal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 cub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كعب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olumna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 colum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مود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quamou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 fla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حرشف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228600" y="3049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Classification of epithelial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2"/>
          <p:cNvGrpSpPr/>
          <p:nvPr/>
        </p:nvGrpSpPr>
        <p:grpSpPr>
          <a:xfrm>
            <a:off x="4548240" y="1758960"/>
            <a:ext cx="4366800" cy="5126400"/>
            <a:chOff x="4548240" y="1758960"/>
            <a:chExt cx="4366800" cy="5126400"/>
          </a:xfrm>
        </p:grpSpPr>
        <p:grpSp>
          <p:nvGrpSpPr>
            <p:cNvPr id="637" name="Group 12"/>
            <p:cNvGrpSpPr/>
            <p:nvPr/>
          </p:nvGrpSpPr>
          <p:grpSpPr>
            <a:xfrm>
              <a:off x="4548240" y="1758960"/>
              <a:ext cx="4366800" cy="5126400"/>
              <a:chOff x="4548240" y="1758960"/>
              <a:chExt cx="4366800" cy="5126400"/>
            </a:xfrm>
          </p:grpSpPr>
          <p:pic>
            <p:nvPicPr>
              <p:cNvPr id="638" name="Picture 4" descr=""/>
              <p:cNvPicPr/>
              <p:nvPr/>
            </p:nvPicPr>
            <p:blipFill>
              <a:blip r:embed="rId1"/>
              <a:srcRect l="1336" t="1669" r="1571" b="3244"/>
              <a:stretch/>
            </p:blipFill>
            <p:spPr>
              <a:xfrm>
                <a:off x="4648680" y="1758960"/>
                <a:ext cx="4218120" cy="4672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639" name="Text Box 6"/>
              <p:cNvSpPr/>
              <p:nvPr/>
            </p:nvSpPr>
            <p:spPr>
              <a:xfrm>
                <a:off x="7554600" y="3327480"/>
                <a:ext cx="1360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حرشفية طبقي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Text Box 7"/>
              <p:cNvSpPr/>
              <p:nvPr/>
            </p:nvSpPr>
            <p:spPr>
              <a:xfrm>
                <a:off x="7543440" y="4648320"/>
                <a:ext cx="1360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حرشفية بسيط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Text Box 8"/>
              <p:cNvSpPr/>
              <p:nvPr/>
            </p:nvSpPr>
            <p:spPr>
              <a:xfrm>
                <a:off x="7554600" y="6365160"/>
                <a:ext cx="1360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عمودية بسيط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Text Box 9"/>
              <p:cNvSpPr/>
              <p:nvPr/>
            </p:nvSpPr>
            <p:spPr>
              <a:xfrm>
                <a:off x="4701240" y="4686480"/>
                <a:ext cx="1363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مكعبة بسيط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10"/>
              <p:cNvSpPr/>
              <p:nvPr/>
            </p:nvSpPr>
            <p:spPr>
              <a:xfrm>
                <a:off x="4648680" y="6365160"/>
                <a:ext cx="1362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عمودية طبقي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4548240" y="3195000"/>
                <a:ext cx="1929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عمودية مهدبة طبقية كاذب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Text Box 10"/>
            <p:cNvSpPr/>
            <p:nvPr/>
          </p:nvSpPr>
          <p:spPr>
            <a:xfrm>
              <a:off x="5802120" y="6019920"/>
              <a:ext cx="136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  <a:cs typeface="Majalla UI"/>
                </a:rPr>
                <a:t>غشاء قاعد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3"/>
          <p:cNvSpPr/>
          <p:nvPr/>
        </p:nvSpPr>
        <p:spPr>
          <a:xfrm>
            <a:off x="45720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Second: Connective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ضام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"/>
          <p:cNvSpPr/>
          <p:nvPr/>
        </p:nvSpPr>
        <p:spPr>
          <a:xfrm>
            <a:off x="76320" y="1143000"/>
            <a:ext cx="8839080" cy="40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Characterized by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تميز بما ي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Cells widely separated from each other in a matrix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ادة خلالية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that is produced by the cells (cells are scattered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بعثرة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The matrix generally consists of fiber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Arial"/>
              </a:rPr>
              <a:t>أليا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The matrix may be solid (as in bone), gelatinou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Arial"/>
              </a:rPr>
              <a:t>جيلاتيني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, or liquid (as in blood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The functions of connective tissues are to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  <a:ea typeface="Arial"/>
              </a:rPr>
              <a:t>bind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and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  <a:ea typeface="Arial"/>
              </a:rPr>
              <a:t>suppor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 other tiss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76320" y="1371240"/>
            <a:ext cx="899136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ypes of connective tissues fibers, which are all protei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-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Collagenous fibers (white)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اف الكولاجينية (البيضاء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e thick and made 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non-elastic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غير مرنة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-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Elastic fibers (Yellow)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اف  المرنة (الصفراء)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e long thread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خيوط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lasti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hich provide a rubbery qualit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3-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eticular fiber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اف الشبك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e very thin and branched, and composed 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0" y="304920"/>
            <a:ext cx="906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Constantia"/>
                <a:ea typeface="Arial"/>
              </a:rPr>
              <a:t>Types of Fibers in Connective Tissu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3"/>
          <p:cNvSpPr/>
          <p:nvPr/>
        </p:nvSpPr>
        <p:spPr>
          <a:xfrm>
            <a:off x="685800" y="304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ypes of Connective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4"/>
          <p:cNvGrpSpPr/>
          <p:nvPr/>
        </p:nvGrpSpPr>
        <p:grpSpPr>
          <a:xfrm>
            <a:off x="173160" y="1347840"/>
            <a:ext cx="8778600" cy="4820400"/>
            <a:chOff x="173160" y="1347840"/>
            <a:chExt cx="8778600" cy="4820400"/>
          </a:xfrm>
        </p:grpSpPr>
        <p:grpSp>
          <p:nvGrpSpPr>
            <p:cNvPr id="655" name="Group 3"/>
            <p:cNvGrpSpPr/>
            <p:nvPr/>
          </p:nvGrpSpPr>
          <p:grpSpPr>
            <a:xfrm>
              <a:off x="617400" y="1347840"/>
              <a:ext cx="8334360" cy="2016360"/>
              <a:chOff x="617400" y="1347840"/>
              <a:chExt cx="8334360" cy="2016360"/>
            </a:xfrm>
          </p:grpSpPr>
          <p:grpSp>
            <p:nvGrpSpPr>
              <p:cNvPr id="656" name="Group 4"/>
              <p:cNvGrpSpPr/>
              <p:nvPr/>
            </p:nvGrpSpPr>
            <p:grpSpPr>
              <a:xfrm>
                <a:off x="617400" y="1347840"/>
                <a:ext cx="7467840" cy="2016360"/>
                <a:chOff x="617400" y="1347840"/>
                <a:chExt cx="7467840" cy="2016360"/>
              </a:xfrm>
            </p:grpSpPr>
            <p:sp>
              <p:nvSpPr>
                <p:cNvPr id="657" name="Text Box 4"/>
                <p:cNvSpPr/>
                <p:nvPr/>
              </p:nvSpPr>
              <p:spPr>
                <a:xfrm>
                  <a:off x="617400" y="2355480"/>
                  <a:ext cx="305604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1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Proper connective tissu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0000"/>
                      </a:solidFill>
                      <a:latin typeface="Constantia"/>
                      <a:cs typeface="Majalla UI"/>
                    </a:rPr>
                    <a:t>الأنسجة الضامة الأصيله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8" name="Group 10"/>
                <p:cNvGrpSpPr/>
                <p:nvPr/>
              </p:nvGrpSpPr>
              <p:grpSpPr>
                <a:xfrm>
                  <a:off x="2143080" y="1347840"/>
                  <a:ext cx="5942160" cy="418680"/>
                  <a:chOff x="2143080" y="1347840"/>
                  <a:chExt cx="5942160" cy="418680"/>
                </a:xfrm>
              </p:grpSpPr>
              <p:sp>
                <p:nvSpPr>
                  <p:cNvPr id="659" name="Line 11"/>
                  <p:cNvSpPr/>
                  <p:nvPr/>
                </p:nvSpPr>
                <p:spPr>
                  <a:xfrm>
                    <a:off x="5573520" y="1347840"/>
                    <a:ext cx="0" cy="418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Line 12"/>
                  <p:cNvSpPr/>
                  <p:nvPr/>
                </p:nvSpPr>
                <p:spPr>
                  <a:xfrm>
                    <a:off x="2143080" y="1766520"/>
                    <a:ext cx="5942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61" name="Line 14"/>
              <p:cNvSpPr/>
              <p:nvPr/>
            </p:nvSpPr>
            <p:spPr>
              <a:xfrm>
                <a:off x="5573520" y="176220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14"/>
              <p:cNvSpPr/>
              <p:nvPr/>
            </p:nvSpPr>
            <p:spPr>
              <a:xfrm>
                <a:off x="8073720" y="176220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14"/>
              <p:cNvSpPr/>
              <p:nvPr/>
            </p:nvSpPr>
            <p:spPr>
              <a:xfrm>
                <a:off x="2150640" y="176220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Text Box 4"/>
              <p:cNvSpPr/>
              <p:nvPr/>
            </p:nvSpPr>
            <p:spPr>
              <a:xfrm>
                <a:off x="4027320" y="2355480"/>
                <a:ext cx="3095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2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Skeletal connective tissu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أنسجة الضامة الهيكلي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4"/>
              <p:cNvSpPr/>
              <p:nvPr/>
            </p:nvSpPr>
            <p:spPr>
              <a:xfrm>
                <a:off x="7229520" y="2355480"/>
                <a:ext cx="1722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ff"/>
                    </a:solidFill>
                    <a:latin typeface="Calibri"/>
                  </a:rPr>
                  <a:t>3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Blood    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دم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nstant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3"/>
            <p:cNvGrpSpPr/>
            <p:nvPr/>
          </p:nvGrpSpPr>
          <p:grpSpPr>
            <a:xfrm>
              <a:off x="173160" y="3416400"/>
              <a:ext cx="4023000" cy="1976760"/>
              <a:chOff x="173160" y="3416400"/>
              <a:chExt cx="4023000" cy="1976760"/>
            </a:xfrm>
          </p:grpSpPr>
          <p:grpSp>
            <p:nvGrpSpPr>
              <p:cNvPr id="667" name="Group 4"/>
              <p:cNvGrpSpPr/>
              <p:nvPr/>
            </p:nvGrpSpPr>
            <p:grpSpPr>
              <a:xfrm>
                <a:off x="173160" y="3416400"/>
                <a:ext cx="3314520" cy="1671480"/>
                <a:chOff x="173160" y="3416400"/>
                <a:chExt cx="3314520" cy="1671480"/>
              </a:xfrm>
            </p:grpSpPr>
            <p:sp>
              <p:nvSpPr>
                <p:cNvPr id="668" name="Text Box 4"/>
                <p:cNvSpPr/>
                <p:nvPr/>
              </p:nvSpPr>
              <p:spPr>
                <a:xfrm>
                  <a:off x="173160" y="4384080"/>
                  <a:ext cx="1295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a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</a:t>
                  </a:r>
                  <a:r>
                    <a:rPr b="1" lang="en-US" sz="2000" spc="-1" strike="noStrike">
                      <a:solidFill>
                        <a:srgbClr val="0000ff"/>
                      </a:solidFill>
                      <a:latin typeface="Constantia"/>
                    </a:rPr>
                    <a:t>Loose </a:t>
                  </a:r>
                  <a:r>
                    <a:rPr b="0" lang="ar-SA" sz="2000" spc="-1" strike="noStrike">
                      <a:solidFill>
                        <a:srgbClr val="ff0000"/>
                      </a:solidFill>
                      <a:latin typeface="Constantia"/>
                      <a:cs typeface="Majalla UI"/>
                    </a:rPr>
                    <a:t>الفجوي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9" name="Group 10"/>
                <p:cNvGrpSpPr/>
                <p:nvPr/>
              </p:nvGrpSpPr>
              <p:grpSpPr>
                <a:xfrm>
                  <a:off x="820440" y="3416400"/>
                  <a:ext cx="2667240" cy="418680"/>
                  <a:chOff x="820440" y="3416400"/>
                  <a:chExt cx="2667240" cy="418680"/>
                </a:xfrm>
              </p:grpSpPr>
              <p:sp>
                <p:nvSpPr>
                  <p:cNvPr id="670" name="Line 11"/>
                  <p:cNvSpPr/>
                  <p:nvPr/>
                </p:nvSpPr>
                <p:spPr>
                  <a:xfrm>
                    <a:off x="2142720" y="3416400"/>
                    <a:ext cx="0" cy="418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Line 12"/>
                  <p:cNvSpPr/>
                  <p:nvPr/>
                </p:nvSpPr>
                <p:spPr>
                  <a:xfrm>
                    <a:off x="820440" y="3835080"/>
                    <a:ext cx="2667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72" name="Line 14"/>
              <p:cNvSpPr/>
              <p:nvPr/>
            </p:nvSpPr>
            <p:spPr>
              <a:xfrm>
                <a:off x="2144160" y="38307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14"/>
              <p:cNvSpPr/>
              <p:nvPr/>
            </p:nvSpPr>
            <p:spPr>
              <a:xfrm>
                <a:off x="3485160" y="38307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14"/>
              <p:cNvSpPr/>
              <p:nvPr/>
            </p:nvSpPr>
            <p:spPr>
              <a:xfrm>
                <a:off x="832320" y="38307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Text Box 4"/>
              <p:cNvSpPr/>
              <p:nvPr/>
            </p:nvSpPr>
            <p:spPr>
              <a:xfrm>
                <a:off x="1373400" y="4384440"/>
                <a:ext cx="1546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b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Adipose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دهني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Text Box 4"/>
              <p:cNvSpPr/>
              <p:nvPr/>
            </p:nvSpPr>
            <p:spPr>
              <a:xfrm>
                <a:off x="2777040" y="4384440"/>
                <a:ext cx="141912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alibri"/>
                  </a:rPr>
                  <a:t>c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Fibrous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ليفي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3"/>
            <p:cNvGrpSpPr/>
            <p:nvPr/>
          </p:nvGrpSpPr>
          <p:grpSpPr>
            <a:xfrm>
              <a:off x="3989520" y="3416400"/>
              <a:ext cx="3149640" cy="2751840"/>
              <a:chOff x="3989520" y="3416400"/>
              <a:chExt cx="3149640" cy="2751840"/>
            </a:xfrm>
          </p:grpSpPr>
          <p:grpSp>
            <p:nvGrpSpPr>
              <p:cNvPr id="678" name="Group 10"/>
              <p:cNvGrpSpPr/>
              <p:nvPr/>
            </p:nvGrpSpPr>
            <p:grpSpPr>
              <a:xfrm>
                <a:off x="4735440" y="3416400"/>
                <a:ext cx="1533240" cy="419040"/>
                <a:chOff x="4735440" y="3416400"/>
                <a:chExt cx="1533240" cy="419040"/>
              </a:xfrm>
            </p:grpSpPr>
            <p:sp>
              <p:nvSpPr>
                <p:cNvPr id="679" name="Line 11"/>
                <p:cNvSpPr/>
                <p:nvPr/>
              </p:nvSpPr>
              <p:spPr>
                <a:xfrm>
                  <a:off x="5478120" y="3416400"/>
                  <a:ext cx="0" cy="419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2"/>
                <p:cNvSpPr/>
                <p:nvPr/>
              </p:nvSpPr>
              <p:spPr>
                <a:xfrm>
                  <a:off x="4735440" y="3835440"/>
                  <a:ext cx="1533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4"/>
              <p:cNvSpPr/>
              <p:nvPr/>
            </p:nvSpPr>
            <p:spPr>
              <a:xfrm>
                <a:off x="6247800" y="3830760"/>
                <a:ext cx="0" cy="16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14"/>
              <p:cNvSpPr/>
              <p:nvPr/>
            </p:nvSpPr>
            <p:spPr>
              <a:xfrm>
                <a:off x="4746960" y="3830760"/>
                <a:ext cx="0" cy="16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Text Box 4"/>
              <p:cNvSpPr/>
              <p:nvPr/>
            </p:nvSpPr>
            <p:spPr>
              <a:xfrm>
                <a:off x="3989520" y="5464440"/>
                <a:ext cx="1546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a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Bone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عظم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Text Box 4"/>
              <p:cNvSpPr/>
              <p:nvPr/>
            </p:nvSpPr>
            <p:spPr>
              <a:xfrm>
                <a:off x="5372280" y="5464440"/>
                <a:ext cx="1766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alibri"/>
                  </a:rPr>
                  <a:t>b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Cartilage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غضرو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http://figures.boundless.com/19479/full/figure-33-02-06.jpeg"/>
          <p:cNvPicPr/>
          <p:nvPr/>
        </p:nvPicPr>
        <p:blipFill>
          <a:blip r:embed="rId1"/>
          <a:stretch/>
        </p:blipFill>
        <p:spPr>
          <a:xfrm>
            <a:off x="4191120" y="2725560"/>
            <a:ext cx="4800600" cy="398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6" name="Rectangle 3"/>
          <p:cNvSpPr/>
          <p:nvPr/>
        </p:nvSpPr>
        <p:spPr>
          <a:xfrm>
            <a:off x="0" y="304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Calibri"/>
                <a:ea typeface="Arial"/>
              </a:rPr>
              <a:t>1- </a:t>
            </a:r>
            <a:r>
              <a:rPr b="1" lang="en-US" sz="3800" spc="-1" strike="noStrike">
                <a:solidFill>
                  <a:srgbClr val="0000ff"/>
                </a:solidFill>
                <a:latin typeface="Constantia"/>
                <a:ea typeface="Arial"/>
              </a:rPr>
              <a:t>Proper Connective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 الضامة الأصي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152280" y="12952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A-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Loose Proper Connective Tissue</a:t>
            </a:r>
            <a:r>
              <a:rPr b="1" lang="en-US" sz="30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يج الضام الأصيل الفج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"/>
          <p:cNvSpPr/>
          <p:nvPr/>
        </p:nvSpPr>
        <p:spPr>
          <a:xfrm>
            <a:off x="76320" y="18367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inds epithelia to underlying tissues and functions a holding organs in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has all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hre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fib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152280" y="2895480"/>
            <a:ext cx="3886200" cy="38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t has two cell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1-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Fibroblasts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خلايا ليف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re responsible for making the extracellular fi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2-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 Macrophages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خلايا بلع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re amoeboid cell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خلايا أميب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at swallow and digest microbes, and cellular debri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قايا الخلايا الميت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y phagocytosi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لعم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8:12:48Z</dcterms:created>
  <dc:creator>User</dc:creator>
  <dc:description/>
  <dc:language>en-US</dc:language>
  <cp:lastModifiedBy>Dell</cp:lastModifiedBy>
  <dcterms:modified xsi:type="dcterms:W3CDTF">2015-10-12T19:57:06Z</dcterms:modified>
  <cp:revision>402</cp:revision>
  <dc:subject/>
  <dc:title>Slide 1</dc:title>
</cp:coreProperties>
</file>