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CCB-23EF-42A4-8674-66DD6CF8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E73-C04D-46C9-A409-E5F0B74A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D2923-21BF-4DF2-8232-E325853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086BC-AB45-4340-A2C1-48B15D2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69552-84AB-42FE-BB6F-0703723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09BD2-265C-4881-BDD2-E7C26ED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56A5F-03E3-471B-A2F1-250C09B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5FAC6-B237-45CA-A860-BAC65C7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B6F2A-30A6-44C9-981C-C11F3AF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04108-B522-4B63-BD10-0B45404A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CAC3D-10F4-4C2E-9721-01179A46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D191F-6372-476E-B5BE-D5B34CC6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E6E-D831-4D58-A341-AE1AC9F8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6D9F0-9CC1-4166-A694-2899A76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3CC7A-C19D-4538-B03C-2D7657A5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CF00F-658C-4421-B576-07926F6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32490-E8E0-4218-8C8B-AFE21343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A50C7-95B2-49C2-B6CA-52EAD3B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3E9B5-25DD-4328-B9CD-DD0D400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B3A9E-CA44-4D0D-B76D-340BBAF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EEEFB-7D0E-4D54-8CA9-ACFB10F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C9A28-742E-4C36-84D4-6281B95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30688-E1BF-494F-B76D-779E6AC9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FCE-7B82-4748-91C6-A3EA7955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BD846-7CA2-440D-818E-92366A18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6E2F5-1D74-4B17-ADCB-F6EFDD1E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9FD79-6A75-40B0-8B86-9E0912A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23714-4836-4A24-A439-1DDBCC11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8EF84-D3AA-4CF5-8E9A-BE56133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EE9BC-817E-4A2C-BE26-306FD3E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AE7A-5829-4EBE-9A6C-EF0D473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FACA0-D29D-4420-B060-8D9A40A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E9D1-1DF8-4FD7-A27E-0C33B8A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FE42B-5133-496D-A9F0-B7AA73E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173-741F-42D1-973D-6E59EB63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C56B9-B05B-4096-83A0-1BD3FB7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3C412-1F04-4A58-BD43-03481966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A8C08-5C38-44BB-85FF-739BEB05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5F17C-8B8C-4A6D-9DB0-1BE5BFD8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52AFB-DC32-4242-98CF-94FD222F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971A9-51A5-437A-ACD6-59FFF637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FFB36-88E7-4D0B-AF9E-C27D875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5BBF0-0098-4331-9EC4-F02BD470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F70A3-0E59-4176-BFB5-59DB6E45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559D9-C3CD-4611-B634-F681E4E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DE3-3EC4-4DC4-B9A0-00A858FB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95E49-919E-4BD5-A61C-240C0246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25819-2A19-4EF6-9CB2-C09D5974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DA073-6AF3-4391-A26E-F1165464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756D0-E13C-47A4-BBA7-F27906A6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1E368-DDB7-4F8E-BD1D-749D50FE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87E5-3812-4903-821C-7D64F278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181D-4F6F-4DC4-ACD2-91F83FB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5FB1-D58E-4E14-A71D-2D56A18E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3E80-AE8C-4996-826C-6EFF82FA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EE1-976E-4925-BEDC-427CB42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479-7BC1-4C5F-98AF-5BEB2046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0F56-C104-49C4-ADDE-A6288F7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CCB-8AB9-482D-B9A0-06DFB8F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F34B-EA36-4272-8F58-7EC7137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E261-7B70-4925-AA3E-CE6423B0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23E-B089-4395-B87C-F3012663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FD8B-BEF6-4527-B630-51778266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DE55-D0D2-49F8-B97E-DDC2931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86C8-8601-45EE-8E40-B71ADAE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113A-B24C-4A1D-911A-CFD11106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B34F-BD3C-4591-8FC0-FBD1273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078-D32A-4DA3-B04C-D5CD80CF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3FC8-8A3B-4CA3-A077-192E8E96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D404-51F4-4200-B41B-E392F0F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995B-52A7-4A11-9276-FD45F6BF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D6D6-10DB-417A-96DA-E98E670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0386-E690-45FA-BF68-9943094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AEF8-B1E8-4426-A292-86B87EA9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506D-6D9A-48D0-ABEF-45003185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0FF6-A0AD-4526-AA10-2A16133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5FAC-5FE6-49E2-A4A4-CC70873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4FB5-3B26-412E-AFCF-4BE96C5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AA4-7883-4F00-ADEB-3502B32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4C92-92DC-417C-A940-5F00B00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BBB2-AB6E-4871-BF7F-336F3903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DE96-D9F6-4A41-93A7-265D95D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1C2F-E068-41C7-8B59-5960AF9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54A6-9378-486B-9DBC-D8332174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2520C-E558-4D09-9719-E4E8A69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7F3D-A083-40DE-82BD-6A2143B0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2C71-4FF7-4B78-A1C3-58F77F36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14C2-40CE-4517-B4B2-2719ED43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C0B3-360E-4983-B340-5643F953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BF3-960C-4915-8159-EEBDFEB4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988F-CCF7-463F-9757-A939D93F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2275-E0E9-490E-9120-F3181DA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88D85-15BA-486F-9A35-36449088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F64D-1147-41C7-BBCE-5137F357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05B2-09D5-49A0-82F7-8076C9F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BC87-BE21-4667-94EF-FD0C435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4A77-E8E0-4FEA-B408-0B4492E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507A-A06D-4CDE-904D-DE231FB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AF95-BF47-4120-9EB6-1818986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95FB-FDF0-4476-B86D-F41321AD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767-3984-41E8-8F0D-A96956A1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D225-6707-4369-AD5F-786D0903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27AC-2E47-4B9C-98FA-C4E1900D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40D1-B5F9-4DC8-B0C4-6D73A2D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5F81-A5A4-40C5-A449-CFE83ED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98C8B-AAA8-43EA-83B7-28C3EF90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1CAF-6670-4043-BA88-D70D91D7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AA40-B833-4685-8FA6-AB7D4EC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6A00F-A8C2-40B6-A063-818AD6C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2AC5-DDC6-4B8A-BC98-9FA290C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F68F-C3DB-4785-9E9C-46026A5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8CA-17E4-47CD-9777-B7EDDF5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F0C7-934B-44BE-AC51-10A2B74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6EAF-8AEC-4CD6-9BD7-6487B04C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95A6-A77F-4AAD-8922-D3D2BC0C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271C-6718-440D-B138-CA3BE967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8A327-100C-4733-B64B-43BCF243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95AF-5CAA-4A0A-9D8E-4F72CBFD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D91E-980A-47C3-81D9-F6575167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8C623-24E4-45D5-91EF-A5F9CB88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C9DA-7FC9-463E-9584-507A1895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2A92B-B869-47C3-8E83-FF59319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2E2-10CD-4335-8E49-5F5ADD4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1AA9-C8C2-4221-BDE0-B6182F5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E409-FFF5-4589-ACE1-66FA5AA9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580C-303C-449C-9777-B7FC735F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34C5-1850-4002-A517-7A0EF0F5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E9DF-5D9B-479A-BD49-48FB0D09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377A-FA20-4D86-927A-EDBA951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C04FF-1DD5-4BCA-B552-E95E0A9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307F-3D5D-42D7-A97F-849718D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E080-9745-4C0F-8D88-6CFC880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E8623-7D9F-433D-BE2D-2C947BB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995-72FF-4EAA-9E40-2A6342F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BCA62-B7FB-4CA2-813D-7125B6C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5891C-AE89-4092-81C8-D708E30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B5732-EAD3-4B14-8A84-BA75801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7E4B-082A-47CD-8537-0A42D42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5852-7398-4131-8205-C544D9D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36B9-5913-40AC-86B9-51DC1D9F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B76C8-F75C-4584-8896-B1919CB2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F430-E495-4D16-93E0-813716B2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10B22-1F64-4E99-99E6-97E47F0C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74A67-9A4A-4BE6-AADA-1187A10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6EB-B964-4E03-9E05-41D207582E3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278C-6D2D-43EA-999E-4913CACC6B4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54F-939C-40A3-AFE9-C511D1CA8A9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14C0-8AFE-4E7D-969B-6AE1227748F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3C2D-45B8-4EED-9A40-A53BD571C7F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401-5BE8-4F72-B272-29F6BF8014A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B8E9-7E1F-40BB-B14B-94B2D0E91E7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3681-D5DF-44E9-BEA3-1E519D1F741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803-4D06-4C3D-A0D3-9F700968E58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9D3-D5D8-412F-ACAE-98921E32D09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BED-F28E-4731-B5DB-ACE67ABA973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758-43D1-4015-8933-0488A8E104C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685800" y="380880"/>
            <a:ext cx="777240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76320" y="154476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istolog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s the study of plants and animal tissues by examin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فحص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issu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under a light microscope or an electron micro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 is a group of cells that carry out a particula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nimals are multicellular organism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 their specializ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grouped into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most animals, combinations of variou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make up functional unit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groups of organs that work together are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stem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xample, the animal digestive syste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هضم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sists of a stomach, small intestine, large intestine, and several other organs, each comprises of different tiss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B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Adipose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ده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76320" y="160020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unction as storage cells for adipose (lip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ipose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ده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ain a large vacuole which in the live cell contain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 nucleus and cytoplasm are pushed out to edge of cell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http://i265.photobucket.com/albums/ii211/CollinAlexander/Adipose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48320" cy="3141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694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C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Fibrous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لي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76320" y="2362320"/>
            <a:ext cx="42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contains large number of collagenous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this tissue are to attach muscles to bones (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, and connect bones to other bones (liga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رب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at joi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فاص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https://figures.boundless.com/19480/large/figure-33-02-07.jpe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43876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http://www2.estrellamountain.edu/faculty/farabee/Biobk/stomTS.gif"/>
          <p:cNvPicPr/>
          <p:nvPr/>
        </p:nvPicPr>
        <p:blipFill>
          <a:blip r:embed="rId1"/>
          <a:stretch/>
        </p:blipFill>
        <p:spPr>
          <a:xfrm>
            <a:off x="1781280" y="228600"/>
            <a:ext cx="5305320" cy="39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9" name="Rectangle 2"/>
          <p:cNvSpPr/>
          <p:nvPr/>
        </p:nvSpPr>
        <p:spPr>
          <a:xfrm>
            <a:off x="76320" y="42670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animals are composed of different type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s composed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Level of organiz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عظي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in anim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6"/>
          <p:cNvGrpSpPr/>
          <p:nvPr/>
        </p:nvGrpSpPr>
        <p:grpSpPr>
          <a:xfrm>
            <a:off x="304920" y="5943600"/>
            <a:ext cx="8458200" cy="1008720"/>
            <a:chOff x="304920" y="5943600"/>
            <a:chExt cx="8458200" cy="1008720"/>
          </a:xfrm>
        </p:grpSpPr>
        <p:sp>
          <p:nvSpPr>
            <p:cNvPr id="591" name="TextBox 3"/>
            <p:cNvSpPr/>
            <p:nvPr/>
          </p:nvSpPr>
          <p:spPr>
            <a:xfrm>
              <a:off x="304920" y="594360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Cell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لاي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175248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Tissue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نس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342900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عض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5105520" y="59436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ystem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جه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6858360" y="594360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ism body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جسم الكائن الح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Straight Arrow Connector 5"/>
            <p:cNvCxnSpPr/>
            <p:nvPr/>
          </p:nvCxnSpPr>
          <p:spPr>
            <a:xfrm>
              <a:off x="1142640" y="612432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7" name="Straight Arrow Connector 16"/>
            <p:cNvCxnSpPr/>
            <p:nvPr/>
          </p:nvCxnSpPr>
          <p:spPr>
            <a:xfrm>
              <a:off x="2819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8" name="Straight Arrow Connector 17"/>
            <p:cNvCxnSpPr/>
            <p:nvPr/>
          </p:nvCxnSpPr>
          <p:spPr>
            <a:xfrm>
              <a:off x="449568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9" name="Straight Arrow Connector 18"/>
            <p:cNvCxnSpPr/>
            <p:nvPr/>
          </p:nvCxnSpPr>
          <p:spPr>
            <a:xfrm>
              <a:off x="6248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Animals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76320" y="11430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ifferent types of tissues have different structures and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 tissue may be held by a sticky extracellular matrix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بين خلوية لز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bind the cells together in a fabric of fibers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issue= cells + extracellular matr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76320" y="2905200"/>
            <a:ext cx="9002520" cy="3513960"/>
            <a:chOff x="76320" y="2905200"/>
            <a:chExt cx="9002520" cy="3513960"/>
          </a:xfrm>
        </p:grpSpPr>
        <p:grpSp>
          <p:nvGrpSpPr>
            <p:cNvPr id="604" name="Group 4"/>
            <p:cNvGrpSpPr/>
            <p:nvPr/>
          </p:nvGrpSpPr>
          <p:grpSpPr>
            <a:xfrm>
              <a:off x="76320" y="3505680"/>
              <a:ext cx="7695720" cy="2107800"/>
              <a:chOff x="76320" y="3505680"/>
              <a:chExt cx="7695720" cy="2107800"/>
            </a:xfrm>
          </p:grpSpPr>
          <p:sp>
            <p:nvSpPr>
              <p:cNvPr id="605" name="Text Box 4"/>
              <p:cNvSpPr/>
              <p:nvPr/>
            </p:nvSpPr>
            <p:spPr>
              <a:xfrm>
                <a:off x="76320" y="477864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Epithelial tissu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طلائ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0"/>
              <p:cNvGrpSpPr/>
              <p:nvPr/>
            </p:nvGrpSpPr>
            <p:grpSpPr>
              <a:xfrm>
                <a:off x="1371600" y="3505680"/>
                <a:ext cx="6400440" cy="2107800"/>
                <a:chOff x="1371600" y="3505680"/>
                <a:chExt cx="6400440" cy="2107800"/>
              </a:xfrm>
            </p:grpSpPr>
            <p:sp>
              <p:nvSpPr>
                <p:cNvPr id="607" name="Line 11"/>
                <p:cNvSpPr/>
                <p:nvPr/>
              </p:nvSpPr>
              <p:spPr>
                <a:xfrm>
                  <a:off x="4558680" y="350568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"/>
                <p:cNvSpPr/>
                <p:nvPr/>
              </p:nvSpPr>
              <p:spPr>
                <a:xfrm>
                  <a:off x="1371600" y="4146840"/>
                  <a:ext cx="64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3"/>
                <p:cNvSpPr/>
                <p:nvPr/>
              </p:nvSpPr>
              <p:spPr>
                <a:xfrm>
                  <a:off x="2971440" y="4146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0" name="Line 14"/>
            <p:cNvSpPr/>
            <p:nvPr/>
          </p:nvSpPr>
          <p:spPr>
            <a:xfrm>
              <a:off x="776016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138312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6171840" y="4142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"/>
            <p:cNvSpPr/>
            <p:nvPr/>
          </p:nvSpPr>
          <p:spPr>
            <a:xfrm>
              <a:off x="168732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Connective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ض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4"/>
            <p:cNvSpPr/>
            <p:nvPr/>
          </p:nvSpPr>
          <p:spPr>
            <a:xfrm>
              <a:off x="488808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3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Muscular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ج العض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4"/>
            <p:cNvSpPr/>
            <p:nvPr/>
          </p:nvSpPr>
          <p:spPr>
            <a:xfrm>
              <a:off x="6488280" y="48006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Nervous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عصب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"/>
            <p:cNvSpPr/>
            <p:nvPr/>
          </p:nvSpPr>
          <p:spPr>
            <a:xfrm>
              <a:off x="2590920" y="290520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d0d0d"/>
                  </a:solidFill>
                  <a:uFillTx/>
                  <a:latin typeface="Constantia"/>
                </a:rPr>
                <a:t>Types of t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5"/>
          <p:cNvGrpSpPr/>
          <p:nvPr/>
        </p:nvGrpSpPr>
        <p:grpSpPr>
          <a:xfrm>
            <a:off x="204840" y="2828880"/>
            <a:ext cx="8634240" cy="1891440"/>
            <a:chOff x="204840" y="2828880"/>
            <a:chExt cx="8634240" cy="1891440"/>
          </a:xfrm>
        </p:grpSpPr>
        <p:sp>
          <p:nvSpPr>
            <p:cNvPr id="618" name="Text Box 6"/>
            <p:cNvSpPr/>
            <p:nvPr/>
          </p:nvSpPr>
          <p:spPr>
            <a:xfrm>
              <a:off x="2133360" y="282888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Functions of Epitheli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"/>
            <p:cNvSpPr/>
            <p:nvPr/>
          </p:nvSpPr>
          <p:spPr>
            <a:xfrm>
              <a:off x="204840" y="3917880"/>
              <a:ext cx="2514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Protec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ما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ski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165480" y="3940200"/>
              <a:ext cx="281916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Absorp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متصا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Intestinal villi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ملات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6553080" y="39402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Secre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فراز</a:t>
              </a:r>
              <a:r>
                <a:rPr b="1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glandular cell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16"/>
            <p:cNvGrpSpPr/>
            <p:nvPr/>
          </p:nvGrpSpPr>
          <p:grpSpPr>
            <a:xfrm>
              <a:off x="1447560" y="3280680"/>
              <a:ext cx="6248160" cy="625320"/>
              <a:chOff x="1447560" y="3280680"/>
              <a:chExt cx="6248160" cy="625320"/>
            </a:xfrm>
          </p:grpSpPr>
          <p:sp>
            <p:nvSpPr>
              <p:cNvPr id="623" name="Line 11"/>
              <p:cNvSpPr/>
              <p:nvPr/>
            </p:nvSpPr>
            <p:spPr>
              <a:xfrm>
                <a:off x="4571640" y="32806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>
                <a:off x="1447560" y="3459960"/>
                <a:ext cx="624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>
                <a:off x="145872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>
                <a:off x="457164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>
                <a:off x="7684560" y="34488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irst: Epithelial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طل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76320" y="1143000"/>
            <a:ext cx="8839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tightly link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esence of a cell secretion called the basement membra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شاء القاع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v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غط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in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بط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tissues and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76320" y="47926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lands can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epithelial cells, such a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goblet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كأ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found in the stomach and intestines to secrete muc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خا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lticellular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عديدة الخلاي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clude the endocrine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صم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8" descr="https://classconnection.s3.amazonaws.com/276/flashcards/583276/jpg/goblet_cell_sketch_with_label_copy1318481738128.jpg"/>
          <p:cNvPicPr/>
          <p:nvPr/>
        </p:nvPicPr>
        <p:blipFill>
          <a:blip r:embed="rId1"/>
          <a:srcRect l="11125" t="0" r="0" b="0"/>
          <a:stretch/>
        </p:blipFill>
        <p:spPr>
          <a:xfrm>
            <a:off x="6629400" y="4684680"/>
            <a:ext cx="233676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75960" y="1166760"/>
            <a:ext cx="838188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hape of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numb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of cell laye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mple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سي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a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ratified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than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pitheliu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 كاذب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layer of cells but appear to for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lay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cell shap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ub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كع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lumn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olum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و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quam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fl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ش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2"/>
          <p:cNvGrpSpPr/>
          <p:nvPr/>
        </p:nvGrpSpPr>
        <p:grpSpPr>
          <a:xfrm>
            <a:off x="4548240" y="1758960"/>
            <a:ext cx="4366800" cy="5126400"/>
            <a:chOff x="4548240" y="1758960"/>
            <a:chExt cx="4366800" cy="5126400"/>
          </a:xfrm>
        </p:grpSpPr>
        <p:grpSp>
          <p:nvGrpSpPr>
            <p:cNvPr id="637" name="Group 12"/>
            <p:cNvGrpSpPr/>
            <p:nvPr/>
          </p:nvGrpSpPr>
          <p:grpSpPr>
            <a:xfrm>
              <a:off x="4548240" y="1758960"/>
              <a:ext cx="4366800" cy="5126400"/>
              <a:chOff x="4548240" y="1758960"/>
              <a:chExt cx="4366800" cy="5126400"/>
            </a:xfrm>
          </p:grpSpPr>
          <p:pic>
            <p:nvPicPr>
              <p:cNvPr id="638" name="Picture 4" descr=""/>
              <p:cNvPicPr/>
              <p:nvPr/>
            </p:nvPicPr>
            <p:blipFill>
              <a:blip r:embed="rId1"/>
              <a:srcRect l="1336" t="1669" r="1571" b="3244"/>
              <a:stretch/>
            </p:blipFill>
            <p:spPr>
              <a:xfrm>
                <a:off x="4648680" y="1758960"/>
                <a:ext cx="4218120" cy="4672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9" name="Text Box 6"/>
              <p:cNvSpPr/>
              <p:nvPr/>
            </p:nvSpPr>
            <p:spPr>
              <a:xfrm>
                <a:off x="7554600" y="332748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7"/>
              <p:cNvSpPr/>
              <p:nvPr/>
            </p:nvSpPr>
            <p:spPr>
              <a:xfrm>
                <a:off x="7543440" y="464832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7554600" y="636516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4701240" y="4686480"/>
                <a:ext cx="136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مكعب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0"/>
              <p:cNvSpPr/>
              <p:nvPr/>
            </p:nvSpPr>
            <p:spPr>
              <a:xfrm>
                <a:off x="4648680" y="6365160"/>
                <a:ext cx="136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4548240" y="3195000"/>
                <a:ext cx="192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مهدبة طبقية كاذب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10"/>
            <p:cNvSpPr/>
            <p:nvPr/>
          </p:nvSpPr>
          <p:spPr>
            <a:xfrm>
              <a:off x="5802120" y="601992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  <a:cs typeface="Majalla UI"/>
                </a:rPr>
                <a:t>غشاء قاعد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Second: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76320" y="1143000"/>
            <a:ext cx="8839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Cells widely separated from each other in a matrix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خلا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at is produced by the cells (cells are scatter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generally consists of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أليا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may be solid (as in bone), gelatino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جيلاتين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, or liquid (as in bloo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connective tissues are to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bind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suppor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 other t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320" y="1371240"/>
            <a:ext cx="899136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ypes of connective tissues fibers, which are all prote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ollagenous fibers (whit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كولاجينية (البيضاء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thick and made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non-elastic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lastic fibers (Yellow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 المرنة (الصفر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long thre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provide a rubbery qua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eticular fiber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شبك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Fibers in Connective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onnective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173160" y="1347840"/>
            <a:ext cx="8778600" cy="4820400"/>
            <a:chOff x="173160" y="1347840"/>
            <a:chExt cx="8778600" cy="4820400"/>
          </a:xfrm>
        </p:grpSpPr>
        <p:grpSp>
          <p:nvGrpSpPr>
            <p:cNvPr id="655" name="Group 3"/>
            <p:cNvGrpSpPr/>
            <p:nvPr/>
          </p:nvGrpSpPr>
          <p:grpSpPr>
            <a:xfrm>
              <a:off x="617400" y="1347840"/>
              <a:ext cx="8334360" cy="2016360"/>
              <a:chOff x="617400" y="1347840"/>
              <a:chExt cx="8334360" cy="201636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617400" y="1347840"/>
                <a:ext cx="7467840" cy="2016360"/>
                <a:chOff x="617400" y="1347840"/>
                <a:chExt cx="7467840" cy="2016360"/>
              </a:xfrm>
            </p:grpSpPr>
            <p:sp>
              <p:nvSpPr>
                <p:cNvPr id="657" name="Text Box 4"/>
                <p:cNvSpPr/>
                <p:nvPr/>
              </p:nvSpPr>
              <p:spPr>
                <a:xfrm>
                  <a:off x="617400" y="2355480"/>
                  <a:ext cx="3056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 connective tiss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أنسجة الضامة الأصيل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"/>
                <p:cNvGrpSpPr/>
                <p:nvPr/>
              </p:nvGrpSpPr>
              <p:grpSpPr>
                <a:xfrm>
                  <a:off x="2143080" y="1347840"/>
                  <a:ext cx="5942160" cy="418680"/>
                  <a:chOff x="2143080" y="1347840"/>
                  <a:chExt cx="5942160" cy="418680"/>
                </a:xfrm>
              </p:grpSpPr>
              <p:sp>
                <p:nvSpPr>
                  <p:cNvPr id="659" name="Line 11"/>
                  <p:cNvSpPr/>
                  <p:nvPr/>
                </p:nvSpPr>
                <p:spPr>
                  <a:xfrm>
                    <a:off x="5573520" y="134784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2"/>
                  <p:cNvSpPr/>
                  <p:nvPr/>
                </p:nvSpPr>
                <p:spPr>
                  <a:xfrm>
                    <a:off x="2143080" y="1766520"/>
                    <a:ext cx="594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1" name="Line 14"/>
              <p:cNvSpPr/>
              <p:nvPr/>
            </p:nvSpPr>
            <p:spPr>
              <a:xfrm>
                <a:off x="55735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4"/>
              <p:cNvSpPr/>
              <p:nvPr/>
            </p:nvSpPr>
            <p:spPr>
              <a:xfrm>
                <a:off x="80737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4"/>
              <p:cNvSpPr/>
              <p:nvPr/>
            </p:nvSpPr>
            <p:spPr>
              <a:xfrm>
                <a:off x="215064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4"/>
              <p:cNvSpPr/>
              <p:nvPr/>
            </p:nvSpPr>
            <p:spPr>
              <a:xfrm>
                <a:off x="4027320" y="2355480"/>
                <a:ext cx="3095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 connective tissu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أنسجة الضامة الهيكل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4"/>
              <p:cNvSpPr/>
              <p:nvPr/>
            </p:nvSpPr>
            <p:spPr>
              <a:xfrm>
                <a:off x="7229520" y="2355480"/>
                <a:ext cx="17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   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م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"/>
            <p:cNvGrpSpPr/>
            <p:nvPr/>
          </p:nvGrpSpPr>
          <p:grpSpPr>
            <a:xfrm>
              <a:off x="173160" y="3416400"/>
              <a:ext cx="4023000" cy="1976760"/>
              <a:chOff x="173160" y="3416400"/>
              <a:chExt cx="4023000" cy="1976760"/>
            </a:xfrm>
          </p:grpSpPr>
          <p:grpSp>
            <p:nvGrpSpPr>
              <p:cNvPr id="667" name="Group 4"/>
              <p:cNvGrpSpPr/>
              <p:nvPr/>
            </p:nvGrpSpPr>
            <p:grpSpPr>
              <a:xfrm>
                <a:off x="173160" y="3416400"/>
                <a:ext cx="3314520" cy="1671480"/>
                <a:chOff x="173160" y="3416400"/>
                <a:chExt cx="3314520" cy="1671480"/>
              </a:xfrm>
            </p:grpSpPr>
            <p:sp>
              <p:nvSpPr>
                <p:cNvPr id="668" name="Text Box 4"/>
                <p:cNvSpPr/>
                <p:nvPr/>
              </p:nvSpPr>
              <p:spPr>
                <a:xfrm>
                  <a:off x="173160" y="438408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فجو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820440" y="3416400"/>
                  <a:ext cx="2667240" cy="418680"/>
                  <a:chOff x="820440" y="3416400"/>
                  <a:chExt cx="2667240" cy="418680"/>
                </a:xfrm>
              </p:grpSpPr>
              <p:sp>
                <p:nvSpPr>
                  <p:cNvPr id="670" name="Line 11"/>
                  <p:cNvSpPr/>
                  <p:nvPr/>
                </p:nvSpPr>
                <p:spPr>
                  <a:xfrm>
                    <a:off x="2142720" y="341640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2"/>
                  <p:cNvSpPr/>
                  <p:nvPr/>
                </p:nvSpPr>
                <p:spPr>
                  <a:xfrm>
                    <a:off x="820440" y="383508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Line 14"/>
              <p:cNvSpPr/>
              <p:nvPr/>
            </p:nvSpPr>
            <p:spPr>
              <a:xfrm>
                <a:off x="2144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4"/>
              <p:cNvSpPr/>
              <p:nvPr/>
            </p:nvSpPr>
            <p:spPr>
              <a:xfrm>
                <a:off x="3485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4"/>
              <p:cNvSpPr/>
              <p:nvPr/>
            </p:nvSpPr>
            <p:spPr>
              <a:xfrm>
                <a:off x="83232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4"/>
              <p:cNvSpPr/>
              <p:nvPr/>
            </p:nvSpPr>
            <p:spPr>
              <a:xfrm>
                <a:off x="1373400" y="438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هن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4"/>
              <p:cNvSpPr/>
              <p:nvPr/>
            </p:nvSpPr>
            <p:spPr>
              <a:xfrm>
                <a:off x="2777040" y="4384440"/>
                <a:ext cx="1419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ليف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3"/>
            <p:cNvGrpSpPr/>
            <p:nvPr/>
          </p:nvGrpSpPr>
          <p:grpSpPr>
            <a:xfrm>
              <a:off x="3989520" y="3416400"/>
              <a:ext cx="3149640" cy="2751840"/>
              <a:chOff x="3989520" y="3416400"/>
              <a:chExt cx="3149640" cy="2751840"/>
            </a:xfrm>
          </p:grpSpPr>
          <p:grpSp>
            <p:nvGrpSpPr>
              <p:cNvPr id="678" name="Group 10"/>
              <p:cNvGrpSpPr/>
              <p:nvPr/>
            </p:nvGrpSpPr>
            <p:grpSpPr>
              <a:xfrm>
                <a:off x="4735440" y="3416400"/>
                <a:ext cx="1533240" cy="419040"/>
                <a:chOff x="4735440" y="3416400"/>
                <a:chExt cx="1533240" cy="419040"/>
              </a:xfrm>
            </p:grpSpPr>
            <p:sp>
              <p:nvSpPr>
                <p:cNvPr id="679" name="Line 11"/>
                <p:cNvSpPr/>
                <p:nvPr/>
              </p:nvSpPr>
              <p:spPr>
                <a:xfrm>
                  <a:off x="5478120" y="341640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"/>
                <p:cNvSpPr/>
                <p:nvPr/>
              </p:nvSpPr>
              <p:spPr>
                <a:xfrm>
                  <a:off x="4735440" y="3835440"/>
                  <a:ext cx="153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4"/>
              <p:cNvSpPr/>
              <p:nvPr/>
            </p:nvSpPr>
            <p:spPr>
              <a:xfrm>
                <a:off x="624780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4"/>
              <p:cNvSpPr/>
              <p:nvPr/>
            </p:nvSpPr>
            <p:spPr>
              <a:xfrm>
                <a:off x="474696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"/>
              <p:cNvSpPr/>
              <p:nvPr/>
            </p:nvSpPr>
            <p:spPr>
              <a:xfrm>
                <a:off x="3989520" y="546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عظ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"/>
              <p:cNvSpPr/>
              <p:nvPr/>
            </p:nvSpPr>
            <p:spPr>
              <a:xfrm>
                <a:off x="5372280" y="5464440"/>
                <a:ext cx="1766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غضرو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http://figures.boundless.com/19479/full/figure-33-02-06.jpeg"/>
          <p:cNvPicPr/>
          <p:nvPr/>
        </p:nvPicPr>
        <p:blipFill>
          <a:blip r:embed="rId1"/>
          <a:stretch/>
        </p:blipFill>
        <p:spPr>
          <a:xfrm>
            <a:off x="4191120" y="2725560"/>
            <a:ext cx="480060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6" name="Rectangle 3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Proper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أصي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52280" y="1295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A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Loose Proper Connective Tissue</a:t>
            </a:r>
            <a:r>
              <a:rPr b="1" lang="en-US" sz="3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ف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76320" y="1836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inds epithelia to underlying tissues and functions a holding organs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has al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fib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52280" y="2895480"/>
            <a:ext cx="38862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has two cell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broblast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لي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responsible for making the extracellular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2-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Macrophage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بلع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amoeboid cell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أمي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swallow and digest microbes, and cellular debri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قايا الخلايا ال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y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Dell</cp:lastModifiedBy>
  <dcterms:modified xsi:type="dcterms:W3CDTF">2015-10-12T19:57:06Z</dcterms:modified>
  <cp:revision>402</cp:revision>
  <dc:subject/>
  <dc:title>Slide 1</dc:title>
</cp:coreProperties>
</file>