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3FD-AB69-4910-B339-078F5B92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94B-150C-4868-B76C-B030DB71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60FF1-697C-4D8B-A638-06594258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2112D-DC11-4B35-8CFB-204B3CE4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A259E-A185-4436-B9C5-CF50911B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957F6-1E39-4B89-8590-F188B201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1030A-D760-4866-934A-0460FAAE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42BA8-C792-4945-9628-DC681F6E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4EA6E-A688-4D2D-9D9D-FA2F065A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18B1F-A877-4868-A275-CC8BE075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FC667-5A1A-43BE-9DAD-94F6A057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9D1BC-102C-4F82-A065-2272E391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B4C-3371-4987-90B0-D4CF8866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4B4CC-5787-48D6-BAEA-03D9B433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BA28E-1D8B-4FB9-9EB0-320E4CC4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611AB-C47C-4A81-B36B-903A858F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CF0AF-56BF-4B0D-ABFE-1FBA03F4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1F351-C6BF-4A7A-A68B-76672559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30E46-4AC3-4686-898A-5EFF4431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B4828-2BE7-4125-95F1-B2966962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AF975-FF28-41CA-9BEA-EE8663AE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06C78-D9BB-41EB-85CD-A7114B7B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66242-FA4C-4864-8B39-8778649D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621-E681-474C-B219-4AB9D6FB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91B25-C4AB-42E0-ABD7-140CAED5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E27E9-A9DF-45E0-8E78-03BC6F1C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4D3E0-4E10-457C-A908-DAD349FA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A459A-5A31-4563-8274-34B80D8A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7D222-383C-4FAB-82F7-5D899DBB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82AA2-7237-4A4B-8816-932ECB2B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EB31E-8AB4-40C8-AE3D-FE8ADE10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6EC95-49EF-499C-AD25-498A642E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284E3-2A94-4905-85C9-400819CC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85F33-E73A-4675-80F0-C2B30172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F75A-0916-4A2D-B733-C552FCBE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7A35F-C6EB-4AA1-A965-D9899210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23535-CB17-4E58-B6D0-F35A62E2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6F777-16A3-40CF-98DE-7F4BF41F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D94A5-135D-439D-9D97-10992D70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584C0-F661-4EB9-A219-FF121408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B8625-14E7-403A-A2BD-9F04DADF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7301F-1A75-462A-A60F-89DDE242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5DE03-03F0-4BBA-9D94-2A4EC8E5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71AD2-6BE7-492B-8F69-A0A921B1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DE602-FA51-4D19-A1A4-77F28B2D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B76D-C684-4E18-9341-95E5A195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3A3CF-1250-4209-9579-D9DD8FD6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E0DC9-98EE-46FC-9E5D-B0508FD0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4A25F-9D09-4450-AD18-3136A7CB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BD764-AF14-4712-B857-6DDB9CA9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74BA4-9A68-45A3-992B-4A7A7E6D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C188-5E69-415A-8A64-1F7BCB4E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52A1-CDAF-4B62-9A11-0D6227C6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4622-2AC4-4926-827E-2CBF478F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B8E7-FAC8-4EAA-A032-386F10D8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9FD2-4459-416E-8D37-C8F8D8F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5AD-5916-4CC7-99C5-3B7C0ECF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FD67-3012-4067-9320-95EB5FD4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9DCA-DA29-4E6C-B36D-EA788A5D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71E9-BA19-4F82-9E76-3D340F3D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088F-778A-4A1D-B0B8-5D2AF382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11EE-5781-4FB0-A910-4577AE8F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C640-4681-4679-995C-59019F27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4E92-F94D-4589-B3F7-4250B688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52712-8CB1-468C-A37E-65821C4D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D19A0-9690-4F1D-9A16-51E13180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AFA0-5B94-4777-B5C4-06EF49A9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DA0-836F-4B82-9BF5-4661BC30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E1F4-BA99-41E6-99E1-D6C95C93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ED3C-36A7-4D17-9188-2345861E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4C44-6A36-4740-BB2E-F810FC06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9A763-8182-4C89-AB96-920A16C1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3F35-5337-4469-919C-C7C92281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001B-BEB8-4C4E-92ED-334177B0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E69A-5ACF-481F-BC32-0ABCAB94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BA66E-0860-4CB8-96FF-4679D162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AAD3-A096-469F-A0DB-C5A3B8BE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B4805-41E0-4FF0-9D74-86EAFDF7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835-70C7-44AE-BDDF-B743995E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EC8D0-96D8-43DE-9A7B-808705BA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276B-AD75-4360-870E-5EEC7365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363E-D83F-48B6-899A-D755B2C3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F59B4-90F1-4287-B87E-4CFA56DA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05DC1-86B7-4974-BC70-1559776C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FB54-CC6B-4F58-ACAD-59B8F55A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B79C-D9BA-439E-8505-34BD930A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D30D-BD55-4522-A403-015A6D0F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44DC-8E12-49CF-9540-237A53C2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63C6E-35B7-4568-958B-188715F2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13C-4F3C-44EB-AC9F-8F20C80C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AC1B-1598-4F8D-AB3F-C2A8BA81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45DA8-4A1C-4C01-8EB6-DBB90C8B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7A0A-D35D-46CF-BED1-CB61BA87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B1015-22E5-423A-892F-32859DDB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BDD1B-1C20-4FD2-B617-ABDA57DF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8C00A-C179-4476-8356-B34C4183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FFBD6-C317-4067-A251-B48F1C38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FD60F-604D-4FD0-BB9A-3C8CAE5B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90EA-121F-41DA-9591-847B2410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B7D4C-2191-47F6-81D3-F5E0F914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9A4-FF11-4812-9FC2-B6C33F72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25539-CDF6-453E-982A-B798D360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149BA-35BF-4B7F-9423-AC43D320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2DB5C-31B4-496A-93A5-74E45E79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2719A-FEE6-4929-B960-AE1A40F5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2CBCA-BB3F-4452-AD1F-A82A7C04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ECDC6-FEEA-4885-994C-43894857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8EE3E-4F6B-4E75-A548-99AE2025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AF3F-C607-4B47-89E6-91E4BA1F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5A36E-C102-475E-B8A7-B93EDE5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65861-3ED1-4EFD-A174-3AE140C8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4B9-3F35-4D8F-BB8B-2C5B600E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DA3D0-88D2-421A-AF7C-5D29D6BA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7C2B8-A6E3-4AA1-ABD9-60E44834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E1430-CC4D-4D5B-8A41-0AF82C54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18E9B-7C5B-4B68-99AB-BDA63945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498B7-08A2-4508-ABF8-97FC6A22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CFA4C-A41F-48A3-BDD0-C00D3F3E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433F3-CD28-41D5-8F1D-E246FD5B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78FC7-30B5-42E3-BC9C-B5C4AE04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51FAE-B14B-4433-9D24-FE597766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07C60-90CF-411D-8534-CAC7A377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6C8-9C46-42E1-AF82-8C916A39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5D8FD-6E7C-4FA1-9396-19E245E1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2AE33-924C-43A6-B2A7-908ABA04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137E8-6BD2-49CF-99DD-C8A2528A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B0377-79DB-49FB-96A8-8C080BC7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55BAD-706C-47ED-AFFC-DF2EAFE5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DFC69-6C10-4D03-B6CE-4934EE77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E3D49-59A7-4CBB-9D06-42D39EFE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756A8-CBAE-48BF-910F-9E59C0F8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EEAEF-E6DA-411A-A351-5299D9A1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6437C-912C-48FA-A4CF-20279426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157-32E1-47FA-A5F8-E46D314A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2C09F-B635-4AFC-B4FB-0A607D77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FCA81-C350-4D83-A334-A3978C63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CFBEF-6D14-4F53-97A1-F8275D4E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BB101-1455-492C-842A-9825BB5C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A35FF-F7F3-4C36-A0BD-4C40BA5B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7E463-6EDC-4B10-A3A0-450CC6D1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79A38-110E-42D7-8DFD-C0146057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FD035-AE9C-4B25-93D1-2E3C38A7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F86D9-2C4E-4B3B-A5AC-6EF254B4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0AC67-27BD-4D3C-8A7D-D6F438E5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4D00-1568-4622-B371-E1921D5419B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39C3-3A05-41D2-A60B-0543A87665B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BF74-0F0B-4719-9705-69DF14C8D27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4B9A-3792-4EFC-9AFD-580A6EAAA760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043D-A59A-43C7-B65B-405E9C17B01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74A4-043F-4F9D-BCE0-E0FAB2C0EFB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1ACE-4C88-40E7-8544-CDF137625B0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521C-3D6F-4191-B432-7261C0C27D7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83DF-C082-48C5-A36E-926E829FC6F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EB36-469B-4376-BA3D-CC201AE9E5B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97AD-A88A-47D7-8B40-A022844000A5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FA9E-A86D-47BF-AEFC-D4E5A5D14F3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685800" y="380880"/>
            <a:ext cx="7772400" cy="764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: Animal T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76320" y="154476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istolog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لم الأنسج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s the study of plants and animal tissues by examining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فحص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issu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under a light microscope or an electron microsc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nstantia"/>
                <a:ea typeface="Arial"/>
              </a:rPr>
              <a:t>A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</a:t>
            </a:r>
            <a:r>
              <a:rPr b="0" lang="en-US" sz="2000" spc="-1" strike="noStrike">
                <a:solidFill>
                  <a:srgbClr val="0d0d0d"/>
                </a:solidFill>
                <a:latin typeface="Constantia"/>
                <a:ea typeface="Arial"/>
              </a:rPr>
              <a:t> is a group of cells that carry out a particular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nimals are multicellular organisms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ith their specializ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grouped into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 most animals, combinations of variou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make up functional units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and groups of organs that work together are calle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ystem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or example, the animal digestive system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جهاز الهضم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nsists of a stomach, small intestine, large intestine, and several other organs, each comprises of different tiss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152280" y="304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B-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Adipose Proper Connective Tissue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يج الضام الأصيل الده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76320" y="1600200"/>
            <a:ext cx="403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Function as storage cells for adipose (lipi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dipose cell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ايا الدهن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ntain a large vacuo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فجوة كبير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hich in the live cell contains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ell nucleus and cytoplasm are pushed out to edge of cell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2" descr="http://i265.photobucket.com/albums/ii211/CollinAlexander/Adipose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48320" cy="3141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694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152280" y="304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C-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Fibrous Proper Connective Tissue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يج الضام الأصيل الليف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76320" y="2362320"/>
            <a:ext cx="426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contains large number of collagenous fi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functions of this tissue are to attach muscles to bones (tend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وت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, and connect bones to other bones (ligamen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رب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 at joint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مفاصل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2" descr="https://figures.boundless.com/19480/large/figure-33-02-07.jpe"/>
          <p:cNvPicPr/>
          <p:nvPr/>
        </p:nvPicPr>
        <p:blipFill>
          <a:blip r:embed="rId1"/>
          <a:stretch/>
        </p:blipFill>
        <p:spPr>
          <a:xfrm>
            <a:off x="4572000" y="1828800"/>
            <a:ext cx="4419720" cy="43876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7" descr="http://www2.estrellamountain.edu/faculty/farabee/Biobk/stomTS.gif"/>
          <p:cNvPicPr/>
          <p:nvPr/>
        </p:nvPicPr>
        <p:blipFill>
          <a:blip r:embed="rId1"/>
          <a:stretch/>
        </p:blipFill>
        <p:spPr>
          <a:xfrm>
            <a:off x="1781280" y="228600"/>
            <a:ext cx="5305320" cy="391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9" name="Rectangle 2"/>
          <p:cNvSpPr/>
          <p:nvPr/>
        </p:nvSpPr>
        <p:spPr>
          <a:xfrm>
            <a:off x="76320" y="42670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n animals are composed of different types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ach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issu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s composed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Level of organiza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عظي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in anim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6"/>
          <p:cNvGrpSpPr/>
          <p:nvPr/>
        </p:nvGrpSpPr>
        <p:grpSpPr>
          <a:xfrm>
            <a:off x="304920" y="5943600"/>
            <a:ext cx="8458200" cy="1008720"/>
            <a:chOff x="304920" y="5943600"/>
            <a:chExt cx="8458200" cy="1008720"/>
          </a:xfrm>
        </p:grpSpPr>
        <p:sp>
          <p:nvSpPr>
            <p:cNvPr id="591" name="TextBox 3"/>
            <p:cNvSpPr/>
            <p:nvPr/>
          </p:nvSpPr>
          <p:spPr>
            <a:xfrm>
              <a:off x="304920" y="5943600"/>
              <a:ext cx="76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Cell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خلاي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Box 10"/>
            <p:cNvSpPr/>
            <p:nvPr/>
          </p:nvSpPr>
          <p:spPr>
            <a:xfrm>
              <a:off x="1752480" y="59436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Tissue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نسج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11"/>
            <p:cNvSpPr/>
            <p:nvPr/>
          </p:nvSpPr>
          <p:spPr>
            <a:xfrm>
              <a:off x="3429000" y="59436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Organ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عضا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12"/>
            <p:cNvSpPr/>
            <p:nvPr/>
          </p:nvSpPr>
          <p:spPr>
            <a:xfrm>
              <a:off x="5105520" y="59436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nstantia"/>
                </a:rPr>
                <a:t>Systems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أجهز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13"/>
            <p:cNvSpPr/>
            <p:nvPr/>
          </p:nvSpPr>
          <p:spPr>
            <a:xfrm>
              <a:off x="6858360" y="5943600"/>
              <a:ext cx="1904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Organism body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جسم الكائن الح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6" name="Straight Arrow Connector 5"/>
            <p:cNvCxnSpPr/>
            <p:nvPr/>
          </p:nvCxnSpPr>
          <p:spPr>
            <a:xfrm>
              <a:off x="1142640" y="612432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7" name="Straight Arrow Connector 16"/>
            <p:cNvCxnSpPr/>
            <p:nvPr/>
          </p:nvCxnSpPr>
          <p:spPr>
            <a:xfrm>
              <a:off x="2819160" y="613044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8" name="Straight Arrow Connector 17"/>
            <p:cNvCxnSpPr/>
            <p:nvPr/>
          </p:nvCxnSpPr>
          <p:spPr>
            <a:xfrm>
              <a:off x="4495680" y="613044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9" name="Straight Arrow Connector 18"/>
            <p:cNvCxnSpPr/>
            <p:nvPr/>
          </p:nvCxnSpPr>
          <p:spPr>
            <a:xfrm>
              <a:off x="6248160" y="6130440"/>
              <a:ext cx="6102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ypes of Animals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76320" y="114300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Different types of tissues have different structures and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 tissue may be held by a sticky extracellular matrix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ادة بين خلوية لزج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at bind the cells together in a fabric of fiber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نسيج من الألياف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Tissue= cells + extracellular matrix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3"/>
          <p:cNvGrpSpPr/>
          <p:nvPr/>
        </p:nvGrpSpPr>
        <p:grpSpPr>
          <a:xfrm>
            <a:off x="76320" y="2905200"/>
            <a:ext cx="9002520" cy="3513960"/>
            <a:chOff x="76320" y="2905200"/>
            <a:chExt cx="9002520" cy="3513960"/>
          </a:xfrm>
        </p:grpSpPr>
        <p:grpSp>
          <p:nvGrpSpPr>
            <p:cNvPr id="604" name="Group 4"/>
            <p:cNvGrpSpPr/>
            <p:nvPr/>
          </p:nvGrpSpPr>
          <p:grpSpPr>
            <a:xfrm>
              <a:off x="76320" y="3505680"/>
              <a:ext cx="7695720" cy="2107800"/>
              <a:chOff x="76320" y="3505680"/>
              <a:chExt cx="7695720" cy="2107800"/>
            </a:xfrm>
          </p:grpSpPr>
          <p:sp>
            <p:nvSpPr>
              <p:cNvPr id="605" name="Text Box 4"/>
              <p:cNvSpPr/>
              <p:nvPr/>
            </p:nvSpPr>
            <p:spPr>
              <a:xfrm>
                <a:off x="76320" y="4778640"/>
                <a:ext cx="2590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1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Epithelial tissu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نسيج الطلائ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10"/>
              <p:cNvGrpSpPr/>
              <p:nvPr/>
            </p:nvGrpSpPr>
            <p:grpSpPr>
              <a:xfrm>
                <a:off x="1371600" y="3505680"/>
                <a:ext cx="6400440" cy="2107800"/>
                <a:chOff x="1371600" y="3505680"/>
                <a:chExt cx="6400440" cy="2107800"/>
              </a:xfrm>
            </p:grpSpPr>
            <p:sp>
              <p:nvSpPr>
                <p:cNvPr id="607" name="Line 11"/>
                <p:cNvSpPr/>
                <p:nvPr/>
              </p:nvSpPr>
              <p:spPr>
                <a:xfrm>
                  <a:off x="4558680" y="3505680"/>
                  <a:ext cx="0" cy="64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"/>
                <p:cNvSpPr/>
                <p:nvPr/>
              </p:nvSpPr>
              <p:spPr>
                <a:xfrm>
                  <a:off x="1371600" y="4146840"/>
                  <a:ext cx="640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3"/>
                <p:cNvSpPr/>
                <p:nvPr/>
              </p:nvSpPr>
              <p:spPr>
                <a:xfrm>
                  <a:off x="2971440" y="4146840"/>
                  <a:ext cx="0" cy="1466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0" name="Line 14"/>
            <p:cNvSpPr/>
            <p:nvPr/>
          </p:nvSpPr>
          <p:spPr>
            <a:xfrm>
              <a:off x="7760160" y="4131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4"/>
            <p:cNvSpPr/>
            <p:nvPr/>
          </p:nvSpPr>
          <p:spPr>
            <a:xfrm>
              <a:off x="1383120" y="41310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3"/>
            <p:cNvSpPr/>
            <p:nvPr/>
          </p:nvSpPr>
          <p:spPr>
            <a:xfrm>
              <a:off x="6171840" y="414252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4"/>
            <p:cNvSpPr/>
            <p:nvPr/>
          </p:nvSpPr>
          <p:spPr>
            <a:xfrm>
              <a:off x="1687320" y="571536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2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Connective tissue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نسيج الضا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4"/>
            <p:cNvSpPr/>
            <p:nvPr/>
          </p:nvSpPr>
          <p:spPr>
            <a:xfrm>
              <a:off x="4888080" y="571536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3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Muscular tissue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نسج العض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4"/>
            <p:cNvSpPr/>
            <p:nvPr/>
          </p:nvSpPr>
          <p:spPr>
            <a:xfrm>
              <a:off x="6488280" y="480060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Calibri"/>
                </a:rPr>
                <a:t>4)</a:t>
              </a:r>
              <a:r>
                <a:rPr b="1" lang="en-GB" sz="2000" spc="-1" strike="noStrike">
                  <a:solidFill>
                    <a:srgbClr val="0000ff"/>
                  </a:solidFill>
                  <a:latin typeface="Constantia"/>
                </a:rPr>
                <a:t> Nervous tissue</a:t>
              </a: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نسيج العصب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4"/>
            <p:cNvSpPr/>
            <p:nvPr/>
          </p:nvSpPr>
          <p:spPr>
            <a:xfrm>
              <a:off x="2590920" y="2905200"/>
              <a:ext cx="39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d0d0d"/>
                  </a:solidFill>
                  <a:uFillTx/>
                  <a:latin typeface="Constantia"/>
                </a:rPr>
                <a:t>Types of tissu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5"/>
          <p:cNvGrpSpPr/>
          <p:nvPr/>
        </p:nvGrpSpPr>
        <p:grpSpPr>
          <a:xfrm>
            <a:off x="204840" y="2828880"/>
            <a:ext cx="8634240" cy="2196000"/>
            <a:chOff x="204840" y="2828880"/>
            <a:chExt cx="8634240" cy="2196000"/>
          </a:xfrm>
        </p:grpSpPr>
        <p:sp>
          <p:nvSpPr>
            <p:cNvPr id="618" name="Text Box 6"/>
            <p:cNvSpPr/>
            <p:nvPr/>
          </p:nvSpPr>
          <p:spPr>
            <a:xfrm>
              <a:off x="2133360" y="2828880"/>
              <a:ext cx="487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0000"/>
                  </a:solidFill>
                  <a:uFillTx/>
                  <a:latin typeface="Constantia"/>
                </a:rPr>
                <a:t>Functions of Epitheliu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7"/>
            <p:cNvSpPr/>
            <p:nvPr/>
          </p:nvSpPr>
          <p:spPr>
            <a:xfrm>
              <a:off x="204840" y="3917520"/>
              <a:ext cx="2514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Protection 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حما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(ski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8"/>
            <p:cNvSpPr/>
            <p:nvPr/>
          </p:nvSpPr>
          <p:spPr>
            <a:xfrm>
              <a:off x="2895480" y="3939840"/>
              <a:ext cx="3089160" cy="10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Absorption 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امتصا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(Intestinal villi </a:t>
              </a:r>
              <a:r>
                <a:rPr b="0" lang="ar-SA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خملات الأمعاء</a:t>
              </a: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9"/>
            <p:cNvSpPr/>
            <p:nvPr/>
          </p:nvSpPr>
          <p:spPr>
            <a:xfrm>
              <a:off x="6553080" y="393984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nstantia"/>
                </a:rPr>
                <a:t>Secretion  </a:t>
              </a:r>
              <a:r>
                <a:rPr b="0" lang="ar-SA" sz="2000" spc="-1" strike="noStrike">
                  <a:solidFill>
                    <a:srgbClr val="ff0000"/>
                  </a:solidFill>
                  <a:latin typeface="Constantia"/>
                  <a:cs typeface="Majalla UI"/>
                </a:rPr>
                <a:t>الافراز</a:t>
              </a:r>
              <a:r>
                <a:rPr b="1" lang="ar-SA" sz="2000" spc="-1" strike="noStrike">
                  <a:solidFill>
                    <a:srgbClr val="0000ff"/>
                  </a:solidFill>
                  <a:latin typeface="Constantia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Constantia"/>
                </a:rPr>
                <a:t>(glandular cell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16"/>
            <p:cNvGrpSpPr/>
            <p:nvPr/>
          </p:nvGrpSpPr>
          <p:grpSpPr>
            <a:xfrm>
              <a:off x="1447560" y="3280320"/>
              <a:ext cx="6248160" cy="625320"/>
              <a:chOff x="1447560" y="3280320"/>
              <a:chExt cx="6248160" cy="625320"/>
            </a:xfrm>
          </p:grpSpPr>
          <p:sp>
            <p:nvSpPr>
              <p:cNvPr id="623" name="Line 11"/>
              <p:cNvSpPr/>
              <p:nvPr/>
            </p:nvSpPr>
            <p:spPr>
              <a:xfrm>
                <a:off x="4571640" y="328032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2"/>
              <p:cNvSpPr/>
              <p:nvPr/>
            </p:nvSpPr>
            <p:spPr>
              <a:xfrm>
                <a:off x="1447560" y="3459600"/>
                <a:ext cx="624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3"/>
              <p:cNvSpPr/>
              <p:nvPr/>
            </p:nvSpPr>
            <p:spPr>
              <a:xfrm>
                <a:off x="1458720" y="34484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4"/>
              <p:cNvSpPr/>
              <p:nvPr/>
            </p:nvSpPr>
            <p:spPr>
              <a:xfrm>
                <a:off x="4571640" y="34484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5"/>
              <p:cNvSpPr/>
              <p:nvPr/>
            </p:nvSpPr>
            <p:spPr>
              <a:xfrm>
                <a:off x="7684560" y="34484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Rectangle 3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First: Epithelial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Arial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Arial"/>
              </a:rPr>
              <a:t>الطل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76320" y="982800"/>
            <a:ext cx="883908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haracterized b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بما يل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ells tightly linked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presence of a cell secretion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افراز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alled the basement membran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شاء القاع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ver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ُغط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lin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ُبطن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ther tissues and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76320" y="47926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Glands can b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epithelial cells, such as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goblet cell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خلايا الكأس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at found in the stomach and intestines to secrete mucu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فرز المخاط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ulticellular glan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دد عديدة الخلايا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nclude the endocrine glan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غدد الصم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8" descr="https://classconnection.s3.amazonaws.com/276/flashcards/583276/jpg/goblet_cell_sketch_with_label_copy1318481738128.jpg"/>
          <p:cNvPicPr/>
          <p:nvPr/>
        </p:nvPicPr>
        <p:blipFill>
          <a:blip r:embed="rId1"/>
          <a:srcRect l="11125" t="0" r="0" b="0"/>
          <a:stretch/>
        </p:blipFill>
        <p:spPr>
          <a:xfrm>
            <a:off x="6629400" y="4684680"/>
            <a:ext cx="2336760" cy="20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75960" y="1166760"/>
            <a:ext cx="838188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shape of cell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Classification based on numbe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of cell layer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0b050"/>
              </a:buClr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mple epithelium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بسيط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 a One layer of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0b050"/>
              </a:buClr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tratified epithelium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طبق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e than one layer of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0b050"/>
              </a:buClr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epithelium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طبقي كاذب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ne layer of cells but appear to for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lay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Constantia"/>
              </a:rPr>
              <a:t>Classification based on cell shap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cub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كعب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olumna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colum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مود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quam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fla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رشف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228600" y="304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Classification of epithelial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2"/>
          <p:cNvGrpSpPr/>
          <p:nvPr/>
        </p:nvGrpSpPr>
        <p:grpSpPr>
          <a:xfrm>
            <a:off x="4548240" y="1758960"/>
            <a:ext cx="4366800" cy="5126400"/>
            <a:chOff x="4548240" y="1758960"/>
            <a:chExt cx="4366800" cy="5126400"/>
          </a:xfrm>
        </p:grpSpPr>
        <p:grpSp>
          <p:nvGrpSpPr>
            <p:cNvPr id="637" name="Group 12"/>
            <p:cNvGrpSpPr/>
            <p:nvPr/>
          </p:nvGrpSpPr>
          <p:grpSpPr>
            <a:xfrm>
              <a:off x="4548240" y="1758960"/>
              <a:ext cx="4366800" cy="5126400"/>
              <a:chOff x="4548240" y="1758960"/>
              <a:chExt cx="4366800" cy="5126400"/>
            </a:xfrm>
          </p:grpSpPr>
          <p:pic>
            <p:nvPicPr>
              <p:cNvPr id="638" name="Picture 4" descr=""/>
              <p:cNvPicPr/>
              <p:nvPr/>
            </p:nvPicPr>
            <p:blipFill>
              <a:blip r:embed="rId1"/>
              <a:srcRect l="1336" t="1669" r="1571" b="3244"/>
              <a:stretch/>
            </p:blipFill>
            <p:spPr>
              <a:xfrm>
                <a:off x="4648680" y="1758960"/>
                <a:ext cx="4218120" cy="4672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39" name="Text Box 6"/>
              <p:cNvSpPr/>
              <p:nvPr/>
            </p:nvSpPr>
            <p:spPr>
              <a:xfrm>
                <a:off x="7554600" y="332748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حرشفية طبقي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7"/>
              <p:cNvSpPr/>
              <p:nvPr/>
            </p:nvSpPr>
            <p:spPr>
              <a:xfrm>
                <a:off x="7543440" y="464832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حرشفية بسيط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8"/>
              <p:cNvSpPr/>
              <p:nvPr/>
            </p:nvSpPr>
            <p:spPr>
              <a:xfrm>
                <a:off x="7554600" y="6365160"/>
                <a:ext cx="136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عمودية بسيط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9"/>
              <p:cNvSpPr/>
              <p:nvPr/>
            </p:nvSpPr>
            <p:spPr>
              <a:xfrm>
                <a:off x="4701240" y="4686480"/>
                <a:ext cx="1363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مكعبة بسيط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10"/>
              <p:cNvSpPr/>
              <p:nvPr/>
            </p:nvSpPr>
            <p:spPr>
              <a:xfrm>
                <a:off x="4648680" y="6365160"/>
                <a:ext cx="1362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عمودية طبقي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4548240" y="3195000"/>
                <a:ext cx="1929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400" spc="-1" strike="noStrike">
                    <a:solidFill>
                      <a:srgbClr val="0000ff"/>
                    </a:solidFill>
                    <a:latin typeface="Arial"/>
                    <a:cs typeface="Majalla UI"/>
                  </a:rPr>
                  <a:t>عمودية مهدبة طبقية كاذبة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10"/>
            <p:cNvSpPr/>
            <p:nvPr/>
          </p:nvSpPr>
          <p:spPr>
            <a:xfrm>
              <a:off x="5802120" y="6019920"/>
              <a:ext cx="136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  <a:cs typeface="Majalla UI"/>
                </a:rPr>
                <a:t>غشاء قاعد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Second: Connective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</a:t>
            </a:r>
            <a:r>
              <a:rPr b="1" lang="ar-SA" sz="4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ضا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76320" y="1143000"/>
            <a:ext cx="883908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Characterized by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تميز بما ي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Cells widely separated from each other in a matrix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ادة خلالية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at is produced by the cells (cells are scattered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Majalla UI"/>
              </a:rPr>
              <a:t>مبعثرة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e matrix generally consists of fiber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Arial"/>
              </a:rPr>
              <a:t>أليا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e matrix may be solid (as in bone), gelatinous </a:t>
            </a:r>
            <a:r>
              <a:rPr b="0" lang="ar-SA" sz="2200" spc="-1" strike="noStrike">
                <a:solidFill>
                  <a:srgbClr val="ff0000"/>
                </a:solidFill>
                <a:latin typeface="Constantia"/>
                <a:cs typeface="Arial"/>
              </a:rPr>
              <a:t>جيلاتيني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, or liquid (as in blood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The functions of connective tissues are to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bind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and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  <a:ea typeface="Arial"/>
              </a:rPr>
              <a:t>suppor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 other t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6320" y="1371240"/>
            <a:ext cx="899136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ar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ypes of connective tissues fibers, which are all prote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Collagenous fibers (white)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اف الكولاجينية (البيضاء)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cartilage, b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thick and made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non-elastic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-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lastic fibers (Yellow)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اف  المرنة (الصفراء)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ungs,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rterie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, v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long thread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hich provide a rubbery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طاطية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quali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3-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eticular fiber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live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adipose tissue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bone marrow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spleen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ff"/>
                </a:solidFill>
                <a:latin typeface="Constantia"/>
                <a:ea typeface="Arial"/>
              </a:rPr>
              <a:t>Types of Fibers in Connective Tissu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  <a:ea typeface="Arial"/>
              </a:rPr>
              <a:t>Types of Connective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4"/>
          <p:cNvGrpSpPr/>
          <p:nvPr/>
        </p:nvGrpSpPr>
        <p:grpSpPr>
          <a:xfrm>
            <a:off x="173160" y="1347840"/>
            <a:ext cx="8778600" cy="4820400"/>
            <a:chOff x="173160" y="1347840"/>
            <a:chExt cx="8778600" cy="4820400"/>
          </a:xfrm>
        </p:grpSpPr>
        <p:grpSp>
          <p:nvGrpSpPr>
            <p:cNvPr id="655" name="Group 3"/>
            <p:cNvGrpSpPr/>
            <p:nvPr/>
          </p:nvGrpSpPr>
          <p:grpSpPr>
            <a:xfrm>
              <a:off x="617400" y="1347840"/>
              <a:ext cx="8334360" cy="2016360"/>
              <a:chOff x="617400" y="1347840"/>
              <a:chExt cx="8334360" cy="2016360"/>
            </a:xfrm>
          </p:grpSpPr>
          <p:grpSp>
            <p:nvGrpSpPr>
              <p:cNvPr id="656" name="Group 4"/>
              <p:cNvGrpSpPr/>
              <p:nvPr/>
            </p:nvGrpSpPr>
            <p:grpSpPr>
              <a:xfrm>
                <a:off x="617400" y="1347840"/>
                <a:ext cx="7467840" cy="2016360"/>
                <a:chOff x="617400" y="1347840"/>
                <a:chExt cx="7467840" cy="2016360"/>
              </a:xfrm>
            </p:grpSpPr>
            <p:sp>
              <p:nvSpPr>
                <p:cNvPr id="657" name="Text Box 4"/>
                <p:cNvSpPr/>
                <p:nvPr/>
              </p:nvSpPr>
              <p:spPr>
                <a:xfrm>
                  <a:off x="617400" y="2355480"/>
                  <a:ext cx="30560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1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Proper connective tissu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الأنسجة الضامة الأصيله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" name="Group 10"/>
                <p:cNvGrpSpPr/>
                <p:nvPr/>
              </p:nvGrpSpPr>
              <p:grpSpPr>
                <a:xfrm>
                  <a:off x="2143080" y="1347840"/>
                  <a:ext cx="5942160" cy="418680"/>
                  <a:chOff x="2143080" y="1347840"/>
                  <a:chExt cx="5942160" cy="418680"/>
                </a:xfrm>
              </p:grpSpPr>
              <p:sp>
                <p:nvSpPr>
                  <p:cNvPr id="659" name="Line 11"/>
                  <p:cNvSpPr/>
                  <p:nvPr/>
                </p:nvSpPr>
                <p:spPr>
                  <a:xfrm>
                    <a:off x="5573520" y="1347840"/>
                    <a:ext cx="0" cy="41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Line 12"/>
                  <p:cNvSpPr/>
                  <p:nvPr/>
                </p:nvSpPr>
                <p:spPr>
                  <a:xfrm>
                    <a:off x="2143080" y="1766520"/>
                    <a:ext cx="5942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1" name="Line 14"/>
              <p:cNvSpPr/>
              <p:nvPr/>
            </p:nvSpPr>
            <p:spPr>
              <a:xfrm>
                <a:off x="5573520" y="17622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4"/>
              <p:cNvSpPr/>
              <p:nvPr/>
            </p:nvSpPr>
            <p:spPr>
              <a:xfrm>
                <a:off x="8073720" y="17622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4"/>
              <p:cNvSpPr/>
              <p:nvPr/>
            </p:nvSpPr>
            <p:spPr>
              <a:xfrm>
                <a:off x="2150640" y="17622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 Box 4"/>
              <p:cNvSpPr/>
              <p:nvPr/>
            </p:nvSpPr>
            <p:spPr>
              <a:xfrm>
                <a:off x="4027320" y="2355480"/>
                <a:ext cx="3095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2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Skeletal connective tissu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أنسجة الضامة الهيكلي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4"/>
              <p:cNvSpPr/>
              <p:nvPr/>
            </p:nvSpPr>
            <p:spPr>
              <a:xfrm>
                <a:off x="7229520" y="2355480"/>
                <a:ext cx="1722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ff"/>
                    </a:solidFill>
                    <a:latin typeface="Calibri"/>
                  </a:rPr>
                  <a:t>3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lood    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دم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nstanti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3"/>
            <p:cNvGrpSpPr/>
            <p:nvPr/>
          </p:nvGrpSpPr>
          <p:grpSpPr>
            <a:xfrm>
              <a:off x="173160" y="3416400"/>
              <a:ext cx="4023000" cy="1976760"/>
              <a:chOff x="173160" y="3416400"/>
              <a:chExt cx="4023000" cy="1976760"/>
            </a:xfrm>
          </p:grpSpPr>
          <p:grpSp>
            <p:nvGrpSpPr>
              <p:cNvPr id="667" name="Group 4"/>
              <p:cNvGrpSpPr/>
              <p:nvPr/>
            </p:nvGrpSpPr>
            <p:grpSpPr>
              <a:xfrm>
                <a:off x="173160" y="3416400"/>
                <a:ext cx="3314520" cy="1671480"/>
                <a:chOff x="173160" y="3416400"/>
                <a:chExt cx="3314520" cy="1671480"/>
              </a:xfrm>
            </p:grpSpPr>
            <p:sp>
              <p:nvSpPr>
                <p:cNvPr id="668" name="Text Box 4"/>
                <p:cNvSpPr/>
                <p:nvPr/>
              </p:nvSpPr>
              <p:spPr>
                <a:xfrm>
                  <a:off x="173160" y="4384080"/>
                  <a:ext cx="1295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ff"/>
                      </a:solidFill>
                      <a:latin typeface="Calibri"/>
                    </a:rPr>
                    <a:t>a)</a:t>
                  </a:r>
                  <a:r>
                    <a:rPr b="1" lang="en-GB" sz="2000" spc="-1" strike="noStrike">
                      <a:solidFill>
                        <a:srgbClr val="0000ff"/>
                      </a:solidFill>
                      <a:latin typeface="Constantia"/>
                    </a:rPr>
                    <a:t> </a:t>
                  </a:r>
                  <a:r>
                    <a:rPr b="1" lang="en-US" sz="2000" spc="-1" strike="noStrike">
                      <a:solidFill>
                        <a:srgbClr val="0000ff"/>
                      </a:solidFill>
                      <a:latin typeface="Constantia"/>
                    </a:rPr>
                    <a:t>Loose </a:t>
                  </a:r>
                  <a:r>
                    <a:rPr b="0" lang="ar-SA" sz="2000" spc="-1" strike="noStrike">
                      <a:solidFill>
                        <a:srgbClr val="ff0000"/>
                      </a:solidFill>
                      <a:latin typeface="Constantia"/>
                      <a:cs typeface="Majalla UI"/>
                    </a:rPr>
                    <a:t>الفجوي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Group 10"/>
                <p:cNvGrpSpPr/>
                <p:nvPr/>
              </p:nvGrpSpPr>
              <p:grpSpPr>
                <a:xfrm>
                  <a:off x="820440" y="3416400"/>
                  <a:ext cx="2667240" cy="418680"/>
                  <a:chOff x="820440" y="3416400"/>
                  <a:chExt cx="2667240" cy="418680"/>
                </a:xfrm>
              </p:grpSpPr>
              <p:sp>
                <p:nvSpPr>
                  <p:cNvPr id="670" name="Line 11"/>
                  <p:cNvSpPr/>
                  <p:nvPr/>
                </p:nvSpPr>
                <p:spPr>
                  <a:xfrm>
                    <a:off x="2142720" y="3416400"/>
                    <a:ext cx="0" cy="41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12"/>
                  <p:cNvSpPr/>
                  <p:nvPr/>
                </p:nvSpPr>
                <p:spPr>
                  <a:xfrm>
                    <a:off x="820440" y="3835080"/>
                    <a:ext cx="2667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2" name="Line 14"/>
              <p:cNvSpPr/>
              <p:nvPr/>
            </p:nvSpPr>
            <p:spPr>
              <a:xfrm>
                <a:off x="2144160" y="38307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14"/>
              <p:cNvSpPr/>
              <p:nvPr/>
            </p:nvSpPr>
            <p:spPr>
              <a:xfrm>
                <a:off x="3485160" y="38307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14"/>
              <p:cNvSpPr/>
              <p:nvPr/>
            </p:nvSpPr>
            <p:spPr>
              <a:xfrm>
                <a:off x="832320" y="383076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Text Box 4"/>
              <p:cNvSpPr/>
              <p:nvPr/>
            </p:nvSpPr>
            <p:spPr>
              <a:xfrm>
                <a:off x="1373400" y="4384440"/>
                <a:ext cx="1546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b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Adipos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دهن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Text Box 4"/>
              <p:cNvSpPr/>
              <p:nvPr/>
            </p:nvSpPr>
            <p:spPr>
              <a:xfrm>
                <a:off x="2777040" y="4384440"/>
                <a:ext cx="14191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c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Fibrous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ليفي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3"/>
            <p:cNvGrpSpPr/>
            <p:nvPr/>
          </p:nvGrpSpPr>
          <p:grpSpPr>
            <a:xfrm>
              <a:off x="3989520" y="3416400"/>
              <a:ext cx="3149640" cy="2751840"/>
              <a:chOff x="3989520" y="3416400"/>
              <a:chExt cx="3149640" cy="2751840"/>
            </a:xfrm>
          </p:grpSpPr>
          <p:grpSp>
            <p:nvGrpSpPr>
              <p:cNvPr id="678" name="Group 10"/>
              <p:cNvGrpSpPr/>
              <p:nvPr/>
            </p:nvGrpSpPr>
            <p:grpSpPr>
              <a:xfrm>
                <a:off x="4735440" y="3416400"/>
                <a:ext cx="1533240" cy="419040"/>
                <a:chOff x="4735440" y="3416400"/>
                <a:chExt cx="1533240" cy="419040"/>
              </a:xfrm>
            </p:grpSpPr>
            <p:sp>
              <p:nvSpPr>
                <p:cNvPr id="679" name="Line 11"/>
                <p:cNvSpPr/>
                <p:nvPr/>
              </p:nvSpPr>
              <p:spPr>
                <a:xfrm>
                  <a:off x="5478120" y="341640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"/>
                <p:cNvSpPr/>
                <p:nvPr/>
              </p:nvSpPr>
              <p:spPr>
                <a:xfrm>
                  <a:off x="4735440" y="3835440"/>
                  <a:ext cx="1533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4"/>
              <p:cNvSpPr/>
              <p:nvPr/>
            </p:nvSpPr>
            <p:spPr>
              <a:xfrm>
                <a:off x="6247800" y="3830760"/>
                <a:ext cx="0" cy="16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14"/>
              <p:cNvSpPr/>
              <p:nvPr/>
            </p:nvSpPr>
            <p:spPr>
              <a:xfrm>
                <a:off x="4746960" y="3830760"/>
                <a:ext cx="0" cy="16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4"/>
              <p:cNvSpPr/>
              <p:nvPr/>
            </p:nvSpPr>
            <p:spPr>
              <a:xfrm>
                <a:off x="3989520" y="5464440"/>
                <a:ext cx="1546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a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Bon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عظ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Text Box 4"/>
              <p:cNvSpPr/>
              <p:nvPr/>
            </p:nvSpPr>
            <p:spPr>
              <a:xfrm>
                <a:off x="5372280" y="5464440"/>
                <a:ext cx="1766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Calibri"/>
                  </a:rPr>
                  <a:t>b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alibri"/>
                  </a:rPr>
                  <a:t>)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Constantia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Constantia"/>
                  </a:rPr>
                  <a:t>Cartilage </a:t>
                </a:r>
                <a:r>
                  <a:rPr b="0" lang="ar-SA" sz="2000" spc="-1" strike="noStrike">
                    <a:solidFill>
                      <a:srgbClr val="ff0000"/>
                    </a:solidFill>
                    <a:latin typeface="Constantia"/>
                    <a:cs typeface="Majalla UI"/>
                  </a:rPr>
                  <a:t>الغضرو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http://figures.boundless.com/19479/full/figure-33-02-06.jpeg"/>
          <p:cNvPicPr/>
          <p:nvPr/>
        </p:nvPicPr>
        <p:blipFill>
          <a:blip r:embed="rId1"/>
          <a:stretch/>
        </p:blipFill>
        <p:spPr>
          <a:xfrm>
            <a:off x="4191120" y="2725560"/>
            <a:ext cx="4800600" cy="398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6" name="Rectangle 3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alibri"/>
                <a:ea typeface="Arial"/>
              </a:rPr>
              <a:t>1- </a:t>
            </a:r>
            <a:r>
              <a:rPr b="1" lang="en-US" sz="3800" spc="-1" strike="noStrike">
                <a:solidFill>
                  <a:srgbClr val="0000ff"/>
                </a:solidFill>
                <a:latin typeface="Constantia"/>
                <a:ea typeface="Arial"/>
              </a:rPr>
              <a:t>Proper Connective Tissues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سجة الضامة الأصي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152280" y="12952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A-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Loose Proper Connective Tissue</a:t>
            </a:r>
            <a:r>
              <a:rPr b="1" lang="en-US" sz="30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نسيج الضام الأصيل الفج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76320" y="18367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inds epithelia to underlying tissues and functions a holding organs in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has all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thre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fib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152280" y="2895480"/>
            <a:ext cx="38862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t has two cell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1-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Fibroblasts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لايا لي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re responsible for making the extracellular fi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2-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 Macrophages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خلايا بلع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re amoeboid cell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أميب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at swallow and digest microbes, and cellular debri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بقايا الخلايا الميت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y phagocyto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لعم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Mohammed Albeshr</cp:lastModifiedBy>
  <dcterms:modified xsi:type="dcterms:W3CDTF">2017-10-30T21:44:04Z</dcterms:modified>
  <cp:revision>407</cp:revision>
  <dc:subject/>
  <dc:title>Slide 1</dc:title>
</cp:coreProperties>
</file>