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196-7CD0-40FD-B351-24A28A00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C60-9103-4E66-ADF6-70DC3D04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16A01-EEEC-4423-804F-642E1EDC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0E13E-A9FF-4C3D-AA1C-E729C171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124C5-EBD3-4D97-9068-1453B6E3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B0B75-8EC6-45EC-A63D-08F20A82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B0DDC-7452-4065-9E66-29B7FF7A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C459C-28C2-4635-AC66-1DDCE64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E4C47-5EEE-45B5-8C55-E0662453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4820B-D022-4B2B-B6B8-1CE86159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4E83C-F6C5-47D2-B2EB-7D52123F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A5447-70B9-4C0F-8497-920B6C5A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2EF-14F4-4948-BB50-8857406F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5D4CB-1AE9-4D64-9D23-DFFF2AD3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32F97-D6BC-46A4-84FA-3F35CB9A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12F2F-7D58-4BB3-AEAB-DBB82169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A76AC-B5D9-410C-9F6D-5C62EEA2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B48C5-3E66-4D2E-9961-FD680BDD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2E5AC-5ADD-4AA4-9ACD-B8CE152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42840-3521-402E-913E-85BC72E9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68900-8C2B-4C55-8739-CB1702E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D78E6-4FE7-432D-A49D-481FD0DE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5FD6E-5BEA-45E7-9AD1-A90616F0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5DA-F1EA-4429-BE58-CAD7B446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6900A-B8A0-4B80-AAED-9F242E9E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49096-03CD-4D76-901A-49505E96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31046-350D-4914-A429-16122A2C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97FB1-1279-4578-8334-FBB2EEA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DEF0D-15D4-484C-B03A-CC5E06FE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FE7CC-6AB2-4B95-A668-E7310795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A73E9-A73D-464C-AAF6-02C7725D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7E8A9-0320-4990-9A9B-E5B65C6F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E190F-C249-41AB-886D-022AECC5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7075C-A213-4200-B873-43EE279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0028-24C5-401F-8447-39363D3A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C4F10-9FCB-4617-B53E-81F858D2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75D6B-235D-43AF-9D2E-1016FC4C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75A77-49B5-4970-9312-8BA2E14A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725EC-E211-4E89-BEAF-DB52E21A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88FB1-FDFE-4989-95BA-57964A52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75F52-0FAA-4195-909F-1E5382FC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25838-746A-4134-A595-96CC3636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5394E-083A-4082-8542-0AE717C6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6603C-8B30-45E8-9906-C64E458B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76A6B-052D-4D93-A827-DEE2970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4D4E-3F9E-4892-8AAE-877758EC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49A4E-2F9D-4A18-B480-C22FB6C3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4E66C-F72F-461B-B48D-C035A8A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05CD6-5F19-4C36-B15F-CEFC4430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0BF70-7DAC-4788-9A59-A74F0F01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0D3BF-8872-4A28-AFE3-6D98013E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1E07-5556-453F-B3EF-79C13113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9BCC-68CD-4D5F-A286-1A456DA1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F753-A032-4270-8285-C2951527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93F8-1477-4082-9C60-AF0741EA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31BB-C348-4919-A012-CE809CBA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AAF-4A96-46B6-88C2-6A2B5E23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C800-1E84-4C76-8C92-7E4ACD4C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F48D-5673-4476-B60B-8100B70C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1019-2DB9-4721-9557-86FF0364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FCB7-14D4-41E3-AD40-3958C57D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01AB-0F94-447C-996A-A439674D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F121-0EB1-4A5F-981C-F1414186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97BF-B7AA-45FF-80D0-38F05C08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0395-C9A3-49F2-992F-439FC996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2466-9ADF-4BFD-A2E4-3EB522A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CC03-9ACB-462F-BB7A-FF9F631D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9C0-2A3E-41A0-9437-F6DBF5E3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682D6-28AD-44E9-9D88-66D85D61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A0915-D3D8-4931-BBF6-4EA8F43C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7179-BFB0-4807-9EC8-8E658103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CD9C-6E09-42C5-92CD-6CBC353C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D4F2-B0CE-4AB1-9665-F4CCB892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0CC2-134B-4362-A412-95B6BDA3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073A-9ACF-40B7-8C24-5D7D4AB9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F425-4A16-466C-8DAD-6373467A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94C00-F3CB-47F8-B161-566AAE9D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D9FE-F41B-4A41-8B95-8BD93BBF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D1A-EFFB-4ADC-88A9-B4C1ACEB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4F033-4934-4E44-9111-1EAD4C23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77D5-102F-4114-964B-02198756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15B0E-E95A-4C75-AC09-442DD412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76416-295A-44E6-9E96-2022E378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AF95-1009-4A85-9E30-BD12CB94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BF2E7-3C29-42EA-B753-714540EA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091E5-6E34-4160-B99E-C656641C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88F77-CB34-4850-A488-9C244EDA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46CBB-CC12-4782-8206-802DA989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BFA5C-9A5F-41D6-96DD-6873F9E9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BDE-4CC6-4C48-B442-3B7ED1BB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22DFD-7B3A-4154-9248-3D3E1564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FF989-4D36-4EF6-A653-D11EB90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2D65E-7DF9-41CD-B684-92812B63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83D74-3201-408D-A7C1-756C146E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4F14D-AF37-4324-9620-90CCE284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DDCE-1235-4786-B298-159B6FE3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C19C7-37E8-4D5F-AF11-0CD6569E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A2C58-95BA-48F7-B4E9-BA7CB305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01D1D-1DF2-4C7A-A31F-DE98B118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8503D-EB06-4233-ABB0-047059E3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EA9-B8C9-4B15-BE5D-3B6258B6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B41A-903B-44A2-A7D0-EC05AC77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E425D-2DE4-4213-95EC-634E87D0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1D0C-A37B-45E4-AFEE-561AC7EE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E740C-C854-41E1-A441-2145A08D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1D3C3-5599-4618-8890-00FC075F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9A57A-FE96-4A73-A590-EE54489E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154A7-B88F-4160-A00D-7D64CC5D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FEDD2-4EE4-41E4-BA67-1A770D8D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62F33-A40F-49F9-B9B8-FC98BD31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48A1D-DACE-4370-94F4-57CE9862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B58-1E48-4515-8032-E97D61C8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C1641-665C-4CBC-B2F5-F2CB7AC5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56DBB-085F-487A-B80C-92B73A63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670FA-8DA1-4192-96FD-5525183A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3D024-2E4E-4627-9562-F6C1A2CE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3E587-9CFA-49D2-8D4A-B1726E2A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54872-0D16-47C3-8479-B0E555A8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3067-86F5-4A5F-9BF3-CC15E513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8E5E4-2D43-472F-A7FD-9FC3A183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480F5-D526-481D-A80E-7F13FA0A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34964-6B4B-4987-B5B9-1B5B0214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AE5-93FA-4174-BE61-F35B650F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C234A-7499-4E1A-9C11-C7BFB900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CE870-9708-41F3-985E-6505E476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6CA71-07A6-44A5-BC18-95C80097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5AD28-26AC-448B-B2D8-9ACB3D06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4528C-7543-4A38-9C70-916559A3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433AA-02F8-4257-A8F3-0F4C6746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B9423-7E77-4855-8198-900101E9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EC7CB-07B0-4CA5-A9FA-5E8BBCF8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98802-4FA1-45E5-9458-35A0999B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36FB-080D-4CC0-9C2B-99BB8B0D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3CD-F9E6-4B74-92FB-92A3363F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593BC-CC6F-4983-8999-3E4AC6A7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82F4D-AED5-4853-8075-534ADCFD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DF982-2CF0-4A2D-88AB-936E769A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8254C-81F3-4729-BE8E-0D1456C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300ED-F38B-4327-83E6-5E21EC15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5CCCA-AEAD-4D6C-8F31-D1222D08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C0D1C-DC13-4492-8E2A-1A0D3E08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A954D-62FF-454A-95FF-057FD9EF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D7B6D-CBB6-45D7-95A7-3099D59F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FB767-5FC6-4B54-84C1-B6E6B862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F5C1-5F36-4F56-A020-9BAB4FC95EA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2DFF-6FB3-44C7-AF1B-499F0AF6C02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F3D2-675A-4489-9E39-313D189B025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6665-9DD4-4805-8B63-C7F8E1230B3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9DC2-262F-44EF-9B5B-855D6E1A53B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E883-2D6D-45AA-95B0-F905DC5BCC1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7F3F-85BA-49BB-9A5E-88B14F430B8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A03C-9887-460F-8A07-0D0E3371FDD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DADF-E6FF-4304-9471-68602BBE9EB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C20B-18B3-4885-8804-7FA190D965C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1E47-5F08-406E-B280-DC745DD706F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2720-35E4-45A2-9D42-8A9A2F7338E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685800" y="380880"/>
            <a:ext cx="777240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Animal T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76320" y="154476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istolog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لم الأنس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s the study of plants and animal tissues by examin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فحص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issu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under a light microscope or an electron microsc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nstantia"/>
                <a:ea typeface="Arial"/>
              </a:rPr>
              <a:t>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</a:t>
            </a:r>
            <a:r>
              <a:rPr b="0" lang="en-US" sz="2000" spc="-1" strike="noStrike">
                <a:solidFill>
                  <a:srgbClr val="0d0d0d"/>
                </a:solidFill>
                <a:latin typeface="Constantia"/>
                <a:ea typeface="Arial"/>
              </a:rPr>
              <a:t> is a group of cells that carry out a particular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nimals are multicellular organisms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 their specializ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grouped into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most animals, combinations of variou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make up functional unit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groups of organs that work together are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stem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or example, the animal digestive syste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هاز الهضم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sists of a stomach, small intestine, large intestine, and several other organs, each comprises of different tiss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152280" y="304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B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Adipose Proper Connective Tissue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ده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76320" y="1600200"/>
            <a:ext cx="403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unction as storage cells for adipose (lipi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dipose cel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دهن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tain a large vacuo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فجوة كبير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hich in the live cell contains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 nucleus and cytoplasm are pushed out to edge of cell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2" descr="http://i265.photobucket.com/albums/ii211/CollinAlexander/Adipose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48320" cy="3141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694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152280" y="304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C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Fibrous Proper Connective Tissue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ليف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76320" y="2362320"/>
            <a:ext cx="426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contains large number of collagenous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this tissue are to attach muscles to bones (tend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ت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, and connect bones to other bones (ligame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رب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 at joi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فاص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https://figures.boundless.com/19480/large/figure-33-02-07.jpe"/>
          <p:cNvPicPr/>
          <p:nvPr/>
        </p:nvPicPr>
        <p:blipFill>
          <a:blip r:embed="rId1"/>
          <a:stretch/>
        </p:blipFill>
        <p:spPr>
          <a:xfrm>
            <a:off x="4572000" y="1828800"/>
            <a:ext cx="4419720" cy="43876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7" descr="http://www2.estrellamountain.edu/faculty/farabee/Biobk/stomTS.gif"/>
          <p:cNvPicPr/>
          <p:nvPr/>
        </p:nvPicPr>
        <p:blipFill>
          <a:blip r:embed="rId1"/>
          <a:stretch/>
        </p:blipFill>
        <p:spPr>
          <a:xfrm>
            <a:off x="1781280" y="228600"/>
            <a:ext cx="5305320" cy="391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9" name="Rectangle 2"/>
          <p:cNvSpPr/>
          <p:nvPr/>
        </p:nvSpPr>
        <p:spPr>
          <a:xfrm>
            <a:off x="76320" y="42670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n animals are composed of different types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s composed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Level of organiz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عظي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in anim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6"/>
          <p:cNvGrpSpPr/>
          <p:nvPr/>
        </p:nvGrpSpPr>
        <p:grpSpPr>
          <a:xfrm>
            <a:off x="304920" y="5943600"/>
            <a:ext cx="8458200" cy="1008720"/>
            <a:chOff x="304920" y="5943600"/>
            <a:chExt cx="8458200" cy="1008720"/>
          </a:xfrm>
        </p:grpSpPr>
        <p:sp>
          <p:nvSpPr>
            <p:cNvPr id="591" name="TextBox 3"/>
            <p:cNvSpPr/>
            <p:nvPr/>
          </p:nvSpPr>
          <p:spPr>
            <a:xfrm>
              <a:off x="304920" y="5943600"/>
              <a:ext cx="76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Cell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خلاي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Box 10"/>
            <p:cNvSpPr/>
            <p:nvPr/>
          </p:nvSpPr>
          <p:spPr>
            <a:xfrm>
              <a:off x="1752480" y="59436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Tissue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نسج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11"/>
            <p:cNvSpPr/>
            <p:nvPr/>
          </p:nvSpPr>
          <p:spPr>
            <a:xfrm>
              <a:off x="3429000" y="59436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Organ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عض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12"/>
            <p:cNvSpPr/>
            <p:nvPr/>
          </p:nvSpPr>
          <p:spPr>
            <a:xfrm>
              <a:off x="5105520" y="59436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System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جه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13"/>
            <p:cNvSpPr/>
            <p:nvPr/>
          </p:nvSpPr>
          <p:spPr>
            <a:xfrm>
              <a:off x="6858360" y="5943600"/>
              <a:ext cx="1904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Organism body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جسم الكائن الح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6" name="Straight Arrow Connector 5"/>
            <p:cNvCxnSpPr/>
            <p:nvPr/>
          </p:nvCxnSpPr>
          <p:spPr>
            <a:xfrm>
              <a:off x="1142640" y="612432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7" name="Straight Arrow Connector 16"/>
            <p:cNvCxnSpPr/>
            <p:nvPr/>
          </p:nvCxnSpPr>
          <p:spPr>
            <a:xfrm>
              <a:off x="281916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8" name="Straight Arrow Connector 17"/>
            <p:cNvCxnSpPr/>
            <p:nvPr/>
          </p:nvCxnSpPr>
          <p:spPr>
            <a:xfrm>
              <a:off x="449568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9" name="Straight Arrow Connector 18"/>
            <p:cNvCxnSpPr/>
            <p:nvPr/>
          </p:nvCxnSpPr>
          <p:spPr>
            <a:xfrm>
              <a:off x="624816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Animals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76320" y="114300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Different types of tissues have different structures and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 tissue may be held by a sticky extracellular matrix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ادة بين خلوية لز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bind the cells together in a fabric of fiber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نسيج من الأليا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Tissue= cells + extracellular matri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3"/>
          <p:cNvGrpSpPr/>
          <p:nvPr/>
        </p:nvGrpSpPr>
        <p:grpSpPr>
          <a:xfrm>
            <a:off x="76320" y="2905200"/>
            <a:ext cx="9002520" cy="3513960"/>
            <a:chOff x="76320" y="2905200"/>
            <a:chExt cx="9002520" cy="3513960"/>
          </a:xfrm>
        </p:grpSpPr>
        <p:grpSp>
          <p:nvGrpSpPr>
            <p:cNvPr id="604" name="Group 4"/>
            <p:cNvGrpSpPr/>
            <p:nvPr/>
          </p:nvGrpSpPr>
          <p:grpSpPr>
            <a:xfrm>
              <a:off x="76320" y="3505680"/>
              <a:ext cx="7695720" cy="2107800"/>
              <a:chOff x="76320" y="3505680"/>
              <a:chExt cx="7695720" cy="2107800"/>
            </a:xfrm>
          </p:grpSpPr>
          <p:sp>
            <p:nvSpPr>
              <p:cNvPr id="605" name="Text Box 4"/>
              <p:cNvSpPr/>
              <p:nvPr/>
            </p:nvSpPr>
            <p:spPr>
              <a:xfrm>
                <a:off x="76320" y="477864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Epithelial tissu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طلائ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10"/>
              <p:cNvGrpSpPr/>
              <p:nvPr/>
            </p:nvGrpSpPr>
            <p:grpSpPr>
              <a:xfrm>
                <a:off x="1371600" y="3505680"/>
                <a:ext cx="6400440" cy="2107800"/>
                <a:chOff x="1371600" y="3505680"/>
                <a:chExt cx="6400440" cy="2107800"/>
              </a:xfrm>
            </p:grpSpPr>
            <p:sp>
              <p:nvSpPr>
                <p:cNvPr id="607" name="Line 11"/>
                <p:cNvSpPr/>
                <p:nvPr/>
              </p:nvSpPr>
              <p:spPr>
                <a:xfrm>
                  <a:off x="4558680" y="3505680"/>
                  <a:ext cx="0" cy="64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"/>
                <p:cNvSpPr/>
                <p:nvPr/>
              </p:nvSpPr>
              <p:spPr>
                <a:xfrm>
                  <a:off x="1371600" y="4146840"/>
                  <a:ext cx="64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3"/>
                <p:cNvSpPr/>
                <p:nvPr/>
              </p:nvSpPr>
              <p:spPr>
                <a:xfrm>
                  <a:off x="2971440" y="4146840"/>
                  <a:ext cx="0" cy="1466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0" name="Line 14"/>
            <p:cNvSpPr/>
            <p:nvPr/>
          </p:nvSpPr>
          <p:spPr>
            <a:xfrm>
              <a:off x="7760160" y="4131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4"/>
            <p:cNvSpPr/>
            <p:nvPr/>
          </p:nvSpPr>
          <p:spPr>
            <a:xfrm>
              <a:off x="1383120" y="4131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3"/>
            <p:cNvSpPr/>
            <p:nvPr/>
          </p:nvSpPr>
          <p:spPr>
            <a:xfrm>
              <a:off x="6171840" y="414252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4"/>
            <p:cNvSpPr/>
            <p:nvPr/>
          </p:nvSpPr>
          <p:spPr>
            <a:xfrm>
              <a:off x="1687320" y="571536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2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Connective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يج الضا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4"/>
            <p:cNvSpPr/>
            <p:nvPr/>
          </p:nvSpPr>
          <p:spPr>
            <a:xfrm>
              <a:off x="4888080" y="571536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3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Muscular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ج العض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4"/>
            <p:cNvSpPr/>
            <p:nvPr/>
          </p:nvSpPr>
          <p:spPr>
            <a:xfrm>
              <a:off x="6488280" y="480060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4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Nervous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يج العصب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4"/>
            <p:cNvSpPr/>
            <p:nvPr/>
          </p:nvSpPr>
          <p:spPr>
            <a:xfrm>
              <a:off x="2590920" y="2905200"/>
              <a:ext cx="39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d0d0d"/>
                  </a:solidFill>
                  <a:uFillTx/>
                  <a:latin typeface="Constantia"/>
                </a:rPr>
                <a:t>Types of tissu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5"/>
          <p:cNvGrpSpPr/>
          <p:nvPr/>
        </p:nvGrpSpPr>
        <p:grpSpPr>
          <a:xfrm>
            <a:off x="204840" y="2828880"/>
            <a:ext cx="8634240" cy="2196000"/>
            <a:chOff x="204840" y="2828880"/>
            <a:chExt cx="8634240" cy="2196000"/>
          </a:xfrm>
        </p:grpSpPr>
        <p:sp>
          <p:nvSpPr>
            <p:cNvPr id="618" name="Text Box 6"/>
            <p:cNvSpPr/>
            <p:nvPr/>
          </p:nvSpPr>
          <p:spPr>
            <a:xfrm>
              <a:off x="2133360" y="2828880"/>
              <a:ext cx="487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0000"/>
                  </a:solidFill>
                  <a:uFillTx/>
                  <a:latin typeface="Constantia"/>
                </a:rPr>
                <a:t>Functions of Epitheliu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7"/>
            <p:cNvSpPr/>
            <p:nvPr/>
          </p:nvSpPr>
          <p:spPr>
            <a:xfrm>
              <a:off x="204840" y="3917520"/>
              <a:ext cx="2514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Protec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حما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ski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2895480" y="3939840"/>
              <a:ext cx="3089160" cy="10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Absorp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امتصا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Intestinal villi </a:t>
              </a: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خملات الأمعاء</a:t>
              </a: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9"/>
            <p:cNvSpPr/>
            <p:nvPr/>
          </p:nvSpPr>
          <p:spPr>
            <a:xfrm>
              <a:off x="6553080" y="393984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Secre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افراز</a:t>
              </a:r>
              <a:r>
                <a:rPr b="1" lang="ar-SA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glandular cell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16"/>
            <p:cNvGrpSpPr/>
            <p:nvPr/>
          </p:nvGrpSpPr>
          <p:grpSpPr>
            <a:xfrm>
              <a:off x="1447560" y="3280320"/>
              <a:ext cx="6248160" cy="625320"/>
              <a:chOff x="1447560" y="3280320"/>
              <a:chExt cx="6248160" cy="625320"/>
            </a:xfrm>
          </p:grpSpPr>
          <p:sp>
            <p:nvSpPr>
              <p:cNvPr id="623" name="Line 11"/>
              <p:cNvSpPr/>
              <p:nvPr/>
            </p:nvSpPr>
            <p:spPr>
              <a:xfrm>
                <a:off x="4571640" y="328032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2"/>
              <p:cNvSpPr/>
              <p:nvPr/>
            </p:nvSpPr>
            <p:spPr>
              <a:xfrm>
                <a:off x="1447560" y="3459600"/>
                <a:ext cx="624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3"/>
              <p:cNvSpPr/>
              <p:nvPr/>
            </p:nvSpPr>
            <p:spPr>
              <a:xfrm>
                <a:off x="1458720" y="34484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4"/>
              <p:cNvSpPr/>
              <p:nvPr/>
            </p:nvSpPr>
            <p:spPr>
              <a:xfrm>
                <a:off x="4571640" y="34484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5"/>
              <p:cNvSpPr/>
              <p:nvPr/>
            </p:nvSpPr>
            <p:spPr>
              <a:xfrm>
                <a:off x="7684560" y="34484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First: Epithelial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طل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76320" y="982800"/>
            <a:ext cx="883908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s tightly link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presence of a cell secretion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افراز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alled the basement membran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شاء القاع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ver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ُغط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lin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ُبطن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ther tissues and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76320" y="47926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Glands can b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epithelial cells, such as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goblet cel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كأس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found in the stomach and intestines to secrete mucu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فرز المخاط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ulticellular glan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عديدة الخلاي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clude the endocrine glan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الصم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8" descr="https://classconnection.s3.amazonaws.com/276/flashcards/583276/jpg/goblet_cell_sketch_with_label_copy1318481738128.jpg"/>
          <p:cNvPicPr/>
          <p:nvPr/>
        </p:nvPicPr>
        <p:blipFill>
          <a:blip r:embed="rId1"/>
          <a:srcRect l="11125" t="0" r="0" b="0"/>
          <a:stretch/>
        </p:blipFill>
        <p:spPr>
          <a:xfrm>
            <a:off x="6629400" y="4684680"/>
            <a:ext cx="2336760" cy="20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75960" y="1166760"/>
            <a:ext cx="838188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hape of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Classification based on numbe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of cell layer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mple epithelium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سيط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a One layer of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tratified epithelium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طبق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e than one layer of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epitheliu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طبقي كاذب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ne layer of cells but appear to for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lay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Classification based on cell shap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cub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كعب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olumna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colum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مود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quam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fla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رشف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228600" y="304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lassification of epitheli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2"/>
          <p:cNvGrpSpPr/>
          <p:nvPr/>
        </p:nvGrpSpPr>
        <p:grpSpPr>
          <a:xfrm>
            <a:off x="4548240" y="1758960"/>
            <a:ext cx="4366800" cy="5126400"/>
            <a:chOff x="4548240" y="1758960"/>
            <a:chExt cx="4366800" cy="5126400"/>
          </a:xfrm>
        </p:grpSpPr>
        <p:grpSp>
          <p:nvGrpSpPr>
            <p:cNvPr id="637" name="Group 12"/>
            <p:cNvGrpSpPr/>
            <p:nvPr/>
          </p:nvGrpSpPr>
          <p:grpSpPr>
            <a:xfrm>
              <a:off x="4548240" y="1758960"/>
              <a:ext cx="4366800" cy="5126400"/>
              <a:chOff x="4548240" y="1758960"/>
              <a:chExt cx="4366800" cy="5126400"/>
            </a:xfrm>
          </p:grpSpPr>
          <p:pic>
            <p:nvPicPr>
              <p:cNvPr id="638" name="Picture 4" descr=""/>
              <p:cNvPicPr/>
              <p:nvPr/>
            </p:nvPicPr>
            <p:blipFill>
              <a:blip r:embed="rId1"/>
              <a:srcRect l="1336" t="1669" r="1571" b="3244"/>
              <a:stretch/>
            </p:blipFill>
            <p:spPr>
              <a:xfrm>
                <a:off x="4648680" y="1758960"/>
                <a:ext cx="4218120" cy="4672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39" name="Text Box 6"/>
              <p:cNvSpPr/>
              <p:nvPr/>
            </p:nvSpPr>
            <p:spPr>
              <a:xfrm>
                <a:off x="7554600" y="332748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حرشفية طبقي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7"/>
              <p:cNvSpPr/>
              <p:nvPr/>
            </p:nvSpPr>
            <p:spPr>
              <a:xfrm>
                <a:off x="7543440" y="464832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حرشفي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8"/>
              <p:cNvSpPr/>
              <p:nvPr/>
            </p:nvSpPr>
            <p:spPr>
              <a:xfrm>
                <a:off x="7554600" y="636516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9"/>
              <p:cNvSpPr/>
              <p:nvPr/>
            </p:nvSpPr>
            <p:spPr>
              <a:xfrm>
                <a:off x="4701240" y="4686480"/>
                <a:ext cx="1363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مكعب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10"/>
              <p:cNvSpPr/>
              <p:nvPr/>
            </p:nvSpPr>
            <p:spPr>
              <a:xfrm>
                <a:off x="4648680" y="6365160"/>
                <a:ext cx="1362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طبقي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4548240" y="3195000"/>
                <a:ext cx="1929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مهدبة طبقية كاذب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10"/>
            <p:cNvSpPr/>
            <p:nvPr/>
          </p:nvSpPr>
          <p:spPr>
            <a:xfrm>
              <a:off x="5802120" y="6019920"/>
              <a:ext cx="136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  <a:cs typeface="Majalla UI"/>
                </a:rPr>
                <a:t>غشاء قاعد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Second: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ضا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76320" y="1143000"/>
            <a:ext cx="883908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Cells widely separated from each other in a matrix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ادة خلال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at is produced by the cells (cells are scattered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بعثر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generally consists of fiber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Arial"/>
              </a:rPr>
              <a:t>أليا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may be solid (as in bone), gelatino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Arial"/>
              </a:rPr>
              <a:t>جيلاتيني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, or liquid (as in blood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connective tissues are to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bind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suppor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 other t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6320" y="1371240"/>
            <a:ext cx="899136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ypes of connective tissues fibers, which are all prote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Collagenous fibers (white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الكولاجينية (البيضاء)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artilage, b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thick and made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non-elastic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lastic fibers (Yellow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 المرنة (الصفراء)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ungs,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rterie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, v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long threa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provide a rubbery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طاط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quali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3-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eticular fiber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live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dipose tissue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bone marro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plee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Constantia"/>
                <a:ea typeface="Arial"/>
              </a:rPr>
              <a:t>Types of Fibers in Connective Tissu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Connective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4"/>
          <p:cNvGrpSpPr/>
          <p:nvPr/>
        </p:nvGrpSpPr>
        <p:grpSpPr>
          <a:xfrm>
            <a:off x="173160" y="1347840"/>
            <a:ext cx="8778600" cy="4820400"/>
            <a:chOff x="173160" y="1347840"/>
            <a:chExt cx="8778600" cy="4820400"/>
          </a:xfrm>
        </p:grpSpPr>
        <p:grpSp>
          <p:nvGrpSpPr>
            <p:cNvPr id="655" name="Group 3"/>
            <p:cNvGrpSpPr/>
            <p:nvPr/>
          </p:nvGrpSpPr>
          <p:grpSpPr>
            <a:xfrm>
              <a:off x="617400" y="1347840"/>
              <a:ext cx="8334360" cy="2016360"/>
              <a:chOff x="617400" y="1347840"/>
              <a:chExt cx="8334360" cy="2016360"/>
            </a:xfrm>
          </p:grpSpPr>
          <p:grpSp>
            <p:nvGrpSpPr>
              <p:cNvPr id="656" name="Group 4"/>
              <p:cNvGrpSpPr/>
              <p:nvPr/>
            </p:nvGrpSpPr>
            <p:grpSpPr>
              <a:xfrm>
                <a:off x="617400" y="1347840"/>
                <a:ext cx="7467840" cy="2016360"/>
                <a:chOff x="617400" y="1347840"/>
                <a:chExt cx="7467840" cy="2016360"/>
              </a:xfrm>
            </p:grpSpPr>
            <p:sp>
              <p:nvSpPr>
                <p:cNvPr id="657" name="Text Box 4"/>
                <p:cNvSpPr/>
                <p:nvPr/>
              </p:nvSpPr>
              <p:spPr>
                <a:xfrm>
                  <a:off x="617400" y="2355480"/>
                  <a:ext cx="30560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Proper connective tissu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أنسجة الضامة الأصيله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" name="Group 10"/>
                <p:cNvGrpSpPr/>
                <p:nvPr/>
              </p:nvGrpSpPr>
              <p:grpSpPr>
                <a:xfrm>
                  <a:off x="2143080" y="1347840"/>
                  <a:ext cx="5942160" cy="418680"/>
                  <a:chOff x="2143080" y="1347840"/>
                  <a:chExt cx="5942160" cy="418680"/>
                </a:xfrm>
              </p:grpSpPr>
              <p:sp>
                <p:nvSpPr>
                  <p:cNvPr id="659" name="Line 11"/>
                  <p:cNvSpPr/>
                  <p:nvPr/>
                </p:nvSpPr>
                <p:spPr>
                  <a:xfrm>
                    <a:off x="5573520" y="1347840"/>
                    <a:ext cx="0" cy="41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Line 12"/>
                  <p:cNvSpPr/>
                  <p:nvPr/>
                </p:nvSpPr>
                <p:spPr>
                  <a:xfrm>
                    <a:off x="2143080" y="1766520"/>
                    <a:ext cx="5942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1" name="Line 14"/>
              <p:cNvSpPr/>
              <p:nvPr/>
            </p:nvSpPr>
            <p:spPr>
              <a:xfrm>
                <a:off x="557352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4"/>
              <p:cNvSpPr/>
              <p:nvPr/>
            </p:nvSpPr>
            <p:spPr>
              <a:xfrm>
                <a:off x="807372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4"/>
              <p:cNvSpPr/>
              <p:nvPr/>
            </p:nvSpPr>
            <p:spPr>
              <a:xfrm>
                <a:off x="215064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4"/>
              <p:cNvSpPr/>
              <p:nvPr/>
            </p:nvSpPr>
            <p:spPr>
              <a:xfrm>
                <a:off x="4027320" y="2355480"/>
                <a:ext cx="3095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keletal connective tissu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أنسجة الضامة الهيكل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4"/>
              <p:cNvSpPr/>
              <p:nvPr/>
            </p:nvSpPr>
            <p:spPr>
              <a:xfrm>
                <a:off x="7229520" y="2355480"/>
                <a:ext cx="1722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ff"/>
                    </a:solidFill>
                    <a:latin typeface="Calibri"/>
                  </a:rPr>
                  <a:t>3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lood    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دم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3"/>
            <p:cNvGrpSpPr/>
            <p:nvPr/>
          </p:nvGrpSpPr>
          <p:grpSpPr>
            <a:xfrm>
              <a:off x="173160" y="3416400"/>
              <a:ext cx="4023000" cy="1976760"/>
              <a:chOff x="173160" y="3416400"/>
              <a:chExt cx="4023000" cy="1976760"/>
            </a:xfrm>
          </p:grpSpPr>
          <p:grpSp>
            <p:nvGrpSpPr>
              <p:cNvPr id="667" name="Group 4"/>
              <p:cNvGrpSpPr/>
              <p:nvPr/>
            </p:nvGrpSpPr>
            <p:grpSpPr>
              <a:xfrm>
                <a:off x="173160" y="3416400"/>
                <a:ext cx="3314520" cy="1671480"/>
                <a:chOff x="173160" y="3416400"/>
                <a:chExt cx="3314520" cy="1671480"/>
              </a:xfrm>
            </p:grpSpPr>
            <p:sp>
              <p:nvSpPr>
                <p:cNvPr id="668" name="Text Box 4"/>
                <p:cNvSpPr/>
                <p:nvPr/>
              </p:nvSpPr>
              <p:spPr>
                <a:xfrm>
                  <a:off x="173160" y="4384080"/>
                  <a:ext cx="1295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Loose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فجوي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Group 10"/>
                <p:cNvGrpSpPr/>
                <p:nvPr/>
              </p:nvGrpSpPr>
              <p:grpSpPr>
                <a:xfrm>
                  <a:off x="820440" y="3416400"/>
                  <a:ext cx="2667240" cy="418680"/>
                  <a:chOff x="820440" y="3416400"/>
                  <a:chExt cx="2667240" cy="418680"/>
                </a:xfrm>
              </p:grpSpPr>
              <p:sp>
                <p:nvSpPr>
                  <p:cNvPr id="670" name="Line 11"/>
                  <p:cNvSpPr/>
                  <p:nvPr/>
                </p:nvSpPr>
                <p:spPr>
                  <a:xfrm>
                    <a:off x="2142720" y="3416400"/>
                    <a:ext cx="0" cy="41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12"/>
                  <p:cNvSpPr/>
                  <p:nvPr/>
                </p:nvSpPr>
                <p:spPr>
                  <a:xfrm>
                    <a:off x="820440" y="3835080"/>
                    <a:ext cx="2667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2" name="Line 14"/>
              <p:cNvSpPr/>
              <p:nvPr/>
            </p:nvSpPr>
            <p:spPr>
              <a:xfrm>
                <a:off x="214416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4"/>
              <p:cNvSpPr/>
              <p:nvPr/>
            </p:nvSpPr>
            <p:spPr>
              <a:xfrm>
                <a:off x="348516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4"/>
              <p:cNvSpPr/>
              <p:nvPr/>
            </p:nvSpPr>
            <p:spPr>
              <a:xfrm>
                <a:off x="83232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4"/>
              <p:cNvSpPr/>
              <p:nvPr/>
            </p:nvSpPr>
            <p:spPr>
              <a:xfrm>
                <a:off x="1373400" y="4384440"/>
                <a:ext cx="1546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dipos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دهن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Text Box 4"/>
              <p:cNvSpPr/>
              <p:nvPr/>
            </p:nvSpPr>
            <p:spPr>
              <a:xfrm>
                <a:off x="2777040" y="4384440"/>
                <a:ext cx="14191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Fibrou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ليف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3"/>
            <p:cNvGrpSpPr/>
            <p:nvPr/>
          </p:nvGrpSpPr>
          <p:grpSpPr>
            <a:xfrm>
              <a:off x="3989520" y="3416400"/>
              <a:ext cx="3149640" cy="2751840"/>
              <a:chOff x="3989520" y="3416400"/>
              <a:chExt cx="3149640" cy="2751840"/>
            </a:xfrm>
          </p:grpSpPr>
          <p:grpSp>
            <p:nvGrpSpPr>
              <p:cNvPr id="678" name="Group 10"/>
              <p:cNvGrpSpPr/>
              <p:nvPr/>
            </p:nvGrpSpPr>
            <p:grpSpPr>
              <a:xfrm>
                <a:off x="4735440" y="3416400"/>
                <a:ext cx="1533240" cy="419040"/>
                <a:chOff x="4735440" y="3416400"/>
                <a:chExt cx="1533240" cy="419040"/>
              </a:xfrm>
            </p:grpSpPr>
            <p:sp>
              <p:nvSpPr>
                <p:cNvPr id="679" name="Line 11"/>
                <p:cNvSpPr/>
                <p:nvPr/>
              </p:nvSpPr>
              <p:spPr>
                <a:xfrm>
                  <a:off x="5478120" y="341640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"/>
                <p:cNvSpPr/>
                <p:nvPr/>
              </p:nvSpPr>
              <p:spPr>
                <a:xfrm>
                  <a:off x="4735440" y="3835440"/>
                  <a:ext cx="1533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4"/>
              <p:cNvSpPr/>
              <p:nvPr/>
            </p:nvSpPr>
            <p:spPr>
              <a:xfrm>
                <a:off x="6247800" y="3830760"/>
                <a:ext cx="0" cy="16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14"/>
              <p:cNvSpPr/>
              <p:nvPr/>
            </p:nvSpPr>
            <p:spPr>
              <a:xfrm>
                <a:off x="4746960" y="3830760"/>
                <a:ext cx="0" cy="16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4"/>
              <p:cNvSpPr/>
              <p:nvPr/>
            </p:nvSpPr>
            <p:spPr>
              <a:xfrm>
                <a:off x="3989520" y="5464440"/>
                <a:ext cx="1546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a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on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عظ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4"/>
              <p:cNvSpPr/>
              <p:nvPr/>
            </p:nvSpPr>
            <p:spPr>
              <a:xfrm>
                <a:off x="5372280" y="5464440"/>
                <a:ext cx="1766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b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tilag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غضرو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http://figures.boundless.com/19479/full/figure-33-02-06.jpeg"/>
          <p:cNvPicPr/>
          <p:nvPr/>
        </p:nvPicPr>
        <p:blipFill>
          <a:blip r:embed="rId1"/>
          <a:stretch/>
        </p:blipFill>
        <p:spPr>
          <a:xfrm>
            <a:off x="4191120" y="2725560"/>
            <a:ext cx="4800600" cy="398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6" name="Rectangle 3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3800" spc="-1" strike="noStrike">
                <a:solidFill>
                  <a:srgbClr val="0000ff"/>
                </a:solidFill>
                <a:latin typeface="Constantia"/>
                <a:ea typeface="Arial"/>
              </a:rPr>
              <a:t>Proper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 الضامة الأصي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152280" y="12952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A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Loose Proper Connective Tissue</a:t>
            </a:r>
            <a:r>
              <a:rPr b="1" lang="en-US" sz="30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فج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76320" y="18367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inds epithelia to underlying tissues and functions a holding organs in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has all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hre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fib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52280" y="2895480"/>
            <a:ext cx="38862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t has two cell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ibroblast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ايا لي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responsible for making the extracellular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2-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 Macrophage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ايا بلع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amoeboid cell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أميب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swallow and digest microbes, and cellular debri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قايا الخلايا الميت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y phagocyto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لعم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Mohammed Albeshr</cp:lastModifiedBy>
  <dcterms:modified xsi:type="dcterms:W3CDTF">2017-10-30T21:44:04Z</dcterms:modified>
  <cp:revision>407</cp:revision>
  <dc:subject/>
  <dc:title>Slide 1</dc:title>
</cp:coreProperties>
</file>