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CBBE-C4E8-4743-B44B-E1B62DC7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86B8-C7D6-4EED-A81D-4CE7D6D7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7DC-0EA1-402E-89A2-FA9A3743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888-36E0-4B39-8F3F-67244898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8A94-E5B3-47FF-AEBE-CAB58AFD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9B17-2D6A-478F-8A96-019A2DDE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CE8E-906F-412B-A7DC-80DE4288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CC09-4488-4950-9949-EEF5C7B7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04D9-5956-416D-9523-B52B0AB2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F9C6-2990-446B-98CE-B92DD74A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A835-0A02-4ED0-B593-3AD69FF9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180F-BDD1-4048-9794-F25F6CD5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D2AC-338A-4A84-A57A-DC31B04D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0B32-AD14-451B-AEAB-0415B26D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4895-327D-4CB6-A9F0-20448F38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F6FD-75E8-4412-A0A9-83F58C41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C0DF-89B1-4DBC-A453-D72959F6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61D36-3CEF-488D-AEA7-CAF9E3F3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E1E3E-0EF4-4F01-97D8-C6859CED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53FA7-5E1A-40E3-B523-7B3BAC8D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C5EB9-AC68-49BA-A522-1B4593DC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FEA55-0454-46E3-A5ED-5022A367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B94-999D-4F8A-825E-9FAD7CA6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3DBDC-58B8-47CD-9E2D-3B64A62C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1B335-3626-4134-8E3C-DA70C980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CAF7D-A0A5-4A01-9D95-C4AF000B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EDA87-C4AA-43AC-969D-AFE55D97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F85B5-CB82-4F32-A951-7DFC7B73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A0B3F-EDCF-4B00-9C73-8666EBB1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B12B6-1A8C-4297-8934-E6486736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F9AC5-3D9F-4091-9BE5-7F4042A3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0A323-B186-4E25-85BF-E794E255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123BE-D42E-49C6-A966-008B5FDE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BD0-6A8F-4400-A686-AB9D44D8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796D7-82EA-45A2-9E77-9921B0ED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9EC2E-CE46-4C3F-B51F-B5DE5066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CD426-BF8B-4FC6-A6D1-676D55FF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B6EFB-982A-418A-98E3-4599B5F5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9C03F-0CAD-4535-850A-3552CCB2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461AC-E3F0-4CAA-B613-BCE75A22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7072C-CDFA-4958-BAE5-879DD5A0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5E0CC-5B76-451E-97C0-2924F165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ED249-BC86-46B1-B9AA-64C66FB1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01F-29FC-4BED-A5E9-6A5E393A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C74-918B-47B1-A2CF-A4BC5839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8C60-FDEC-477B-8D3D-A7B98707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B1A-CD7A-4E07-AF3B-DD867D95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DDDD-DB0F-4647-BF41-40BB6A94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E6DD-BB19-4979-8FFE-11DAE8ED20C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75CF-9915-4B7B-A1E5-FC3A791D3C7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54C3-540C-49F8-874C-0F5C1596DF2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A075-4C80-4423-897B-DE934A4A7C6F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26504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  <a:ea typeface="Traditional Arabic"/>
              </a:rPr>
              <a:t>Animal Tissues</a:t>
            </a:r>
            <a:r>
              <a:rPr b="1" lang="ar-SA" sz="28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1" lang="ar-SA" sz="28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أنسجة الحيوان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)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  <a:ea typeface="Traditional Arabic"/>
              </a:rPr>
              <a:t>Histology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1" lang="ar-SA" sz="20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علم الانسجة</a:t>
            </a: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280" y="2214360"/>
            <a:ext cx="868680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imals are multicellular organisms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كائنات عديدة الخلايا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ith their specialized cells grouped into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most animals, combinations of various tissues make up functional units calle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rga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groups of organs that work together form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system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example, the human digestive system consists of a stomach, small intestine, large intestine, and several other organs, each a composite of different tissues.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62320" y="351000"/>
            <a:ext cx="4114800" cy="563400"/>
          </a:xfrm>
          <a:prstGeom prst="rect">
            <a:avLst/>
          </a:prstGeom>
          <a:solidFill>
            <a:srgbClr val="007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cture 11: 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80880" y="2649240"/>
            <a:ext cx="419112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in animals are composed of a number of differen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 typ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are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, which are in turn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4800600" y="2662200"/>
            <a:ext cx="4038480" cy="2976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</p:pic>
      <p:sp>
        <p:nvSpPr>
          <p:cNvPr id="200" name="Text Box 5"/>
          <p:cNvSpPr/>
          <p:nvPr/>
        </p:nvSpPr>
        <p:spPr>
          <a:xfrm>
            <a:off x="2209680" y="16002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ganization of the Animal Bo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457200" y="838080"/>
            <a:ext cx="7772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  <a:ea typeface="Traditional Arabic"/>
              </a:rPr>
              <a:t>Animal Tissues</a:t>
            </a:r>
            <a:r>
              <a:rPr b="1" lang="ar-SA" sz="28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  <a:ea typeface="Arial"/>
              </a:rPr>
              <a:t>(</a:t>
            </a:r>
            <a:r>
              <a:rPr b="1" lang="ar-SA" sz="28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أنسجة الحيوان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  <a:ea typeface="Arial"/>
              </a:rPr>
              <a:t>)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  <a:ea typeface="Traditional Arabic"/>
              </a:rPr>
              <a:t>Histology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>
                <a:solidFill>
                  <a:srgbClr val="04617b"/>
                </a:solidFill>
                <a:latin typeface="Calibri"/>
                <a:ea typeface="Arial"/>
              </a:rPr>
              <a:t>(</a:t>
            </a:r>
            <a:r>
              <a:rPr b="1" lang="ar-SA" sz="20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علم الانسجة</a:t>
            </a:r>
            <a:r>
              <a:rPr b="1" lang="en-US" sz="2000" spc="-1" strike="noStrike">
                <a:solidFill>
                  <a:srgbClr val="04617b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  <a:ea typeface="Traditional Arabic"/>
              </a:rPr>
              <a:t>Animal Tissues (Histology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612800"/>
            <a:ext cx="8381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270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 tissu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s a group of cells with a commo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ifferent types of tissues have different structures that are especially suited to their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tissue may be held by a sticky extra-cellular matrix that coats the cells or weaves them together in a fabric of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270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ypes of tissues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1- Epithelial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طلائ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2- Connectiv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ضام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3- Nervous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صب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4- Muscl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ضل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(1) Epithelial Tissues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الأنسجة الطلائية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440" y="1447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over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غطي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surfaces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in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بطن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cavities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133720" y="23623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of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80880" y="3962520"/>
            <a:ext cx="1981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in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طين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352680" y="3962520"/>
            <a:ext cx="25146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حماية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629400" y="4038480"/>
            <a:ext cx="22860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ming g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كوين الغد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6"/>
          <p:cNvGrpSpPr/>
          <p:nvPr/>
        </p:nvGrpSpPr>
        <p:grpSpPr>
          <a:xfrm>
            <a:off x="1295280" y="2895480"/>
            <a:ext cx="6400800" cy="990360"/>
            <a:chOff x="1295280" y="2895480"/>
            <a:chExt cx="6400800" cy="990360"/>
          </a:xfrm>
        </p:grpSpPr>
        <p:sp>
          <p:nvSpPr>
            <p:cNvPr id="211" name="Line 10"/>
            <p:cNvSpPr/>
            <p:nvPr/>
          </p:nvSpPr>
          <p:spPr>
            <a:xfrm>
              <a:off x="3200400" y="289548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1"/>
            <p:cNvSpPr/>
            <p:nvPr/>
          </p:nvSpPr>
          <p:spPr>
            <a:xfrm>
              <a:off x="4572000" y="289548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1295280" y="342864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12952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4"/>
            <p:cNvSpPr/>
            <p:nvPr/>
          </p:nvSpPr>
          <p:spPr>
            <a:xfrm>
              <a:off x="457200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5"/>
            <p:cNvSpPr/>
            <p:nvPr/>
          </p:nvSpPr>
          <p:spPr>
            <a:xfrm>
              <a:off x="76960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7"/>
          <p:cNvSpPr/>
          <p:nvPr/>
        </p:nvSpPr>
        <p:spPr>
          <a:xfrm>
            <a:off x="380880" y="5105520"/>
            <a:ext cx="62485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ands can be single epithelial cells, such as the goblet cell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كأس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line the intest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cellular gland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عديدة الخلا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 the endocrine glands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9" descr=""/>
          <p:cNvPicPr/>
          <p:nvPr/>
        </p:nvPicPr>
        <p:blipFill>
          <a:blip r:embed="rId1"/>
          <a:stretch/>
        </p:blipFill>
        <p:spPr>
          <a:xfrm>
            <a:off x="6858000" y="5105520"/>
            <a:ext cx="1523880" cy="171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52280" y="609120"/>
            <a:ext cx="838224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036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pithelia are classified 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umber of cell lay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shape of cell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n the free surfa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imple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بسيط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is a single layer of cell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tratified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ي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multiple layers of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seudostratifi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epithelium: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ذ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a single layer of cells                                                         but appear to form two laye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l cell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-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uboida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كعب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Columna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عمود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Squamou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حرشف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0" name="Group 12"/>
          <p:cNvGrpSpPr/>
          <p:nvPr/>
        </p:nvGrpSpPr>
        <p:grpSpPr>
          <a:xfrm>
            <a:off x="4278240" y="990720"/>
            <a:ext cx="4865760" cy="5717160"/>
            <a:chOff x="4278240" y="990720"/>
            <a:chExt cx="4865760" cy="571716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rcRect l="0" t="0" r="0" b="3244"/>
            <a:stretch/>
          </p:blipFill>
          <p:spPr>
            <a:xfrm>
              <a:off x="4278240" y="990720"/>
              <a:ext cx="48657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6"/>
            <p:cNvSpPr/>
            <p:nvPr/>
          </p:nvSpPr>
          <p:spPr>
            <a:xfrm>
              <a:off x="7543800" y="289584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7620120" y="441972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8"/>
            <p:cNvSpPr/>
            <p:nvPr/>
          </p:nvSpPr>
          <p:spPr>
            <a:xfrm>
              <a:off x="75438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9"/>
            <p:cNvSpPr/>
            <p:nvPr/>
          </p:nvSpPr>
          <p:spPr>
            <a:xfrm>
              <a:off x="4343400" y="44640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مكعب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0"/>
            <p:cNvSpPr/>
            <p:nvPr/>
          </p:nvSpPr>
          <p:spPr>
            <a:xfrm>
              <a:off x="43434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4419720" y="27432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مهدبة طبقية كاذب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0880" y="812880"/>
            <a:ext cx="8382240" cy="28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Muscle tissu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يج العضلي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omposed of long cells called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uscle fib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ألياف عض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capable of contracting when stimulated by nerve impuls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has large numbers of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fibri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لُيَيفات عضل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de of the contractile proteins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cti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كتين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si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يوسي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uscle is the most abundant tissue in most animals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9" name="Group 8"/>
          <p:cNvGrpSpPr/>
          <p:nvPr/>
        </p:nvGrpSpPr>
        <p:grpSpPr>
          <a:xfrm>
            <a:off x="685800" y="3733920"/>
            <a:ext cx="7772400" cy="2666880"/>
            <a:chOff x="685800" y="3733920"/>
            <a:chExt cx="7772400" cy="2666880"/>
          </a:xfrm>
        </p:grpSpPr>
        <p:pic>
          <p:nvPicPr>
            <p:cNvPr id="230" name="Picture 6" descr=""/>
            <p:cNvPicPr/>
            <p:nvPr/>
          </p:nvPicPr>
          <p:blipFill>
            <a:blip r:embed="rId1"/>
            <a:stretch/>
          </p:blipFill>
          <p:spPr>
            <a:xfrm>
              <a:off x="4190760" y="3733920"/>
              <a:ext cx="4267440" cy="266688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231" name="Picture 7" descr=""/>
            <p:cNvPicPr/>
            <p:nvPr/>
          </p:nvPicPr>
          <p:blipFill>
            <a:blip r:embed="rId2"/>
            <a:srcRect l="15842" t="0" r="0" b="0"/>
            <a:stretch/>
          </p:blipFill>
          <p:spPr>
            <a:xfrm>
              <a:off x="685800" y="3733920"/>
              <a:ext cx="3238560" cy="264780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</p:grpSp>
    </p:spTree>
  </p:cSld>
  <p:transition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04560" y="958320"/>
            <a:ext cx="838188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re are three types of muscle tissue in the vertebrate body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3124080" y="2286000"/>
            <a:ext cx="5867640" cy="4343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2280" y="3009960"/>
            <a:ext cx="3124440" cy="22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keletal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هيكل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rdiac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قلب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mooth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ملساء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3124080" y="3960720"/>
            <a:ext cx="5410440" cy="2745000"/>
            <a:chOff x="3124080" y="3960720"/>
            <a:chExt cx="5410440" cy="2745000"/>
          </a:xfrm>
        </p:grpSpPr>
        <p:sp>
          <p:nvSpPr>
            <p:cNvPr id="236" name="Rectangle 7"/>
            <p:cNvSpPr/>
            <p:nvPr/>
          </p:nvSpPr>
          <p:spPr>
            <a:xfrm>
              <a:off x="3124080" y="43290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5257800" y="64008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9"/>
            <p:cNvSpPr/>
            <p:nvPr/>
          </p:nvSpPr>
          <p:spPr>
            <a:xfrm>
              <a:off x="7162920" y="396072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04920" y="68544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01640" indent="-609480">
              <a:spcBef>
                <a:spcPts val="601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keletal muscl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It attaches to bones by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end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أوتار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keletal muscle is responsible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voluntary movement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ات الإراد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Also called striated muscl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لات مخطط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diac muscle</a:t>
            </a: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ms the contractile wa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f the hear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Cardiac cells are branch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mooth muscle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o striatio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found in the walls of the digestive tract,                                           urinary bladder, arteries, and other internal orga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s cells are spindle-shap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4495680" y="2347920"/>
            <a:ext cx="4496040" cy="3062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8:12:48Z</dcterms:created>
  <dc:creator>User</dc:creator>
  <dc:description/>
  <dc:language>en-US</dc:language>
  <cp:lastModifiedBy>User</cp:lastModifiedBy>
  <dcterms:modified xsi:type="dcterms:W3CDTF">2015-10-22T20:04:34Z</dcterms:modified>
  <cp:revision>221</cp:revision>
  <dc:subject/>
  <dc:title>Slide 1</dc:title>
</cp:coreProperties>
</file>