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B17-09CF-45A7-B908-1C6776C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5F2-A255-4695-B8A8-F29B059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C41-0F0A-4AEE-BC88-8B76C3C0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8E9-C34C-4F88-9CD6-8F469003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BA0E-9979-4F8D-A4AF-C07C7CC0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A3E-2E0D-42C4-A184-DE224F8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0AF-1CEE-40E5-8CB8-E633CC2A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7FD-2013-46C3-9B08-47E401C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2330-3584-44E6-B8AF-B05D2D4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16D-091D-4456-BCF8-2BAD91AA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F4A-5311-46D7-A945-A576CCC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007-5318-4516-9710-933A546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CBB1-0546-442B-AC93-E1514EA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905-847E-4213-A866-24C1A7E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996-A839-440E-8DA1-3A7C124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2BDD-0C51-405F-B07B-CA12A635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A67-6A39-4EE0-BBDF-9F75374B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B800-46A2-4D9B-8002-99F8A76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FA24-6437-407E-849C-27C447E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ADCC-F00F-4620-BECC-1F69EFC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DB4C-CBBF-48C6-958D-01421D3E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DE91-B172-4C53-B00E-9042BC5A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A73-150E-47F5-A121-2994765A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01651-1FCC-49F9-A3A2-EEFA2BF3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0A9E-CEB0-46AB-92CC-D82723B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7A60-A858-41E1-ADFF-A66219A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E9D5-C35B-4589-9525-8FBFBB4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EF99-92A0-4535-B183-2C56D97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27D9-B4A7-407D-97E6-86063D2D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B3A6-D909-4E73-92DD-FDF298A7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C7C1-6790-4D73-AC98-B85AE530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8960-F397-417E-8AAF-8667DC1C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6A26-8F27-4074-B2F1-C4B08924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B06-D212-4415-B1FA-FE8C2277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8A8D5-E82E-4AF3-B8B9-563A376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D88C-504B-49E7-92B2-D2F239A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BAD0-6784-4A8C-B194-AA0190C3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FD90-B6E1-4F19-B1E7-76DC67B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A9C1-8FC8-4D90-B1C9-7FAA8FB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5F97-D913-47FF-92E3-58249D4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86FF-E91B-4671-BBBF-9F26A8D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F86B-0646-4DB2-BDA0-24D2E9E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497C-92D9-48A6-A319-42825963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EAC-B54F-481A-BC76-351120E6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558-6BDA-41BB-A43D-0FA9669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48D-A197-4906-BBC1-20E992F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34E-8C73-495A-A8FB-DA17195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F00-972F-41C4-80F9-A25610F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9B3-3519-4849-A13E-DC229986A6E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5903-4D39-4F55-AA98-A6CBEF6B763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107-D89E-47C0-BCCC-9DE3FF9B5CE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452-B04E-4DB0-9075-276956ABF5E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سجة الحيوان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)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Histology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لم الانسجة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880" y="2649240"/>
            <a:ext cx="41911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800600" y="266220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0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57200" y="838080"/>
            <a:ext cx="7772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  <a:ea typeface="Arial"/>
              </a:rPr>
              <a:t>(</a:t>
            </a:r>
            <a:r>
              <a:rPr b="1" lang="ar-SA" sz="28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أنسجة الحيوان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  <a:ea typeface="Arial"/>
              </a:rPr>
              <a:t>)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  <a:ea typeface="Traditional Arabic"/>
              </a:rPr>
              <a:t>Histology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  <a:ea typeface="Arial"/>
              </a:rPr>
              <a:t>(</a:t>
            </a:r>
            <a:r>
              <a:rPr b="1" lang="ar-SA" sz="20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علم الانسجة</a:t>
            </a:r>
            <a:r>
              <a:rPr b="1" lang="en-US" sz="2000" spc="-1" strike="noStrike">
                <a:solidFill>
                  <a:srgbClr val="04617b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  <a:ea typeface="Traditional Arabic"/>
              </a:rPr>
              <a:t>Animal Tissues (Histolog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endocrine glands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495680" y="2347920"/>
            <a:ext cx="4496040" cy="3062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5-10-22T20:04:34Z</dcterms:modified>
  <cp:revision>221</cp:revision>
  <dc:subject/>
  <dc:title>Slide 1</dc:title>
</cp:coreProperties>
</file>