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31B-B849-4CEE-9A7F-3E268DBF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33F-0298-467A-A8CA-6E6A493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1F2-4475-4B55-8318-CA421AB9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3FE-0DAB-499E-8B15-7BF08913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B52-7A1E-4722-BE77-A64FAE6E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918F-DD33-48C0-A7B5-6979ED2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133E-2375-45EF-8D0C-860D45B4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E2C6-2730-4AD9-A4C6-58FA367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233-8E67-437A-8F1A-2450A87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D61-F073-4BD5-A6A6-A787F088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3CC8-E7FD-4346-8C2C-AF53E77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CD7-D4A6-4A6E-9477-CA5FA693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236-865B-4AD1-942C-303B5C9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D2FF-0E17-47D8-8753-5070005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1B00-E256-476B-88BF-4BFF5DB1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09EC-F7E2-468F-877E-1B1ED7E2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C49-CD92-4896-812A-CA7A9620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D6BC-692A-4A1C-BBC5-C14EE7B5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2675-0071-4EF9-8499-23182173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2BB9-32BF-4926-BF42-EBDCD286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6934-F37D-4A07-8B0B-C3215849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9796-85C2-4DE7-9EA8-420D030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A36-FE39-474B-9A26-050857DC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7B26-5466-443F-955F-6EA3F2E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4330-45D2-4B2D-ABF5-89E9A57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177D-F025-4BB9-B158-2ECA117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BCEA-C524-4A86-B4FF-D127158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89EB-E1AD-460C-9843-C828DBA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9A4F2-635E-40C5-9D5F-564804FC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8717-B6F0-4A1E-B0DA-B983AC56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26F5A-2F05-4C75-87B3-54BEF733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3B38-A93B-4AF8-876A-1547BAF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4DBC-BDEF-4A93-BBB8-F15D3DB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003-6602-407D-BB14-8685C47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E96F-B644-40F7-917A-0FF37FDE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E6AB-F6D1-4B05-9CB7-0B5279B9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94DD-3718-4105-8206-429ABBD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E596-61F4-4588-8C79-E07061BC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581C-02F6-4EA8-9613-82F347E1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7B56-A36B-47BC-9F6C-30A5363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56CB-6E7A-44FF-9872-6991ED0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8A3E-F051-4A77-9383-54C94C52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C51E-AF2E-493B-9E9C-F4CA3236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C75-4488-4D21-84D8-6B4BC8BF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628-C5C4-4F62-A6DC-F26E62FA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07D-9B67-4BCD-ADFC-45CE558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067-396B-4B01-844B-3E98F6B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50A-A5F5-4686-B7D9-FD5A964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0CE-D788-406E-8019-23110BEDF0A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621-B57C-423A-B85D-F6E03E77943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155B-FB82-4172-A6B0-E177F58A128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5D49-BF5B-4D9F-9CB9-6DE75941979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د أشرف مشالي</cp:lastModifiedBy>
  <dcterms:modified xsi:type="dcterms:W3CDTF">2013-09-01T08:31:28Z</dcterms:modified>
  <cp:revision>218</cp:revision>
  <dc:subject/>
  <dc:title>Slide 1</dc:title>
</cp:coreProperties>
</file>