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B6D-EE45-4F94-9806-16993948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D6E-43A3-430A-858F-8D992BF7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550-784C-487E-AAD4-C48D5E7A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FC3-520A-4A0F-8429-EE2B092B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1155-9FBC-4A2A-8A14-A81EF12E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1A5-D875-4A4C-89D6-DF5C9268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33A3-FFFD-4832-A6B4-7D25DE4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C982-05CB-4464-BFF4-8D79366C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5A3-005D-4458-B354-7B3AEC16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0E6-21D6-42F1-925E-4837916E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41D3-1B7C-4D00-9001-60795C0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EA8-4DDB-449E-9B01-D7BEDF3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FDCD-BB49-4FE0-9689-3FFF63C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451A-4C4B-4863-B5F8-79CF19B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34FA-E7D0-4665-9C8A-C1BDDB2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92DE-E77D-46BE-BF01-94E988E5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3BD4-B08B-48F6-9E2D-94C09406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F3E0-7F9D-4206-B568-35CF827F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759F-0FF6-439B-82CC-43EE8BE3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5836-4F37-4CBD-BA17-9B7A7F69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3BD1-D6B6-476B-BC7A-FB8F662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B9AD-2CAC-4D96-A6E8-D93C6D0D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0B6-9EBD-4B97-B2F5-B2CBE322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CEEC-57F0-486E-9D65-0DDA9D5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D4D8-CFCC-4701-A3B8-D4A9AB4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34CD-E9EA-41DF-BC9F-F157FF6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DCE1-4500-4DE8-B4E6-F50EB30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2E70-D668-40AB-AD8A-63C50EA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13E1-8F34-47A1-AE1D-42002A5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B4C6-60F7-431C-B2A8-90A51027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480B-D779-4D71-BA78-F0223396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DD3D-7F5F-43DB-979A-C7EAE6FE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BFDD-A8E5-4084-AA47-C43EE70F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005-47FF-4886-B0DE-BA9B3CFE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EA92-DC71-4A4D-B5AC-2768AEA7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E9E6-0FF8-42D5-A7A6-DA001733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D3BD-3DDC-4E3D-822C-D341C87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85DB-1AA2-4988-BCC3-1700EDD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48AD-2B7B-42A4-828F-3AA1087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C0D0-DA04-4A84-B299-C78DA6F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01CC-9B30-4267-B714-A2786CA2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08D7-31FC-4868-8B9C-15A0EC67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ABA5C-49D7-4F4E-A789-2E2D1B03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634-977A-4393-A646-2DE1A70E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D0C-EE56-46D7-BA0D-B182DAD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08C-FEA2-4E49-BBB1-02F9702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933-6D39-4602-8430-ED6BC3D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AB6-94A9-4B79-B7AC-603944A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F19E-442D-4354-B549-3CF230529F6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D9C-C314-47D5-832D-9B69C45CB18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51C-D3B2-413B-A48C-A5533D7CD03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1D3B-329F-43CF-A588-726D408C029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د أشرف مشالي</cp:lastModifiedBy>
  <dcterms:modified xsi:type="dcterms:W3CDTF">2013-09-01T08:31:28Z</dcterms:modified>
  <cp:revision>218</cp:revision>
  <dc:subject/>
  <dc:title>Slide 1</dc:title>
</cp:coreProperties>
</file>