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95F-7394-42E5-9F2F-B75BF864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AA5-25BC-40C2-B860-05C567F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7B9-3B7C-43FC-A8BA-A8979490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C3F-BA68-4DD8-9D84-CA0BAA2B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EBA0-AD0A-4B6B-9DAA-07A89BA2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ACA-C50D-4FF1-B11B-3522E96D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6AE-867D-4B56-948F-A6C89FB3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C506-A09B-46C6-9D03-99740545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8ADD-9648-424D-86C3-7A5F05F6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6D4E-C0B0-424C-9750-9169B7A9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73D7-D2D6-4425-886A-CFA42036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97B-B718-4B1B-8711-49D45CA6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6172-5097-4A5E-A8D1-7E56A3B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83DE-FAB8-446A-AA44-C583A12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4BDE-7025-4A61-9449-FA617AF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C32-86D2-472D-BAB2-CE171E38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F34-CE2A-4FFB-8F7C-131C5BEA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CF3A-F21B-461F-AB98-FFA04A7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1D9B-D2E1-4EB4-B341-C00E43A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8AAC-B674-4F43-B694-E946F94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0FE3-67DF-4571-9154-6799963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E052-3455-47F0-A64B-C506442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FA8-E287-4149-8600-806B96A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E05A-7345-4C61-A7FF-5E33B812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701D-DC8E-4448-A04E-350FA14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CD34-CF7C-45F6-8903-B946C24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8708-FA9C-4BFC-97D0-FE435A7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9DBF-DF04-4FD5-90D7-BB748EE8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89E9-30F0-4B42-BBB9-8258394C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0BE7-AB40-4873-8702-8B04788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1ABFA-E837-49B7-A0A9-AEBFF7E4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D27B-9023-4D4F-9583-3E00DBA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7F3A-B54C-4DC6-810D-92A3FFA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E5A-E22B-4BE7-94D5-CB9AF37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8F16-CD2B-4D45-BCF3-1151068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B054-4547-42EC-8530-E94E3E9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1423-C6E1-4D4A-A616-3B4069C3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3FA2-3F1C-4CCD-94EE-6260ABA1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6643-E193-4EA0-9186-DA02E11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345A-73EE-4698-A7D3-978B730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FEDC-4EE8-4F01-A643-4C0F7BF1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3861-4F7A-4AD3-B293-FD9ADFEF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00A5-BA01-4D27-BA50-3F91DC70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A91-9EB5-46FC-AE63-79BC845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1D9-CC33-4DA1-A433-FCBB4D25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A34-E391-41AB-AF1A-627E529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0A5-1EDB-42FF-BB00-7108467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192-299B-42C0-89CC-3066142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4A3-DD11-46B6-B740-6EF7444E556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5FF-BC9B-41AE-87C7-901B7AB2CB7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943-DBB3-4C36-91C2-002243967C3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E17-00E7-42AA-8065-B7A28C85C5D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4-08-27T10:19:26Z</dcterms:modified>
  <cp:revision>218</cp:revision>
  <dc:subject/>
  <dc:title>Slide 1</dc:title>
</cp:coreProperties>
</file>