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96E-41A1-4DC2-8AAB-C9537106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B14-444B-48CA-B68D-6EFD533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D60-B99F-424F-8E59-218D5FA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563-1840-4FEA-B051-D252D560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E77-3119-4D6F-A19D-7DED5D71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F98D-9DBE-45C1-944F-40941417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E09D-D3F4-4E6C-8D88-197CF82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311-EF4F-4EF1-9C1C-2BA21CE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2DCF-BE8D-426C-AD53-C0301FC4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9870-4872-4058-9B86-56EDB16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A37-FCC1-44BF-88E1-C56CFDC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A76-3328-4706-BF02-5F3ED1F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E7B5-1D48-4A53-BC25-B172C98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A93-05B4-4C43-A887-0BDCD41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1E6-713A-49F2-AD81-A57C0D7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731-8D7E-4C15-9B7F-BA647159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F661-C071-4048-9AED-39A5297B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F78E-9D1C-40EF-B21C-C723F143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7CA9-5A0F-4B75-9123-18C4A7C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DB10-ACEB-44A4-A19A-901CEB2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8C80-D323-4474-86CA-62F3072F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F415-6459-4644-967D-3D2DB96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322-0C01-44AF-A2B5-5D6F6690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C118-867D-486A-B1B8-207AA5A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C8E9-1B31-429C-9798-54A053F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A12C-A085-440D-90F3-BA94644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2981-A631-4D62-828E-EA26AC1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1AC6-89F6-475C-A4F1-9C08554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0CDA-8C11-4724-ADE6-5E8F659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5A1A-0B7B-45BC-B373-E586FC25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5DE4-CF5F-4F68-9D42-FE886711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D3D1-217E-4B69-AB73-829E407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FAB5-D3D7-417D-A248-055B070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E99-142B-4CDB-ABD0-1E3680CE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4A88-ABC3-48CC-8E3E-41F28FE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1BE3-BC65-4FA7-ABB8-612AC953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59B6-A02B-4FC7-B8CF-5049886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2B75-52E8-43CE-984C-9F0B1E2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F275-935C-43E6-A3DE-089D4D5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8DE2-734F-44D6-A1F9-6E089C7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98F7-3F8C-4044-959B-7CE3DD1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7CB3-187A-4C64-81A6-C7489F57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D93E-99E8-41D4-94E6-BE033261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96E-9609-41E9-805C-891B2D8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21D-81A7-4C16-A314-4EDA56B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375-69EB-4E6D-99DC-7D48CAB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D0A-9FED-4B74-A056-EF863AB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6B5-2DB8-46AB-AE42-DA52960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64E1-4F81-406C-905F-613F0F38B00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F60A-3D8A-4C09-823E-EB35F430013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7D7-FCD9-4DD8-B543-B4A0BAA05BF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745F-A236-41DD-B250-55A1D57ED75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4-08-27T10:19:26Z</dcterms:modified>
  <cp:revision>218</cp:revision>
  <dc:subject/>
  <dc:title>Slide 1</dc:title>
</cp:coreProperties>
</file>