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C5D-1C78-490F-BA7C-8AB622ED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ECA-BD19-4F66-BDAB-D3D1167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A11-1D8F-4F5F-B064-60B95C55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5B6-B3AF-42FC-BCE9-0C98CC27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E75-2A16-4DBF-BCF0-B3DC3AD1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C185-A4F3-4410-A645-4A00420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753-1F4B-4023-B94E-68347FF0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C129-BBDE-4F86-87B7-82C13C25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18BB-A6F3-467D-AFFF-D9D57D65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D260-C4E4-4606-A149-3C6E1A3A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C728-B2B9-45D3-AC78-72FE938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630-23DA-40B0-95CD-7DB46FA1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16A-9990-4668-8D6F-1111229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991E-BDD5-4C77-BC00-5181092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C8A-7645-4099-9FDE-9E67F829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9188-2411-462D-AE9E-553382A6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1B24-2F3D-492D-B589-F4A297A4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EF03-2A99-4930-AC35-B2F4CF7C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E026-8CBF-4358-9B1A-2343C64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6D85-0479-45F1-915E-E5341EAF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1A24-537C-4608-B32D-76CF2B63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29CB-A7C6-46BB-873B-BE16F58F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AC1-14DD-41D4-8A0A-639F870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039F-6C4F-4C01-BA63-8438A40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5BD8-16E0-4678-9B94-C0A1D30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2691-D57F-465D-A30C-802AD5E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36E6-3949-4562-B878-86F3031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26F0-5FBF-4F64-BCE3-75F168D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8924-1B61-4393-A0D8-B5DACE34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C4BF-1430-4326-A9CF-3125FD38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E50B-60FB-4455-A71D-6CC70FBF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A44F-5F76-41EE-9CA2-5350AD5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4738-2CD2-46FB-8B69-FEAC92E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F59-A0F8-40C5-A7BA-F633C4A3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1AB2-09C0-41B6-8B81-D33975C1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8BD9-D712-404C-9B8C-693AB561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9FE7-76C6-4090-B581-81FC719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1D82-4700-42AE-BD60-2FAB49B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7612-9601-4924-9D29-E16D5C5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F75F-C1E7-4390-A7A0-16FCA7E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0229-739D-4BD7-B4AF-073A9A34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9393-DD8F-4128-94BF-9AD6B4F8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48D9-A717-4997-9C45-C7F98348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1CB-3152-4956-A148-2502049A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9AC-B7CD-44FF-84BE-F72E1C4C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62C-8D28-4B25-8036-10B42C9A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F14-EDAD-4C83-B9C1-587236C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685-1CAB-45ED-8D15-2C63802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2A1B-8A91-47E6-8AE5-693CDD9EF1E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51F-219E-474A-980C-C871B2A15C3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1CE-C119-4707-8317-F42B0E88130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FF9-489B-4A36-A69B-9C6DF6912F5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د أشرف مشالي</cp:lastModifiedBy>
  <dcterms:modified xsi:type="dcterms:W3CDTF">2013-09-01T08:31:28Z</dcterms:modified>
  <cp:revision>218</cp:revision>
  <dc:subject/>
  <dc:title>Slide 1</dc:title>
</cp:coreProperties>
</file>