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505-73B9-47F7-B0B0-726063F4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20D-B9EF-47E9-9B98-CB86BEEF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C39-E74A-4040-9ACB-DC00DA35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1E1-315A-4111-A1D2-368BCF9E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280C-C88F-4F74-9F76-0B8AD25B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AD8A-CA97-4156-9016-173BF08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1D1F-1782-4EE4-BE96-190E5F62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BEB4-A404-41EE-A30F-7214D567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1A44-1D24-4190-91A2-CB1FBA25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796A-A74D-4197-951C-BDA48738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96B6-772C-4DAA-8161-821BAD77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9F5-1362-4CBE-A280-C5CC42E6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9699-AA5F-41C1-AFF5-065668ED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208B-BAA8-4DBD-AD54-1744EF64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D275-9107-47DC-863A-11DD9151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7637-DCFB-40E1-89E5-A1760AA2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7506-875A-4000-B0E9-67BFAB8E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CA25-32E3-4D64-8CC0-9DB2B686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E0E70-E354-40B7-8D8F-3F07FDC7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69A5A-09ED-4E7A-AB2A-259F5C44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0330-4FF1-429F-B893-45943608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0E86F-0C6E-4197-8673-360EB8F9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221-56B0-4E86-83D4-2D9F01A1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8C7E-4B81-4434-B187-0F6ED47A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644C-747D-42AB-81B2-801283D4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72C4-4DF4-4614-8295-D3B7F17A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8E29-BE80-42D1-BB73-D3E45478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64AE-C7AD-41BD-9BF3-9371A140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7959-46C8-4D91-8FEA-79B0F840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8C35-8B8F-436D-8FD0-8664D230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52ABF-1307-4007-B5C2-644713A5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D139A-74AE-4A85-BEE7-23841AC7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67582-EE65-476C-9B71-B9DB00CC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58A-2DCE-4623-A2B1-270B9F0F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361F9-02D0-4B86-9F78-07B28760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F9A78-E6F1-4A98-A782-514A086B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2FE4-EB47-4FE0-BB6A-7D29E081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40B9B-F41B-449B-9BD5-7CA9D74A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5540-7403-407A-9A94-48CB6ADD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424F6-316E-4F42-B1AD-95775944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325A-886E-431F-A0EF-2153D63A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13563-3C02-45B7-A498-834299D3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EF099-3B04-4256-B754-4EBFD13A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FA2-9492-4FE5-9C17-779D053F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ACC-8A32-4F8D-8807-88D84105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A3F-D68E-470E-9242-3B119D22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5A0-A18D-44FF-981B-C73397F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781-BC4A-488F-86BC-D5CA43F0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788D-1C89-4F66-8203-A65673249E8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31F5-05A0-4690-BFA7-8851E8E31B6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0B7B-7B10-4BFF-80CA-E7F756A7EFC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2D04-971D-4973-9DA5-A6052C268A5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E.html#endocrine system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 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علم الأنسجة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64924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8320" y="237492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(Histology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endocrine gland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343400" y="2139840"/>
            <a:ext cx="4800600" cy="327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د أشرف مشالي</cp:lastModifiedBy>
  <dcterms:modified xsi:type="dcterms:W3CDTF">2013-09-01T08:31:28Z</dcterms:modified>
  <cp:revision>218</cp:revision>
  <dc:subject/>
  <dc:title>Slide 1</dc:title>
</cp:coreProperties>
</file>