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1C3C-21CD-4D55-8AE4-F95E5A277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791D-7DAF-449F-8C39-C504717E5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3D3A-422A-4793-8297-D81CA9DC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7E6-4B8B-4F4D-B89F-D0088CD0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B4C-0FCE-4773-8236-B0042815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8BA-C1FE-487A-80A2-3ACC1CE3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8D7C-8D53-4985-92F9-B3278C41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00F4-773E-4C5A-9F11-25E5C7FD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B420-E9D3-4D57-896D-16128899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9860-3CDF-4DF0-BB67-65BA5CD9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A1D3-8DDB-447C-B733-BF663CC3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5476-F7F4-4C2F-8906-06E020CC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1C8E-24DE-4F3A-AAF4-0B7504AE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C29-DA8F-4767-8E48-2D8AA4A3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D0CD-2FB1-498C-A205-B9630720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2F59-F922-413C-9168-1F392AF3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2BD6-BB35-495D-A891-F7EBEA8F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6434-8810-4840-8A74-035C991B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B7CC-B8A8-4EFF-BBB1-4C478803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62E-3888-4EDF-9850-083CFA5C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7AA-0456-4F0D-A228-1FAEADD1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A0E-5B44-4CB9-8129-938FE384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F59-ECF4-41F9-B357-FAF3B3EC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2F3-68F2-40AE-B56B-5EDB18D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E38-2D6F-4488-9D02-E5059E52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2CA-96D6-4EEC-848A-2ECD16DA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12FC-F9F6-4411-AF12-78DD6EC7C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551C-8B74-4AD3-BA9E-9BF7E7E8B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ancrea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ncreas acts as an exocrine gland by producin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ancreatic ju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ich empties into the small intestine via a du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ncreas also acts as an endocrine gland to produce insul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plays an important 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digestion of lipids, proteins and carbohydrate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etabolism since it produces insul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neutralizing the pH to become suitable for the action of the pancreatic digestive enzy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Intestinal secretio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stinal jui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; refers to the clear to pale yellow watery secretions from the glands lin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all intestine wa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lands includ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Brunners gland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located in the first few centimeters of the duodenum , where the pancreatic and bile juices empty into the duodenum. These glands produce a slightly alkaline highly viscous fluid containing mucins ,the function of the mucus is to protect the duodenal wall from digestion by the gastric jui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he Crypts of Liberkuh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ed on the entire surface of the small intestine are small pits called crypts of Liberkuhn ,they secret a fluid that is similar to the ECF but has a slightly alkaline pH 7.5 – 8.0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stinal secre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990360"/>
            <a:ext cx="8229600" cy="5257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ition of the Intestinal secretions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mucin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se   the function  is to protect the duodenal wall from digestion by the gastric jui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2- Water and  electroly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Enzymes 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number of enzymes are present including 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ptidase breaks down peptides into amino ac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</a:rPr>
              <a:t>sucrase, maltase, lactase – break down disaccharides into monosacchari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b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</a:rPr>
              <a:t>lip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breaks down fats into fatty acids and gly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okinase – converts trypsinogen to tryp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atostatin – hormone that inhibits acid secretion by stom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lecystokinin – hormone that inhibits gastric glands, stimulates pancreas to release enzymes in pancreatic juice, stimulates gallbladder to release b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in – stimulates pancreas to release bicarbonate ions in pancreatic ju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7D2-6EB1-4B70-BB7B-DD37F3965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43434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stinal c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17_37b"/>
          <p:cNvPicPr/>
          <p:nvPr/>
        </p:nvPicPr>
        <p:blipFill>
          <a:blip r:embed="rId1"/>
          <a:srcRect l="16707" t="3077" r="11250" b="0"/>
          <a:stretch/>
        </p:blipFill>
        <p:spPr>
          <a:xfrm>
            <a:off x="228600" y="914400"/>
            <a:ext cx="891540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2B0E-5311-46C3-BC3C-A9922919C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ulation of Sm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stinal Secre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62120" y="1981080"/>
            <a:ext cx="7102440" cy="3506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1. muc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retion stimulated by presence of chyme in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2. disten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intestinal wall activates nerve plexuses in wall of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3. parasympathe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igger release of intestinal enzy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0" y="228600"/>
            <a:ext cx="9144000" cy="69181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ummary of Di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In 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4a7b"/>
                </a:solidFill>
                <a:latin typeface="Arial"/>
              </a:rPr>
              <a:t>Carbohydrat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dextrin +few malt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In Stom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Arial"/>
              </a:rPr>
              <a:t>Prote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p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peptones + polypeptides + few dipeptides an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In small intestine (pancreatic secre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Arial"/>
              </a:rPr>
              <a:t>Protei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Tryps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hemotryps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polypeptides + dipeptides +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Arial"/>
              </a:rPr>
              <a:t>Lip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ile secretion  Lipase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tty acids + glyce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4a7b"/>
                </a:solidFill>
                <a:latin typeface="Arial"/>
              </a:rPr>
              <a:t>Carbohydra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maltose +sucrose+lact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tose 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lt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glucose+ gluc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rose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glucose + fruct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tose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a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glucose + galact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3"/>
          <p:cNvCxnSpPr/>
          <p:nvPr/>
        </p:nvCxnSpPr>
        <p:spPr>
          <a:xfrm>
            <a:off x="1676520" y="205704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5" name="TextBox 4"/>
          <p:cNvSpPr/>
          <p:nvPr/>
        </p:nvSpPr>
        <p:spPr>
          <a:xfrm>
            <a:off x="1859040" y="171144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pha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6"/>
          <p:cNvCxnSpPr/>
          <p:nvPr/>
        </p:nvCxnSpPr>
        <p:spPr>
          <a:xfrm>
            <a:off x="1066680" y="3352320"/>
            <a:ext cx="15249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7" name="Straight Arrow Connector 10"/>
          <p:cNvCxnSpPr/>
          <p:nvPr/>
        </p:nvCxnSpPr>
        <p:spPr>
          <a:xfrm>
            <a:off x="1066680" y="4723920"/>
            <a:ext cx="2743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8" name="Straight Arrow Connector 12"/>
          <p:cNvCxnSpPr/>
          <p:nvPr/>
        </p:nvCxnSpPr>
        <p:spPr>
          <a:xfrm>
            <a:off x="1143000" y="5333760"/>
            <a:ext cx="2743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13"/>
          <p:cNvCxnSpPr/>
          <p:nvPr/>
        </p:nvCxnSpPr>
        <p:spPr>
          <a:xfrm>
            <a:off x="1523880" y="57909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0" name="TextBox 14"/>
          <p:cNvSpPr/>
          <p:nvPr/>
        </p:nvSpPr>
        <p:spPr>
          <a:xfrm>
            <a:off x="1371600" y="548316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ancreatic Alpha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15"/>
          <p:cNvCxnSpPr/>
          <p:nvPr/>
        </p:nvCxnSpPr>
        <p:spPr>
          <a:xfrm>
            <a:off x="792000" y="60195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16"/>
          <p:cNvCxnSpPr/>
          <p:nvPr/>
        </p:nvCxnSpPr>
        <p:spPr>
          <a:xfrm>
            <a:off x="911160" y="62481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17"/>
          <p:cNvCxnSpPr/>
          <p:nvPr/>
        </p:nvCxnSpPr>
        <p:spPr>
          <a:xfrm>
            <a:off x="990720" y="6476760"/>
            <a:ext cx="1829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8"/>
          <p:cNvSpPr/>
          <p:nvPr/>
        </p:nvSpPr>
        <p:spPr>
          <a:xfrm>
            <a:off x="5763600" y="224172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 fig. 18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18_26"/>
          <p:cNvPicPr/>
          <p:nvPr/>
        </p:nvPicPr>
        <p:blipFill>
          <a:blip r:embed="rId1"/>
          <a:srcRect l="0" t="11654" r="0" b="10465"/>
          <a:stretch/>
        </p:blipFill>
        <p:spPr>
          <a:xfrm>
            <a:off x="0" y="0"/>
            <a:ext cx="893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9" descr="18_26"/>
          <p:cNvPicPr/>
          <p:nvPr/>
        </p:nvPicPr>
        <p:blipFill>
          <a:blip r:embed="rId1"/>
          <a:srcRect l="11654" t="23227" r="67583" b="44363"/>
          <a:stretch/>
        </p:blipFill>
        <p:spPr>
          <a:xfrm>
            <a:off x="5029200" y="208080"/>
            <a:ext cx="3581280" cy="5670360"/>
          </a:xfrm>
          <a:prstGeom prst="rect">
            <a:avLst/>
          </a:prstGeom>
          <a:ln w="0">
            <a:noFill/>
          </a:ln>
        </p:spPr>
      </p:pic>
      <p:sp>
        <p:nvSpPr>
          <p:cNvPr id="94" name="مربع نص 2"/>
          <p:cNvSpPr/>
          <p:nvPr/>
        </p:nvSpPr>
        <p:spPr>
          <a:xfrm>
            <a:off x="3200400" y="5740560"/>
            <a:ext cx="3962520" cy="581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creatic ac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User\Desktop\images.jpg"/>
          <p:cNvPicPr/>
          <p:nvPr/>
        </p:nvPicPr>
        <p:blipFill>
          <a:blip r:embed="rId2"/>
          <a:stretch/>
        </p:blipFill>
        <p:spPr>
          <a:xfrm>
            <a:off x="471600" y="162000"/>
            <a:ext cx="47098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563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c000"/>
                </a:solidFill>
                <a:latin typeface="Calibri"/>
              </a:rPr>
              <a:t>Pancreatic secre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ncreatic secretions  is an alkaline liquid secreted by the  pancreas, which contains a variety of enzy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Composition of pancreatic secre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. The first component  is a solution of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bicarbonate, Na</a:t>
            </a:r>
            <a:r>
              <a:rPr b="0" lang="en-US" sz="2400" spc="-1" strike="noStrike" baseline="30000">
                <a:solidFill>
                  <a:srgbClr val="00b0f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 ,</a:t>
            </a:r>
            <a:r>
              <a:rPr b="0" lang="en-US" sz="2400" spc="-1" strike="noStrike" baseline="30000">
                <a:solidFill>
                  <a:srgbClr val="00b0f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  K</a:t>
            </a:r>
            <a:r>
              <a:rPr b="0" lang="en-US" sz="2400" spc="-1" strike="noStrike" baseline="30000">
                <a:solidFill>
                  <a:srgbClr val="00b0f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 and wa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itted by the epithelial cells that line the pancreatic duc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alkaline solution is designed to help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neutral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tomach acid so that digestive enzymes can work more effective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The second component  is the enzymatic component ;which include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rypsin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Chymotrypsin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Procarboxypeptid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Pancreatic amyl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Pancreatic lip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Deoxyribonuclea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ribonuc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868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ncreatic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ion of duodenal and pancreatic enzy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Enterokin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the duodenal mucosa and attached to the brush border activates trypsinogen to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tryps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ypsin activates chymotrypsinogen to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chymotryp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ypsin activates </a:t>
            </a:r>
            <a:r>
              <a:rPr b="1" lang="en-US" sz="2000" spc="-1" strike="noStrike">
                <a:solidFill>
                  <a:srgbClr val="c0504d"/>
                </a:solidFill>
                <a:latin typeface="Calibri"/>
              </a:rPr>
              <a:t>procarboxypeptid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carboxypeptid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Trypsin, chymotrypsin and carboxypeptid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igest proteins: proteolyti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c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amyla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inues digestion of st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c lipase digests lip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Deoxyribonucleases and ribonucleas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gest DNA and ribonucleic acid, respective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creatic Ju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352680" cy="50292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 digestion of food requires action of both pancreatic and brush border enzy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pancreatic enzymes are produced as zymog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ypsin (when activated by enterokinase) triggers the activation of other pancreatic enzym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c trypsin inhibitor attaches to trypsi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hibits its activity in the pancr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801400" y="26989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g. 18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18_29"/>
          <p:cNvPicPr/>
          <p:nvPr/>
        </p:nvPicPr>
        <p:blipFill>
          <a:blip r:embed="rId1"/>
          <a:srcRect l="7500" t="0" r="7500" b="0"/>
          <a:stretch/>
        </p:blipFill>
        <p:spPr>
          <a:xfrm>
            <a:off x="3505320" y="152388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icarbonate Ion Production in Panc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pf24_23"/>
          <p:cNvPicPr/>
          <p:nvPr/>
        </p:nvPicPr>
        <p:blipFill>
          <a:blip r:embed="rId1"/>
          <a:stretch/>
        </p:blipFill>
        <p:spPr>
          <a:xfrm>
            <a:off x="1770120" y="990720"/>
            <a:ext cx="5545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72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ion of pancreatic juice and bile is stimulated b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Secret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s in response to duodenal pH &lt; 4.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production of HC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 pancre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the liver to secrete HC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to the bi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CCK (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holecystokin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s in response to fat and protein content of chyme in duoden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the production of pancreatic enzym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s secret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contraction of the sphincter of Od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retion of Pancreatic Ju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ربع نص 3"/>
          <p:cNvSpPr/>
          <p:nvPr/>
        </p:nvSpPr>
        <p:spPr>
          <a:xfrm>
            <a:off x="0" y="0"/>
            <a:ext cx="2362320" cy="642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C:\Users\User\Desktop\comparison-of-mucosae-of-stomachsmall-and-large-intestines-2-728.jpg"/>
          <p:cNvPicPr/>
          <p:nvPr/>
        </p:nvPicPr>
        <p:blipFill>
          <a:blip r:embed="rId1"/>
          <a:srcRect l="0" t="21576" r="33169" b="0"/>
          <a:stretch/>
        </p:blipFill>
        <p:spPr>
          <a:xfrm>
            <a:off x="457200" y="930240"/>
            <a:ext cx="8686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9:44:56Z</dcterms:created>
  <dc:creator>halmubarak</dc:creator>
  <dc:description/>
  <dc:language>en-US</dc:language>
  <cp:lastModifiedBy>المستخدم</cp:lastModifiedBy>
  <dcterms:modified xsi:type="dcterms:W3CDTF">2017-11-13T04:55:40Z</dcterms:modified>
  <cp:revision>57</cp:revision>
  <dc:subject/>
  <dc:title>Pancreatic secre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