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F855-8D9B-4D7D-BED3-A6D3722FB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1ACB-3D2D-44C0-8A95-6763C8BE8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E6F-B797-4400-90E0-4C14F7A1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2A8-3BD3-4F0D-A45A-2807EB38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252-0344-4C85-8872-C435F28A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681-1C0D-4EA7-B740-7682C955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668-0F84-40B0-83E3-63073ACD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D671-C72A-477F-97D4-85DC72DB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7CA0-F072-42CE-9A2A-56B34970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2CAA-5A64-41E4-8133-78D45196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9BAB-BCDF-4ECE-832A-49DA4BA0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6F65-6363-4C4E-A4F2-248EC754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1B31-3203-4055-89B4-4B9B7AA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774-2949-425B-9AAB-872FA04F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DB1-72AA-4E5A-B713-9A59847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5936-1F4B-4FE8-9A27-F5390EC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5369-0E07-4593-9DB2-95621150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C9A4-2A74-4490-9857-D57E7A23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2E01-0C4D-4E25-9B46-B9AF047F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C21-11F0-43A8-B8BD-BB6DBC0B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42A-2544-4C54-8BC7-71051FF1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9B0-2DE4-49F3-8F44-F343EC0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B0C-1903-4444-A899-9187290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BED-A981-41F9-B22D-262293A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D8D-1E1D-4650-AA18-73C2C92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DAF-6B3D-4BA7-9903-D2F8E8F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565E-012F-48A1-B5B2-3E0F86B6F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FB05-1CEA-451B-9F1D-58B5664B0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ncreas acts as an exocrine gland by produc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ancreatic ju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empties into the small intestine via a 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ncreas also acts as an endocrine gland to produce insul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plays an important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digestion of lipids, proteins and carbohydrat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etabolism since it produces insu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neutralizing the pH to become suitable for the action of the pancreatic digestive enzy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testinal secretio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stinal ju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; refers to the clear to pale yellow watery secretions from the glands lin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 intestine wa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lands inclu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Brunners gland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located in the first few centimeters of the duodenum , where the pancreatic and bile juices empty into the duodenum. These glands produce a slightly alkaline highly viscous fluid containing mucins ,the function of the mucus is to protect the duodenal wall from digestion by the gastric ju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he Crypts of Liberkuh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ed on the entire surface of the small intestine are small pits called crypts of Liberkuhn ,they secret a fluid that is similar to the ECF but has a slightly alkaline pH 7.5 – 8.0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stinal secre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ition of the Intestinal secretions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mucin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se   the function  is to protect the duodenal wall from digestion by the gastric ju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2- Water and  electroly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nzymes 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number of enzymes are present including 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ptidase breaks down peptides into amino ac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sucrase, maltase, lactase – break down disaccharides into monosacchar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lip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breaks down fats into fatty acids and 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okinase – converts trypsinogen to tryp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atostatin – hormone that inhibits acid secretion by stom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lecystokinin – hormone that inhibits gastric glands, stimulates pancreas to release enzymes in pancreatic juice, stimulates gallbladder to release 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in – stimulates pancreas to release bicarbonate ions in pancreatic ju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7EF4-81F8-4681-8BBC-C75DEF8CA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3434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stinal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17_37b"/>
          <p:cNvPicPr/>
          <p:nvPr/>
        </p:nvPicPr>
        <p:blipFill>
          <a:blip r:embed="rId1"/>
          <a:srcRect l="16707" t="3077" r="11250" b="0"/>
          <a:stretch/>
        </p:blipFill>
        <p:spPr>
          <a:xfrm>
            <a:off x="228600" y="914400"/>
            <a:ext cx="89154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BA2-78E9-474B-9137-D64100927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ulation of Sm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stinal Secre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62120" y="1981080"/>
            <a:ext cx="7102440" cy="3506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1. muc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retion stimulated by presence of chyme in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2. diste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ntestinal wall activates nerve plexuses in wall of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. parasympathe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igger release of intestinal enzy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0" y="228600"/>
            <a:ext cx="9144000" cy="69181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ummary of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n 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4a7b"/>
                </a:solidFill>
                <a:latin typeface="Arial"/>
              </a:rPr>
              <a:t>Carbohydr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dextrin +few malt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n Stom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Arial"/>
              </a:rPr>
              <a:t>Prote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p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peptones + polypeptides + few dipeptides an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n small intestine (pancreatic secre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Arial"/>
              </a:rPr>
              <a:t>Prote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ryps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emotryp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polypeptides + dipeptides +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Arial"/>
              </a:rPr>
              <a:t>Lip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ile secretion  Lipase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ty acids + glyce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4a7b"/>
                </a:solidFill>
                <a:latin typeface="Arial"/>
              </a:rPr>
              <a:t>Carbohydr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maltose +sucrose+lact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tose 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lt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glucose+ gluc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rose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glucose + fruct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tose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glucose + galact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3"/>
          <p:cNvCxnSpPr/>
          <p:nvPr/>
        </p:nvCxnSpPr>
        <p:spPr>
          <a:xfrm>
            <a:off x="1676520" y="205704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5" name="TextBox 4"/>
          <p:cNvSpPr/>
          <p:nvPr/>
        </p:nvSpPr>
        <p:spPr>
          <a:xfrm>
            <a:off x="1859040" y="17114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pha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6"/>
          <p:cNvCxnSpPr/>
          <p:nvPr/>
        </p:nvCxnSpPr>
        <p:spPr>
          <a:xfrm>
            <a:off x="1066680" y="3352320"/>
            <a:ext cx="15249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7" name="Straight Arrow Connector 10"/>
          <p:cNvCxnSpPr/>
          <p:nvPr/>
        </p:nvCxnSpPr>
        <p:spPr>
          <a:xfrm>
            <a:off x="1066680" y="4723920"/>
            <a:ext cx="2743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8" name="Straight Arrow Connector 12"/>
          <p:cNvCxnSpPr/>
          <p:nvPr/>
        </p:nvCxnSpPr>
        <p:spPr>
          <a:xfrm>
            <a:off x="1143000" y="5333760"/>
            <a:ext cx="2743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13"/>
          <p:cNvCxnSpPr/>
          <p:nvPr/>
        </p:nvCxnSpPr>
        <p:spPr>
          <a:xfrm>
            <a:off x="1523880" y="57909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0" name="TextBox 14"/>
          <p:cNvSpPr/>
          <p:nvPr/>
        </p:nvSpPr>
        <p:spPr>
          <a:xfrm>
            <a:off x="1371600" y="548316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ancreatic Alpha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15"/>
          <p:cNvCxnSpPr/>
          <p:nvPr/>
        </p:nvCxnSpPr>
        <p:spPr>
          <a:xfrm>
            <a:off x="792000" y="60195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16"/>
          <p:cNvCxnSpPr/>
          <p:nvPr/>
        </p:nvCxnSpPr>
        <p:spPr>
          <a:xfrm>
            <a:off x="911160" y="62481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17"/>
          <p:cNvCxnSpPr/>
          <p:nvPr/>
        </p:nvCxnSpPr>
        <p:spPr>
          <a:xfrm>
            <a:off x="990720" y="64767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8"/>
          <p:cNvSpPr/>
          <p:nvPr/>
        </p:nvSpPr>
        <p:spPr>
          <a:xfrm>
            <a:off x="5763600" y="224172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fig. 18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18_26"/>
          <p:cNvPicPr/>
          <p:nvPr/>
        </p:nvPicPr>
        <p:blipFill>
          <a:blip r:embed="rId1"/>
          <a:srcRect l="0" t="11654" r="0" b="10465"/>
          <a:stretch/>
        </p:blipFill>
        <p:spPr>
          <a:xfrm>
            <a:off x="0" y="0"/>
            <a:ext cx="893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18_26"/>
          <p:cNvPicPr/>
          <p:nvPr/>
        </p:nvPicPr>
        <p:blipFill>
          <a:blip r:embed="rId1"/>
          <a:srcRect l="11654" t="23227" r="67583" b="44363"/>
          <a:stretch/>
        </p:blipFill>
        <p:spPr>
          <a:xfrm>
            <a:off x="5029200" y="208080"/>
            <a:ext cx="3581280" cy="567036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2"/>
          <p:cNvSpPr/>
          <p:nvPr/>
        </p:nvSpPr>
        <p:spPr>
          <a:xfrm>
            <a:off x="3200400" y="5740560"/>
            <a:ext cx="3962520" cy="581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tic ac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User\Desktop\images.jpg"/>
          <p:cNvPicPr/>
          <p:nvPr/>
        </p:nvPicPr>
        <p:blipFill>
          <a:blip r:embed="rId2"/>
          <a:stretch/>
        </p:blipFill>
        <p:spPr>
          <a:xfrm>
            <a:off x="471600" y="162000"/>
            <a:ext cx="4709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563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Calibri"/>
              </a:rPr>
              <a:t>Pancreatic secre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tic secretions  is an alkaline liquid secreted by the  pancreas, which contains a variety of enzy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mposition of pancreatic secre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. The first component  is a solution of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bicarbonate, Na</a:t>
            </a:r>
            <a:r>
              <a:rPr b="0" lang="en-US" sz="2400" spc="-1" strike="noStrike" baseline="30000">
                <a:solidFill>
                  <a:srgbClr val="00b0f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 ,</a:t>
            </a:r>
            <a:r>
              <a:rPr b="0" lang="en-US" sz="2400" spc="-1" strike="noStrike" baseline="30000">
                <a:solidFill>
                  <a:srgbClr val="00b0f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  K</a:t>
            </a:r>
            <a:r>
              <a:rPr b="0" lang="en-US" sz="2400" spc="-1" strike="noStrike" baseline="30000">
                <a:solidFill>
                  <a:srgbClr val="00b0f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 and wa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tted by the epithelial cells that line the pancreatic du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alkaline solution is designed to help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neutral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omach acid so that digestive enzymes can work more effective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The second component  is the enzymatic component ;which include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ryps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hymotryps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rocarboxypeptid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ancreatic amy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ancreatic lip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Deoxyribonuclea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ribonuc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reatic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ion of duodenal and pancreatic enzy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Enterokin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the duodenal mucosa and attached to the brush border activates trypsinogen to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ryps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ypsin activates chymotrypsinogen to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hymotryp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ypsin activates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rocarboxypeptid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arboxypeptid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ypsin, chymotrypsin and carboxypeptid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igest proteins: proteolyt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c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amyl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inues digestion of st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c lipase digests 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eoxyribonucleases and ribonucleas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gest DNA and ribonucleic acid, respectiv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creatic Ju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352680" cy="502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digestion of food requires action of both pancreatic and brush border enzy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pancreatic enzymes are produced as zymog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ypsin (when activated by enterokinase) triggers the activation of other pancreatic enzy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c trypsin inhibitor attaches to tryps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hibits its activity in the pancr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801400" y="26989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. 18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18_29"/>
          <p:cNvPicPr/>
          <p:nvPr/>
        </p:nvPicPr>
        <p:blipFill>
          <a:blip r:embed="rId1"/>
          <a:srcRect l="7500" t="0" r="7500" b="0"/>
          <a:stretch/>
        </p:blipFill>
        <p:spPr>
          <a:xfrm>
            <a:off x="3505320" y="152388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carbonate Ion Production in Panc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pf24_23"/>
          <p:cNvPicPr/>
          <p:nvPr/>
        </p:nvPicPr>
        <p:blipFill>
          <a:blip r:embed="rId1"/>
          <a:stretch/>
        </p:blipFill>
        <p:spPr>
          <a:xfrm>
            <a:off x="1770120" y="990720"/>
            <a:ext cx="554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72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f pancreatic juice and bile is stimulated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Secret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s in response to duodenal pH &lt; 4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production of HC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pancr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the liver to secrete HC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o the bi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CK (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holecystokin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s in response to fat and protein content of chyme in duoden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the production of pancreatic enzy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s secre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contraction of the sphincter of Od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retion of Pancreatic Ju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ربع نص 3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Users\User\Desktop\comparison-of-mucosae-of-stomachsmall-and-large-intestines-2-728.jpg"/>
          <p:cNvPicPr/>
          <p:nvPr/>
        </p:nvPicPr>
        <p:blipFill>
          <a:blip r:embed="rId1"/>
          <a:srcRect l="0" t="21576" r="33169" b="0"/>
          <a:stretch/>
        </p:blipFill>
        <p:spPr>
          <a:xfrm>
            <a:off x="457200" y="930240"/>
            <a:ext cx="8686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9:44:56Z</dcterms:created>
  <dc:creator>halmubarak</dc:creator>
  <dc:description/>
  <dc:language>en-US</dc:language>
  <cp:lastModifiedBy>المستخدم</cp:lastModifiedBy>
  <dcterms:modified xsi:type="dcterms:W3CDTF">2017-11-13T04:55:40Z</dcterms:modified>
  <cp:revision>57</cp:revision>
  <dc:subject/>
  <dc:title>Pancreatic secre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