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png" ContentType="image/png"/>
  <Override PartName="/ppt/media/image7.wmf" ContentType="image/x-wmf"/>
  <Override PartName="/ppt/media/image20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15.wmf" ContentType="image/x-wmf"/>
  <Override PartName="/ppt/media/image19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D704-BD22-4AAC-892D-1BB98382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06C9-EAAE-4CCB-97E6-046EE012EA31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495-F933-4E16-9465-9491978947F9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9BD3-A87C-464A-AB98-8B8D773C451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EAA-7A46-4263-ADB3-CB8CED7AE479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A73A-A028-4595-BB2D-54C916EEC57B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72E9-220A-457D-9028-4189A1787BFE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9F3C-D7BB-4AA7-9E85-861EBAE19C25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0424-EC22-4430-80CA-9B9ADF8F32EE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498B-64B9-4BB0-815B-7BB71BD56019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2269-A14D-499C-AF33-9F5A9E03C2BD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F792-B7B6-4E92-9A5F-11EEFC95CEE2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936D-2DB9-4BBC-8042-0C3EC6F1333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2749-6D8D-49B7-B482-B58B1B3156AC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C744-7D61-47B5-AF8D-1E8BF3D5940B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694-775A-4E61-B925-1E2474B130A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6222-28C4-48C7-BD9D-6E5DF52C45A4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AFD-7CCA-43CB-9425-177F35D1B531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2D6B-AB6C-4118-9A1C-C3CAB975F6A8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F9D2-65CB-42F3-870A-512954F6B5D3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8152-7651-4D70-A581-683D1883F58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7700-6951-493C-97B2-0E17C3215C9A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51B-3AFA-41B3-B5C7-7BB5736CB408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937-A28D-4C22-AC2A-5E7C0D089F31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478B-901B-432B-847E-1CDBB1A88E80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0F4B-4D23-4CEC-9E68-2D02B9708CBE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AE5B-3494-424D-AE9C-BC4B9294C124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2BB-89FC-482D-B091-FF6D6C5561C9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ECC-C2BE-4012-BD64-345853C47087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44CB-370A-401A-A4E5-30EE76B0C948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DB2-4807-4A61-913A-88F8D743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0B3-CDE8-49C9-92AB-9236403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415-D9BC-4F7E-B6A8-BADDB113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0A5-6908-4EE2-9514-962020CE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C39-E8A3-448C-8779-01F19D61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33A-524F-44AE-8BE2-F29EBAA1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CC3-42A4-4C93-B3A7-2C6ECFA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80A-A86E-43BF-A4FC-BAA444E4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3FD-AB59-4FB7-835F-50C4DA4D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0C1-585F-42BA-8A35-5124833E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653-07DD-4032-9357-CB59DF72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2A0-8789-41FA-AA50-5AC324E6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AB00-0F15-4E99-BB45-0C07E422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9D6-5CAF-4173-9CE2-A6CD2453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6A56-CF3D-4051-ABCD-7703BE70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C39F-D58A-4A66-9EA6-D884F80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EBAF-D8BD-43B7-88BD-79E91D43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8E5E-FC3D-4D20-996A-EA03ECB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9D1-2FE5-44D5-9F47-EC91F41D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27A6-C1B5-4C99-8BB6-28FDD2B4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1C58-BB6C-460C-AF92-2CC5C271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AE45-0F24-48FD-8DF2-A27EA9E9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AF5F-69A3-4193-B404-2D000277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E1E5-B4B3-4D99-A1AB-54C2B284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55D2-3F0B-4B35-AE9E-14E5AB74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9E5C-D5DA-40B0-A645-B095FF9A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D0A3-86C1-43D3-80AE-F38B1CE1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96EE-47C5-4792-B556-4F070D77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77D4-7A02-43DB-A8C6-E4F51EA8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022F-1C3E-49EF-9CB2-9A50D5AA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43E0-5C0C-49D4-9B58-574517B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5527-B925-4A31-8F53-33CB5A1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BCB8-2F5C-4722-B1DB-D2EC910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92F7-346D-462B-A620-D2FBBFBD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F89F-DC06-4BA4-A972-852BDE95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30BC-D8F6-455D-B9C9-60FC20AC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1C04-A4B8-4AE0-B4CD-D02D7BB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9464-D686-4D50-B4CF-0C23CCC1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E2C3-8085-406F-B96E-E6E6DC96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16FF-68A5-43A5-91C4-433ECF59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232B-390D-4CC3-AA4B-14344C5A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EA1C-69F5-43B2-A17F-27C50F83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3D6F-8E1A-425E-9333-DDA2E57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F644-9816-464D-947D-7F5B33E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1BF1-755A-4E09-99A2-D89DF10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8F14-875C-41B5-AC2C-2298DB2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6D8F-D608-4703-B2E6-5050FD4A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5107-F4AD-42C2-9E8E-41E3D14C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943240" y="2298240"/>
            <a:ext cx="3225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8000"/>
          </a:bodyPr>
          <a:p>
            <a:pPr marL="4316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250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01052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31256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979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9072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71960" indent="-30888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766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16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415" name="Freeform 6"/>
            <p:cNvSpPr/>
            <p:nvPr/>
          </p:nvSpPr>
          <p:spPr>
            <a:xfrm>
              <a:off x="-9360" y="4459320"/>
              <a:ext cx="507960" cy="3170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6" name="Straight Connector 7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7" name="Straight Connector 8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8" name="Freeform 9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1" name="Freeform 12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2" name="Freeform 13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3" name="Freeform 14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4" name="Freeform 15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1D71-CF27-442F-885C-133AAEE4DDA7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17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467" name="Straight Connector 18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68" name="Straight Connector 19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0" name="Freeform 21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1" name="Freeform 22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2" name="Freeform 23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4" name="Freeform 25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5" name="Freeform 26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6" name="Freeform 27"/>
            <p:cNvSpPr/>
            <p:nvPr/>
          </p:nvSpPr>
          <p:spPr>
            <a:xfrm>
              <a:off x="-9360" y="-9360"/>
              <a:ext cx="958680" cy="63309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4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5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6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DED-11C9-4893-A094-1338CEFA6B03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16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519" name="Freeform 6"/>
            <p:cNvSpPr/>
            <p:nvPr/>
          </p:nvSpPr>
          <p:spPr>
            <a:xfrm>
              <a:off x="-9360" y="4459320"/>
              <a:ext cx="507960" cy="3170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0" name="Straight Connector 7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1" name="Straight Connector 8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2" name="Freeform 9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3" name="Freeform 10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4" name="Freeform 11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5" name="Freeform 12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6" name="Freeform 13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7" name="Freeform 14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8" name="Freeform 15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529" name="TextBox 17"/>
          <p:cNvSpPr/>
          <p:nvPr/>
        </p:nvSpPr>
        <p:spPr>
          <a:xfrm>
            <a:off x="536400" y="878040"/>
            <a:ext cx="508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TextBox 18"/>
          <p:cNvSpPr/>
          <p:nvPr/>
        </p:nvSpPr>
        <p:spPr>
          <a:xfrm>
            <a:off x="7497720" y="3206880"/>
            <a:ext cx="50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7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8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9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6443-FBCA-44CE-B799-6AC9C8115FC6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573" name="Freeform 6"/>
            <p:cNvSpPr/>
            <p:nvPr/>
          </p:nvSpPr>
          <p:spPr>
            <a:xfrm>
              <a:off x="-9360" y="4459320"/>
              <a:ext cx="507960" cy="3170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536400" y="878040"/>
            <a:ext cx="508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7497720" y="3206880"/>
            <a:ext cx="50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0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1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2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638-06A4-4C5F-BC56-82998FBF75FE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69800" y="3860280"/>
            <a:ext cx="4711680" cy="238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69800" y="1397160"/>
            <a:ext cx="4711680" cy="238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6159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6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414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3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3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8.wmf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3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3240" y="0"/>
            <a:ext cx="9410760" cy="37972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spcBef>
                <a:spcPts val="3300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br>
              <a:rPr sz="6200"/>
            </a:br>
            <a:r>
              <a:rPr b="0" lang="en-US" sz="6200" spc="-1" strike="noStrike">
                <a:solidFill>
                  <a:srgbClr val="ff1430"/>
                </a:solidFill>
                <a:latin typeface="Cooper Black"/>
              </a:rPr>
              <a:t>Diuretics</a:t>
            </a:r>
            <a:endParaRPr b="0" lang="en-US" sz="6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Carbonic Anhydrase Inhibitor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304920" y="1003320"/>
            <a:ext cx="57657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uses as diuretic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cetazolam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carbonic anhydrase inhibito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from sulfanilamide (caused metabolic acidosis and alkaline urine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58" name="Picture 3" descr=""/>
          <p:cNvPicPr/>
          <p:nvPr/>
        </p:nvPicPr>
        <p:blipFill>
          <a:blip r:embed="rId3"/>
          <a:stretch/>
        </p:blipFill>
        <p:spPr>
          <a:xfrm>
            <a:off x="5999040" y="2216160"/>
            <a:ext cx="3621240" cy="31878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1564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8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127080" y="1003320"/>
            <a:ext cx="970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carbonic anhydrase in renal proximal tubule cell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ic anhydrase catalyzes formation of HCO3- and H+ from H2O and CO2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carbonic anhydrase decreases [H+] in tubule lumen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4"/>
          <a:srcRect l="0" t="0" r="49869" b="5762"/>
          <a:stretch/>
        </p:blipFill>
        <p:spPr>
          <a:xfrm>
            <a:off x="5727600" y="4229280"/>
            <a:ext cx="4165560" cy="290808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sp>
        <p:nvSpPr>
          <p:cNvPr id="662" name="Rectangle 4"/>
          <p:cNvSpPr/>
          <p:nvPr/>
        </p:nvSpPr>
        <p:spPr>
          <a:xfrm>
            <a:off x="152280" y="4476600"/>
            <a:ext cx="50166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H+ for for Na+/H+ exchang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umen Na+, increased H2O retention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165240" y="1066680"/>
            <a:ext cx="9512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treat chronic open-angle glaucom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humor has high [HCO3-]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ountain sicknes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tre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lkal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epileps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sed in combination with other diuretics in resistant patien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360" y="13932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50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5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304920" y="1041480"/>
            <a:ext cx="8572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toleran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HCO3- excretion causes metabolic acidosi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wsines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sthesia (pins and needles under skin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rolithiasis (renal stones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 wasting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iazide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203040" y="1168560"/>
            <a:ext cx="5766120" cy="56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 distal convoluted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thiazide (prototype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hlorothiaz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thalido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lazo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69" name="Picture 3" descr=""/>
          <p:cNvPicPr/>
          <p:nvPr/>
        </p:nvPicPr>
        <p:blipFill>
          <a:blip r:embed="rId6"/>
          <a:stretch/>
        </p:blipFill>
        <p:spPr>
          <a:xfrm>
            <a:off x="5511960" y="3835440"/>
            <a:ext cx="4311360" cy="31464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127080" y="558720"/>
            <a:ext cx="9905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Na+ and Cl- transporter in distal convoluted tubu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a+ and Cl-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inhibitors of carbonic anhydrase, increased HCO3-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127080" y="4260960"/>
            <a:ext cx="455940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K+/Mg2+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5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Ca2+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73" name="Picture 4" descr=""/>
          <p:cNvPicPr/>
          <p:nvPr/>
        </p:nvPicPr>
        <p:blipFill>
          <a:blip r:embed="rId6"/>
          <a:srcRect l="15193" t="0" r="15771" b="5513"/>
          <a:stretch/>
        </p:blipFill>
        <p:spPr>
          <a:xfrm>
            <a:off x="4749840" y="3822840"/>
            <a:ext cx="4559400" cy="34797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279360" y="965160"/>
            <a:ext cx="98046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iuria: prevent excess Ca2+ excretion to form stones in duc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er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rogenic diabetes insipidu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Li+ toxicit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360" y="1260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Pharmacokin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431640" y="851040"/>
            <a:ext cx="98046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 administer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bsorp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f action in ~ 1 hou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range of T 1/2 amongst different thiazides, longer then loop diuretic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drug enters tubules by filtration and by organic acid se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12672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495360" y="596880"/>
            <a:ext cx="8572320" cy="69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kal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a+ exchange in CC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-contraction induced aldosterone relea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natr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ished insulin se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ed plasma lipid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uri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Loop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304920" y="1003320"/>
            <a:ext cx="57657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 “loop” of Henl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osemide (prototype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metanid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semid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crynic aci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82" name="Picture 3" descr=""/>
          <p:cNvPicPr/>
          <p:nvPr/>
        </p:nvPicPr>
        <p:blipFill>
          <a:blip r:embed="rId6"/>
          <a:stretch/>
        </p:blipFill>
        <p:spPr>
          <a:xfrm>
            <a:off x="6330960" y="1276200"/>
            <a:ext cx="3394080" cy="55119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-129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ff1430"/>
                </a:solidFill>
                <a:latin typeface="Cooper Black"/>
              </a:rPr>
              <a:t>Outlin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36200" y="1206360"/>
            <a:ext cx="7620120" cy="5677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ites of drug ac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smotic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rbonic anhydrase inhibito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iazide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Loop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otassium-sparing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360" y="19008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27080" y="1028880"/>
            <a:ext cx="990576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proximal tubule via organic acid transpor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apical Na-K-2Cl transporter in thick ascending loop of henl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s with Cl- binding sit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14480" y="3809880"/>
            <a:ext cx="50162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passive Mg2+ and Ca2+ excre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K+ and H+ excretion in CC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reabsorption of ~25% of glomerular filtrat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7"/>
          <a:srcRect l="15002" t="0" r="15575" b="5865"/>
          <a:stretch/>
        </p:blipFill>
        <p:spPr>
          <a:xfrm>
            <a:off x="5410080" y="3898800"/>
            <a:ext cx="4584960" cy="34671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54576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177840" y="1092240"/>
            <a:ext cx="980424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: cardiac, pulmonary or rena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renal failure or nephr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emi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and chronic hyperkalemi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360" y="1260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Pharmacokin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431640" y="851040"/>
            <a:ext cx="98046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 administered, rapid absorp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onset of ac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 to plasma proteins: displaced by warfarin, and clofibrat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oxicity of cephalosporin antibiotics and lith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ve toxicity with other ototoxic drug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ors of organic acid ion transport decrease potency (i.e. probenecid, NSAID’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27900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673200" y="1231920"/>
            <a:ext cx="857232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kal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uri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lkalosi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natr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toxic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2+ depl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K+ sparing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216000" y="1066680"/>
            <a:ext cx="576576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group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oid aldosterone antagonis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nolactone, eplerenon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in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mteren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azinoylguanidin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lorid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8"/>
          <a:stretch/>
        </p:blipFill>
        <p:spPr>
          <a:xfrm>
            <a:off x="6702480" y="1282680"/>
            <a:ext cx="3009960" cy="611352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79360" y="-12960"/>
            <a:ext cx="9067680" cy="571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2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127080" y="457200"/>
            <a:ext cx="9905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 sparing diuretics function in CC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Na+ transport in collecting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27080" y="4610160"/>
            <a:ext cx="5575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iamterene/Amilor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bas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ed into lumen by proximal tubule cell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apical Na+ chann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7"/>
          <a:stretch/>
        </p:blipFill>
        <p:spPr>
          <a:xfrm>
            <a:off x="6114960" y="3965400"/>
            <a:ext cx="3835440" cy="35085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sp>
        <p:nvSpPr>
          <p:cNvPr id="700" name="Rectangle 5"/>
          <p:cNvSpPr/>
          <p:nvPr/>
        </p:nvSpPr>
        <p:spPr>
          <a:xfrm>
            <a:off x="88920" y="1879560"/>
            <a:ext cx="9982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ironolacton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antagonist for mineralocorticoid recepto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aldosterone stimulated increases in Na+ transporter expre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177840" y="596880"/>
            <a:ext cx="98042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hyperaldosteronism (adrenal adenoma, bilateral adrenal hyperplasia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rh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rotic syndrom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junction with K+ wasting diuretic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1260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Pharmacokin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4" name="Rectangle 2"/>
          <p:cNvSpPr/>
          <p:nvPr/>
        </p:nvSpPr>
        <p:spPr>
          <a:xfrm>
            <a:off x="431640" y="851040"/>
            <a:ext cx="98046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ironolacto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 administer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actazide: spironolactone/thiazide comb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ilor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, 50% effectiv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etaboliz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bound to plasma protei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b0f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iamter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, 50% effectiv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bound to plasma protei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metabolism, active metabolit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27900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673200" y="1003320"/>
            <a:ext cx="857232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: monitor plasma [K+]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nolactone: gynecomasti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mterene: megaloblastic anemia in cirrhosis patien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loride: increase in blood urea nitrogen, glucose intolerance in diabetes mellitu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1523880" y="2142720"/>
            <a:ext cx="6688080" cy="1243080"/>
          </a:xfrm>
          <a:prstGeom prst="rect">
            <a:avLst/>
          </a:prstGeom>
          <a:gradFill rotWithShape="0">
            <a:gsLst>
              <a:gs pos="0">
                <a:srgbClr val="200486"/>
              </a:gs>
              <a:gs pos="100000">
                <a:srgbClr val="0f023e"/>
              </a:gs>
            </a:gsLst>
            <a:lin ang="0"/>
          </a:gradFill>
          <a:ln w="38160">
            <a:solidFill>
              <a:srgbClr val="ff0000"/>
            </a:solidFill>
            <a:miter/>
          </a:ln>
          <a:effectLst>
            <a:outerShdw dist="153753" dir="2700000" blurRad="0" rotWithShape="0">
              <a:srgbClr val="ebebeb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i="1" lang="en-US" sz="5300" spc="-1" strike="noStrike" u="sng">
                <a:solidFill>
                  <a:srgbClr val="ffffff"/>
                </a:solidFill>
                <a:uFillTx/>
                <a:latin typeface="Cambria"/>
              </a:rPr>
              <a:t>Antibiotics</a:t>
            </a:r>
            <a:endParaRPr b="0" lang="en-US" sz="53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00000"/>
              </a:lnSpc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5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9907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ff1430"/>
                </a:solidFill>
                <a:latin typeface="Cooper Black"/>
              </a:rPr>
              <a:t>Defini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254160" y="990720"/>
            <a:ext cx="58291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7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uretic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ce that promotes the excretion of ur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70000"/>
              </a:lnSpc>
              <a:spcBef>
                <a:spcPts val="2299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feine, yerba mate, nettles, cranberry juice, alcoho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7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triure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bstance that promotes the renal excretion of Na+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7632720" y="4826160"/>
            <a:ext cx="1359000" cy="226368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pic>
        <p:nvPicPr>
          <p:cNvPr id="639" name="Picture 4" descr=""/>
          <p:cNvPicPr/>
          <p:nvPr/>
        </p:nvPicPr>
        <p:blipFill>
          <a:blip r:embed="rId3"/>
          <a:stretch/>
        </p:blipFill>
        <p:spPr>
          <a:xfrm>
            <a:off x="8466120" y="1892160"/>
            <a:ext cx="1351080" cy="17910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pic>
        <p:nvPicPr>
          <p:cNvPr id="640" name="Picture 5" descr=""/>
          <p:cNvPicPr/>
          <p:nvPr/>
        </p:nvPicPr>
        <p:blipFill>
          <a:blip r:embed="rId4"/>
          <a:stretch/>
        </p:blipFill>
        <p:spPr>
          <a:xfrm>
            <a:off x="6094440" y="1243080"/>
            <a:ext cx="1957320" cy="28335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66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lfonamid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nicillin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ephalosporin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tracyclin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inoglycosid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Quinolon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crolid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4000" spc="-1" strike="noStrike">
                <a:solidFill>
                  <a:srgbClr val="90c226"/>
                </a:solidFill>
                <a:latin typeface="Trebuchet MS"/>
              </a:rPr>
              <a:t>What are Antibiotics</a:t>
            </a:r>
            <a:r>
              <a:rPr b="0" lang="en-IE" sz="4000" spc="-1" strike="noStrike">
                <a:solidFill>
                  <a:srgbClr val="90c22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440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= “against life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are molecules that stop microbes, both bacteria and fungi, from growing or kill them outrigh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can be either natural products or synthetic chemica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90000"/>
              </a:lnSpc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538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 used to treat bacterial infec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deally, before beginning antibiotic therapy, the suspected areas of infection should be cultured to identify the causative organism and potential antibiotic susceptibilitie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77880" y="1793520"/>
            <a:ext cx="705312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6440" indent="-676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piric therapy:  treatment of an infection before specific culture information has been reported or obtain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76440" indent="-676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phylactic therapy:  treatment with antibiotics to prevent an infection, as in intra-abdominal surger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0280" indent="-2602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actericidal: kill bacter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acteriostatic: inhibit growth of susceptible bacteri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20" name="Picture 4" descr="713px-EscherichiaColi_NIAID"/>
          <p:cNvPicPr/>
          <p:nvPr/>
        </p:nvPicPr>
        <p:blipFill>
          <a:blip r:embed="rId1"/>
          <a:stretch/>
        </p:blipFill>
        <p:spPr>
          <a:xfrm>
            <a:off x="0" y="-20520"/>
            <a:ext cx="10159920" cy="76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10_Table01-T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0" y="0"/>
            <a:ext cx="10159920" cy="69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59220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can be categorized based on their target specificity:</a:t>
            </a: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592200" indent="-59220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rrow-spectrum" antibiotics target particular types of bacteria, such as Gram-negative or Gram-positive bacteria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592200" indent="-59220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oad-spectrum antibiotics affect a wide range of bacteria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24" name="Picture 4" descr="10_02Figure-L"/>
          <p:cNvPicPr/>
          <p:nvPr/>
        </p:nvPicPr>
        <p:blipFill>
          <a:blip r:embed="rId1"/>
          <a:stretch/>
        </p:blipFill>
        <p:spPr>
          <a:xfrm>
            <a:off x="0" y="1279440"/>
            <a:ext cx="10159920" cy="634068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rimary Modes of Actio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4000" spc="-1" strike="noStrike">
                <a:solidFill>
                  <a:srgbClr val="90c226"/>
                </a:solidFill>
                <a:latin typeface="Trebuchet MS"/>
              </a:rPr>
              <a:t>Bacteriocidal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440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bacteriocide is a substance that kills the bacteria of choice and, preferably, nothing el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crobe death is usually achieved by disruption of the bacterial cell membrane leading to lysis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360" y="37800"/>
            <a:ext cx="8178840" cy="7491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ff1430"/>
                </a:solidFill>
                <a:latin typeface="Cooper Black"/>
              </a:rPr>
              <a:t>Renal Physiolog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127080" y="901800"/>
            <a:ext cx="655308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oper Black"/>
              </a:rPr>
              <a:t>renal epithelial transpo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oper Black"/>
              </a:rPr>
              <a:t>tubular reabsorp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roximal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loop of Hen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thick ascending limb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istal convoluted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ollecting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Clr>
                <a:srgbClr val="00b0f0"/>
              </a:buClr>
              <a:buSzPct val="66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oper Black"/>
              </a:rPr>
              <a:t>tubular se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SzPct val="66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ollecting tubu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8"/>
          <a:stretch/>
        </p:blipFill>
        <p:spPr>
          <a:xfrm>
            <a:off x="5359320" y="2444760"/>
            <a:ext cx="4711680" cy="31050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34440" y="254160"/>
            <a:ext cx="94568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Bacterial</a:t>
            </a:r>
            <a:r>
              <a:rPr b="1" lang="en-US" sz="4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34800" y="1862280"/>
            <a:ext cx="949032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tibiotics were created at a time when previously untreatable infections such as tuberculosis, gonorrhea, and syphilis could be almost incredibly treated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 have been successful because they are capable of adapting to changes in their environment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nicillin is the best-known antibiotic, which is used to treat bacterial infections, such as syphilis, gonorrhea, meningitis, and anthrax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Penicill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irst introduced in the 1940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cidal:  inhibit cell wall synthes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ill a wide variety of bacter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so called “beta-lactams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enicillin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mon side effect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usea, vomiting, diarrhea, abdominal pa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ther side effects are less comm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46000" y="21304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misynthetic derivatives from a fung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ucturally and pharmacologically relate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 penicill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cidal ac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oad spectru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vided into groups according to their antimicrobial activit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ephalosporin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to penicillins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Tetracyclin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tural and semi-synthe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tained from cultures of Streptomyc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ostatic—inhibit bacterial growt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hibit protein synthes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op many essential functions of the bacter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etracyclines:  Therapeutic Us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ide spectrum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am-negative, gram-positive, protozoa, Mycoplasma,  Rickettsia, Chlamydia, syphilis, Lyme diseas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meclocycline is also used to treat SIADH, and pleural and pericardial effus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etracycline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also caus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aginal monilias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stric upse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terocolit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culopapular ras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Aminoglycosid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46000" y="2046240"/>
            <a:ext cx="84852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entamicin (Garamyc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ana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o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epto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bra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ikacin (Amik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tilmicin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minoglycosid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46000" y="1931760"/>
            <a:ext cx="848520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tural and semi-synthe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duced from Streptomyc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oral absorption; no PO form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ery potent antibiotics with serious toxici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cid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ill mostly gram-negative; some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am-positive als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27900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ummary: Sites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7397640" cy="57978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minoglycosides: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1600" y="1793520"/>
            <a:ext cx="870084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31480" indent="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totoxicity and nephrotoxicity are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most significa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esthes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uromuscular blockad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zzines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ertig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ras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v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erinfec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Quinolon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46000" y="2089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iprofloxacin (Cipro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oxacin (Penetrex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mefloxacin (Maxaqu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rfloxacin (Norox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floxacin (Flox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Quinolone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46000" y="2116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55140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Body System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Effec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55140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NS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, dizziness, fatigue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pression, restlessnes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55140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I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usea, vomiting, diarrhea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, thrush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liver functio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ud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Quinolone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8131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Body System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Effec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8131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egumentary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sh, pruritus, urticaria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lushing, photosensitivity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with lomefloxac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8131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ther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ver, chills, blurred vision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innit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46000" y="21016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1520" indent="-371520">
              <a:lnSpc>
                <a:spcPct val="100000"/>
              </a:lnSpc>
              <a:spcBef>
                <a:spcPts val="1749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fore beginning therapy, assess drug allergies; hepatic, liver, and cardiac function; and other lab studie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1520" indent="-371520">
              <a:lnSpc>
                <a:spcPct val="100000"/>
              </a:lnSpc>
              <a:spcBef>
                <a:spcPts val="1749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 sure to obtain thorough patient health history, including immune stat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1520" indent="-371520">
              <a:lnSpc>
                <a:spcPct val="100000"/>
              </a:lnSpc>
              <a:spcBef>
                <a:spcPts val="1749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or conditions that may be contraindications to antibiotic use, or that may indicate cautious u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1520" indent="-371520">
              <a:lnSpc>
                <a:spcPct val="100000"/>
              </a:lnSpc>
              <a:spcBef>
                <a:spcPts val="1939"/>
              </a:spcBef>
              <a:spcAft>
                <a:spcPts val="212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or potential drug interactions</a:t>
            </a: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46000" y="2089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7920" indent="-36792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is ESSENTIAL to obtain cultures from appropriate sites BEFORE beginning antibiotic therapay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7920" indent="-36792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be instructed to take antibiotics exactly as prescribed and for the length of time prescribed; they should not stop taking the medication early when they feel bett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7920" indent="-36792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or signs and symptoms of superinfection:  fever, perineal itching, cough, lethargy, or any unusual discharg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46000" y="2116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ch class of antibiotics has specific side effects and drug interactions that must be carefully assessed and monitor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most common side effects of antibiotics are nausea, vomiting, and diarrhe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oral antibiotics are absorbed better if taken with at least 6 to 8 ounces of wat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46000" y="21016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lfonamid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ould be taken with at least 2400 mL of flui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r day, unless contraindicat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e to photosensitivity, avoid sunlight an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nning bed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se agents reduce the effectiveness of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al contraceptive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028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nicill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60280" indent="-26028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y patient taking a penicillin should be carefully monitored for an allergic reaction for at least 30 minutes after its administra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60280" indent="-26028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effectiveness of oral penicillins is decreased when taken with caffeine, citrus fruit, cola beverages, fruit juices, or tomato juic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46000" y="2116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ephalospor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ally administered forms should be given with food to decrease GI upset, even though this will delay absorp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me of these agents may cause an Antabuse-like reaction when taken with alcoho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19008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Osmotic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304920" y="1028880"/>
            <a:ext cx="45212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interact with receptors or directly block renal transpo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pendent on development of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smotic pressu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nitol (prototype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sorb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7"/>
          <a:srcRect l="20383" t="0" r="59616" b="51130"/>
          <a:stretch/>
        </p:blipFill>
        <p:spPr>
          <a:xfrm>
            <a:off x="6972480" y="1536840"/>
            <a:ext cx="1320480" cy="247644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pic>
        <p:nvPicPr>
          <p:cNvPr id="649" name="Picture 4" descr=""/>
          <p:cNvPicPr/>
          <p:nvPr/>
        </p:nvPicPr>
        <p:blipFill>
          <a:blip r:embed="rId8"/>
          <a:stretch/>
        </p:blipFill>
        <p:spPr>
          <a:xfrm>
            <a:off x="5803920" y="4470480"/>
            <a:ext cx="3670200" cy="260352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46000" y="2089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tracyclin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lk products, iron preparations, antacids, and other dairy products should be avoided because of the chelation and drug-binding that occur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medications should be taken with 6 to 8 ounces of fluid, preferably wat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e to photosensitivity, avoid sunlight an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nning bed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548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inoglycosid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5480" indent="-3754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peak and trough blood levels of these agents to prevent nephrotoxicity and ototoxicit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5480" indent="-3754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of ototoxicity include dizziness, tinnitus, and hearing los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5480" indent="-3754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of nephrotoxicity include urinary casts, proteinuria, and increased BUN and serum creatinine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Quinolon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ould be taken with at least 3 L of fluid per day, unless otherwise specifi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396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crolid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3960" indent="-36396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se agents are highly protein-bound and will cause severe interactions with other protein-bound drug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3960" indent="-36396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bsorption of oral erythromycin is enhanced when taken on an empty stomach, but because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f the high incidence of GI upset, many agents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re taken after a meal or snack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therapeutic effect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appearance of fever, lethargy, drainage, and rednes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134880" y="301752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Question</a:t>
            </a: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?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279360" y="711360"/>
            <a:ext cx="9067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tic diuretic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bsorb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osmotic pressure specifically in the proximal tubule and loop of Hen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passive reabsorption of H2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tic force solute in lumen &gt; osmotic force of reabsorbed Na+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H2O and Na+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165240" y="1066680"/>
            <a:ext cx="9512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nnito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of choice: non-toxic, freely filtered, non-reabsorbable and non-metaboliz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ed prophylatically for acute renal failure secondary to trauma, CVS disease, surgery or nephrotoxic drug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term treatment of acute glaucom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ed to lower intracranial press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, glycerol and isosorbide are less efficie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enetrate cell membran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216000" y="863640"/>
            <a:ext cx="76708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extracellular fluid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failu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natr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 secondary to diabetes or impaired renal fun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nausea, vomit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harbi</dc:creator>
  <dc:description/>
  <cp:keywords/>
  <dc:language>en-US</dc:language>
  <cp:lastModifiedBy>user</cp:lastModifiedBy>
  <dcterms:modified xsi:type="dcterms:W3CDTF">2016-04-14T19:04:03Z</dcterms:modified>
  <cp:revision>9</cp:revision>
  <dc:subject/>
  <dc:title>Diuretics</dc:title>
</cp:coreProperties>
</file>