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png" ContentType="image/png"/>
  <Override PartName="/ppt/media/image7.wmf" ContentType="image/x-wmf"/>
  <Override PartName="/ppt/media/image20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1.jpeg" ContentType="image/jpeg"/>
  <Override PartName="/ppt/media/image16.jpeg" ContentType="image/jpeg"/>
  <Override PartName="/ppt/media/image15.wmf" ContentType="image/x-wmf"/>
  <Override PartName="/ppt/media/image19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7B22-9DEB-487A-AE38-7C5923661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C477-EFA4-4C69-8E6D-48C45B003D4D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C354-1DCF-4A2A-B99B-E15B4A2F1C36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6585-8190-4BFC-B22E-633B518C191B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A765-F012-4852-AADC-012D15D0F8C0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AD13-4778-457A-B9DE-259280B8F2D7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5893-6CD8-4FE0-848D-B2DFB3ABEC0B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A382-9CB5-4C5B-AE23-89D2727EFCCF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0920-4ED5-4A24-A5CE-C5761BBD352F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5868-0E4F-4DEB-9082-6A55FA7D637A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2FD2-DFD5-4037-B2CC-8A2DF030C51C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79FA-437D-4A00-8D9D-BEE088F30210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5C4B-0D36-45C5-A611-A2708607E4FA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2F19-6956-43FF-A364-84A27D33FA4A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3EB5-6347-463C-A8EA-2E22221550BB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6E5C-2A89-472B-8FB3-4E717C66EF7F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ACAC-BDD9-4936-8BF6-DD32FDBE7150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7995-7E4F-45BA-BDC1-B2D3DEAF1DDE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BC72-3CA8-43C7-B7E0-C0F01F91642E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AACD-427D-4B2D-9FB2-41C374844346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33AF-3030-494F-BD30-BA500D4E9373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9DC0-F809-4805-835B-596542BF9BD4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5972-E81E-4A21-B61B-403B774DD68A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33E8-1997-4D6F-A48D-DD666F086DE3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FC85-F96B-4F35-A01D-276AD093B6BC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9FDF-FF8D-4ACC-84F6-7FD2BB3BAE0F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3313-B3B1-4031-A14A-47FB5A7F40B4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D8EB-C410-4BA4-AF2C-49AA5FD70858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E588-6383-47A0-9E5D-C04885F6EDE4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7DEF-E560-4AA9-82E4-108F8E154524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halkboard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352-A7D6-4EAC-99AE-56495CF4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1DE-56F9-4807-B7FF-C9A9E38B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CF6-4131-4E17-8FF3-B9E9D020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99D-6B6C-4295-B93E-E5324542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1DA-ED06-45FC-9025-29711569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025-7F6E-4B7A-878C-874F7D6A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066-9F0E-41DC-8D26-00B8222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9A7-CC51-4689-B49C-9226E8C4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7C3-B901-4CCF-A8C3-2E89EE0B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BF1-8CFE-43D4-BBA8-6A8FB085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FFB-44CB-450D-9BB6-A02BD517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747-655F-45A5-A92E-D715194E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EC55-B967-4036-A019-45AF42BF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36FF-05F7-40A1-A544-26FACAD5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FF16-87DA-47D5-83AF-381D07B5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7D11-865F-4018-9274-805EEE6A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C014-CAC6-4F28-BAA4-A77578F8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E5D5-A6A2-48F5-845A-885108EB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0B04-CDD1-4B8B-9299-A34AAD5F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85A2-3945-42C1-84C0-B4F92C41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C3BE-FD8A-44DB-8B4F-9C15EC22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9A6A-519E-4E61-B9E8-3116E40A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610B-B028-4AA2-96F9-D651D324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EA5C-579F-497B-AC8E-7CA7F4AC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4CF38-E4B6-4BBF-A9CA-487411B3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ECD66-31FA-4384-BCA6-B618C975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F0DEF-1CF8-43BA-989C-7B80A2E6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89976-6B5F-4AEA-8444-D97A7782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6828E-F9F0-4904-B0E5-228FD4AB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8D1E4-C518-44B9-84D8-61BF4DEB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D86F3-427E-4DC7-970E-4249E192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A5EA-3359-4B54-84A5-4BBF58B0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FA41E-A25F-4567-A951-25DF61B9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A0ED2-25F8-4409-B20D-F9E72B70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2051-CE5B-44BE-B09C-F26946EA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7F36-25AD-4AFB-8A76-E6A8EE13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B5210-63C6-4F10-BBB8-73F0A066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907AC-A47C-4689-9433-8088FDE2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C5E6E-C7A0-41DE-A0A4-95E106CB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4DBE3-CD97-4085-A338-8E58B464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4EDE4-D290-4F18-9AB4-CF8CD4E7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E3EC4-391A-41FA-A056-D66B23F5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1BE40-5BB9-46C7-8C1B-37C8D204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AE759-FDCF-4CD4-B2DF-253BE028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78CEC-09AD-45F8-8759-F1BE865B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6726E-BC1B-46FD-A17F-505AB446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67A0-3E66-485A-B56F-92B4A84F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E1CB2-12FF-4060-826E-85DC7A20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77880" y="677520"/>
            <a:ext cx="7053120" cy="68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1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7880" y="4652640"/>
            <a:ext cx="705312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91920" y="240048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7788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291920" y="4652640"/>
            <a:ext cx="344160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62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447520" y="240048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7788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062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447520" y="4652640"/>
            <a:ext cx="2270880" cy="20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81916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5943240" y="2298240"/>
            <a:ext cx="3225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8000"/>
          </a:bodyPr>
          <a:p>
            <a:pPr marL="4316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250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01052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31256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90360" y="825120"/>
            <a:ext cx="8178840" cy="5956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5979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99072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371960" indent="-30888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77660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16"/>
          <p:cNvGrpSpPr/>
          <p:nvPr/>
        </p:nvGrpSpPr>
        <p:grpSpPr>
          <a:xfrm>
            <a:off x="-9360" y="-9360"/>
            <a:ext cx="10188360" cy="7638840"/>
            <a:chOff x="-9360" y="-9360"/>
            <a:chExt cx="10188360" cy="7638840"/>
          </a:xfrm>
        </p:grpSpPr>
        <p:sp>
          <p:nvSpPr>
            <p:cNvPr id="415" name="Freeform 6"/>
            <p:cNvSpPr/>
            <p:nvPr/>
          </p:nvSpPr>
          <p:spPr>
            <a:xfrm>
              <a:off x="-9360" y="4459320"/>
              <a:ext cx="507960" cy="31701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16" name="Straight Connector 7"/>
            <p:cNvSpPr/>
            <p:nvPr/>
          </p:nvSpPr>
          <p:spPr>
            <a:xfrm flipV="1">
              <a:off x="5700600" y="4640040"/>
              <a:ext cx="4468680" cy="2979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17" name="Straight Connector 8"/>
            <p:cNvSpPr/>
            <p:nvPr/>
          </p:nvSpPr>
          <p:spPr>
            <a:xfrm>
              <a:off x="7824960" y="0"/>
              <a:ext cx="1353960" cy="76201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18" name="Freeform 9"/>
            <p:cNvSpPr/>
            <p:nvPr/>
          </p:nvSpPr>
          <p:spPr>
            <a:xfrm>
              <a:off x="7658280" y="0"/>
              <a:ext cx="2520720" cy="7629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19" name="Freeform 10"/>
            <p:cNvSpPr/>
            <p:nvPr/>
          </p:nvSpPr>
          <p:spPr>
            <a:xfrm>
              <a:off x="8006040" y="-9360"/>
              <a:ext cx="2163600" cy="7629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20" name="Freeform 11"/>
            <p:cNvSpPr/>
            <p:nvPr/>
          </p:nvSpPr>
          <p:spPr>
            <a:xfrm>
              <a:off x="7375680" y="4356000"/>
              <a:ext cx="2792160" cy="32637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21" name="Freeform 12"/>
            <p:cNvSpPr/>
            <p:nvPr/>
          </p:nvSpPr>
          <p:spPr>
            <a:xfrm>
              <a:off x="7790040" y="-9360"/>
              <a:ext cx="2379600" cy="7629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22" name="Freeform 13"/>
            <p:cNvSpPr/>
            <p:nvPr/>
          </p:nvSpPr>
          <p:spPr>
            <a:xfrm>
              <a:off x="9217080" y="-9360"/>
              <a:ext cx="952200" cy="7629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23" name="Freeform 14"/>
            <p:cNvSpPr/>
            <p:nvPr/>
          </p:nvSpPr>
          <p:spPr>
            <a:xfrm>
              <a:off x="8974080" y="-9360"/>
              <a:ext cx="1185840" cy="7629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24" name="Freeform 15"/>
            <p:cNvSpPr/>
            <p:nvPr/>
          </p:nvSpPr>
          <p:spPr>
            <a:xfrm>
              <a:off x="8955360" y="5437440"/>
              <a:ext cx="1215720" cy="218268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824040" indent="-31608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268280" indent="-25236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776240" indent="-25236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2284560" indent="-25272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284560" indent="-252720" algn="r" rtl="1">
              <a:spcBef>
                <a:spcPts val="111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2284560" indent="-252720" algn="r" rtl="1">
              <a:spcBef>
                <a:spcPts val="111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"/>
          </p:nvPr>
        </p:nvSpPr>
        <p:spPr>
          <a:xfrm>
            <a:off x="6005520" y="6711480"/>
            <a:ext cx="7603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"/>
          </p:nvPr>
        </p:nvSpPr>
        <p:spPr>
          <a:xfrm>
            <a:off x="677520" y="6711480"/>
            <a:ext cx="51354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"/>
          </p:nvPr>
        </p:nvSpPr>
        <p:spPr>
          <a:xfrm>
            <a:off x="7160760" y="6711480"/>
            <a:ext cx="5698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9203-471A-4EC5-8C8D-45A9C6DBD4D6}" type="slidenum">
              <a:rPr b="0" lang="en-US" sz="10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17"/>
          <p:cNvGrpSpPr/>
          <p:nvPr/>
        </p:nvGrpSpPr>
        <p:grpSpPr>
          <a:xfrm>
            <a:off x="-9360" y="-9360"/>
            <a:ext cx="10188360" cy="7638840"/>
            <a:chOff x="-9360" y="-9360"/>
            <a:chExt cx="10188360" cy="7638840"/>
          </a:xfrm>
        </p:grpSpPr>
        <p:sp>
          <p:nvSpPr>
            <p:cNvPr id="467" name="Straight Connector 18"/>
            <p:cNvSpPr/>
            <p:nvPr/>
          </p:nvSpPr>
          <p:spPr>
            <a:xfrm flipV="1">
              <a:off x="5700600" y="4640040"/>
              <a:ext cx="4468680" cy="2979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68" name="Straight Connector 19"/>
            <p:cNvSpPr/>
            <p:nvPr/>
          </p:nvSpPr>
          <p:spPr>
            <a:xfrm>
              <a:off x="7824960" y="0"/>
              <a:ext cx="1353960" cy="76201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69" name="Freeform 20"/>
            <p:cNvSpPr/>
            <p:nvPr/>
          </p:nvSpPr>
          <p:spPr>
            <a:xfrm>
              <a:off x="7658280" y="0"/>
              <a:ext cx="2520720" cy="7629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70" name="Freeform 21"/>
            <p:cNvSpPr/>
            <p:nvPr/>
          </p:nvSpPr>
          <p:spPr>
            <a:xfrm>
              <a:off x="8006040" y="-9360"/>
              <a:ext cx="2163600" cy="7629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71" name="Freeform 22"/>
            <p:cNvSpPr/>
            <p:nvPr/>
          </p:nvSpPr>
          <p:spPr>
            <a:xfrm>
              <a:off x="7375680" y="4356000"/>
              <a:ext cx="2792160" cy="32637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72" name="Freeform 23"/>
            <p:cNvSpPr/>
            <p:nvPr/>
          </p:nvSpPr>
          <p:spPr>
            <a:xfrm>
              <a:off x="7790040" y="-9360"/>
              <a:ext cx="2379600" cy="7629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73" name="Freeform 24"/>
            <p:cNvSpPr/>
            <p:nvPr/>
          </p:nvSpPr>
          <p:spPr>
            <a:xfrm>
              <a:off x="9217080" y="-9360"/>
              <a:ext cx="952200" cy="7629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74" name="Freeform 25"/>
            <p:cNvSpPr/>
            <p:nvPr/>
          </p:nvSpPr>
          <p:spPr>
            <a:xfrm>
              <a:off x="8974080" y="-9360"/>
              <a:ext cx="1185840" cy="7629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75" name="Freeform 26"/>
            <p:cNvSpPr/>
            <p:nvPr/>
          </p:nvSpPr>
          <p:spPr>
            <a:xfrm>
              <a:off x="8955360" y="5437440"/>
              <a:ext cx="1215720" cy="218268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476" name="Freeform 27"/>
            <p:cNvSpPr/>
            <p:nvPr/>
          </p:nvSpPr>
          <p:spPr>
            <a:xfrm>
              <a:off x="-9360" y="-9360"/>
              <a:ext cx="958680" cy="63309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824040" indent="-31608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268280" indent="-25236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776240" indent="-25236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2284560" indent="-25272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284560" indent="-252720" algn="r" rtl="1">
              <a:spcBef>
                <a:spcPts val="111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2284560" indent="-252720" algn="r" rtl="1">
              <a:spcBef>
                <a:spcPts val="111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4"/>
          </p:nvPr>
        </p:nvSpPr>
        <p:spPr>
          <a:xfrm>
            <a:off x="6005520" y="6711480"/>
            <a:ext cx="7603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5"/>
          </p:nvPr>
        </p:nvSpPr>
        <p:spPr>
          <a:xfrm>
            <a:off x="677520" y="6711480"/>
            <a:ext cx="51354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6"/>
          </p:nvPr>
        </p:nvSpPr>
        <p:spPr>
          <a:xfrm>
            <a:off x="7160760" y="6711480"/>
            <a:ext cx="5698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CCD8-51AE-4606-B135-F1A98F57D2EF}" type="slidenum">
              <a:rPr b="0" lang="en-US" sz="10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16"/>
          <p:cNvGrpSpPr/>
          <p:nvPr/>
        </p:nvGrpSpPr>
        <p:grpSpPr>
          <a:xfrm>
            <a:off x="-9360" y="-9360"/>
            <a:ext cx="10188360" cy="7638840"/>
            <a:chOff x="-9360" y="-9360"/>
            <a:chExt cx="10188360" cy="7638840"/>
          </a:xfrm>
        </p:grpSpPr>
        <p:sp>
          <p:nvSpPr>
            <p:cNvPr id="519" name="Freeform 6"/>
            <p:cNvSpPr/>
            <p:nvPr/>
          </p:nvSpPr>
          <p:spPr>
            <a:xfrm>
              <a:off x="-9360" y="4459320"/>
              <a:ext cx="507960" cy="31701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0" name="Straight Connector 7"/>
            <p:cNvSpPr/>
            <p:nvPr/>
          </p:nvSpPr>
          <p:spPr>
            <a:xfrm flipV="1">
              <a:off x="5700600" y="4640040"/>
              <a:ext cx="4468680" cy="2979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1" name="Straight Connector 8"/>
            <p:cNvSpPr/>
            <p:nvPr/>
          </p:nvSpPr>
          <p:spPr>
            <a:xfrm>
              <a:off x="7824960" y="0"/>
              <a:ext cx="1353960" cy="76201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2" name="Freeform 9"/>
            <p:cNvSpPr/>
            <p:nvPr/>
          </p:nvSpPr>
          <p:spPr>
            <a:xfrm>
              <a:off x="7658280" y="0"/>
              <a:ext cx="2520720" cy="7629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3" name="Freeform 10"/>
            <p:cNvSpPr/>
            <p:nvPr/>
          </p:nvSpPr>
          <p:spPr>
            <a:xfrm>
              <a:off x="8006040" y="-9360"/>
              <a:ext cx="2163600" cy="7629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4" name="Freeform 11"/>
            <p:cNvSpPr/>
            <p:nvPr/>
          </p:nvSpPr>
          <p:spPr>
            <a:xfrm>
              <a:off x="7375680" y="4356000"/>
              <a:ext cx="2792160" cy="32637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5" name="Freeform 12"/>
            <p:cNvSpPr/>
            <p:nvPr/>
          </p:nvSpPr>
          <p:spPr>
            <a:xfrm>
              <a:off x="7790040" y="-9360"/>
              <a:ext cx="2379600" cy="7629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6" name="Freeform 13"/>
            <p:cNvSpPr/>
            <p:nvPr/>
          </p:nvSpPr>
          <p:spPr>
            <a:xfrm>
              <a:off x="9217080" y="-9360"/>
              <a:ext cx="952200" cy="7629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7" name="Freeform 14"/>
            <p:cNvSpPr/>
            <p:nvPr/>
          </p:nvSpPr>
          <p:spPr>
            <a:xfrm>
              <a:off x="8974080" y="-9360"/>
              <a:ext cx="1185840" cy="7629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28" name="Freeform 15"/>
            <p:cNvSpPr/>
            <p:nvPr/>
          </p:nvSpPr>
          <p:spPr>
            <a:xfrm>
              <a:off x="8955360" y="5437440"/>
              <a:ext cx="1215720" cy="218268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sp>
        <p:nvSpPr>
          <p:cNvPr id="529" name="TextBox 17"/>
          <p:cNvSpPr/>
          <p:nvPr/>
        </p:nvSpPr>
        <p:spPr>
          <a:xfrm>
            <a:off x="536400" y="878040"/>
            <a:ext cx="508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" name="TextBox 18"/>
          <p:cNvSpPr/>
          <p:nvPr/>
        </p:nvSpPr>
        <p:spPr>
          <a:xfrm>
            <a:off x="7497720" y="3206880"/>
            <a:ext cx="5079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824040" indent="-31608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268280" indent="-25236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776240" indent="-25236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2284560" indent="-25272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284560" indent="-252720" algn="r" rtl="1">
              <a:spcBef>
                <a:spcPts val="111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2284560" indent="-252720" algn="r" rtl="1">
              <a:spcBef>
                <a:spcPts val="111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7"/>
          </p:nvPr>
        </p:nvSpPr>
        <p:spPr>
          <a:xfrm>
            <a:off x="6005520" y="6711480"/>
            <a:ext cx="7603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8"/>
          </p:nvPr>
        </p:nvSpPr>
        <p:spPr>
          <a:xfrm>
            <a:off x="677520" y="6711480"/>
            <a:ext cx="51354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9"/>
          </p:nvPr>
        </p:nvSpPr>
        <p:spPr>
          <a:xfrm>
            <a:off x="7160760" y="6711480"/>
            <a:ext cx="5698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E38F-F7E4-469E-B7CB-0D74029A160E}" type="slidenum">
              <a:rPr b="0" lang="en-US" sz="10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16"/>
          <p:cNvGrpSpPr/>
          <p:nvPr/>
        </p:nvGrpSpPr>
        <p:grpSpPr>
          <a:xfrm>
            <a:off x="-9360" y="-9360"/>
            <a:ext cx="10188360" cy="7638840"/>
            <a:chOff x="-9360" y="-9360"/>
            <a:chExt cx="10188360" cy="7638840"/>
          </a:xfrm>
        </p:grpSpPr>
        <p:sp>
          <p:nvSpPr>
            <p:cNvPr id="573" name="Freeform 6"/>
            <p:cNvSpPr/>
            <p:nvPr/>
          </p:nvSpPr>
          <p:spPr>
            <a:xfrm>
              <a:off x="-9360" y="4459320"/>
              <a:ext cx="507960" cy="317016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74" name="Straight Connector 7"/>
            <p:cNvSpPr/>
            <p:nvPr/>
          </p:nvSpPr>
          <p:spPr>
            <a:xfrm flipV="1">
              <a:off x="5700600" y="4640040"/>
              <a:ext cx="4468680" cy="2979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75" name="Straight Connector 8"/>
            <p:cNvSpPr/>
            <p:nvPr/>
          </p:nvSpPr>
          <p:spPr>
            <a:xfrm>
              <a:off x="7824960" y="0"/>
              <a:ext cx="1353960" cy="76201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76" name="Freeform 9"/>
            <p:cNvSpPr/>
            <p:nvPr/>
          </p:nvSpPr>
          <p:spPr>
            <a:xfrm>
              <a:off x="7658280" y="0"/>
              <a:ext cx="2520720" cy="762948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77" name="Freeform 10"/>
            <p:cNvSpPr/>
            <p:nvPr/>
          </p:nvSpPr>
          <p:spPr>
            <a:xfrm>
              <a:off x="8006040" y="-9360"/>
              <a:ext cx="2163600" cy="762948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7375680" y="4356000"/>
              <a:ext cx="2792160" cy="326376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7790040" y="-9360"/>
              <a:ext cx="2379600" cy="762948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9217080" y="-9360"/>
              <a:ext cx="952200" cy="762948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81" name="Freeform 14"/>
            <p:cNvSpPr/>
            <p:nvPr/>
          </p:nvSpPr>
          <p:spPr>
            <a:xfrm>
              <a:off x="8974080" y="-9360"/>
              <a:ext cx="1185840" cy="762948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  <p:sp>
          <p:nvSpPr>
            <p:cNvPr id="582" name="Freeform 15"/>
            <p:cNvSpPr/>
            <p:nvPr/>
          </p:nvSpPr>
          <p:spPr>
            <a:xfrm>
              <a:off x="8955360" y="5437440"/>
              <a:ext cx="1215720" cy="218268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halkboard"/>
              </a:endParaRPr>
            </a:p>
          </p:txBody>
        </p:sp>
      </p:grpSp>
      <p:sp>
        <p:nvSpPr>
          <p:cNvPr id="583" name="TextBox 17"/>
          <p:cNvSpPr/>
          <p:nvPr/>
        </p:nvSpPr>
        <p:spPr>
          <a:xfrm>
            <a:off x="536400" y="878040"/>
            <a:ext cx="508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7497720" y="3206880"/>
            <a:ext cx="5079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824040" indent="-31608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268280" indent="-25236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776240" indent="-25236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4" marL="2284560" indent="-252720" algn="r" rtl="1"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284560" indent="-252720" algn="r" rtl="1">
              <a:spcBef>
                <a:spcPts val="111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2284560" indent="-252720" algn="r" rtl="1">
              <a:spcBef>
                <a:spcPts val="111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0"/>
          </p:nvPr>
        </p:nvSpPr>
        <p:spPr>
          <a:xfrm>
            <a:off x="6005520" y="6711480"/>
            <a:ext cx="7603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11"/>
          </p:nvPr>
        </p:nvSpPr>
        <p:spPr>
          <a:xfrm>
            <a:off x="677520" y="6711480"/>
            <a:ext cx="51354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12"/>
          </p:nvPr>
        </p:nvSpPr>
        <p:spPr>
          <a:xfrm>
            <a:off x="7160760" y="6711480"/>
            <a:ext cx="5698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8A60-63F6-4767-B16A-4BC1B8C26366}" type="slidenum">
              <a:rPr b="0" lang="en-US" sz="10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434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990360" y="406368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990360" y="20062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69800" y="3860280"/>
            <a:ext cx="4711680" cy="238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69800" y="1397160"/>
            <a:ext cx="4711680" cy="238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128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01268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402200" indent="-31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81584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8000"/>
          </a:bodyPr>
          <a:p>
            <a:pPr marL="49500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3196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5884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5055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61596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03464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44144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8000"/>
          </a:bodyPr>
          <a:p>
            <a:pPr marL="49500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3196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5884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5055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3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33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33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8.wmf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3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3.xml"/><Relationship Id="rId10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3.xml"/><Relationship Id="rId10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63240" y="0"/>
            <a:ext cx="9410760" cy="37972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spcBef>
                <a:spcPts val="3300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br>
              <a:rPr sz="6200"/>
            </a:br>
            <a:r>
              <a:rPr b="0" lang="en-US" sz="6200" spc="-1" strike="noStrike">
                <a:solidFill>
                  <a:srgbClr val="ff1430"/>
                </a:solidFill>
                <a:latin typeface="Cooper Black"/>
              </a:rPr>
              <a:t>Diuretics</a:t>
            </a:r>
            <a:endParaRPr b="0" lang="en-US" sz="6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17520" y="215640"/>
            <a:ext cx="952488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Carbonic Anhydrase Inhibitor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304920" y="1003320"/>
            <a:ext cx="57657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uses as diuretic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cetazolamid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699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e carbonic anhydrase inhibito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699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from sulfanilamide (caused metabolic acidosis and alkaline urine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58" name="Picture 3" descr=""/>
          <p:cNvPicPr/>
          <p:nvPr/>
        </p:nvPicPr>
        <p:blipFill>
          <a:blip r:embed="rId3"/>
          <a:stretch/>
        </p:blipFill>
        <p:spPr>
          <a:xfrm>
            <a:off x="5999040" y="2216160"/>
            <a:ext cx="3621240" cy="318780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360" y="21564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800" spc="-1" strike="noStrike">
                <a:solidFill>
                  <a:srgbClr val="ff1430"/>
                </a:solidFill>
                <a:latin typeface="Cooper Black"/>
              </a:rPr>
              <a:t>Mechanism of Action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0" name="Rectangle 2"/>
          <p:cNvSpPr/>
          <p:nvPr/>
        </p:nvSpPr>
        <p:spPr>
          <a:xfrm>
            <a:off x="127080" y="1003320"/>
            <a:ext cx="9702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2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carbonic anhydrase in renal proximal tubule cell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ic anhydrase catalyzes formation of HCO3- and H+ from H2O and CO2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carbonic anhydrase decreases [H+] in tubule lumen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61" name="Picture 3" descr=""/>
          <p:cNvPicPr/>
          <p:nvPr/>
        </p:nvPicPr>
        <p:blipFill>
          <a:blip r:embed="rId4"/>
          <a:srcRect l="0" t="0" r="49869" b="5762"/>
          <a:stretch/>
        </p:blipFill>
        <p:spPr>
          <a:xfrm>
            <a:off x="5727600" y="4229280"/>
            <a:ext cx="4165560" cy="290808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  <p:sp>
        <p:nvSpPr>
          <p:cNvPr id="662" name="Rectangle 4"/>
          <p:cNvSpPr/>
          <p:nvPr/>
        </p:nvSpPr>
        <p:spPr>
          <a:xfrm>
            <a:off x="152280" y="4476600"/>
            <a:ext cx="5016600" cy="22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H+ for for Na+/H+ exchang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lumen Na+, increased H2O retention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7876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Therapeutic Use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165240" y="1066680"/>
            <a:ext cx="9512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treat chronic open-angle glaucoma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ous humor has high [HCO3-]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mountain sicknes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and treatmen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alkalosi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epileps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used in combination with other diuretics in resistant patien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360" y="13932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5000" spc="-1" strike="noStrike">
                <a:solidFill>
                  <a:srgbClr val="ff1430"/>
                </a:solidFill>
                <a:latin typeface="Cooper Black"/>
              </a:rPr>
              <a:t>Side Effects</a:t>
            </a:r>
            <a:endParaRPr b="0" lang="en-US" sz="5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304920" y="1041480"/>
            <a:ext cx="85723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toleran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HCO3- excretion causes metabolic acidosi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wsines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depres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sthesia (pins and needles under skin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hrolithiasis (renal stones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+ wasting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17520" y="215640"/>
            <a:ext cx="952488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Thiazide Diuretic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8" name="Rectangle 2"/>
          <p:cNvSpPr/>
          <p:nvPr/>
        </p:nvSpPr>
        <p:spPr>
          <a:xfrm>
            <a:off x="203040" y="1168560"/>
            <a:ext cx="5766120" cy="56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in distal convoluted tubu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thiazide (prototype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chlorothiazid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thalidon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lazon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69" name="Picture 3" descr=""/>
          <p:cNvPicPr/>
          <p:nvPr/>
        </p:nvPicPr>
        <p:blipFill>
          <a:blip r:embed="rId6"/>
          <a:stretch/>
        </p:blipFill>
        <p:spPr>
          <a:xfrm>
            <a:off x="5511960" y="3835440"/>
            <a:ext cx="4311360" cy="314640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90360" y="-25560"/>
            <a:ext cx="8178840" cy="7876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Mechanism of Actio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1" name="Rectangle 2"/>
          <p:cNvSpPr/>
          <p:nvPr/>
        </p:nvSpPr>
        <p:spPr>
          <a:xfrm>
            <a:off x="127080" y="558720"/>
            <a:ext cx="9905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9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Na+ and Cl- transporter in distal convoluted tubul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9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Na+ and Cl- excr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9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 inhibitors of carbonic anhydrase, increased HCO3- excr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127080" y="4260960"/>
            <a:ext cx="455940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K+/Mg2+ excr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5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Ca2+ excr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73" name="Picture 4" descr=""/>
          <p:cNvPicPr/>
          <p:nvPr/>
        </p:nvPicPr>
        <p:blipFill>
          <a:blip r:embed="rId6"/>
          <a:srcRect l="15193" t="0" r="15771" b="5513"/>
          <a:stretch/>
        </p:blipFill>
        <p:spPr>
          <a:xfrm>
            <a:off x="4749840" y="3822840"/>
            <a:ext cx="4559400" cy="347976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Therapeutic Use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279360" y="965160"/>
            <a:ext cx="98046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8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calciuria: prevent excess Ca2+ excretion to form stones in duc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eoperosi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hrogenic diabetes insipidu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Li+ toxicit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90360" y="12600"/>
            <a:ext cx="8178840" cy="7876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Pharmacokinetic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7" name="Rectangle 2"/>
          <p:cNvSpPr/>
          <p:nvPr/>
        </p:nvSpPr>
        <p:spPr>
          <a:xfrm>
            <a:off x="431640" y="851040"/>
            <a:ext cx="980460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 administer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bsorp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set of action in ~ 1 hou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range of T 1/2 amongst different thiazides, longer then loop diuretic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drug enters tubules by filtration and by organic acid secr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360" y="12672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Side Effect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495360" y="596880"/>
            <a:ext cx="8572320" cy="69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kal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Na+ exchange in CC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-contraction induced aldosterone releas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natr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ished insulin secr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ted plasma lipid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uric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calc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17520" y="215640"/>
            <a:ext cx="952488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Loop Diuretic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304920" y="1003320"/>
            <a:ext cx="57657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in “loop” of Henl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osemide (prototype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metanid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semid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crynic aci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82" name="Picture 3" descr=""/>
          <p:cNvPicPr/>
          <p:nvPr/>
        </p:nvPicPr>
        <p:blipFill>
          <a:blip r:embed="rId6"/>
          <a:stretch/>
        </p:blipFill>
        <p:spPr>
          <a:xfrm>
            <a:off x="6330960" y="1276200"/>
            <a:ext cx="3394080" cy="551196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0360" y="-129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ff1430"/>
                </a:solidFill>
                <a:latin typeface="Cooper Black"/>
              </a:rPr>
              <a:t>Outlin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36200" y="1206360"/>
            <a:ext cx="7620120" cy="56772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ites of drug actio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Osmotic diuretic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arbonic anhydrase inhibito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iazide diuretic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Loop diuretic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otassium-sparing diuretic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360" y="19008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Mechanism of Actio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27080" y="1028880"/>
            <a:ext cx="9905760" cy="27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9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 proximal tubule via organic acid transpor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9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apical Na-K-2Cl transporter in thick ascending loop of henl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9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s with Cl- binding sit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114480" y="3809880"/>
            <a:ext cx="50162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s passive Mg2+ and Ca2+ excretio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K+ and H+ excretion in CC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9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reabsorption of ~25% of glomerular filtrat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86" name="Picture 4" descr=""/>
          <p:cNvPicPr/>
          <p:nvPr/>
        </p:nvPicPr>
        <p:blipFill>
          <a:blip r:embed="rId7"/>
          <a:srcRect l="15002" t="0" r="15575" b="5865"/>
          <a:stretch/>
        </p:blipFill>
        <p:spPr>
          <a:xfrm>
            <a:off x="5410080" y="3898800"/>
            <a:ext cx="4584960" cy="346716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90360" y="54576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Therapeutic Use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177840" y="1092240"/>
            <a:ext cx="980424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: cardiac, pulmonary or rena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renal failure or nephrosi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calcemia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and chronic hyperkalemia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0360" y="12600"/>
            <a:ext cx="8178840" cy="7876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Pharmacokinetic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431640" y="851040"/>
            <a:ext cx="980460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 administered, rapid absorptio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onset of actio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nd to plasma proteins: displaced by warfarin, and clofibrat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oxicity of cephalosporin antibiotics and lith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ve toxicity with other ototoxic drug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6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ors of organic acid ion transport decrease potency (i.e. probenecid, NSAID’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360" y="27900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Side Effect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673200" y="1231920"/>
            <a:ext cx="857232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5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kal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uric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alkalosi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natr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toxic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2+ depl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17520" y="215640"/>
            <a:ext cx="952488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K+ sparing diuretic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4" name="Rectangle 2"/>
          <p:cNvSpPr/>
          <p:nvPr/>
        </p:nvSpPr>
        <p:spPr>
          <a:xfrm>
            <a:off x="216000" y="1066680"/>
            <a:ext cx="576576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group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oid aldosterone antagonis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onolactone, eplerenon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eridin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amteren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azinoylguanidin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lorid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95" name="Picture 3" descr=""/>
          <p:cNvPicPr/>
          <p:nvPr/>
        </p:nvPicPr>
        <p:blipFill>
          <a:blip r:embed="rId8"/>
          <a:stretch/>
        </p:blipFill>
        <p:spPr>
          <a:xfrm>
            <a:off x="6702480" y="1282680"/>
            <a:ext cx="3009960" cy="611352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79360" y="-12960"/>
            <a:ext cx="9067680" cy="571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200" spc="-1" strike="noStrike">
                <a:solidFill>
                  <a:srgbClr val="ff1430"/>
                </a:solidFill>
                <a:latin typeface="Cooper Black"/>
              </a:rPr>
              <a:t>Mechanism of Actio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127080" y="457200"/>
            <a:ext cx="99057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22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+ sparing diuretics function in CC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7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Na+ transport in collecting tubu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127080" y="4610160"/>
            <a:ext cx="5575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iamterene/Amilorid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bas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ed into lumen by proximal tubule cell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8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apical Na+ chann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99" name="Picture 4" descr=""/>
          <p:cNvPicPr/>
          <p:nvPr/>
        </p:nvPicPr>
        <p:blipFill>
          <a:blip r:embed="rId7"/>
          <a:stretch/>
        </p:blipFill>
        <p:spPr>
          <a:xfrm>
            <a:off x="6114960" y="3965400"/>
            <a:ext cx="3835440" cy="350856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  <p:sp>
        <p:nvSpPr>
          <p:cNvPr id="700" name="Rectangle 5"/>
          <p:cNvSpPr/>
          <p:nvPr/>
        </p:nvSpPr>
        <p:spPr>
          <a:xfrm>
            <a:off x="88920" y="1879560"/>
            <a:ext cx="998208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22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ironolacton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70000"/>
              </a:lnSpc>
              <a:spcBef>
                <a:spcPts val="22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ve antagonist for mineralocorticoid recepto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70000"/>
              </a:lnSpc>
              <a:spcBef>
                <a:spcPts val="22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aldosterone stimulated increases in Na+ transporter expres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178840" cy="7876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Therapeutic Use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177840" y="596880"/>
            <a:ext cx="98042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hyperaldosteronism (adrenal adenoma, bilateral adrenal hyperplasia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rhosi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hrotic syndrom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njunction with K+ wasting diuretic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90360" y="12600"/>
            <a:ext cx="8178840" cy="7876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Pharmacokinetic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4" name="Rectangle 2"/>
          <p:cNvSpPr/>
          <p:nvPr/>
        </p:nvSpPr>
        <p:spPr>
          <a:xfrm>
            <a:off x="431640" y="851040"/>
            <a:ext cx="980460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ironolacton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 administer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actazide: spironolactone/thiazide comb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ilorid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administration, 50% effectiv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metaboliz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bound to plasma protei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b0f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iamterin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administration, 50% effectiv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 bound to plasma protei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metabolism, active metabolit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360" y="27900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Side Effect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6" name="Rectangle 2"/>
          <p:cNvSpPr/>
          <p:nvPr/>
        </p:nvSpPr>
        <p:spPr>
          <a:xfrm>
            <a:off x="673200" y="1003320"/>
            <a:ext cx="857232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kalemia: monitor plasma [K+]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onolactone: gynecomastia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amterene: megaloblastic anemia in cirrhosis patien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loride: increase in blood urea nitrogen, glucose intolerance in diabetes mellitu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1523880" y="2142720"/>
            <a:ext cx="6688080" cy="1243080"/>
          </a:xfrm>
          <a:prstGeom prst="rect">
            <a:avLst/>
          </a:prstGeom>
          <a:gradFill rotWithShape="0">
            <a:gsLst>
              <a:gs pos="0">
                <a:srgbClr val="200486"/>
              </a:gs>
              <a:gs pos="100000">
                <a:srgbClr val="0f023e"/>
              </a:gs>
            </a:gsLst>
            <a:lin ang="0"/>
          </a:gradFill>
          <a:ln w="38160">
            <a:solidFill>
              <a:srgbClr val="ff0000"/>
            </a:solidFill>
            <a:miter/>
          </a:ln>
          <a:effectLst>
            <a:outerShdw dist="153753" dir="2700000" blurRad="0" rotWithShape="0">
              <a:srgbClr val="ebebeb">
                <a:alpha val="5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spcAft>
                <a:spcPts val="1650"/>
              </a:spcAft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i="1" lang="en-US" sz="5300" spc="-1" strike="noStrike" u="sng">
                <a:solidFill>
                  <a:srgbClr val="ffffff"/>
                </a:solidFill>
                <a:uFillTx/>
                <a:latin typeface="Cambria"/>
              </a:rPr>
              <a:t>Antibiotics</a:t>
            </a:r>
            <a:endParaRPr b="0" lang="en-US" sz="53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lnSpc>
                <a:spcPct val="100000"/>
              </a:lnSpc>
              <a:spcBef>
                <a:spcPts val="1650"/>
              </a:spcBef>
              <a:spcAft>
                <a:spcPts val="1650"/>
              </a:spcAft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5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90360" y="-25560"/>
            <a:ext cx="8178840" cy="9907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ff1430"/>
                </a:solidFill>
                <a:latin typeface="Cooper Black"/>
              </a:rPr>
              <a:t>Defini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254160" y="990720"/>
            <a:ext cx="582912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70000"/>
              </a:lnSpc>
              <a:spcBef>
                <a:spcPts val="22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uretic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ance that promotes the excretion of urin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70000"/>
              </a:lnSpc>
              <a:spcBef>
                <a:spcPts val="2299"/>
              </a:spcBef>
              <a:buClr>
                <a:srgbClr val="000000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ffeine, yerba mate, nettles, cranberry juice, alcoho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70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triure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bstance that promotes the renal excretion of Na+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2"/>
          <a:stretch/>
        </p:blipFill>
        <p:spPr>
          <a:xfrm>
            <a:off x="7632720" y="4826160"/>
            <a:ext cx="1359000" cy="226368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  <p:pic>
        <p:nvPicPr>
          <p:cNvPr id="639" name="Picture 4" descr=""/>
          <p:cNvPicPr/>
          <p:nvPr/>
        </p:nvPicPr>
        <p:blipFill>
          <a:blip r:embed="rId3"/>
          <a:stretch/>
        </p:blipFill>
        <p:spPr>
          <a:xfrm>
            <a:off x="8466120" y="1892160"/>
            <a:ext cx="1351080" cy="179100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  <p:pic>
        <p:nvPicPr>
          <p:cNvPr id="640" name="Picture 5" descr=""/>
          <p:cNvPicPr/>
          <p:nvPr/>
        </p:nvPicPr>
        <p:blipFill>
          <a:blip r:embed="rId4"/>
          <a:stretch/>
        </p:blipFill>
        <p:spPr>
          <a:xfrm>
            <a:off x="6094440" y="1243080"/>
            <a:ext cx="1957320" cy="283356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en-US" sz="6600" spc="-1" strike="noStrike">
                <a:solidFill>
                  <a:srgbClr val="90c226"/>
                </a:solidFill>
                <a:latin typeface="Trebuchet MS"/>
              </a:rPr>
              <a:t>Antibiotics</a:t>
            </a:r>
            <a:endParaRPr b="0" lang="en-US" sz="6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33720" indent="-333720">
              <a:lnSpc>
                <a:spcPct val="100000"/>
              </a:lnSpc>
              <a:spcBef>
                <a:spcPts val="964"/>
              </a:spcBef>
              <a:spcAft>
                <a:spcPts val="96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lfonamides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333720" indent="-333720">
              <a:lnSpc>
                <a:spcPct val="100000"/>
              </a:lnSpc>
              <a:spcBef>
                <a:spcPts val="964"/>
              </a:spcBef>
              <a:spcAft>
                <a:spcPts val="96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enicillins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333720" indent="-333720">
              <a:lnSpc>
                <a:spcPct val="100000"/>
              </a:lnSpc>
              <a:spcBef>
                <a:spcPts val="964"/>
              </a:spcBef>
              <a:spcAft>
                <a:spcPts val="96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ephalosporins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333720" indent="-333720">
              <a:lnSpc>
                <a:spcPct val="100000"/>
              </a:lnSpc>
              <a:spcBef>
                <a:spcPts val="964"/>
              </a:spcBef>
              <a:spcAft>
                <a:spcPts val="96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tracyclines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333720" indent="-333720">
              <a:lnSpc>
                <a:spcPct val="100000"/>
              </a:lnSpc>
              <a:spcBef>
                <a:spcPts val="964"/>
              </a:spcBef>
              <a:spcAft>
                <a:spcPts val="96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minoglycosides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333720" indent="-333720">
              <a:lnSpc>
                <a:spcPct val="100000"/>
              </a:lnSpc>
              <a:spcBef>
                <a:spcPts val="964"/>
              </a:spcBef>
              <a:spcAft>
                <a:spcPts val="96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Quinolones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333720" indent="-333720">
              <a:lnSpc>
                <a:spcPct val="100000"/>
              </a:lnSpc>
              <a:spcBef>
                <a:spcPts val="964"/>
              </a:spcBef>
              <a:spcAft>
                <a:spcPts val="96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crolides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IE" sz="4000" spc="-1" strike="noStrike">
                <a:solidFill>
                  <a:srgbClr val="90c226"/>
                </a:solidFill>
                <a:latin typeface="Trebuchet MS"/>
              </a:rPr>
              <a:t>What are Antibiotics</a:t>
            </a:r>
            <a:r>
              <a:rPr b="0" lang="en-IE" sz="4000" spc="-1" strike="noStrike">
                <a:solidFill>
                  <a:srgbClr val="90c22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91440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IE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biotics = “against life”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IE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biotics are molecules that stop microbes, both bacteria and fungi, from growing or kill them outrigh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IE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biotics can be either natural products or synthetic chemica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0">
              <a:lnSpc>
                <a:spcPct val="90000"/>
              </a:lnSpc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53800" y="17780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2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tions used to treat bacterial infectio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2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deally, before beginning antibiotic therapy, the suspected areas of infection should be cultured to identify the causative organism and potential antibiotic susceptibilitie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77880" y="1793520"/>
            <a:ext cx="705312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6440" indent="-676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mpiric therapy:  treatment of an infection before specific culture information has been reported or obtaine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76440" indent="-676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phylactic therapy:  treatment with antibiotics to prevent an infection, as in intra-abdominal surger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0280" indent="-26028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actericidal: kill bacteri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60280" indent="-26028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acteriostatic: inhibit growth of susceptible bacteria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20" name="Picture 4" descr="713px-EscherichiaColi_NIAID"/>
          <p:cNvPicPr/>
          <p:nvPr/>
        </p:nvPicPr>
        <p:blipFill>
          <a:blip r:embed="rId1"/>
          <a:stretch/>
        </p:blipFill>
        <p:spPr>
          <a:xfrm>
            <a:off x="0" y="-20520"/>
            <a:ext cx="10159920" cy="76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4" descr="10_Table01-T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0" y="0"/>
            <a:ext cx="10159920" cy="69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220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59220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1" lang="en-GB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biotics can be categorized based on their target specificity:</a:t>
            </a:r>
            <a:r>
              <a:rPr b="0" lang="en-GB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592200" indent="-59220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GB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rrow-spectrum" antibiotics target particular types of bacteria, such as Gram-negative or Gram-positive bacteria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592200" indent="-59220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GB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road-spectrum antibiotics affect a wide range of bacteria.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24" name="Picture 4" descr="10_02Figure-L"/>
          <p:cNvPicPr/>
          <p:nvPr/>
        </p:nvPicPr>
        <p:blipFill>
          <a:blip r:embed="rId1"/>
          <a:stretch/>
        </p:blipFill>
        <p:spPr>
          <a:xfrm>
            <a:off x="0" y="1279440"/>
            <a:ext cx="10159920" cy="634068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rimary Modes of Action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IE" sz="4000" spc="-1" strike="noStrike">
                <a:solidFill>
                  <a:srgbClr val="90c226"/>
                </a:solidFill>
                <a:latin typeface="Trebuchet MS"/>
              </a:rPr>
              <a:t>Bacteriocidal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7960" y="1777680"/>
            <a:ext cx="91440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2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bacteriocide is a substance that kills the bacteria of choice and, preferably, nothing els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2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icrobe death is usually achieved by disruption of the bacterial cell membrane leading to lysis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90360" y="37800"/>
            <a:ext cx="8178840" cy="74916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ff1430"/>
                </a:solidFill>
                <a:latin typeface="Cooper Black"/>
              </a:rPr>
              <a:t>Renal Physiology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2" name="Rectangle 2"/>
          <p:cNvSpPr/>
          <p:nvPr/>
        </p:nvSpPr>
        <p:spPr>
          <a:xfrm>
            <a:off x="127080" y="901800"/>
            <a:ext cx="6553080" cy="61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oper Black"/>
              </a:rPr>
              <a:t>renal epithelial transpor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oper Black"/>
              </a:rPr>
              <a:t>tubular reabsorp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proximal tubu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loop of Hen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thick ascending limb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distal convoluted tubu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ollecting tubu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Clr>
                <a:srgbClr val="00b0f0"/>
              </a:buClr>
              <a:buSzPct val="66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oper Black"/>
              </a:rPr>
              <a:t>tubular secr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SzPct val="66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ollecting tubul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43" name="Picture 3" descr=""/>
          <p:cNvPicPr/>
          <p:nvPr/>
        </p:nvPicPr>
        <p:blipFill>
          <a:blip r:embed="rId8"/>
          <a:stretch/>
        </p:blipFill>
        <p:spPr>
          <a:xfrm>
            <a:off x="5359320" y="2444760"/>
            <a:ext cx="4711680" cy="310500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34440" y="254160"/>
            <a:ext cx="945684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Bacterial</a:t>
            </a:r>
            <a:r>
              <a:rPr b="1" lang="en-US" sz="4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34800" y="1862280"/>
            <a:ext cx="949032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tibiotics were created at a time when previously untreatable infections such as tuberculosis, gonorrhea, and syphilis could be almost incredibly treated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a have been successful because they are capable of adapting to changes in their environment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24040" indent="-31608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enicillin is the best-known antibiotic, which is used to treat bacterial infections, such as syphilis, gonorrhea, meningitis, and anthrax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Penicilli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irst introduced in the 1940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cidal:  inhibit cell wall synthes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Kill a wide variety of bacteri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so called “beta-lactams”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enicillins:  Side Effect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mon side effects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24040" indent="-31608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usea, vomiting, diarrhea, abdominal pai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ther side effects are less comm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Cephalospori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46000" y="21304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emisynthetic derivatives from a fungu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ructurally and pharmacologically related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 penicilli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cidal ac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road spectrum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vided into groups according to their antimicrobial activit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Cephalosporins:  Side Effect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milar to penicillins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Tetracyclin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tural and semi-synthet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btained from cultures of Streptomyc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ostatic—inhibit bacterial growth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hibit protein synthes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op many essential functions of the bacteri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etracyclines:  Therapeutic Us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ide spectrum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824040" indent="-31608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ram-negative, gram-positive, protozoa, Mycoplasma,  Rickettsia, Chlamydia, syphilis, Lyme diseas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meclocycline is also used to treat SIADH, and pleural and pericardial effusio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etracyclines:  Side Effect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also cause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Vaginal monilias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astric upse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nterocolit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culopapular rash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Aminoglycosid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46000" y="2046240"/>
            <a:ext cx="848520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8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entamicin (Garamyci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8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kanamyci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8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omyci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8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reptomyci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8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bramyci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8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mikacin (Amiki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8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tilmicin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minoglycosid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46000" y="1931760"/>
            <a:ext cx="848520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tural and semi-synthet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duced from Streptomyc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or oral absorption; no PO form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Very potent antibiotics with serious toxicit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cidal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Kill mostly gram-negative; some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ram-positive als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360" y="27900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Summary: Sites of Actio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371600" y="1206360"/>
            <a:ext cx="7397640" cy="579780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minoglycosides: Side Effect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1600" y="1793520"/>
            <a:ext cx="870084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31480" indent="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totoxicity and nephrotoxicity are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most significa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31480" indent="-23148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adach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31480" indent="-23148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resthesi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31480" indent="-23148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uromuscular blockad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31480" indent="-23148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zzines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31480" indent="-23148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Vertig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31480" indent="-23148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kin rash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31480" indent="-23148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eve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31480" indent="-231480">
              <a:lnSpc>
                <a:spcPct val="85000"/>
              </a:lnSpc>
              <a:spcBef>
                <a:spcPts val="1111"/>
              </a:spcBef>
              <a:spcAft>
                <a:spcPts val="52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perinfectio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Quinolon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46000" y="20890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iprofloxacin (Cipro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noxacin (Penetrex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omefloxacin (Maxaqui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rfloxacin (Noroxi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floxacin (Floxi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Quinolones:  Side Effect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46000" y="21160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355140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Body System</a:t>
            </a: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Effec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355140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NS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adache, dizziness, fatigue,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pression, restlessnes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355140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I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usea, vomiting, diarrhea,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stipation, thrush,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reased liver function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ud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Quinolones:  Side Effect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38131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Body System</a:t>
            </a: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Effec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38131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tegumentary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ash, pruritus, urticaria,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lushing, photosensitivity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with lomefloxaci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38131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  <a:tab algn="l" pos="1063476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ther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ever, chills, blurred vision,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innitu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46000" y="21016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1520" indent="-371520">
              <a:lnSpc>
                <a:spcPct val="100000"/>
              </a:lnSpc>
              <a:spcBef>
                <a:spcPts val="1749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fore beginning therapy, assess drug allergies; hepatic, liver, and cardiac function; and other lab studie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1520" indent="-371520">
              <a:lnSpc>
                <a:spcPct val="100000"/>
              </a:lnSpc>
              <a:spcBef>
                <a:spcPts val="1749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 sure to obtain thorough patient health history, including immune statu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1520" indent="-371520">
              <a:lnSpc>
                <a:spcPct val="100000"/>
              </a:lnSpc>
              <a:spcBef>
                <a:spcPts val="1749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 for conditions that may be contraindications to antibiotic use, or that may indicate cautious us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1520" indent="-371520">
              <a:lnSpc>
                <a:spcPct val="100000"/>
              </a:lnSpc>
              <a:spcBef>
                <a:spcPts val="1939"/>
              </a:spcBef>
              <a:spcAft>
                <a:spcPts val="2126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 for potential drug interactions</a:t>
            </a:r>
            <a:r>
              <a:rPr b="0" lang="en-US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46000" y="20890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7920" indent="-36792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t is ESSENTIAL to obtain cultures from appropriate sites BEFORE beginning antibiotic therapay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67920" indent="-36792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s should be instructed to take antibiotics exactly as prescribed and for the length of time prescribed; they should not stop taking the medication early when they feel better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67920" indent="-36792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 for signs and symptoms of superinfection:  fever, perineal itching, cough, lethargy, or any unusual discharg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46000" y="21160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ach class of antibiotics has specific side effects and drug interactions that must be carefully assessed and monitored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most common side effects of antibiotics are nausea, vomiting, and diarrhea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 oral antibiotics are absorbed better if taken with at least 6 to 8 ounces of water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46000" y="21016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lfonamid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hould be taken with at least 2400 mL of fluid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er day, unless contraindicated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ue to photosensitivity, avoid sunlight and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anning bed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se agents reduce the effectiveness of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ral contraceptive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028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enicilli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60280" indent="-26028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y patient taking a penicillin should be carefully monitored for an allergic reaction for at least 30 minutes after its administratio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60280" indent="-260280">
              <a:lnSpc>
                <a:spcPct val="95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effectiveness of oral penicillins is decreased when taken with caffeine, citrus fruit, cola beverages, fruit juices, or tomato juic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46000" y="21160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ephalospori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rally administered forms should be given with food to decrease GI upset, even though this will delay absorptio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925"/>
              </a:spcBef>
              <a:spcAft>
                <a:spcPts val="1925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me of these agents may cause an Antabuse-like reaction when taken with alcohol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360" y="19008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Osmotic Diuretic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304920" y="1028880"/>
            <a:ext cx="452124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interact with receptors or directly block renal transpor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ependent on development of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osmotic pressu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nitol (prototype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o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sorbid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7"/>
          <a:srcRect l="20383" t="0" r="59616" b="51130"/>
          <a:stretch/>
        </p:blipFill>
        <p:spPr>
          <a:xfrm>
            <a:off x="6972480" y="1536840"/>
            <a:ext cx="1320480" cy="247644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  <p:pic>
        <p:nvPicPr>
          <p:cNvPr id="649" name="Picture 4" descr=""/>
          <p:cNvPicPr/>
          <p:nvPr/>
        </p:nvPicPr>
        <p:blipFill>
          <a:blip r:embed="rId8"/>
          <a:stretch/>
        </p:blipFill>
        <p:spPr>
          <a:xfrm>
            <a:off x="5803920" y="4470480"/>
            <a:ext cx="3670200" cy="2603520"/>
          </a:xfrm>
          <a:prstGeom prst="rect">
            <a:avLst/>
          </a:prstGeom>
          <a:ln w="38160">
            <a:solidFill>
              <a:srgbClr val="ff1430"/>
            </a:solidFill>
            <a:miter/>
          </a:ln>
        </p:spPr>
      </p:pic>
    </p:spTree>
  </p:cSld>
  <p:transition spd="med"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46000" y="2089080"/>
            <a:ext cx="848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tracyclin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ilk products, iron preparations, antacids, and other dairy products should be avoided because of the chelation and drug-binding that occur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 medications should be taken with 6 to 8 ounces of fluid, preferably water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ue to photosensitivity, avoid sunlight and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anning bed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548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minoglycosid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5480" indent="-37548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 peak and trough blood levels of these agents to prevent nephrotoxicity and ototoxicity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5480" indent="-37548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ymptoms of ototoxicity include dizziness, tinnitus, and hearing los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5480" indent="-37548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ymptoms of nephrotoxicity include urinary casts, proteinuria, and increased BUN and serum creatinine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Quinolon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hould be taken with at least 3 L of fluid per day, unless otherwise specified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396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crolid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63960" indent="-36396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se agents are highly protein-bound and will cause severe interactions with other protein-bound drug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63960" indent="-36396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absorption of oral erythromycin is enhanced when taken on an empty stomach, but because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f the high incidence of GI upset, many agents </a:t>
            </a:r>
            <a:br>
              <a:rPr sz="2800"/>
            </a:b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re taken after a meal or snack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77880" y="677520"/>
            <a:ext cx="705312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ibiotics:  Nursing Implicatio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77880" y="2400480"/>
            <a:ext cx="705312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 for therapeutic effects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-379440">
              <a:lnSpc>
                <a:spcPct val="100000"/>
              </a:lnSpc>
              <a:spcBef>
                <a:spcPts val="111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sappearance of fever, lethargy, drainage, and rednes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79440" indent="0">
              <a:lnSpc>
                <a:spcPct val="100000"/>
              </a:lnSpc>
              <a:spcBef>
                <a:spcPts val="1111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134880" y="301752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Question</a:t>
            </a: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?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8178840" cy="78732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Mechanism of Actio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279360" y="711360"/>
            <a:ext cx="9067680" cy="65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motic diuretic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bsorb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osmotic pressure specifically in the proximal tubule and loop of Henl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passive reabsorption of H2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motic force solute in lumen &gt; osmotic force of reabsorbed Na+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5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H2O and Na+ excre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7876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Therapeutic Use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165240" y="1066680"/>
            <a:ext cx="95122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annito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of choice: non-toxic, freely filtered, non-reabsorbable and non-metaboliz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ered prophylatically for acute renal failure secondary to trauma, CVS disease, surgery or nephrotoxic drug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-term treatment of acute glaucom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used to lower intracranial press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a, glycerol and isosorbide are less efficien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enetrate cell membran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90360" y="-25560"/>
            <a:ext cx="8178840" cy="78768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400" spc="-1" strike="noStrike">
                <a:solidFill>
                  <a:srgbClr val="ff1430"/>
                </a:solidFill>
                <a:latin typeface="Cooper Black"/>
              </a:rPr>
              <a:t>Side Effect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5" name="Rectangle 2"/>
          <p:cNvSpPr/>
          <p:nvPr/>
        </p:nvSpPr>
        <p:spPr>
          <a:xfrm>
            <a:off x="216000" y="863640"/>
            <a:ext cx="767088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3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extracellular fluid volum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failu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dem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natremia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kalemia secondary to diabetes or impaired renal func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43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nausea, vomiting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harbi</dc:creator>
  <dc:description/>
  <cp:keywords/>
  <dc:language>en-US</dc:language>
  <cp:lastModifiedBy>user</cp:lastModifiedBy>
  <dcterms:modified xsi:type="dcterms:W3CDTF">2016-04-14T19:04:03Z</dcterms:modified>
  <cp:revision>9</cp:revision>
  <dc:subject/>
  <dc:title>Diuretics</dc:title>
</cp:coreProperties>
</file>