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41E-5E47-4C28-966F-C9237B43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760-6BAA-4DC2-908B-1138B6E6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6A77-D595-43B9-992B-3D76E705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7C3-AB54-4C08-BAF0-164F6991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5E9-CE1D-49AD-A17C-A41FC35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6784-884B-4A36-9C20-5B982786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BDE8-2901-4ECD-8D44-3354E319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F24-D8E0-4223-8304-9887E5FE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7CD-B7A0-4ADD-A324-7CBC53D6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485-22B0-4D61-B147-857520A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410-722C-4379-B9A1-DD72CBD9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828-48F5-41CF-88B1-04E09B6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CCDA-E846-4B42-A891-7347F127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838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:\Users\User\Desktop\comparison-of-mucosae-of-stomachsmall-and-large-intestines-2-728.jpg"/>
          <p:cNvPicPr/>
          <p:nvPr/>
        </p:nvPicPr>
        <p:blipFill>
          <a:blip r:embed="rId1"/>
          <a:srcRect l="0" t="21576" r="33169" b="0"/>
          <a:stretch/>
        </p:blipFill>
        <p:spPr>
          <a:xfrm>
            <a:off x="457200" y="930240"/>
            <a:ext cx="8686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LDL – low density lipoprotein (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erol); remains of VLDL;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increase risk of heart att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HDL – high density lipoprotein (5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); removes cholesterol fro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turn to liver; high levels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41600"/>
            <a:ext cx="4114800" cy="48355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-products of dig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&gt; Glycerol + 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&gt;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Vitamins, minerals &amp; water – no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17_37b"/>
          <p:cNvPicPr/>
          <p:nvPr/>
        </p:nvPicPr>
        <p:blipFill>
          <a:blip r:embed="rId1"/>
          <a:srcRect l="16707" t="3077" r="11250" b="0"/>
          <a:stretch/>
        </p:blipFill>
        <p:spPr>
          <a:xfrm>
            <a:off x="4572000" y="15238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ig03_10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ccurs in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ll of small intestine cov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00s of 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Each fold covered with 1000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Each villi contains 100s of micro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mall Intestine V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ig03_11"/>
          <p:cNvPicPr/>
          <p:nvPr/>
        </p:nvPicPr>
        <p:blipFill>
          <a:blip r:embed="rId1"/>
          <a:srcRect l="16039" t="0" r="0" b="45448"/>
          <a:stretch/>
        </p:blipFill>
        <p:spPr>
          <a:xfrm>
            <a:off x="457200" y="838080"/>
            <a:ext cx="8534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ed nutrients enter either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ascular system – water-solu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(monosaccharides,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, water-soluble vitami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, water) enter the blood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al vein for transpor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ymph system – fat-solubl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pids, fat-soluble vitamins) enter 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entering the blood nea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ransport of lipids – since fats are insolubl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, they must be packaged for transport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oproteins (triglyceride, phospholipid, 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leste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ig03_12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9831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asic types of lipo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Chylomicrons – very, very low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5% triglyceride); absorbed from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e into lymph &amp; circulated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ome of lipid material is pick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remnants return to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LDL – very low density lipo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0% triglyceride); made by liver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s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8:32:48Z</dcterms:created>
  <dc:creator>Les Jones</dc:creator>
  <dc:description/>
  <dc:language>en-US</dc:language>
  <cp:lastModifiedBy>habdrabou</cp:lastModifiedBy>
  <dcterms:modified xsi:type="dcterms:W3CDTF">2016-11-28T06:59:22Z</dcterms:modified>
  <cp:revision>26</cp:revision>
  <dc:subject/>
  <dc:title>Chapter 5</dc:title>
</cp:coreProperties>
</file>