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472-3CDA-44C2-9660-E22E6F11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051-7ECD-4B95-BB19-ACB30A1A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AD0-B997-41BD-AE00-327018B9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32F-619A-40E5-AFE4-7B647B44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A3C-E150-42D5-8438-964EEE6F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4F9-E43C-4B67-B540-C448B3BE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D4F-0C8F-42CA-8338-8F904514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552-43B5-4F34-83CD-37B64AC6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BBC-7E69-46A3-8915-E20C1327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2F7-7528-48E6-BC57-EA605B47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F1CF-E75F-4D45-A856-22019A75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90E-ED47-445D-8C01-EC3EBDCD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8189-46AB-4511-AADC-81B42CA74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6400800" cy="8380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C:\Users\User\Desktop\comparison-of-mucosae-of-stomachsmall-and-large-intestines-2-728.jpg"/>
          <p:cNvPicPr/>
          <p:nvPr/>
        </p:nvPicPr>
        <p:blipFill>
          <a:blip r:embed="rId1"/>
          <a:srcRect l="0" t="21576" r="33169" b="0"/>
          <a:stretch/>
        </p:blipFill>
        <p:spPr>
          <a:xfrm>
            <a:off x="457200" y="930240"/>
            <a:ext cx="8686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LDL – low density lipoprotein (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esterol); remains of VLDL; 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increase risk of heart att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HDL – high density lipoprotein (5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); removes cholesterol from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return to liver; high levels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of heart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41600"/>
            <a:ext cx="4114800" cy="48355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d-products of dig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s &gt; Glycerol + fatty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&gt; 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Vitamins, minerals &amp; water – no di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17_37b"/>
          <p:cNvPicPr/>
          <p:nvPr/>
        </p:nvPicPr>
        <p:blipFill>
          <a:blip r:embed="rId1"/>
          <a:srcRect l="16707" t="3077" r="11250" b="0"/>
          <a:stretch/>
        </p:blipFill>
        <p:spPr>
          <a:xfrm>
            <a:off x="4572000" y="1523880"/>
            <a:ext cx="4724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fig03_10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 occurs in the 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Wall of small intestine cove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100s of f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Each fold covered with 1000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Each villi contains 100s of microv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mall Intestine V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ig03_11"/>
          <p:cNvPicPr/>
          <p:nvPr/>
        </p:nvPicPr>
        <p:blipFill>
          <a:blip r:embed="rId1"/>
          <a:srcRect l="16039" t="0" r="0" b="45448"/>
          <a:stretch/>
        </p:blipFill>
        <p:spPr>
          <a:xfrm>
            <a:off x="457200" y="838080"/>
            <a:ext cx="8534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bed nutrients enter either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Vascular system – water-solu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 (monosaccharides, 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, water-soluble vitami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, water) enter the blood 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rtal vein for transport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Lymph system – fat-soluble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pids, fat-soluble vitamins) enter he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entering the blood nea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Transport of lipids – since fats are insolubl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, they must be packaged for transport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oproteins (triglyceride, phospholipid, protei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leste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fig03_12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9831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basic types of lipoprote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Chylomicrons – very, very low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5% triglyceride); absorbed from sm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stine into lymph &amp; circulated to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ome of lipid material is picke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remnants return to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VLDL – very low density lipo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0% triglyceride); made by liver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s to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18:32:48Z</dcterms:created>
  <dc:creator>Les Jones</dc:creator>
  <dc:description/>
  <dc:language>en-US</dc:language>
  <cp:lastModifiedBy>habdrabou</cp:lastModifiedBy>
  <dcterms:modified xsi:type="dcterms:W3CDTF">2016-11-28T06:59:22Z</dcterms:modified>
  <cp:revision>26</cp:revision>
  <dc:subject/>
  <dc:title>Chapter 5</dc:title>
</cp:coreProperties>
</file>