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0037-0900-4138-9768-3D40C7459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2A21-18EB-4244-B73C-EA617F39A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1B0A-89D2-4B78-8F9D-8A06BFADB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EC2D-3411-4C9C-999A-341407CFA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9745-F26F-4E2A-A248-04B2E5950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3F8F-CD26-4386-9810-78068CEB9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3731-429C-43F3-9BEA-C1724BAC8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BEF6-6DFA-4BC4-B64D-A831F45A9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A138-CF4A-48AD-8822-6085DDC5F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2F0C-1CC0-4ECC-8F2F-DAD37C43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9035-93B3-4092-97F9-B83FF818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40AA-6FD7-4261-8B0B-ACDB6434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A2F66-41F4-4268-B234-4D0A3237A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19320" y="304920"/>
            <a:ext cx="6400800" cy="838080"/>
          </a:xfrm>
          <a:prstGeom prst="rect">
            <a:avLst/>
          </a:prstGeom>
          <a:solidFill>
            <a:srgbClr val="a3a3e0"/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OR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C:\Users\User\Desktop\comparison-of-mucosae-of-stomachsmall-and-large-intestines-2-728.jpg"/>
          <p:cNvPicPr/>
          <p:nvPr/>
        </p:nvPicPr>
        <p:blipFill>
          <a:blip r:embed="rId1"/>
          <a:srcRect l="0" t="21576" r="33169" b="0"/>
          <a:stretch/>
        </p:blipFill>
        <p:spPr>
          <a:xfrm>
            <a:off x="457200" y="930240"/>
            <a:ext cx="86868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sorption &amp; 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LDL – low density lipoprotein (5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lesterol); remains of VLDL; 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els increase risk of heart attac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 HDL – high density lipoprotein (50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); removes cholesterol from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return to liver; high levels decr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of heart att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sorption &amp; 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41600"/>
            <a:ext cx="4114800" cy="483552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nd-products of diges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osacchar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ts &gt; Glycerol + fatty ac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ins &gt; Amino ac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 Vitamins, minerals &amp; water – no dig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17_37b"/>
          <p:cNvPicPr/>
          <p:nvPr/>
        </p:nvPicPr>
        <p:blipFill>
          <a:blip r:embed="rId1"/>
          <a:srcRect l="16707" t="3077" r="11250" b="0"/>
          <a:stretch/>
        </p:blipFill>
        <p:spPr>
          <a:xfrm>
            <a:off x="4572000" y="1523880"/>
            <a:ext cx="47242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bsorp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fig03_10"/>
          <p:cNvPicPr/>
          <p:nvPr/>
        </p:nvPicPr>
        <p:blipFill>
          <a:blip r:embed="rId1"/>
          <a:stretch/>
        </p:blipFill>
        <p:spPr>
          <a:xfrm>
            <a:off x="457200" y="1066680"/>
            <a:ext cx="8229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sorption &amp; 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a3a3e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orption occurs in the small intest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Wall of small intestine cover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100s of fo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Each fold covered with 1000s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l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Each villi contains 100s of microvil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mall Intestine Vil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fig03_11"/>
          <p:cNvPicPr/>
          <p:nvPr/>
        </p:nvPicPr>
        <p:blipFill>
          <a:blip r:embed="rId1"/>
          <a:srcRect l="16039" t="0" r="0" b="45448"/>
          <a:stretch/>
        </p:blipFill>
        <p:spPr>
          <a:xfrm>
            <a:off x="457200" y="838080"/>
            <a:ext cx="85345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sorption &amp; 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a3a3e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orbed nutrients enter either th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Vascular system – water-solu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trients (monosaccharides, am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ids, water-soluble vitamin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erals, water) enter the blood v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rtal vein for transport to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sorption &amp; 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Lymph system – fat-soluble nutr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lipids, fat-soluble vitamins) enter her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ually entering the blood near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Transport of lipids – since fats are insoluble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, they must be packaged for transport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poproteins (triglyceride, phospholipid, protei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lester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fig03_12"/>
          <p:cNvPicPr/>
          <p:nvPr/>
        </p:nvPicPr>
        <p:blipFill>
          <a:blip r:embed="rId1"/>
          <a:stretch/>
        </p:blipFill>
        <p:spPr>
          <a:xfrm>
            <a:off x="533520" y="380880"/>
            <a:ext cx="80010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sorption &amp; 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498312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basic types of lipoprote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Chylomicrons – very, very low den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85% triglyceride); absorbed from sma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stine into lymph &amp; circulated to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some of lipid material is picked o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 remnants return to l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VLDL – very low density lipopro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50% triglyceride); made by liver 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vels to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3T18:32:48Z</dcterms:created>
  <dc:creator>Les Jones</dc:creator>
  <dc:description/>
  <dc:language>en-US</dc:language>
  <cp:lastModifiedBy>habdrabou</cp:lastModifiedBy>
  <dcterms:modified xsi:type="dcterms:W3CDTF">2016-11-28T06:59:22Z</dcterms:modified>
  <cp:revision>26</cp:revision>
  <dc:subject/>
  <dc:title>Chapter 5</dc:title>
</cp:coreProperties>
</file>