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117-CD5C-4FBF-96F6-4A7AF36F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C02-9E1C-48B6-9103-F8F21C16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99E8-1E9A-4959-BC80-94641083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4970-8AAA-4AED-AE4F-9B8D4E53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4B8-F837-4D9F-852D-311798B1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3A4-B5EC-4C8D-AE60-F0DC721F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412-99C7-4CA5-8C15-C82A2842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A824-BB5D-4C1C-9CC7-F9966813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383-EE6B-46DF-B58C-342B03EB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374-A5D8-4AB5-8DF4-4A633C07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FEE7-6E36-4873-BB02-A89EBBCB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5AB-36FE-4FC4-AE2B-4D84B9EE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75D8-3BE7-43FE-9589-6454FB724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19320" y="304920"/>
            <a:ext cx="6400800" cy="83808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C:\Users\User\Desktop\comparison-of-mucosae-of-stomachsmall-and-large-intestines-2-728.jpg"/>
          <p:cNvPicPr/>
          <p:nvPr/>
        </p:nvPicPr>
        <p:blipFill>
          <a:blip r:embed="rId1"/>
          <a:srcRect l="0" t="21576" r="33169" b="0"/>
          <a:stretch/>
        </p:blipFill>
        <p:spPr>
          <a:xfrm>
            <a:off x="457200" y="930240"/>
            <a:ext cx="8686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LDL – low density lipoprotein (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lesterol); remains of VLDL; 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increase risk of heart att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HDL – high density lipoprotein (5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); removes cholesterol from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return to liver; high levels de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of heart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41600"/>
            <a:ext cx="4114800" cy="483552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d-products of dig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s &gt; Glycerol + fatty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&gt; 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Vitamins, minerals &amp; water – no di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17_37b"/>
          <p:cNvPicPr/>
          <p:nvPr/>
        </p:nvPicPr>
        <p:blipFill>
          <a:blip r:embed="rId1"/>
          <a:srcRect l="16707" t="3077" r="11250" b="0"/>
          <a:stretch/>
        </p:blipFill>
        <p:spPr>
          <a:xfrm>
            <a:off x="4572000" y="152388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fig03_10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 occurs in the 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Wall of small intestine cove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100s of f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Each fold covered with 1000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Each villi contains 100s of microvil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mall Intestine V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ig03_11"/>
          <p:cNvPicPr/>
          <p:nvPr/>
        </p:nvPicPr>
        <p:blipFill>
          <a:blip r:embed="rId1"/>
          <a:srcRect l="16039" t="0" r="0" b="45448"/>
          <a:stretch/>
        </p:blipFill>
        <p:spPr>
          <a:xfrm>
            <a:off x="457200" y="838080"/>
            <a:ext cx="85345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3a3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bed nutrients enter either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Vascular system – water-solu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ents (monosaccharides, am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, water-soluble vitami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s, water) enter the blood 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rtal vein for transport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Lymph system – fat-soluble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pids, fat-soluble vitamins) enter he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 entering the blood nea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Transport of lipids – since fats are insolubl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, they must be packaged for transport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poproteins (triglyceride, phospholipid, protei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leste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fig03_12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rption &amp;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9831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basic types of lipoprote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Chylomicrons – very, very low 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5% triglyceride); absorbed from sm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stine into lymph &amp; circulated to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ome of lipid material is picked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remnants return to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VLDL – very low density lipo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50% triglyceride); made by liver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vels to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18:32:48Z</dcterms:created>
  <dc:creator>Les Jones</dc:creator>
  <dc:description/>
  <dc:language>en-US</dc:language>
  <cp:lastModifiedBy>habdrabou</cp:lastModifiedBy>
  <dcterms:modified xsi:type="dcterms:W3CDTF">2016-11-28T06:59:22Z</dcterms:modified>
  <cp:revision>26</cp:revision>
  <dc:subject/>
  <dc:title>Chapter 5</dc:title>
</cp:coreProperties>
</file>