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127C-135D-49DD-B48F-1F07D28E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E7F-2D8B-4DE8-825B-6829487B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19F-35EA-41D8-8B0A-0E501021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3A7-F88F-4CA0-86C3-A14358A6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EF9-DFB5-4FD0-8AB3-13EB7A41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B4C4-A24F-48DC-9B4C-FE7B4119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4992-D4F1-4BCA-A431-F9698806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B34F-2846-4924-8CFB-8CE21956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F1E9-4160-4A74-BB20-5DC0E576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72D-9FDA-4AEB-A420-70FEA509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CCD-7722-4D60-8250-E72A1F54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1615-BDBC-48B5-8B4A-7508F6AA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4C37-78AA-4662-B253-A96BCD9691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8D22-C92B-4273-814E-4EAF2CB757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7" name="Text Box 9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1676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ection C: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The Control of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2727360"/>
            <a:ext cx="89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c control often depends on allosteric regul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كم الجانب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calization of enzymes within a cell helps order metabol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514600" y="2209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ff"/>
                </a:solidFill>
                <a:latin typeface="Arial"/>
                <a:cs typeface="AL-Hosam"/>
              </a:rPr>
              <a:t>التحكم فى الأي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88800" y="64911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1908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9991-8FB0-4917-AB0F-E64B8216A1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0958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980720" y="301320"/>
            <a:ext cx="403884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)- Metabol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10552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59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3"/>
          <p:cNvGrpSpPr/>
          <p:nvPr/>
        </p:nvGrpSpPr>
        <p:grpSpPr>
          <a:xfrm>
            <a:off x="6172200" y="838080"/>
            <a:ext cx="2971800" cy="1828800"/>
            <a:chOff x="6172200" y="838080"/>
            <a:chExt cx="2971800" cy="1828800"/>
          </a:xfrm>
        </p:grpSpPr>
        <p:pic>
          <p:nvPicPr>
            <p:cNvPr id="62" name="Picture 9" descr=""/>
            <p:cNvPicPr/>
            <p:nvPr/>
          </p:nvPicPr>
          <p:blipFill>
            <a:blip r:embed="rId3"/>
            <a:srcRect l="0" t="0" r="0" b="68252"/>
            <a:stretch/>
          </p:blipFill>
          <p:spPr>
            <a:xfrm>
              <a:off x="6172200" y="83808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12"/>
            <p:cNvGrpSpPr/>
            <p:nvPr/>
          </p:nvGrpSpPr>
          <p:grpSpPr>
            <a:xfrm>
              <a:off x="6616800" y="1485720"/>
              <a:ext cx="1396440" cy="914400"/>
              <a:chOff x="6616800" y="1485720"/>
              <a:chExt cx="1396440" cy="914400"/>
            </a:xfrm>
          </p:grpSpPr>
          <p:sp>
            <p:nvSpPr>
              <p:cNvPr id="64" name="Text Box 10"/>
              <p:cNvSpPr/>
              <p:nvPr/>
            </p:nvSpPr>
            <p:spPr>
              <a:xfrm>
                <a:off x="6616800" y="14857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7099200" y="179064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A033-C678-4B7A-9269-B095461677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1F6E-60AE-4B33-8C5D-B0B6234B15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ii)- Feedback inhibition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الأثر الراجع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ion of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7A81-AB22-4A7A-818F-B103285A36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B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ضام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.                                                  Lending a substrate to                       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pt addition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876920" y="1219320"/>
            <a:ext cx="4114800" cy="3222360"/>
          </a:xfrm>
          <a:prstGeom prst="rect">
            <a:avLst/>
          </a:prstGeom>
          <a:ln w="0">
            <a:noFill/>
          </a:ln>
        </p:spPr>
      </p:pic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FA91-5E68-4872-B992-1DCF348A1B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Summary of metabolic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ontrol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i.e.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enzyme activity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2280" y="16905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)-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llosteri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Regu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04920" y="1279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cell is controlling its metabolism by regulating enzyme 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2209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molecules that bind weakly to 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osteric s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enzyme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llosteric Enzy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in order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hib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mul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nzyme activity (see Fig 6.18 carefu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90720" y="3290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)- Allosteric activ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990720" y="37479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)- Allosteric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90720" y="42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)- Feedback inhib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522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2- Cooper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0948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es  favorable conformational changes at all other subunits to m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nzyme more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509400" y="62625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43:05Z</dcterms:created>
  <dc:creator>User</dc:creator>
  <dc:description/>
  <dc:language>en-US</dc:language>
  <cp:lastModifiedBy>ralajmi</cp:lastModifiedBy>
  <dcterms:modified xsi:type="dcterms:W3CDTF">2014-02-02T04:46:24Z</dcterms:modified>
  <cp:revision>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066F551-C6C6-44F6-97C8-3BFEDC007547</vt:lpwstr>
  </property>
  <property fmtid="{D5CDD505-2E9C-101B-9397-08002B2CF9AE}" pid="3" name="ArticulatePath">
    <vt:lpwstr>Lecture 12</vt:lpwstr>
  </property>
</Properties>
</file>