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gif" ContentType="image/gif"/>
  <Override PartName="/ppt/media/image9.png" ContentType="image/png"/>
  <Override PartName="/ppt/media/image10.gif" ContentType="image/gif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BEEB-8836-41F3-9EBF-188FC83F9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F521-9E9C-4D9A-9B7A-B9C389B73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B1FB-8166-47DC-B145-D6857986D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D41C-616F-4485-B1F4-3F1458FBD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6E77-FA33-4849-A0B0-3A7640564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9A00-C7B0-493D-86D5-D45E2847C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A8CE-B762-4799-B762-D16A2736A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6879-6569-458A-8DBC-B8955BE9E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DEE3-EEB4-4414-BF95-1634CB98E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C502-E75E-4F7A-8D0F-14C2A289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A45A-8F03-453A-AA48-E49F5F3D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8A55-6531-4F6A-8A41-64C7CD73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F1FD5-9963-4F3C-8B25-F8C28C16624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629040"/>
            <a:chOff x="0" y="0"/>
            <a:chExt cx="9144000" cy="6629040"/>
          </a:xfrm>
        </p:grpSpPr>
        <p:grpSp>
          <p:nvGrpSpPr>
            <p:cNvPr id="42" name=""/>
            <p:cNvGrpSpPr/>
            <p:nvPr/>
          </p:nvGrpSpPr>
          <p:grpSpPr>
            <a:xfrm>
              <a:off x="81360" y="1260720"/>
              <a:ext cx="7976520" cy="5368320"/>
              <a:chOff x="81360" y="1260720"/>
              <a:chExt cx="7976520" cy="5368320"/>
            </a:xfrm>
          </p:grpSpPr>
          <p:pic>
            <p:nvPicPr>
              <p:cNvPr id="43" name="" descr=""/>
              <p:cNvPicPr/>
              <p:nvPr/>
            </p:nvPicPr>
            <p:blipFill>
              <a:blip r:embed="rId1">
                <a:lum contrast="24000"/>
              </a:blip>
              <a:srcRect l="0" t="0" r="0" b="6594"/>
              <a:stretch/>
            </p:blipFill>
            <p:spPr>
              <a:xfrm>
                <a:off x="798840" y="1629360"/>
                <a:ext cx="7259040" cy="499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" name=""/>
              <p:cNvSpPr/>
              <p:nvPr/>
            </p:nvSpPr>
            <p:spPr>
              <a:xfrm rot="18849000">
                <a:off x="437760" y="1870200"/>
                <a:ext cx="2581200" cy="2085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568960" y="2077920"/>
                <a:ext cx="2145600" cy="475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"/>
            <p:cNvSpPr/>
            <p:nvPr/>
          </p:nvSpPr>
          <p:spPr>
            <a:xfrm>
              <a:off x="0" y="0"/>
              <a:ext cx="9144000" cy="152388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50000">
                  <a:srgbClr val="ffff00"/>
                </a:gs>
                <a:gs pos="100000">
                  <a:srgbClr val="00ff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76320" y="81000"/>
              <a:ext cx="1752480" cy="136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7729560" y="12600"/>
              <a:ext cx="12621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286000" y="228600"/>
              <a:ext cx="49528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CHAPTER 9</a:t>
              </a:r>
              <a:br>
                <a:rPr sz="2000"/>
              </a:b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CELLULAR RESPIRATION:                                    HARVESTING CHEMICAL ENERG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219320" y="1676520"/>
              <a:ext cx="69339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Section A: The Principles of Energy Harve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838080" y="2514600"/>
            <a:ext cx="7696440" cy="4191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F24B-FEEB-4927-859B-20164194F9E7}" type="slidenum">
              <a:t>1</a:t>
            </a:fld>
          </a:p>
        </p:txBody>
      </p:sp>
    </p:spTree>
  </p:cSld>
  <p:transition spd="med"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rcRect l="0" t="0" r="0" b="6690"/>
          <a:stretch/>
        </p:blipFill>
        <p:spPr>
          <a:xfrm>
            <a:off x="4419720" y="2011320"/>
            <a:ext cx="4724280" cy="35514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28600" y="754200"/>
            <a:ext cx="8610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ransfer of the terminal phosphate group from ATP to another molecule is phosphoryla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فـَسْـفـَر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changes the shape                                                                  of the receiving molecule                                                      in order to work                                                                 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transport, mechanical,                                                                or chemic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n the phosph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oups leaves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lecule,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lecule returns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s original shap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stop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11E9-598D-417A-ABFE-74BAA7AAADFC}" type="slidenum">
              <a:t>10</a:t>
            </a:fld>
          </a:p>
        </p:txBody>
      </p:sp>
    </p:spTree>
  </p:cSld>
  <p:transition spd="med">
    <p:push dir="r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248520" y="11430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5410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ow dose ATP drive cellular work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5400000">
            <a:off x="4210200" y="1428480"/>
            <a:ext cx="457200" cy="6438960"/>
          </a:xfrm>
          <a:prstGeom prst="can">
            <a:avLst>
              <a:gd name="adj" fmla="val 6203"/>
            </a:avLst>
          </a:prstGeom>
          <a:gradFill rotWithShape="0">
            <a:gsLst>
              <a:gs pos="0">
                <a:srgbClr val="383800"/>
              </a:gs>
              <a:gs pos="50000">
                <a:srgbClr val="ffff00"/>
              </a:gs>
              <a:gs pos="100000">
                <a:srgbClr val="383800"/>
              </a:gs>
            </a:gsLst>
            <a:lin ang="5400000"/>
          </a:gradFill>
          <a:ln w="28440">
            <a:solidFill>
              <a:srgbClr val="000000"/>
            </a:solidFill>
            <a:miter/>
          </a:ln>
          <a:effectLst>
            <a:outerShdw dist="117181" dir="8361631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crotub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76320" y="3429000"/>
            <a:ext cx="2438280" cy="1752480"/>
            <a:chOff x="76320" y="3429000"/>
            <a:chExt cx="2438280" cy="1752480"/>
          </a:xfrm>
        </p:grpSpPr>
        <p:sp>
          <p:nvSpPr>
            <p:cNvPr id="167" name=""/>
            <p:cNvSpPr/>
            <p:nvPr/>
          </p:nvSpPr>
          <p:spPr>
            <a:xfrm>
              <a:off x="1600200" y="3429000"/>
              <a:ext cx="914400" cy="1752480"/>
            </a:xfrm>
            <a:prstGeom prst="blockArc">
              <a:avLst>
                <a:gd name="adj1" fmla="val 8761464"/>
                <a:gd name="adj2" fmla="val 2038536"/>
                <a:gd name="adj3" fmla="val 19856"/>
              </a:avLst>
            </a:prstGeom>
            <a:gradFill rotWithShape="0">
              <a:gsLst>
                <a:gs pos="0">
                  <a:srgbClr val="ff0000"/>
                </a:gs>
                <a:gs pos="50000">
                  <a:srgbClr val="00ffff"/>
                </a:gs>
                <a:gs pos="100000">
                  <a:srgbClr val="ff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6320" y="3641760"/>
              <a:ext cx="1218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otor Prote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066680" y="396252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1066680" y="2133720"/>
            <a:ext cx="1828800" cy="685800"/>
          </a:xfrm>
          <a:prstGeom prst="ellipse">
            <a:avLst/>
          </a:prstGeom>
          <a:gradFill rotWithShape="0">
            <a:gsLst>
              <a:gs pos="0">
                <a:srgbClr val="0033cc"/>
              </a:gs>
              <a:gs pos="100000">
                <a:srgbClr val="000c3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ga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13080" y="370836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981080" y="4572000"/>
            <a:ext cx="1524240" cy="106668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320" y="650700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. 9.2, Page 1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3600" y="990720"/>
            <a:ext cx="380880" cy="3808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6477120" y="-52920"/>
            <a:ext cx="2782800" cy="1741680"/>
            <a:chOff x="6477120" y="-52920"/>
            <a:chExt cx="2782800" cy="1741680"/>
          </a:xfrm>
        </p:grpSpPr>
        <p:grpSp>
          <p:nvGrpSpPr>
            <p:cNvPr id="176" name=""/>
            <p:cNvGrpSpPr/>
            <p:nvPr/>
          </p:nvGrpSpPr>
          <p:grpSpPr>
            <a:xfrm>
              <a:off x="7570080" y="-52920"/>
              <a:ext cx="1689840" cy="1741680"/>
              <a:chOff x="7570080" y="-52920"/>
              <a:chExt cx="1689840" cy="1741680"/>
            </a:xfrm>
          </p:grpSpPr>
          <p:sp>
            <p:nvSpPr>
              <p:cNvPr id="177" name=""/>
              <p:cNvSpPr/>
              <p:nvPr/>
            </p:nvSpPr>
            <p:spPr>
              <a:xfrm rot="1476000">
                <a:off x="8362440" y="76320"/>
                <a:ext cx="780480" cy="7311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19995000">
                <a:off x="7897320" y="139320"/>
                <a:ext cx="557280" cy="665280"/>
              </a:xfrm>
              <a:prstGeom prst="pentagon">
                <a:avLst/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20174400">
                <a:off x="7656840" y="1051200"/>
                <a:ext cx="557280" cy="548280"/>
              </a:xfrm>
              <a:prstGeom prst="pentagon">
                <a:avLst/>
              </a:prstGeom>
              <a:solidFill>
                <a:srgbClr val="cc00ff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8158320" y="848160"/>
                <a:ext cx="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656840" y="1092240"/>
                <a:ext cx="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7025040" y="929520"/>
              <a:ext cx="621720" cy="365400"/>
              <a:chOff x="7025040" y="929520"/>
              <a:chExt cx="621720" cy="365400"/>
            </a:xfrm>
          </p:grpSpPr>
          <p:sp>
            <p:nvSpPr>
              <p:cNvPr id="183" name=""/>
              <p:cNvSpPr/>
              <p:nvPr/>
            </p:nvSpPr>
            <p:spPr>
              <a:xfrm flipH="1">
                <a:off x="7368480" y="1101600"/>
                <a:ext cx="27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025040" y="929520"/>
                <a:ext cx="334440" cy="36540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6477120" y="929520"/>
              <a:ext cx="547560" cy="365400"/>
              <a:chOff x="6477120" y="929520"/>
              <a:chExt cx="547560" cy="365400"/>
            </a:xfrm>
          </p:grpSpPr>
          <p:sp>
            <p:nvSpPr>
              <p:cNvPr id="186" name=""/>
              <p:cNvSpPr/>
              <p:nvPr/>
            </p:nvSpPr>
            <p:spPr>
              <a:xfrm>
                <a:off x="6477120" y="929520"/>
                <a:ext cx="334440" cy="36540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>
                <a:off x="6802200" y="1112040"/>
                <a:ext cx="222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8" name=""/>
          <p:cNvGrpSpPr/>
          <p:nvPr/>
        </p:nvGrpSpPr>
        <p:grpSpPr>
          <a:xfrm>
            <a:off x="6139080" y="1371240"/>
            <a:ext cx="1772640" cy="1406160"/>
            <a:chOff x="6139080" y="1371240"/>
            <a:chExt cx="1772640" cy="1406160"/>
          </a:xfrm>
        </p:grpSpPr>
        <p:sp>
          <p:nvSpPr>
            <p:cNvPr id="189" name=""/>
            <p:cNvSpPr/>
            <p:nvPr/>
          </p:nvSpPr>
          <p:spPr>
            <a:xfrm flipH="1" flipV="1">
              <a:off x="6311520" y="1371240"/>
              <a:ext cx="160020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119200">
              <a:off x="6069960" y="189216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ell respi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5943600" y="965160"/>
            <a:ext cx="533160" cy="380880"/>
            <a:chOff x="5943600" y="965160"/>
            <a:chExt cx="533160" cy="380880"/>
          </a:xfrm>
        </p:grpSpPr>
        <p:sp>
          <p:nvSpPr>
            <p:cNvPr id="192" name=""/>
            <p:cNvSpPr/>
            <p:nvPr/>
          </p:nvSpPr>
          <p:spPr>
            <a:xfrm>
              <a:off x="5943600" y="96516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324480" y="114300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21B7-6EF6-4706-8873-8BB884A1D00D}" type="slidenum">
              <a:t>11</a:t>
            </a:fld>
          </a:p>
        </p:txBody>
      </p:sp>
    </p:spTree>
  </p:cSld>
  <p:transition spd="med">
    <p:push dir="r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1111 E">
                                      <p:cBhvr>
                                        <p:cTn id="403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48844E-006 L -0.3875 0.39963 E">
                                      <p:cBhvr>
                                        <p:cTn id="411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41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500"/>
                            </p:stCondLst>
                            <p:childTnLst>
                              <p:par>
                                <p:cTn id="4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3000"/>
                            </p:stCondLst>
                            <p:childTnLst>
                              <p:par>
                                <p:cTn id="425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11111 L 0.45834 0.11111 E">
                                      <p:cBhvr>
                                        <p:cTn id="430" dur="8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834 0 E">
                                      <p:cBhvr>
                                        <p:cTn id="432" dur="8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834 0 E">
                                      <p:cBhvr>
                                        <p:cTn id="434" dur="8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8000"/>
                            </p:stCondLst>
                            <p:childTnLst>
                              <p:par>
                                <p:cTn id="4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34 -2.59944E-006 L 0.59861 -0.17946 E">
                                      <p:cBhvr>
                                        <p:cTn id="437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9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34 0.11111 L 0.45834 0.01111 E">
                                      <p:cBhvr>
                                        <p:cTn id="443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3000"/>
                            </p:stCondLst>
                            <p:childTnLst>
                              <p:par>
                                <p:cTn id="454" nodeType="afterEffect" fill="hold" presetClass="emph" presetID="35" repeatCount="indefinite">
                                  <p:stCondLst>
                                    <p:cond delay="1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75960" y="1066680"/>
            <a:ext cx="8762760" cy="32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tabolic pathways relocat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بدل أماك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lectrons stored in food molecules, releasing energy that is used to synthesiz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لتخليق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Oxidation-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reduction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 reactions (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Red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ox reactions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reactions that result in the transfer of one or more electrons from one reactant to an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Oxidation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the los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فقـ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electr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Redu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the addi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كتسا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electr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152280" y="160920"/>
            <a:ext cx="8763120" cy="6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63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. Red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x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reactions release energy when electrons move closer to electronegative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52280" y="9144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474660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609480" y="4853160"/>
            <a:ext cx="7391520" cy="627120"/>
            <a:chOff x="609480" y="4853160"/>
            <a:chExt cx="7391520" cy="627120"/>
          </a:xfrm>
        </p:grpSpPr>
        <p:sp>
          <p:nvSpPr>
            <p:cNvPr id="199" name=""/>
            <p:cNvSpPr/>
            <p:nvPr/>
          </p:nvSpPr>
          <p:spPr>
            <a:xfrm>
              <a:off x="609480" y="48531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14600" y="48531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486400" y="48531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467480" y="48531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676520" y="48988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477120" y="48988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276720" y="5203800"/>
              <a:ext cx="1904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5716800" y="464832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102640" y="5356080"/>
            <a:ext cx="3628080" cy="703800"/>
            <a:chOff x="5102640" y="5356080"/>
            <a:chExt cx="3628080" cy="703800"/>
          </a:xfrm>
        </p:grpSpPr>
        <p:sp>
          <p:nvSpPr>
            <p:cNvPr id="208" name=""/>
            <p:cNvSpPr/>
            <p:nvPr/>
          </p:nvSpPr>
          <p:spPr>
            <a:xfrm>
              <a:off x="5102640" y="5356080"/>
              <a:ext cx="162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Oxida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(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reducing agent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082280" y="5356080"/>
              <a:ext cx="1648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Reduc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(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oxidizing agent</a:t>
              </a: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6400800" y="6019920"/>
            <a:ext cx="1143000" cy="45720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152280" y="6019920"/>
            <a:ext cx="4267440" cy="477720"/>
            <a:chOff x="152280" y="6019920"/>
            <a:chExt cx="4267440" cy="477720"/>
          </a:xfrm>
        </p:grpSpPr>
        <p:sp>
          <p:nvSpPr>
            <p:cNvPr id="212" name=""/>
            <p:cNvSpPr/>
            <p:nvPr/>
          </p:nvSpPr>
          <p:spPr>
            <a:xfrm>
              <a:off x="152280" y="6019920"/>
              <a:ext cx="42674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Na + Cl       Na</a:t>
              </a:r>
              <a:r>
                <a:rPr b="1" lang="en-US" sz="2800" spc="-1" strike="noStrike" baseline="30000">
                  <a:solidFill>
                    <a:srgbClr val="ff0000"/>
                  </a:solidFill>
                  <a:latin typeface="Arial"/>
                  <a:ea typeface="Arial"/>
                </a:rPr>
                <a:t>+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 + Cl</a:t>
              </a:r>
              <a:r>
                <a:rPr b="1" lang="en-US" sz="2800" spc="-1" strike="noStrike" baseline="30000">
                  <a:solidFill>
                    <a:srgbClr val="ff0000"/>
                  </a:solidFill>
                  <a:latin typeface="Arial"/>
                  <a:ea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981080" y="6248520"/>
              <a:ext cx="6098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800600" y="2895480"/>
            <a:ext cx="3962520" cy="12193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actions requ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on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cceptor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6685-1EC6-4C06-9B9B-D2F106863522}" type="slidenum">
              <a:t>12</a:t>
            </a:fld>
          </a:p>
        </p:txBody>
      </p:sp>
    </p:spTree>
  </p:cSld>
  <p:transition spd="med">
    <p:push dir="r"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000"/>
                            </p:stCondLst>
                            <p:childTnLst>
                              <p:par>
                                <p:cTn id="5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6.2963E-006 C 0.00868 -0.02013 0.01754 -0.04004 0.07639 -0.05486 C 0.13524 -0.06967 0.24271 -0.09212 0.35295 -0.08819 C 0.4632 -0.08425 0.67379 -0.04652 0.7382 -0.03148 C 0.80261 -0.01643 0.73941 -0.0037 0.73976 0.00186 E">
                                      <p:cBhvr>
                                        <p:cTn id="506" dur="3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3000"/>
                            </p:stCondLst>
                            <p:childTnLst>
                              <p:par>
                                <p:cTn id="5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4000"/>
                            </p:stCondLst>
                            <p:childTnLst>
                              <p:par>
                                <p:cTn id="5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5000"/>
                            </p:stCondLst>
                            <p:childTnLst>
                              <p:par>
                                <p:cTn id="5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6000"/>
                            </p:stCondLst>
                            <p:childTnLst>
                              <p:par>
                                <p:cTn id="521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4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4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0" y="1295280"/>
            <a:ext cx="9144000" cy="55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cellular respiration, glucose and other fuel molecules are oxidized, releasing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ucose is oxidized, oxygen is reduced, and electrons loose potential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the source of electrons that transfere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molecules that have an abundance of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وفرة م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drogen are excellent fuels because their bonds are a source of electrons that “fall” closer to oxy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s lower the barrier of activation energy, allowing these fuels to be oxidized slow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moves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, it leaves bonds which degenerated to release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resulting energy is used by the cell to synthesis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1800" spc="-1" strike="noStrike">
                <a:solidFill>
                  <a:srgbClr val="cc00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228240" y="15192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63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4. Electrons “fall”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from organic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molecules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to oxyge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during cellular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609480" y="2590920"/>
            <a:ext cx="8318520" cy="604800"/>
            <a:chOff x="609480" y="2590920"/>
            <a:chExt cx="8318520" cy="604800"/>
          </a:xfrm>
        </p:grpSpPr>
        <p:sp>
          <p:nvSpPr>
            <p:cNvPr id="219" name=""/>
            <p:cNvSpPr/>
            <p:nvPr/>
          </p:nvSpPr>
          <p:spPr>
            <a:xfrm>
              <a:off x="609480" y="2590920"/>
              <a:ext cx="2666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C</a:t>
              </a:r>
              <a:r>
                <a:rPr b="1" lang="en-US" sz="2800" spc="-1" strike="noStrike" baseline="-25000">
                  <a:solidFill>
                    <a:srgbClr val="0033cc"/>
                  </a:solidFill>
                  <a:latin typeface="Times New Roman"/>
                  <a:ea typeface="Times New Roman"/>
                </a:rPr>
                <a:t>6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H</a:t>
              </a:r>
              <a:r>
                <a:rPr b="1" lang="en-US" sz="2800" spc="-1" strike="noStrike" baseline="-25000">
                  <a:solidFill>
                    <a:srgbClr val="0033cc"/>
                  </a:solidFill>
                  <a:latin typeface="Times New Roman"/>
                  <a:ea typeface="Times New Roman"/>
                </a:rPr>
                <a:t>12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O</a:t>
              </a:r>
              <a:r>
                <a:rPr b="1" lang="en-US" sz="2800" spc="-1" strike="noStrike" baseline="-25000">
                  <a:solidFill>
                    <a:srgbClr val="0033cc"/>
                  </a:solidFill>
                  <a:latin typeface="Times New Roman"/>
                  <a:ea typeface="Times New Roman"/>
                </a:rPr>
                <a:t>6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6O</a:t>
              </a:r>
              <a:r>
                <a:rPr b="1" lang="en-US" sz="2800" spc="-1" strike="noStrike" baseline="-25000">
                  <a:solidFill>
                    <a:srgbClr val="0000ff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127400" y="2616120"/>
              <a:ext cx="4800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C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+ 6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 +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ATP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Heat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047760" y="2920680"/>
              <a:ext cx="1066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6324480" y="306216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ergy = 686 kcal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2171880"/>
            <a:ext cx="3810240" cy="495000"/>
          </a:xfrm>
          <a:custGeom>
            <a:avLst/>
            <a:gdLst/>
            <a:ahLst/>
            <a:rect l="l" t="t" r="r" b="b"/>
            <a:pathLst>
              <a:path w="2400" h="312">
                <a:moveTo>
                  <a:pt x="0" y="168"/>
                </a:moveTo>
                <a:cubicBezTo>
                  <a:pt x="424" y="84"/>
                  <a:pt x="848" y="0"/>
                  <a:pt x="1248" y="24"/>
                </a:cubicBezTo>
                <a:cubicBezTo>
                  <a:pt x="1648" y="48"/>
                  <a:pt x="2208" y="264"/>
                  <a:pt x="2400" y="31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143000" y="1752480"/>
            <a:ext cx="1371600" cy="990720"/>
            <a:chOff x="1143000" y="1752480"/>
            <a:chExt cx="1371600" cy="990720"/>
          </a:xfrm>
        </p:grpSpPr>
        <p:sp>
          <p:nvSpPr>
            <p:cNvPr id="225" name=""/>
            <p:cNvSpPr/>
            <p:nvPr/>
          </p:nvSpPr>
          <p:spPr>
            <a:xfrm>
              <a:off x="1143000" y="2349360"/>
              <a:ext cx="1371600" cy="393840"/>
            </a:xfrm>
            <a:custGeom>
              <a:avLst/>
              <a:gdLst/>
              <a:ahLst/>
              <a:rect l="l" t="t" r="r" b="b"/>
              <a:pathLst>
                <a:path w="864" h="248">
                  <a:moveTo>
                    <a:pt x="0" y="200"/>
                  </a:moveTo>
                  <a:cubicBezTo>
                    <a:pt x="72" y="100"/>
                    <a:pt x="144" y="0"/>
                    <a:pt x="288" y="8"/>
                  </a:cubicBezTo>
                  <a:cubicBezTo>
                    <a:pt x="432" y="16"/>
                    <a:pt x="768" y="208"/>
                    <a:pt x="864" y="24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447560" y="175248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</a:t>
              </a:r>
              <a:r>
                <a:rPr b="1" lang="en-US" sz="4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604440" y="3124080"/>
            <a:ext cx="2671920" cy="642600"/>
            <a:chOff x="604440" y="3124080"/>
            <a:chExt cx="2671920" cy="642600"/>
          </a:xfrm>
        </p:grpSpPr>
        <p:sp>
          <p:nvSpPr>
            <p:cNvPr id="228" name=""/>
            <p:cNvSpPr/>
            <p:nvPr/>
          </p:nvSpPr>
          <p:spPr>
            <a:xfrm>
              <a:off x="2063880" y="3124080"/>
              <a:ext cx="121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xidiz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04440" y="3124080"/>
              <a:ext cx="122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duc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6781680" y="3352680"/>
            <a:ext cx="1295640" cy="53352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5FB0-6AEC-497A-AB29-AAFB88E6FC86}" type="slidenum">
              <a:t>13</a:t>
            </a:fld>
          </a:p>
        </p:txBody>
      </p:sp>
    </p:spTree>
  </p:cSld>
  <p:transition spd="med">
    <p:push dir="r"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2500"/>
                            </p:stCondLst>
                            <p:childTnLst>
                              <p:par>
                                <p:cTn id="5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2500"/>
                            </p:stCondLst>
                            <p:childTnLst>
                              <p:par>
                                <p:cTn id="560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6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000"/>
                            </p:stCondLst>
                            <p:childTnLst>
                              <p:par>
                                <p:cTn id="568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500"/>
                            </p:stCondLst>
                            <p:childTnLst>
                              <p:par>
                                <p:cTn id="5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2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2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228600" y="1479600"/>
            <a:ext cx="8686800" cy="376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llular respiration does not oxidize glucose in a single step that transfers all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ydrog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luc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xyg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t one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her, glucose and other fuels are broken down graduall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دريجي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 series of steps, each catalyzed by a specific enzy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key step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فى الخطوات الأساس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hydrogen atoms move from glucose and passed first to the coenzym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cotinamid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nin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ucleotid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hydrogenase enzymes strip two hydrogen atoms from the fuel (e.g., glucose), pass two electrons to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releas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0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63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. The “fall” of electro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إنحدار الإليكترونى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uring respiration is  stepwis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رحلى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 by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and a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lectron transport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066680" y="5572080"/>
            <a:ext cx="7467840" cy="525960"/>
            <a:chOff x="1066680" y="5572080"/>
            <a:chExt cx="7467840" cy="525960"/>
          </a:xfrm>
        </p:grpSpPr>
        <p:sp>
          <p:nvSpPr>
            <p:cNvPr id="235" name=""/>
            <p:cNvSpPr/>
            <p:nvPr/>
          </p:nvSpPr>
          <p:spPr>
            <a:xfrm>
              <a:off x="1066680" y="5699160"/>
              <a:ext cx="746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-C-OH + NAD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 C=O + NADH + H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352680" y="557208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Dehydrogen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5927760"/>
              <a:ext cx="236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47D6-3DE3-42BA-BE90-2EC48C4BE8CA}" type="slidenum">
              <a:t>14</a:t>
            </a:fld>
          </a:p>
        </p:txBody>
      </p:sp>
    </p:spTree>
  </p:cSld>
  <p:transition spd="med">
    <p:push dir="r"/>
  </p:transition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rcRect l="0" t="0" r="0" b="5905"/>
          <a:stretch/>
        </p:blipFill>
        <p:spPr>
          <a:xfrm>
            <a:off x="76320" y="2133720"/>
            <a:ext cx="8991360" cy="41148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0" y="6537240"/>
            <a:ext cx="838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9.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0880" y="304920"/>
            <a:ext cx="845820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changes the oxidized form,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2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to the reduced form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2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D 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unctions as the oxidizing agent in many of the redox steps during the catabolism of gluc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476520" y="4861080"/>
            <a:ext cx="536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electrons “fall” fro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oxyge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ir energy is tapped to synthesize AT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E8F4-84C1-46B1-BE79-8D171174F6F8}" type="slidenum">
              <a:t>15</a:t>
            </a:fld>
          </a:p>
        </p:txBody>
      </p:sp>
    </p:spTree>
  </p:cSld>
  <p:transition spd="med">
    <p:push dir="r"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6858000" y="6516720"/>
            <a:ext cx="1447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9.5, Page 15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51920" y="364680"/>
            <a:ext cx="8915400" cy="10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llular respiration uses a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ectron transport cha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سلسلة نقل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إليكترون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reak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ـُقـَس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all of electrons to 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to several step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دة خطو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3112920" y="1627200"/>
            <a:ext cx="6031080" cy="4164120"/>
            <a:chOff x="3112920" y="1627200"/>
            <a:chExt cx="6031080" cy="4164120"/>
          </a:xfrm>
        </p:grpSpPr>
        <p:pic>
          <p:nvPicPr>
            <p:cNvPr id="245" name="" descr=""/>
            <p:cNvPicPr/>
            <p:nvPr/>
          </p:nvPicPr>
          <p:blipFill>
            <a:blip r:embed="rId1"/>
            <a:srcRect l="0" t="0" r="0" b="3357"/>
            <a:stretch/>
          </p:blipFill>
          <p:spPr>
            <a:xfrm>
              <a:off x="3112920" y="1627200"/>
              <a:ext cx="6031080" cy="416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3124080" y="1627200"/>
              <a:ext cx="2286000" cy="411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76320" y="1376280"/>
            <a:ext cx="5410080" cy="49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lectron transport chain, consisting of several molecules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rimarily prote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is built into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ner membrane of a mitochondr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akes electrons from food to the “top” of the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the “bottom”, oxygen captures the electrons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0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form w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ree energy change from “top” to “bottom” is  -53 kcal/mole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s are passed by increasingly electronegative molecules in the chain until they are caught by oxygen (the most electronegativ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CA47-8E95-45EC-9D0A-488D29339239}" type="slidenum">
              <a:t>16</a:t>
            </a:fld>
          </a:p>
        </p:txBody>
      </p:sp>
    </p:spTree>
  </p:cSld>
  <p:transition spd="med">
    <p:push dir="r"/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500"/>
                            </p:stCondLst>
                            <p:childTnLst>
                              <p:par>
                                <p:cTn id="6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311760" y="3124080"/>
            <a:ext cx="7994160" cy="3162960"/>
            <a:chOff x="311760" y="3124080"/>
            <a:chExt cx="7994160" cy="3162960"/>
          </a:xfrm>
        </p:grpSpPr>
        <p:sp>
          <p:nvSpPr>
            <p:cNvPr id="249" name=""/>
            <p:cNvSpPr/>
            <p:nvPr/>
          </p:nvSpPr>
          <p:spPr>
            <a:xfrm>
              <a:off x="609480" y="3124080"/>
              <a:ext cx="7696440" cy="2971800"/>
            </a:xfrm>
            <a:prstGeom prst="ellipse">
              <a:avLst/>
            </a:prstGeom>
            <a:solidFill>
              <a:srgbClr val="99cc00">
                <a:alpha val="49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21180000">
              <a:off x="1752480" y="3290760"/>
              <a:ext cx="247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lectron Fa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1284600">
              <a:off x="348840" y="547848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he Ce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Arial"/>
              </a:rPr>
              <a:t>Summary of electron “Fall” steps during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315200" y="650700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ge 158 &amp; Fig. 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80880" y="80640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Falling of all 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toms from glucose to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gradually not at on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0880" y="132408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It occurs in steps, each one is catalyzed by an enzy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80880" y="17971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toms of glucose pass first to the co-enzyme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 baseline="30000">
                <a:solidFill>
                  <a:srgbClr val="0033cc"/>
                </a:solidFill>
                <a:latin typeface="Arial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form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0880" y="233028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Then from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electron transport chain, and finally to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release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nerg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form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3505320" y="3657600"/>
            <a:ext cx="4495680" cy="1828800"/>
            <a:chOff x="3505320" y="3657600"/>
            <a:chExt cx="4495680" cy="1828800"/>
          </a:xfrm>
        </p:grpSpPr>
        <p:sp>
          <p:nvSpPr>
            <p:cNvPr id="259" name=""/>
            <p:cNvSpPr/>
            <p:nvPr/>
          </p:nvSpPr>
          <p:spPr>
            <a:xfrm>
              <a:off x="3505320" y="4038480"/>
              <a:ext cx="4495680" cy="1447920"/>
            </a:xfrm>
            <a:prstGeom prst="flowChartTerminator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cccc"/>
                </a:gs>
                <a:gs pos="100000">
                  <a:srgbClr val="ffff00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800600" y="3657600"/>
              <a:ext cx="198108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itochondr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838080" y="4038480"/>
            <a:ext cx="7010640" cy="606600"/>
            <a:chOff x="838080" y="4038480"/>
            <a:chExt cx="7010640" cy="606600"/>
          </a:xfrm>
        </p:grpSpPr>
        <p:sp>
          <p:nvSpPr>
            <p:cNvPr id="262" name=""/>
            <p:cNvSpPr/>
            <p:nvPr/>
          </p:nvSpPr>
          <p:spPr>
            <a:xfrm>
              <a:off x="838080" y="4228920"/>
              <a:ext cx="701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Food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             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NAD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ransport chain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    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xyg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523880" y="438156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600200" y="415296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AD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523880" y="4368600"/>
              <a:ext cx="609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009960" y="4381560"/>
              <a:ext cx="952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715000" y="438156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124080" y="403848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765760" y="403848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5486400" y="4876920"/>
            <a:ext cx="1447920" cy="459720"/>
            <a:chOff x="5486400" y="4876920"/>
            <a:chExt cx="1447920" cy="459720"/>
          </a:xfrm>
        </p:grpSpPr>
        <p:sp>
          <p:nvSpPr>
            <p:cNvPr id="271" name=""/>
            <p:cNvSpPr/>
            <p:nvPr/>
          </p:nvSpPr>
          <p:spPr>
            <a:xfrm>
              <a:off x="5486400" y="48769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AD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6324480" y="5029200"/>
              <a:ext cx="6098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971440" y="4876920"/>
            <a:ext cx="2590920" cy="459720"/>
            <a:chOff x="2971440" y="4876920"/>
            <a:chExt cx="2590920" cy="459720"/>
          </a:xfrm>
        </p:grpSpPr>
        <p:sp>
          <p:nvSpPr>
            <p:cNvPr id="274" name=""/>
            <p:cNvSpPr/>
            <p:nvPr/>
          </p:nvSpPr>
          <p:spPr>
            <a:xfrm>
              <a:off x="4038480" y="487692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4800240" y="510552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2971440" y="510552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6934320" y="4648320"/>
            <a:ext cx="914400" cy="60948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2223-3B15-40BB-80C4-D3C4A7E413ED}" type="slidenum">
              <a:t>17</a:t>
            </a:fld>
          </a:p>
        </p:txBody>
      </p:sp>
    </p:spTree>
  </p:cSld>
  <p:transition spd="med">
    <p:push dir="r"/>
  </p:transition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2000"/>
                            </p:stCondLst>
                            <p:childTnLst>
                              <p:par>
                                <p:cTn id="7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2500"/>
                            </p:stCondLst>
                            <p:childTnLst>
                              <p:par>
                                <p:cTn id="707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8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762120"/>
            <a:ext cx="8305560" cy="144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7632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tion A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The Principles of Energy Harv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1520" y="1143000"/>
            <a:ext cx="8915400" cy="50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ular respiration and fermenta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خم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catabolic, energy-yielding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ُنتِج للطاق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هدْ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h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recycle the ATP they use for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ox reactio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فاعلات الأكسدة-الإختزا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energy when electrons move closer to electronegative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rons “fall”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نتق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organic molecules to oxygen during cellular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 The “fall” of electrons during respiration is stepwis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َرْحَل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NAD</a:t>
            </a:r>
            <a:r>
              <a:rPr b="1" lang="en-US" sz="24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an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lectron Transport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0545-C29E-42B8-89F7-2AD07C28AE70}" type="slidenum">
              <a:t>2</a:t>
            </a:fld>
          </a:p>
        </p:txBody>
      </p:sp>
    </p:spTree>
  </p:cSld>
  <p:transition spd="med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320" y="3448080"/>
            <a:ext cx="4343400" cy="325764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581280" y="76320"/>
            <a:ext cx="5486400" cy="411480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152280" y="30492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Respi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B434-77C1-40F2-94DC-1E0E5F48FC7B}" type="slidenum">
              <a:t>3</a:t>
            </a:fld>
          </a:p>
        </p:txBody>
      </p:sp>
    </p:spTree>
  </p:cSld>
  <p:transition spd="med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460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0033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429000" y="228600"/>
            <a:ext cx="533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33cc"/>
                </a:solidFill>
                <a:latin typeface="Times New Roman"/>
                <a:cs typeface="Times New Roman (Arabic)"/>
              </a:rPr>
              <a:t>مـراحـل الـتـنـفـــ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9920" y="3505320"/>
            <a:ext cx="2133360" cy="1600200"/>
          </a:xfrm>
          <a:custGeom>
            <a:avLst/>
            <a:gdLst>
              <a:gd name="textAreaLeft" fmla="*/ 487080 w 2133360"/>
              <a:gd name="textAreaRight" fmla="*/ 1646280 w 2133360"/>
              <a:gd name="textAreaTop" fmla="*/ 365040 h 1600200"/>
              <a:gd name="textAreaBottom" fmla="*/ 12351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  <a:effectLst>
            <a:outerShdw dist="134955" dir="2927119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الــد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705720" y="1523880"/>
            <a:ext cx="1828800" cy="1143000"/>
          </a:xfrm>
          <a:prstGeom prst="cloudCallout">
            <a:avLst>
              <a:gd name="adj1" fmla="val -21092"/>
              <a:gd name="adj2" fmla="val 86527"/>
            </a:avLst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حويصلات هوائ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0" y="5410080"/>
            <a:ext cx="1447920" cy="1143000"/>
          </a:xfrm>
          <a:prstGeom prst="cloudCallout">
            <a:avLst>
              <a:gd name="adj1" fmla="val -12500"/>
              <a:gd name="adj2" fmla="val -99722"/>
            </a:avLst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خلايا الجـســ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2239920"/>
            <a:ext cx="281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1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- تـنـفـس خـارجـ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86200" y="5973840"/>
            <a:ext cx="281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- تـنـفـس داخـلــ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391520" y="2590920"/>
            <a:ext cx="990360" cy="14475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324480" y="4724280"/>
            <a:ext cx="990720" cy="1447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480" y="3124080"/>
            <a:ext cx="2743200" cy="1981440"/>
          </a:xfrm>
          <a:prstGeom prst="flowChartDisplay">
            <a:avLst/>
          </a:prstGeom>
          <a:solidFill>
            <a:srgbClr val="0000ff"/>
          </a:solidFill>
          <a:ln w="28440">
            <a:solidFill>
              <a:srgbClr val="ff0000"/>
            </a:solidFill>
            <a:miter/>
          </a:ln>
          <a:effectLst>
            <a:outerShdw dist="134955" dir="8327119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90720" y="3276720"/>
            <a:ext cx="2133360" cy="1752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62120" y="5181480"/>
            <a:ext cx="274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1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- تـنـفـس خـلـو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2600" y="12600"/>
          <a:ext cx="1363680" cy="1828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600" y="12600"/>
                    <a:ext cx="1363680" cy="1828800"/>
                  </a:xfrm>
                  <a:prstGeom prst="rect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3323-404F-4100-9FD3-99A2DCE08F2E}" type="slidenum">
              <a:t>4</a:t>
            </a:fld>
          </a:p>
        </p:txBody>
      </p:sp>
    </p:spTree>
  </p:cSld>
  <p:transition spd="med">
    <p:push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809880" y="0"/>
            <a:ext cx="1463760" cy="1154160"/>
          </a:xfrm>
          <a:prstGeom prst="rect">
            <a:avLst/>
          </a:prstGeom>
          <a:ln w="0">
            <a:noFill/>
          </a:ln>
        </p:spPr>
      </p:pic>
      <p:grpSp>
        <p:nvGrpSpPr>
          <p:cNvPr id="72" name=""/>
          <p:cNvGrpSpPr/>
          <p:nvPr/>
        </p:nvGrpSpPr>
        <p:grpSpPr>
          <a:xfrm>
            <a:off x="380880" y="1600200"/>
            <a:ext cx="8534520" cy="4038480"/>
            <a:chOff x="380880" y="1600200"/>
            <a:chExt cx="8534520" cy="4038480"/>
          </a:xfrm>
        </p:grpSpPr>
        <p:sp>
          <p:nvSpPr>
            <p:cNvPr id="73" name=""/>
            <p:cNvSpPr/>
            <p:nvPr/>
          </p:nvSpPr>
          <p:spPr>
            <a:xfrm>
              <a:off x="380880" y="1600200"/>
              <a:ext cx="8534520" cy="403848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85800" y="4952880"/>
              <a:ext cx="228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33cc"/>
                  </a:solidFill>
                  <a:latin typeface="Arial"/>
                </a:rPr>
                <a:t>Plant cel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581280" y="1828800"/>
              <a:ext cx="2057400" cy="762120"/>
            </a:xfrm>
            <a:prstGeom prst="flowChartPreparation">
              <a:avLst/>
            </a:prstGeom>
            <a:gradFill rotWithShape="0">
              <a:gsLst>
                <a:gs pos="0">
                  <a:srgbClr val="003000"/>
                </a:gs>
                <a:gs pos="50000">
                  <a:srgbClr val="00ff00"/>
                </a:gs>
                <a:gs pos="100000">
                  <a:srgbClr val="003000"/>
                </a:gs>
              </a:gsLst>
              <a:lin ang="5400000"/>
            </a:gradFill>
            <a:ln w="2844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loroplas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657600" y="3657600"/>
              <a:ext cx="2057400" cy="762120"/>
            </a:xfrm>
            <a:prstGeom prst="flowChartTerminator">
              <a:avLst/>
            </a:prstGeom>
            <a:gradFill rotWithShape="0">
              <a:gsLst>
                <a:gs pos="0">
                  <a:srgbClr val="270f00"/>
                </a:gs>
                <a:gs pos="50000">
                  <a:srgbClr val="ff6600"/>
                </a:gs>
                <a:gs pos="100000">
                  <a:srgbClr val="270f00"/>
                </a:gs>
              </a:gsLst>
              <a:lin ang="5400000"/>
            </a:gradFill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itochondr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 rot="2548800">
            <a:off x="2742840" y="3657240"/>
            <a:ext cx="914400" cy="304920"/>
          </a:xfrm>
          <a:prstGeom prst="leftArrow">
            <a:avLst>
              <a:gd name="adj1" fmla="val 50000"/>
              <a:gd name="adj2" fmla="val 7497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7912200">
            <a:off x="2666520" y="2438280"/>
            <a:ext cx="914400" cy="304920"/>
          </a:xfrm>
          <a:prstGeom prst="leftArrow">
            <a:avLst>
              <a:gd name="adj1" fmla="val 50000"/>
              <a:gd name="adj2" fmla="val 7497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3132200">
            <a:off x="5638680" y="2361960"/>
            <a:ext cx="914400" cy="304560"/>
          </a:xfrm>
          <a:prstGeom prst="leftArrow">
            <a:avLst>
              <a:gd name="adj1" fmla="val 50000"/>
              <a:gd name="adj2" fmla="val 7505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8852600">
            <a:off x="5638680" y="3733560"/>
            <a:ext cx="914400" cy="304920"/>
          </a:xfrm>
          <a:prstGeom prst="leftArrow">
            <a:avLst>
              <a:gd name="adj1" fmla="val 50000"/>
              <a:gd name="adj2" fmla="val 7497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038480" y="5029200"/>
            <a:ext cx="1295640" cy="60948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86400" y="4343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C)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ellular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2971800"/>
            <a:ext cx="182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-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C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+ H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870280"/>
            <a:ext cx="2514600" cy="703800"/>
            <a:chOff x="5715000" y="2870280"/>
            <a:chExt cx="2514600" cy="703800"/>
          </a:xfrm>
        </p:grpSpPr>
        <p:sp>
          <p:nvSpPr>
            <p:cNvPr id="85" name=""/>
            <p:cNvSpPr/>
            <p:nvPr/>
          </p:nvSpPr>
          <p:spPr>
            <a:xfrm>
              <a:off x="5715000" y="2870280"/>
              <a:ext cx="1447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)-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Organic molecu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86600" y="2946600"/>
              <a:ext cx="1143000" cy="54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US" sz="20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O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267080" y="1219320"/>
            <a:ext cx="609840" cy="609480"/>
            <a:chOff x="4267080" y="1219320"/>
            <a:chExt cx="609840" cy="609480"/>
          </a:xfrm>
        </p:grpSpPr>
        <p:sp>
          <p:nvSpPr>
            <p:cNvPr id="88" name=""/>
            <p:cNvSpPr/>
            <p:nvPr/>
          </p:nvSpPr>
          <p:spPr>
            <a:xfrm>
              <a:off x="4267080" y="1219320"/>
              <a:ext cx="304920" cy="609480"/>
            </a:xfrm>
            <a:prstGeom prst="downArrow">
              <a:avLst>
                <a:gd name="adj1" fmla="val 50000"/>
                <a:gd name="adj2" fmla="val 49970"/>
              </a:avLst>
            </a:prstGeom>
            <a:solidFill>
              <a:srgbClr val="ff0000"/>
            </a:solidFill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0" y="1219320"/>
              <a:ext cx="304920" cy="609480"/>
            </a:xfrm>
            <a:prstGeom prst="downArrow">
              <a:avLst>
                <a:gd name="adj1" fmla="val 50000"/>
                <a:gd name="adj2" fmla="val 49970"/>
              </a:avLst>
            </a:prstGeom>
            <a:solidFill>
              <a:srgbClr val="ff0000"/>
            </a:solidFill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419720" y="5715000"/>
            <a:ext cx="609120" cy="609480"/>
            <a:chOff x="4419720" y="5715000"/>
            <a:chExt cx="609120" cy="609480"/>
          </a:xfrm>
        </p:grpSpPr>
        <p:sp>
          <p:nvSpPr>
            <p:cNvPr id="91" name=""/>
            <p:cNvSpPr/>
            <p:nvPr/>
          </p:nvSpPr>
          <p:spPr>
            <a:xfrm>
              <a:off x="4419720" y="5715000"/>
              <a:ext cx="304560" cy="609480"/>
            </a:xfrm>
            <a:prstGeom prst="downArrow">
              <a:avLst>
                <a:gd name="adj1" fmla="val 50000"/>
                <a:gd name="adj2" fmla="val 50030"/>
              </a:avLst>
            </a:prstGeom>
            <a:solidFill>
              <a:srgbClr val="ff0000"/>
            </a:solidFill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724280" y="5715000"/>
              <a:ext cx="304560" cy="609480"/>
            </a:xfrm>
            <a:prstGeom prst="downArrow">
              <a:avLst>
                <a:gd name="adj1" fmla="val 50000"/>
                <a:gd name="adj2" fmla="val 50030"/>
              </a:avLst>
            </a:prstGeom>
            <a:solidFill>
              <a:srgbClr val="ff0000"/>
            </a:solidFill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4038480" y="62485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erg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ea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4394160" y="4457880"/>
            <a:ext cx="609120" cy="609480"/>
            <a:chOff x="4394160" y="4457880"/>
            <a:chExt cx="609120" cy="609480"/>
          </a:xfrm>
        </p:grpSpPr>
        <p:sp>
          <p:nvSpPr>
            <p:cNvPr id="95" name=""/>
            <p:cNvSpPr/>
            <p:nvPr/>
          </p:nvSpPr>
          <p:spPr>
            <a:xfrm>
              <a:off x="4394160" y="4457880"/>
              <a:ext cx="304560" cy="609480"/>
            </a:xfrm>
            <a:prstGeom prst="downArrow">
              <a:avLst>
                <a:gd name="adj1" fmla="val 50000"/>
                <a:gd name="adj2" fmla="val 50030"/>
              </a:avLst>
            </a:prstGeom>
            <a:solidFill>
              <a:srgbClr val="ff0000"/>
            </a:solidFill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98720" y="4457880"/>
              <a:ext cx="304560" cy="609480"/>
            </a:xfrm>
            <a:prstGeom prst="downArrow">
              <a:avLst>
                <a:gd name="adj1" fmla="val 50000"/>
                <a:gd name="adj2" fmla="val 50030"/>
              </a:avLst>
            </a:prstGeom>
            <a:solidFill>
              <a:srgbClr val="ff0000"/>
            </a:solidFill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76320" y="106200"/>
            <a:ext cx="16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. 9.1, Page 1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38680" y="53352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A)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ight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38680" y="1600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B)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Photosyn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CB6D-17D7-4F74-A58C-F66A54E0DE59}" type="slidenum">
              <a:t>5</a:t>
            </a:fld>
          </a:p>
        </p:txBody>
      </p:sp>
    </p:spTree>
  </p:cSld>
  <p:transition spd="med">
    <p:push dir="r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0"/>
                            </p:stCondLst>
                            <p:childTnLst>
                              <p:par>
                                <p:cTn id="163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04920" y="990720"/>
            <a:ext cx="8686800" cy="55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c molecules store energy in their arrangement of ato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s catalyze the systematic degradation of organic molecules that are rich in energy to simpler waste products with less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of the released energy is used to do work and the rest is dissipated as he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bolic pathways that release the energy stored in complex organic molecules ar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tabolic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هدم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rmentation is a type of catabolic process leads to the partial degrad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حلل الجزئ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sugars in the absence of oxy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ular respiration is a more important catabolic process, uses oxygen as a reactant to complete the breakdown of a variety of organic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ocess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rganic compounds + 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-&gt; C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+ H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 +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bohydrates, fats, and proteins can all be used as the fuel, but we will start learning with gluc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+ 6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-&gt; 6C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+ 6H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 + Energy (ATP +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heat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63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. Cellular respiration and fermentation are catabolic, energy-yield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نتج للطاقة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th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4144-A82E-4EFA-B221-B0F50ABA9C68}" type="slidenum">
              <a:t>6</a:t>
            </a:fld>
          </a:p>
        </p:txBody>
      </p:sp>
    </p:spTree>
  </p:cSld>
  <p:transition spd="med">
    <p:push dir="r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8600" y="1066680"/>
            <a:ext cx="2362320" cy="129564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ff0000"/>
            </a:solidFill>
            <a:miter/>
          </a:ln>
          <a:effectLst>
            <a:outerShdw dist="117181" dir="7838368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Tahoma"/>
              </a:rPr>
              <a:t>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  <a:ea typeface="Tahoma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Fuel of energy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  <a:ea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666880" y="1295280"/>
            <a:ext cx="2590920" cy="914400"/>
          </a:xfrm>
          <a:custGeom>
            <a:avLst/>
            <a:gdLst>
              <a:gd name="textAreaLeft" fmla="*/ 404640 w 2590920"/>
              <a:gd name="textAreaRight" fmla="*/ 2267280 w 259092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380000"/>
              </a:gs>
            </a:gsLst>
            <a:lin ang="5400000"/>
          </a:gradFill>
          <a:ln w="19080">
            <a:solidFill>
              <a:srgbClr val="0000ff"/>
            </a:solidFill>
            <a:miter/>
          </a:ln>
          <a:effectLst>
            <a:outerShdw dist="92520" dir="6362235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276720" y="762120"/>
            <a:ext cx="990360" cy="2297880"/>
            <a:chOff x="3276720" y="762120"/>
            <a:chExt cx="990360" cy="2297880"/>
          </a:xfrm>
        </p:grpSpPr>
        <p:sp>
          <p:nvSpPr>
            <p:cNvPr id="106" name=""/>
            <p:cNvSpPr/>
            <p:nvPr/>
          </p:nvSpPr>
          <p:spPr>
            <a:xfrm>
              <a:off x="3352680" y="2133720"/>
              <a:ext cx="91440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O</a:t>
              </a:r>
              <a:r>
                <a:rPr b="1" lang="en-US" sz="4800" spc="-1" strike="noStrike" baseline="-25000">
                  <a:solidFill>
                    <a:srgbClr val="0000ff"/>
                  </a:solidFill>
                  <a:latin typeface="Times New Roman"/>
                  <a:ea typeface="Times New Roman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76720" y="762120"/>
              <a:ext cx="91440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O</a:t>
              </a:r>
              <a:r>
                <a:rPr b="1" lang="en-US" sz="4800" spc="-1" strike="noStrike" baseline="-25000">
                  <a:solidFill>
                    <a:srgbClr val="0000ff"/>
                  </a:solidFill>
                  <a:latin typeface="Times New Roman"/>
                  <a:ea typeface="Times New Roman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5257800" y="990720"/>
            <a:ext cx="2057400" cy="1371600"/>
          </a:xfrm>
          <a:prstGeom prst="irregularSeal1">
            <a:avLst/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8455" dir="6636033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0800000">
            <a:off x="5638320" y="2895480"/>
            <a:ext cx="1295640" cy="236232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2362320"/>
              <a:gd name="textAreaBottom" fmla="*/ 236268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1f1f00"/>
              </a:gs>
              <a:gs pos="100000">
                <a:srgbClr val="ffff00"/>
              </a:gs>
            </a:gsLst>
            <a:lin ang="2700000"/>
          </a:gradFill>
          <a:ln w="28440">
            <a:solidFill>
              <a:srgbClr val="0000ff"/>
            </a:solidFill>
            <a:miter/>
          </a:ln>
          <a:effectLst>
            <a:outerShdw dist="108455" dir="6636033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7315200" y="762120"/>
            <a:ext cx="1676520" cy="2158920"/>
            <a:chOff x="7315200" y="762120"/>
            <a:chExt cx="1676520" cy="2158920"/>
          </a:xfrm>
        </p:grpSpPr>
        <p:sp>
          <p:nvSpPr>
            <p:cNvPr id="111" name=""/>
            <p:cNvSpPr/>
            <p:nvPr/>
          </p:nvSpPr>
          <p:spPr>
            <a:xfrm>
              <a:off x="7696080" y="762120"/>
              <a:ext cx="129564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r>
                <a:rPr b="1" lang="en-US" sz="4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696080" y="2133720"/>
              <a:ext cx="129564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CO</a:t>
              </a:r>
              <a:r>
                <a:rPr b="1" lang="en-US" sz="4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315200" y="1143000"/>
              <a:ext cx="7621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2133720" y="4191120"/>
            <a:ext cx="3047760" cy="8380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ff"/>
            </a:solidFill>
            <a:miter/>
          </a:ln>
          <a:effectLst>
            <a:outerShdw dist="127008" dir="7616091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ellular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5715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ellular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04920" y="5715000"/>
            <a:ext cx="8533800" cy="510120"/>
            <a:chOff x="304920" y="5715000"/>
            <a:chExt cx="8533800" cy="510120"/>
          </a:xfrm>
        </p:grpSpPr>
        <p:sp>
          <p:nvSpPr>
            <p:cNvPr id="117" name=""/>
            <p:cNvSpPr/>
            <p:nvPr/>
          </p:nvSpPr>
          <p:spPr>
            <a:xfrm>
              <a:off x="304920" y="5715000"/>
              <a:ext cx="426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rganic compounds + 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410080" y="5715000"/>
              <a:ext cx="3428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nergy + C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190760" y="5867280"/>
              <a:ext cx="1218960" cy="228600"/>
            </a:xfrm>
            <a:custGeom>
              <a:avLst/>
              <a:gdLst>
                <a:gd name="textAreaLeft" fmla="*/ 152280 w 1218960"/>
                <a:gd name="textAreaRight" fmla="*/ 1066680 w 1218960"/>
                <a:gd name="textAreaTop" fmla="*/ 57240 h 228600"/>
                <a:gd name="textAreaBottom" fmla="*/ 1717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2EEE-1798-43AD-9D69-0CEA0AB38E89}" type="slidenum">
              <a:t>7</a:t>
            </a:fld>
          </a:p>
        </p:txBody>
      </p:sp>
    </p:spTree>
  </p:cSld>
  <p:transition spd="med">
    <p:push dir="r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28600" y="882720"/>
            <a:ext cx="8686800" cy="58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5000"/>
              </a:lnSpc>
              <a:spcBef>
                <a:spcPts val="64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63f1b"/>
                </a:solidFill>
                <a:latin typeface="Arial"/>
              </a:rPr>
              <a:t>ATP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600" spc="-1" strike="noStrike">
                <a:solidFill>
                  <a:srgbClr val="f63f1b"/>
                </a:solidFill>
                <a:latin typeface="Arial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nosine </a:t>
            </a:r>
            <a:r>
              <a:rPr b="1" lang="en-US" sz="2600" spc="-1" strike="noStrike">
                <a:solidFill>
                  <a:srgbClr val="f63f1b"/>
                </a:solidFill>
                <a:latin typeface="Arial"/>
              </a:rPr>
              <a:t>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i-</a:t>
            </a:r>
            <a:r>
              <a:rPr b="1" lang="en-US" sz="2600" spc="-1" strike="noStrike">
                <a:solidFill>
                  <a:srgbClr val="f63f1b"/>
                </a:solidFill>
                <a:latin typeface="Arial"/>
              </a:rPr>
              <a:t>P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osphate) is the important molecule in cellular energetic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مليات إنتاج الطاقة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 attachment of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three negatively-charged phosphate groups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s an unstab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ير مستقر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nergy-storing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خزن للطاقة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rrangement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oss of th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end phosphate group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elease ene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50000"/>
              </a:lnSpc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64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price of most cellular work is the conversion of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ATP to </a:t>
            </a:r>
            <a:r>
              <a:rPr b="1" lang="en-US" sz="2600" spc="-1" strike="noStrike" u="sng">
                <a:solidFill>
                  <a:srgbClr val="0000ff"/>
                </a:solidFill>
                <a:uFillTx/>
                <a:latin typeface="Arial"/>
              </a:rPr>
              <a:t>ADP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and phosphate (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animal cell regenerat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عيد إنتا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T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D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y adding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catabolism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هد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organic molec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. Cells recycle th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they use for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7621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F864-AEAC-460F-A4B1-7B955B1370B9}" type="slidenum">
              <a:t>8</a:t>
            </a:fld>
          </a:p>
        </p:txBody>
      </p:sp>
    </p:spTree>
  </p:cSld>
  <p:transition spd="med">
    <p:push dir="r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denosine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T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ri-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P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hosphate (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ATP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510280" y="1038600"/>
            <a:ext cx="2279880" cy="2209680"/>
            <a:chOff x="2510280" y="1038600"/>
            <a:chExt cx="2279880" cy="2209680"/>
          </a:xfrm>
        </p:grpSpPr>
        <p:sp>
          <p:nvSpPr>
            <p:cNvPr id="125" name=""/>
            <p:cNvSpPr/>
            <p:nvPr/>
          </p:nvSpPr>
          <p:spPr>
            <a:xfrm rot="1476000">
              <a:off x="3581280" y="1218960"/>
              <a:ext cx="1067040" cy="914040"/>
            </a:xfrm>
            <a:prstGeom prst="hexagon">
              <a:avLst>
                <a:gd name="adj" fmla="val 29185"/>
                <a:gd name="vf" fmla="val 115470"/>
              </a:avLst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  <a:effectLst>
              <a:outerShdw dist="120672" dir="4293903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19995000">
              <a:off x="2944440" y="1298160"/>
              <a:ext cx="762120" cy="831600"/>
            </a:xfrm>
            <a:prstGeom prst="pentagon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  <a:effectLst>
              <a:outerShdw dist="120672" dir="4293903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20174400">
              <a:off x="2615760" y="2437920"/>
              <a:ext cx="762120" cy="685440"/>
            </a:xfrm>
            <a:prstGeom prst="pentagon">
              <a:avLst/>
            </a:prstGeom>
            <a:solidFill>
              <a:srgbClr val="cc00ff"/>
            </a:solidFill>
            <a:ln w="19080">
              <a:solidFill>
                <a:srgbClr val="000000"/>
              </a:solidFill>
              <a:miter/>
            </a:ln>
            <a:effectLst>
              <a:outerShdw dist="120672" dir="4293903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301920" y="21841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616120" y="2489040"/>
              <a:ext cx="0" cy="38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752480" y="2286000"/>
            <a:ext cx="851040" cy="457200"/>
            <a:chOff x="1752480" y="2286000"/>
            <a:chExt cx="851040" cy="457200"/>
          </a:xfrm>
        </p:grpSpPr>
        <p:sp>
          <p:nvSpPr>
            <p:cNvPr id="131" name=""/>
            <p:cNvSpPr/>
            <p:nvPr/>
          </p:nvSpPr>
          <p:spPr>
            <a:xfrm flipH="1">
              <a:off x="2222640" y="250164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52480" y="2286000"/>
              <a:ext cx="457200" cy="45720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28600" y="2286000"/>
            <a:ext cx="761760" cy="457200"/>
            <a:chOff x="228600" y="2286000"/>
            <a:chExt cx="761760" cy="457200"/>
          </a:xfrm>
        </p:grpSpPr>
        <p:sp>
          <p:nvSpPr>
            <p:cNvPr id="134" name=""/>
            <p:cNvSpPr/>
            <p:nvPr/>
          </p:nvSpPr>
          <p:spPr>
            <a:xfrm>
              <a:off x="228600" y="2286000"/>
              <a:ext cx="457200" cy="45720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685440" y="25146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003320" y="2286000"/>
            <a:ext cx="749160" cy="457200"/>
            <a:chOff x="1003320" y="2286000"/>
            <a:chExt cx="749160" cy="457200"/>
          </a:xfrm>
        </p:grpSpPr>
        <p:sp>
          <p:nvSpPr>
            <p:cNvPr id="137" name=""/>
            <p:cNvSpPr/>
            <p:nvPr/>
          </p:nvSpPr>
          <p:spPr>
            <a:xfrm>
              <a:off x="1003320" y="2286000"/>
              <a:ext cx="457200" cy="45720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447920" y="25146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4419720" y="5029200"/>
            <a:ext cx="457200" cy="4572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5118120" y="3781800"/>
            <a:ext cx="3786840" cy="2209680"/>
            <a:chOff x="5118120" y="3781800"/>
            <a:chExt cx="3786840" cy="2209680"/>
          </a:xfrm>
        </p:grpSpPr>
        <p:grpSp>
          <p:nvGrpSpPr>
            <p:cNvPr id="141" name=""/>
            <p:cNvGrpSpPr/>
            <p:nvPr/>
          </p:nvGrpSpPr>
          <p:grpSpPr>
            <a:xfrm>
              <a:off x="6625080" y="3781800"/>
              <a:ext cx="2279880" cy="2209680"/>
              <a:chOff x="6625080" y="3781800"/>
              <a:chExt cx="2279880" cy="2209680"/>
            </a:xfrm>
          </p:grpSpPr>
          <p:sp>
            <p:nvSpPr>
              <p:cNvPr id="142" name=""/>
              <p:cNvSpPr/>
              <p:nvPr/>
            </p:nvSpPr>
            <p:spPr>
              <a:xfrm rot="1476000">
                <a:off x="7696080" y="3962160"/>
                <a:ext cx="1067040" cy="914040"/>
              </a:xfrm>
              <a:prstGeom prst="hexagon">
                <a:avLst>
                  <a:gd name="adj" fmla="val 29185"/>
                  <a:gd name="vf" fmla="val 115470"/>
                </a:avLst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19995000">
                <a:off x="7059240" y="4041360"/>
                <a:ext cx="762120" cy="831600"/>
              </a:xfrm>
              <a:prstGeom prst="pentagon">
                <a:avLst/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20174400">
                <a:off x="6730560" y="5181120"/>
                <a:ext cx="762120" cy="685440"/>
              </a:xfrm>
              <a:prstGeom prst="pentagon">
                <a:avLst/>
              </a:prstGeom>
              <a:solidFill>
                <a:srgbClr val="cc00ff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416720" y="4927320"/>
                <a:ext cx="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730920" y="5232240"/>
                <a:ext cx="0" cy="380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5867280" y="5029200"/>
              <a:ext cx="851040" cy="456840"/>
              <a:chOff x="5867280" y="5029200"/>
              <a:chExt cx="851040" cy="456840"/>
            </a:xfrm>
          </p:grpSpPr>
          <p:sp>
            <p:nvSpPr>
              <p:cNvPr id="148" name=""/>
              <p:cNvSpPr/>
              <p:nvPr/>
            </p:nvSpPr>
            <p:spPr>
              <a:xfrm flipH="1">
                <a:off x="6337440" y="524448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867280" y="5029200"/>
                <a:ext cx="457200" cy="4568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5118120" y="5029200"/>
              <a:ext cx="749160" cy="456840"/>
              <a:chOff x="5118120" y="5029200"/>
              <a:chExt cx="749160" cy="456840"/>
            </a:xfrm>
          </p:grpSpPr>
          <p:sp>
            <p:nvSpPr>
              <p:cNvPr id="151" name=""/>
              <p:cNvSpPr/>
              <p:nvPr/>
            </p:nvSpPr>
            <p:spPr>
              <a:xfrm>
                <a:off x="5118120" y="5029200"/>
                <a:ext cx="457200" cy="4568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5562720" y="525744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4894560" y="1752480"/>
            <a:ext cx="221256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+  H</a:t>
            </a:r>
            <a:r>
              <a:rPr b="1" lang="en-US" sz="5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876920" y="52578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419720"/>
            <a:ext cx="2209680" cy="1676160"/>
          </a:xfrm>
          <a:prstGeom prst="irregularSeal1">
            <a:avLst/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121932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denos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320" y="2909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Tri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9137600">
            <a:off x="5457600" y="2619000"/>
            <a:ext cx="533160" cy="2133720"/>
          </a:xfrm>
          <a:prstGeom prst="downArrow">
            <a:avLst>
              <a:gd name="adj1" fmla="val 50000"/>
              <a:gd name="adj2" fmla="val 100051"/>
            </a:avLst>
          </a:prstGeom>
          <a:solidFill>
            <a:srgbClr val="00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191120" y="594360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nosine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-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sph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320" y="650700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. 6.8, Page 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C2C2-9D6F-4A25-8DD7-7BC392B5D105}" type="slidenum">
              <a:t>9</a:t>
            </a:fld>
          </a:p>
        </p:txBody>
      </p:sp>
    </p:spTree>
  </p:cSld>
  <p:transition spd="med">
    <p:push dir="r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500"/>
                            </p:stCondLst>
                            <p:childTnLst>
                              <p:par>
                                <p:cTn id="3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500"/>
                            </p:stCondLst>
                            <p:childTnLst>
                              <p:par>
                                <p:cTn id="3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3 -0.14445 E">
                                      <p:cBhvr>
                                        <p:cTn id="353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355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4000"/>
                            </p:stCondLst>
                            <p:childTnLst>
                              <p:par>
                                <p:cTn id="3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4500"/>
                            </p:stCondLst>
                            <p:childTnLst>
                              <p:par>
                                <p:cTn id="3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500"/>
                            </p:stCondLst>
                            <p:childTnLst>
                              <p:par>
                                <p:cTn id="367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20:37:44Z</dcterms:created>
  <dc:creator>User</dc:creator>
  <dc:description/>
  <dc:language>en-US</dc:language>
  <cp:lastModifiedBy>Saad</cp:lastModifiedBy>
  <dcterms:modified xsi:type="dcterms:W3CDTF">2007-10-06T20:09:06Z</dcterms:modified>
  <cp:revision>8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