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gif" ContentType="image/gif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753-1FB7-4109-B881-62FFA6D3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B8F-FD6D-4C57-86EC-9D369AB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E96-0A12-4FB0-8DF9-32237401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F79-B17E-4AC2-B79D-341C9374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EF5-B37A-4921-8F57-06246E32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24C8-A393-4924-890F-FE1E2230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62F-AA2D-4A77-B716-08CCCCFE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1DC-A688-4D9B-B883-A3C41741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534-D421-4894-9F3B-17784501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169-4398-4C86-84D1-35D7D65F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38F9-3340-4E71-8E99-5CC9DD3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0F6-E183-41FB-A9BE-C4C6CDC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2EF2-7D26-404B-A43B-B45AA54D6B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629040"/>
            <a:chOff x="0" y="0"/>
            <a:chExt cx="9144000" cy="6629040"/>
          </a:xfrm>
        </p:grpSpPr>
        <p:grpSp>
          <p:nvGrpSpPr>
            <p:cNvPr id="42" name=""/>
            <p:cNvGrpSpPr/>
            <p:nvPr/>
          </p:nvGrpSpPr>
          <p:grpSpPr>
            <a:xfrm>
              <a:off x="81360" y="1260720"/>
              <a:ext cx="7976520" cy="5368320"/>
              <a:chOff x="81360" y="1260720"/>
              <a:chExt cx="7976520" cy="536832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>
                <a:lum contrast="24000"/>
              </a:blip>
              <a:srcRect l="0" t="0" r="0" b="6594"/>
              <a:stretch/>
            </p:blipFill>
            <p:spPr>
              <a:xfrm>
                <a:off x="798840" y="1629360"/>
                <a:ext cx="7259040" cy="49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 rot="18849000">
                <a:off x="437760" y="1870200"/>
                <a:ext cx="2581200" cy="208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68960" y="2077920"/>
                <a:ext cx="2145600" cy="47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86000" y="228600"/>
              <a:ext cx="495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HAPTER 9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ELLULAR RESPIRATION:                                    HARVESTING CHEMICAL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19320" y="1676520"/>
              <a:ext cx="69339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Section A: The Principles of Energy Harv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838080" y="2514600"/>
            <a:ext cx="7696440" cy="419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DFAC-81FB-4402-A7EC-DD9B92E025BC}" type="slidenum">
              <a:t>1</a:t>
            </a:fld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rcRect l="0" t="0" r="0" b="6690"/>
          <a:stretch/>
        </p:blipFill>
        <p:spPr>
          <a:xfrm>
            <a:off x="4419720" y="2011320"/>
            <a:ext cx="4724280" cy="3551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75420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nsfer of the terminal phosphate group from ATP to another molecule is phosphoryl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ـَسْـفـَر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changes the shape                                                                  of the receiving molecule                                                      in order to work                                                                 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ransport, mechanical,                                                                or chem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phosph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s leave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,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e returns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s original sha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0EF-A0F5-49A0-BA33-ACF8C63C2E9B}" type="slidenum">
              <a:t>10</a:t>
            </a:fld>
          </a:p>
        </p:txBody>
      </p:sp>
    </p:spTree>
  </p:cSld>
  <p:transition spd="med">
    <p:push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248520" y="1143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5410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dose ATP drive cellular work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4210200" y="1428480"/>
            <a:ext cx="457200" cy="6438960"/>
          </a:xfrm>
          <a:prstGeom prst="can">
            <a:avLst>
              <a:gd name="adj" fmla="val 6203"/>
            </a:avLst>
          </a:prstGeom>
          <a:gradFill rotWithShape="0">
            <a:gsLst>
              <a:gs pos="0">
                <a:srgbClr val="383800"/>
              </a:gs>
              <a:gs pos="50000">
                <a:srgbClr val="ffff00"/>
              </a:gs>
              <a:gs pos="100000">
                <a:srgbClr val="383800"/>
              </a:gs>
            </a:gsLst>
            <a:lin ang="5400000"/>
          </a:gradFill>
          <a:ln w="28440">
            <a:solidFill>
              <a:srgbClr val="000000"/>
            </a:solidFill>
            <a:miter/>
          </a:ln>
          <a:effectLst>
            <a:outerShdw dist="117181" dir="836163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tub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6320" y="3429000"/>
            <a:ext cx="2438280" cy="1752480"/>
            <a:chOff x="76320" y="3429000"/>
            <a:chExt cx="2438280" cy="1752480"/>
          </a:xfrm>
        </p:grpSpPr>
        <p:sp>
          <p:nvSpPr>
            <p:cNvPr id="167" name=""/>
            <p:cNvSpPr/>
            <p:nvPr/>
          </p:nvSpPr>
          <p:spPr>
            <a:xfrm>
              <a:off x="1600200" y="3429000"/>
              <a:ext cx="914400" cy="1752480"/>
            </a:xfrm>
            <a:prstGeom prst="blockArc">
              <a:avLst>
                <a:gd name="adj1" fmla="val 8761464"/>
                <a:gd name="adj2" fmla="val 2038536"/>
                <a:gd name="adj3" fmla="val 19856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00ffff"/>
                </a:gs>
                <a:gs pos="100000">
                  <a:srgbClr val="ff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  <a:effectLst>
              <a:outerShdw dist="71785" dir="8100000" blurRad="0" rotWithShape="0">
                <a:srgbClr val="4d4d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320" y="3641760"/>
              <a:ext cx="1218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or Prote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66680" y="39625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066680" y="2133720"/>
            <a:ext cx="1828800" cy="685800"/>
          </a:xfrm>
          <a:prstGeom prst="ellipse">
            <a:avLst/>
          </a:prstGeom>
          <a:gradFill rotWithShape="0">
            <a:gsLst>
              <a:gs pos="0">
                <a:srgbClr val="0033cc"/>
              </a:gs>
              <a:gs pos="100000">
                <a:srgbClr val="000c3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13080" y="3708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4572000"/>
            <a:ext cx="1524240" cy="10666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6507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2, Page 1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3600" y="990720"/>
            <a:ext cx="380880" cy="3808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477120" y="-52920"/>
            <a:ext cx="2782800" cy="1741680"/>
            <a:chOff x="6477120" y="-52920"/>
            <a:chExt cx="2782800" cy="1741680"/>
          </a:xfrm>
        </p:grpSpPr>
        <p:grpSp>
          <p:nvGrpSpPr>
            <p:cNvPr id="176" name=""/>
            <p:cNvGrpSpPr/>
            <p:nvPr/>
          </p:nvGrpSpPr>
          <p:grpSpPr>
            <a:xfrm>
              <a:off x="7570080" y="-52920"/>
              <a:ext cx="1689840" cy="1741680"/>
              <a:chOff x="7570080" y="-52920"/>
              <a:chExt cx="1689840" cy="1741680"/>
            </a:xfrm>
          </p:grpSpPr>
          <p:sp>
            <p:nvSpPr>
              <p:cNvPr id="177" name=""/>
              <p:cNvSpPr/>
              <p:nvPr/>
            </p:nvSpPr>
            <p:spPr>
              <a:xfrm rot="1476000">
                <a:off x="8362440" y="76320"/>
                <a:ext cx="780480" cy="7311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9995000">
                <a:off x="7897320" y="139320"/>
                <a:ext cx="557280" cy="66528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0174400">
                <a:off x="7656840" y="1051200"/>
                <a:ext cx="557280" cy="54828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158320" y="84816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656840" y="1092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025040" y="929520"/>
              <a:ext cx="621720" cy="365400"/>
              <a:chOff x="7025040" y="929520"/>
              <a:chExt cx="621720" cy="36540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7368480" y="1101600"/>
                <a:ext cx="27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2504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477120" y="929520"/>
              <a:ext cx="547560" cy="365400"/>
              <a:chOff x="6477120" y="929520"/>
              <a:chExt cx="547560" cy="365400"/>
            </a:xfrm>
          </p:grpSpPr>
          <p:sp>
            <p:nvSpPr>
              <p:cNvPr id="186" name=""/>
              <p:cNvSpPr/>
              <p:nvPr/>
            </p:nvSpPr>
            <p:spPr>
              <a:xfrm>
                <a:off x="6477120" y="929520"/>
                <a:ext cx="334440" cy="36540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6802200" y="1112040"/>
                <a:ext cx="22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"/>
          <p:cNvGrpSpPr/>
          <p:nvPr/>
        </p:nvGrpSpPr>
        <p:grpSpPr>
          <a:xfrm>
            <a:off x="6139080" y="1371240"/>
            <a:ext cx="1772640" cy="1406160"/>
            <a:chOff x="6139080" y="1371240"/>
            <a:chExt cx="1772640" cy="1406160"/>
          </a:xfrm>
        </p:grpSpPr>
        <p:sp>
          <p:nvSpPr>
            <p:cNvPr id="189" name=""/>
            <p:cNvSpPr/>
            <p:nvPr/>
          </p:nvSpPr>
          <p:spPr>
            <a:xfrm flipH="1" flipV="1">
              <a:off x="6311520" y="1371240"/>
              <a:ext cx="1600200" cy="11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119200">
              <a:off x="6069960" y="18921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respi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943600" y="965160"/>
            <a:ext cx="533160" cy="380880"/>
            <a:chOff x="5943600" y="965160"/>
            <a:chExt cx="533160" cy="380880"/>
          </a:xfrm>
        </p:grpSpPr>
        <p:sp>
          <p:nvSpPr>
            <p:cNvPr id="192" name=""/>
            <p:cNvSpPr/>
            <p:nvPr/>
          </p:nvSpPr>
          <p:spPr>
            <a:xfrm>
              <a:off x="5943600" y="9651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480" y="114300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0E9-8A9B-4242-B1F5-3E838259F5B0}" type="slidenum">
              <a:t>11</a:t>
            </a:fld>
          </a:p>
        </p:txBody>
      </p:sp>
    </p:spTree>
  </p:cSld>
  <p:transition spd="med">
    <p:push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1111 E">
                                      <p:cBhvr>
                                        <p:cTn id="40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48844E-006 L -0.3875 0.39963 E">
                                      <p:cBhvr>
                                        <p:cTn id="411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5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11111 L 0.45834 0.11111 E">
                                      <p:cBhvr>
                                        <p:cTn id="430" dur="8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432" dur="8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834 0 E">
                                      <p:cBhvr>
                                        <p:cTn id="434" dur="8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2.59944E-006 L 0.59861 -0.17946 E">
                                      <p:cBhvr>
                                        <p:cTn id="43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11111 L 0.45834 0.01111 E">
                                      <p:cBhvr>
                                        <p:cTn id="44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3000"/>
                            </p:stCondLst>
                            <p:childTnLst>
                              <p:par>
                                <p:cTn id="454" nodeType="afterEffect" fill="hold" presetClass="emph" presetID="35" repeatCount="indefinite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5960" y="1066680"/>
            <a:ext cx="8762760" cy="321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abolic pathways relocat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بدل أماك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stored in food molecules, releasing energy that is used to synthesiz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خلي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-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uctio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reactions (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ed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 reactio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reactions that result in the transfer of one or more electrons from one reactan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xida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los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فقـ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du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addi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كتسا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52280" y="160920"/>
            <a:ext cx="8763120" cy="6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 R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reactions 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47466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09480" y="4853160"/>
            <a:ext cx="7391520" cy="627120"/>
            <a:chOff x="609480" y="4853160"/>
            <a:chExt cx="7391520" cy="627120"/>
          </a:xfrm>
        </p:grpSpPr>
        <p:sp>
          <p:nvSpPr>
            <p:cNvPr id="199" name=""/>
            <p:cNvSpPr/>
            <p:nvPr/>
          </p:nvSpPr>
          <p:spPr>
            <a:xfrm>
              <a:off x="609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146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7480" y="4853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765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7120" y="489888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76720" y="5203800"/>
              <a:ext cx="1904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716800" y="46483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102640" y="5356080"/>
            <a:ext cx="3628080" cy="703800"/>
            <a:chOff x="5102640" y="5356080"/>
            <a:chExt cx="3628080" cy="703800"/>
          </a:xfrm>
        </p:grpSpPr>
        <p:sp>
          <p:nvSpPr>
            <p:cNvPr id="208" name=""/>
            <p:cNvSpPr/>
            <p:nvPr/>
          </p:nvSpPr>
          <p:spPr>
            <a:xfrm>
              <a:off x="5102640" y="5356080"/>
              <a:ext cx="162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Oxid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reducing agent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82280" y="5356080"/>
              <a:ext cx="164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Re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oxidizing agent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00800" y="6019920"/>
            <a:ext cx="1143000" cy="45720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52280" y="6019920"/>
            <a:ext cx="4267440" cy="477720"/>
            <a:chOff x="152280" y="6019920"/>
            <a:chExt cx="4267440" cy="477720"/>
          </a:xfrm>
        </p:grpSpPr>
        <p:sp>
          <p:nvSpPr>
            <p:cNvPr id="212" name=""/>
            <p:cNvSpPr/>
            <p:nvPr/>
          </p:nvSpPr>
          <p:spPr>
            <a:xfrm>
              <a:off x="152280" y="6019920"/>
              <a:ext cx="42674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Na + Cl       Na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+ Cl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Arial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1080" y="624852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800600" y="2895480"/>
            <a:ext cx="3962520" cy="12193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ctions requ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n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cceptor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16C-7CBB-49D8-85EE-E09ECFE1BAEA}" type="slidenum">
              <a:t>12</a:t>
            </a:fld>
          </a:p>
        </p:txBody>
      </p:sp>
    </p:spTree>
  </p:cSld>
  <p:transition spd="med">
    <p:push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6.2963E-006 C 0.00868 -0.02013 0.01754 -0.04004 0.07639 -0.05486 C 0.13524 -0.06967 0.24271 -0.09212 0.35295 -0.08819 C 0.4632 -0.08425 0.67379 -0.04652 0.7382 -0.03148 C 0.80261 -0.01643 0.73941 -0.0037 0.73976 0.00186 E">
                                      <p:cBhvr>
                                        <p:cTn id="506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6000"/>
                            </p:stCondLst>
                            <p:childTnLst>
                              <p:par>
                                <p:cTn id="52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ellular respiration, glucose and other fuel molecules are oxidized, releasing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 is oxidized, oxygen is reduced, and electrons loose potential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is the source of electrons that transfere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molecules that have an abundance of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فرة م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gen are excellent fuels because their bonds are a source of electrons that “fall” closer to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lower the barrier of activation energy, allowing these fuels to be oxidized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moves to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it leaves bonds which degenerated to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esulting energy is used by the cell to synthesis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18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282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. Electrons “fall”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from organic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molecules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to oxyge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09480" y="2590920"/>
            <a:ext cx="8318520" cy="604800"/>
            <a:chOff x="609480" y="2590920"/>
            <a:chExt cx="8318520" cy="604800"/>
          </a:xfrm>
        </p:grpSpPr>
        <p:sp>
          <p:nvSpPr>
            <p:cNvPr id="219" name=""/>
            <p:cNvSpPr/>
            <p:nvPr/>
          </p:nvSpPr>
          <p:spPr>
            <a:xfrm>
              <a:off x="609480" y="2590920"/>
              <a:ext cx="266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H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-25000">
                  <a:solidFill>
                    <a:srgbClr val="0033cc"/>
                  </a:solidFill>
                  <a:latin typeface="Times New Roman"/>
                  <a:ea typeface="Times New Roman"/>
                </a:rPr>
                <a:t>6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O</a:t>
              </a:r>
              <a:r>
                <a:rPr b="1" lang="en-US" sz="2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27400" y="2616120"/>
              <a:ext cx="4800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+ 6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 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TP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Hea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7760" y="2920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6324480" y="30621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= 686 kcal/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2171880"/>
            <a:ext cx="3810240" cy="495000"/>
          </a:xfrm>
          <a:custGeom>
            <a:avLst/>
            <a:gdLst/>
            <a:ahLst/>
            <a:rect l="l" t="t" r="r" b="b"/>
            <a:pathLst>
              <a:path w="2400" h="312">
                <a:moveTo>
                  <a:pt x="0" y="168"/>
                </a:moveTo>
                <a:cubicBezTo>
                  <a:pt x="424" y="84"/>
                  <a:pt x="848" y="0"/>
                  <a:pt x="1248" y="24"/>
                </a:cubicBezTo>
                <a:cubicBezTo>
                  <a:pt x="1648" y="48"/>
                  <a:pt x="2208" y="264"/>
                  <a:pt x="2400" y="31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143000" y="1752480"/>
            <a:ext cx="1371600" cy="990720"/>
            <a:chOff x="1143000" y="1752480"/>
            <a:chExt cx="1371600" cy="990720"/>
          </a:xfrm>
        </p:grpSpPr>
        <p:sp>
          <p:nvSpPr>
            <p:cNvPr id="225" name=""/>
            <p:cNvSpPr/>
            <p:nvPr/>
          </p:nvSpPr>
          <p:spPr>
            <a:xfrm>
              <a:off x="1143000" y="2349360"/>
              <a:ext cx="1371600" cy="393840"/>
            </a:xfrm>
            <a:custGeom>
              <a:avLst/>
              <a:gdLst/>
              <a:ahLst/>
              <a:rect l="l" t="t" r="r" b="b"/>
              <a:pathLst>
                <a:path w="864" h="248">
                  <a:moveTo>
                    <a:pt x="0" y="200"/>
                  </a:moveTo>
                  <a:cubicBezTo>
                    <a:pt x="72" y="100"/>
                    <a:pt x="144" y="0"/>
                    <a:pt x="288" y="8"/>
                  </a:cubicBezTo>
                  <a:cubicBezTo>
                    <a:pt x="432" y="16"/>
                    <a:pt x="768" y="208"/>
                    <a:pt x="864" y="24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560" y="1752480"/>
              <a:ext cx="685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e</a:t>
              </a:r>
              <a:r>
                <a:rPr b="1" lang="en-US" sz="4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04440" y="3124080"/>
            <a:ext cx="2671920" cy="642600"/>
            <a:chOff x="604440" y="3124080"/>
            <a:chExt cx="2671920" cy="642600"/>
          </a:xfrm>
        </p:grpSpPr>
        <p:sp>
          <p:nvSpPr>
            <p:cNvPr id="228" name=""/>
            <p:cNvSpPr/>
            <p:nvPr/>
          </p:nvSpPr>
          <p:spPr>
            <a:xfrm>
              <a:off x="2063880" y="3124080"/>
              <a:ext cx="121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idiz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4440" y="3124080"/>
              <a:ext cx="122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duc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6781680" y="3352680"/>
            <a:ext cx="1295640" cy="53352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120-A290-4D0E-A891-8A95E8C8A2A8}" type="slidenum">
              <a:t>13</a:t>
            </a:fld>
          </a:p>
        </p:txBody>
      </p:sp>
    </p:spTree>
  </p:cSld>
  <p:transition spd="med">
    <p:push dir="r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500"/>
                            </p:stCondLst>
                            <p:childTnLst>
                              <p:par>
                                <p:cTn id="5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600" y="1479600"/>
            <a:ext cx="8686800" cy="37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does not oxidize glucose in a single step that transfers all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yg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t on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her, glucose and other fuels are broken down gradually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دريجي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series of steps, each catalyzed by a specific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key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فى الخطوات الأساس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hydrogen atoms move from glucose and passed first to the coenzy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ucleoti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hydrogenase enzymes strip two hydrogen atoms from the fuel (e.g., glucose), pass two electrons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releas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. The “fall” of electr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حدار الإليكترون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ring respiration is 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رحل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nd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066680" y="5572080"/>
            <a:ext cx="7467840" cy="525960"/>
            <a:chOff x="1066680" y="5572080"/>
            <a:chExt cx="7467840" cy="525960"/>
          </a:xfrm>
        </p:grpSpPr>
        <p:sp>
          <p:nvSpPr>
            <p:cNvPr id="235" name=""/>
            <p:cNvSpPr/>
            <p:nvPr/>
          </p:nvSpPr>
          <p:spPr>
            <a:xfrm>
              <a:off x="1066680" y="5699160"/>
              <a:ext cx="746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-C-OH + NAD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C=O + NADH + H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52680" y="5572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Dehydrogen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5927760"/>
              <a:ext cx="23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E8E6-8B21-4E86-8731-30D62EF9B29F}" type="slidenum">
              <a:t>14</a:t>
            </a:fld>
          </a:p>
        </p:txBody>
      </p:sp>
    </p:spTree>
  </p:cSld>
  <p:transition spd="med">
    <p:push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rcRect l="0" t="0" r="0" b="5905"/>
          <a:stretch/>
        </p:blipFill>
        <p:spPr>
          <a:xfrm>
            <a:off x="76320" y="2133720"/>
            <a:ext cx="89913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6537240"/>
            <a:ext cx="838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304920"/>
            <a:ext cx="84582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changes the oxidized form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to the reduced form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2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D 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s as the oxidizing agent in many of the redox steps during the catabolism of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76520" y="4861080"/>
            <a:ext cx="536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“fall”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oxyg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energy is tapped to synthesize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B50-65F9-4CD9-869F-F5FFE1B7FB69}" type="slidenum">
              <a:t>15</a:t>
            </a:fld>
          </a:p>
        </p:txBody>
      </p:sp>
    </p:spTree>
  </p:cSld>
  <p:transition spd="med">
    <p:push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0" y="6516720"/>
            <a:ext cx="144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5, Page 15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364680"/>
            <a:ext cx="8915400" cy="105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uses 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سلسلة نقل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ليكترون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reak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ـُقـَس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ll of electrons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several step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دة خطو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112920" y="1627200"/>
            <a:ext cx="6031080" cy="4164120"/>
            <a:chOff x="3112920" y="1627200"/>
            <a:chExt cx="6031080" cy="416412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rcRect l="0" t="0" r="0" b="3357"/>
            <a:stretch/>
          </p:blipFill>
          <p:spPr>
            <a:xfrm>
              <a:off x="3112920" y="1627200"/>
              <a:ext cx="603108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124080" y="1627200"/>
              <a:ext cx="2286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76320" y="1376280"/>
            <a:ext cx="5410080" cy="49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, consisting of several molecule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is built in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ner membrane of a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s electrons from food to the “top” of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“bottom”, oxygen captures the electrons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ree energy change from “top” to “bottom” is  -53 kcal/mole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are passed by increasingly electronegative molecules in the chain until they are caught by oxygen (the most electronegativ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78B-DE87-4A9B-B134-87564021669B}" type="slidenum">
              <a:t>16</a:t>
            </a:fld>
          </a:p>
        </p:txBody>
      </p:sp>
    </p:spTree>
  </p:cSld>
  <p:transition spd="med">
    <p:push dir="r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11760" y="3124080"/>
            <a:ext cx="7994160" cy="3162960"/>
            <a:chOff x="311760" y="3124080"/>
            <a:chExt cx="7994160" cy="3162960"/>
          </a:xfrm>
        </p:grpSpPr>
        <p:sp>
          <p:nvSpPr>
            <p:cNvPr id="249" name=""/>
            <p:cNvSpPr/>
            <p:nvPr/>
          </p:nvSpPr>
          <p:spPr>
            <a:xfrm>
              <a:off x="609480" y="3124080"/>
              <a:ext cx="7696440" cy="2971800"/>
            </a:xfrm>
            <a:prstGeom prst="ellipse">
              <a:avLst/>
            </a:prstGeom>
            <a:solidFill>
              <a:srgbClr val="99cc00">
                <a:alpha val="49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21180000">
              <a:off x="1752480" y="3290760"/>
              <a:ext cx="247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lectron Fa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284600">
              <a:off x="348840" y="547848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Cel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Summary of electron “Fall” steps during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31520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158 &amp; Fig. 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80640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alling of all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from glucose to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gradually not at o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13240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t occurs in steps, each one is catalyzed by an enzy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7971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oms of glucose pass first to the co-enzyme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23302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hen fr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electron transport chain, and finally to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releas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erg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505320" y="3657600"/>
            <a:ext cx="4495680" cy="1828800"/>
            <a:chOff x="3505320" y="3657600"/>
            <a:chExt cx="4495680" cy="1828800"/>
          </a:xfrm>
        </p:grpSpPr>
        <p:sp>
          <p:nvSpPr>
            <p:cNvPr id="259" name=""/>
            <p:cNvSpPr/>
            <p:nvPr/>
          </p:nvSpPr>
          <p:spPr>
            <a:xfrm>
              <a:off x="3505320" y="4038480"/>
              <a:ext cx="4495680" cy="1447920"/>
            </a:xfrm>
            <a:prstGeom prst="flowChartTerminator">
              <a:avLst/>
            </a:prstGeom>
            <a:gradFill rotWithShape="0">
              <a:gsLst>
                <a:gs pos="0">
                  <a:srgbClr val="ffff00"/>
                </a:gs>
                <a:gs pos="50000">
                  <a:srgbClr val="ffcccc"/>
                </a:gs>
                <a:gs pos="100000">
                  <a:srgbClr val="ffff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00600" y="3657600"/>
              <a:ext cx="19810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itochondr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838080" y="4038480"/>
            <a:ext cx="7010640" cy="606600"/>
            <a:chOff x="838080" y="4038480"/>
            <a:chExt cx="7010640" cy="606600"/>
          </a:xfrm>
        </p:grpSpPr>
        <p:sp>
          <p:nvSpPr>
            <p:cNvPr id="262" name=""/>
            <p:cNvSpPr/>
            <p:nvPr/>
          </p:nvSpPr>
          <p:spPr>
            <a:xfrm>
              <a:off x="838080" y="4228920"/>
              <a:ext cx="701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oo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NAD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port chain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3880" y="438156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00200" y="415296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523880" y="4368600"/>
              <a:ext cx="60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09960" y="4381560"/>
              <a:ext cx="952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15000" y="4381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403848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65760" y="40384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486400" y="4876920"/>
            <a:ext cx="1447920" cy="459720"/>
            <a:chOff x="5486400" y="4876920"/>
            <a:chExt cx="1447920" cy="459720"/>
          </a:xfrm>
        </p:grpSpPr>
        <p:sp>
          <p:nvSpPr>
            <p:cNvPr id="271" name=""/>
            <p:cNvSpPr/>
            <p:nvPr/>
          </p:nvSpPr>
          <p:spPr>
            <a:xfrm>
              <a:off x="5486400" y="4876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24480" y="5029200"/>
              <a:ext cx="60984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971440" y="4876920"/>
            <a:ext cx="2590920" cy="459720"/>
            <a:chOff x="2971440" y="4876920"/>
            <a:chExt cx="2590920" cy="459720"/>
          </a:xfrm>
        </p:grpSpPr>
        <p:sp>
          <p:nvSpPr>
            <p:cNvPr id="274" name=""/>
            <p:cNvSpPr/>
            <p:nvPr/>
          </p:nvSpPr>
          <p:spPr>
            <a:xfrm>
              <a:off x="4038480" y="4876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4800240" y="51055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971440" y="510552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934320" y="4648320"/>
            <a:ext cx="914400" cy="60948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D31-2CD7-4D05-A243-A569F59DDC68}" type="slidenum">
              <a:t>17</a:t>
            </a:fld>
          </a:p>
        </p:txBody>
      </p:sp>
    </p:spTree>
  </p:cSld>
  <p:transition spd="med">
    <p:push dir="r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762120"/>
            <a:ext cx="830556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763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tion A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The Principles of Energy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520" y="1143000"/>
            <a:ext cx="891540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 and fermenta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خم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catabolic, energy-yie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نتِج للطاق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ْ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recycle the ATP they us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ox reaction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فاعلات الأكسدة-الإختزا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energy when electrons move closer to electronegative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s “fall”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نتق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organic molecules to oxygen during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The “fall” of electrons during respiration is stepwi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َرْحَل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ctron Transpor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4A2F-3458-429B-86C5-F42A83A4B9E4}" type="slidenum">
              <a:t>2</a:t>
            </a:fld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320" y="3448080"/>
            <a:ext cx="4343400" cy="3257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81280" y="76320"/>
            <a:ext cx="5486400" cy="4114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152280" y="3049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espi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856-47A1-424F-B0C1-66FDC065A816}" type="slidenum">
              <a:t>3</a:t>
            </a:fld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460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03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429000" y="228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33cc"/>
                </a:solidFill>
                <a:latin typeface="Times New Roman"/>
                <a:cs typeface="Times New Roman (Arabic)"/>
              </a:rPr>
              <a:t>مـراحـل الـتـنـفـــ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3505320"/>
            <a:ext cx="2133360" cy="1600200"/>
          </a:xfrm>
          <a:custGeom>
            <a:avLst/>
            <a:gdLst>
              <a:gd name="textAreaLeft" fmla="*/ 487080 w 2133360"/>
              <a:gd name="textAreaRight" fmla="*/ 1646280 w 2133360"/>
              <a:gd name="textAreaTop" fmla="*/ 365040 h 1600200"/>
              <a:gd name="textAreaBottom" fmla="*/ 123516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  <a:effectLst>
            <a:outerShdw dist="134955" dir="2927119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ــد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1523880"/>
            <a:ext cx="1828800" cy="1143000"/>
          </a:xfrm>
          <a:prstGeom prst="cloudCallout">
            <a:avLst>
              <a:gd name="adj1" fmla="val -21092"/>
              <a:gd name="adj2" fmla="val 8652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حويصلات هوائ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410080"/>
            <a:ext cx="1447920" cy="1143000"/>
          </a:xfrm>
          <a:prstGeom prst="cloudCallout">
            <a:avLst>
              <a:gd name="adj1" fmla="val -12500"/>
              <a:gd name="adj2" fmla="val -99722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خلايا الجـســ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223992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تـنـفـس خـارجـ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5973840"/>
            <a:ext cx="281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تـنـفـس داخـلــ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391520" y="2590920"/>
            <a:ext cx="99036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990720" cy="1447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480" y="3124080"/>
            <a:ext cx="2743200" cy="1981440"/>
          </a:xfrm>
          <a:prstGeom prst="flowChartDisplay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34955" dir="8327119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90720" y="3276720"/>
            <a:ext cx="2133360" cy="1752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51814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- تـنـفـس خـلـو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2600" y="12600"/>
          <a:ext cx="136368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600" y="12600"/>
                    <a:ext cx="1363680" cy="182880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D92-718E-45BB-BBB0-F9CF2E913C71}" type="slidenum">
              <a:t>4</a:t>
            </a:fld>
          </a:p>
        </p:txBody>
      </p:sp>
    </p:spTree>
  </p:cSld>
  <p:transition spd="med"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09880" y="0"/>
            <a:ext cx="14637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380880" y="1600200"/>
            <a:ext cx="8534520" cy="4038480"/>
            <a:chOff x="380880" y="1600200"/>
            <a:chExt cx="8534520" cy="4038480"/>
          </a:xfrm>
        </p:grpSpPr>
        <p:sp>
          <p:nvSpPr>
            <p:cNvPr id="73" name=""/>
            <p:cNvSpPr/>
            <p:nvPr/>
          </p:nvSpPr>
          <p:spPr>
            <a:xfrm>
              <a:off x="380880" y="1600200"/>
              <a:ext cx="8534520" cy="403848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49528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Plant cel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1280" y="1828800"/>
              <a:ext cx="2057400" cy="762120"/>
            </a:xfrm>
            <a:prstGeom prst="flowChartPreparation">
              <a:avLst/>
            </a:prstGeom>
            <a:gradFill rotWithShape="0">
              <a:gsLst>
                <a:gs pos="0">
                  <a:srgbClr val="003000"/>
                </a:gs>
                <a:gs pos="50000">
                  <a:srgbClr val="00ff00"/>
                </a:gs>
                <a:gs pos="100000">
                  <a:srgbClr val="003000"/>
                </a:gs>
              </a:gsLst>
              <a:lin ang="5400000"/>
            </a:gradFill>
            <a:ln w="2844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hloropla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7600" y="3657600"/>
              <a:ext cx="2057400" cy="762120"/>
            </a:xfrm>
            <a:prstGeom prst="flowChartTerminator">
              <a:avLst/>
            </a:prstGeom>
            <a:gradFill rotWithShape="0">
              <a:gsLst>
                <a:gs pos="0">
                  <a:srgbClr val="270f00"/>
                </a:gs>
                <a:gs pos="50000">
                  <a:srgbClr val="ff6600"/>
                </a:gs>
                <a:gs pos="100000">
                  <a:srgbClr val="270f00"/>
                </a:gs>
              </a:gsLst>
              <a:lin ang="5400000"/>
            </a:gradFill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tochondr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rot="2548800">
            <a:off x="2742840" y="365724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7912200">
            <a:off x="2666520" y="243828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3132200">
            <a:off x="5638680" y="2361960"/>
            <a:ext cx="914400" cy="30456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8852600">
            <a:off x="5638680" y="3733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029200"/>
            <a:ext cx="1295640" cy="609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86400" y="4343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2971800"/>
            <a:ext cx="1828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+ 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870280"/>
            <a:ext cx="2514600" cy="703800"/>
            <a:chOff x="5715000" y="2870280"/>
            <a:chExt cx="2514600" cy="703800"/>
          </a:xfrm>
        </p:grpSpPr>
        <p:sp>
          <p:nvSpPr>
            <p:cNvPr id="85" name=""/>
            <p:cNvSpPr/>
            <p:nvPr/>
          </p:nvSpPr>
          <p:spPr>
            <a:xfrm>
              <a:off x="5715000" y="28702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)-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Organic molecu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6600" y="2946600"/>
              <a:ext cx="114300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0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267080" y="1219320"/>
            <a:ext cx="609840" cy="609480"/>
            <a:chOff x="4267080" y="1219320"/>
            <a:chExt cx="609840" cy="609480"/>
          </a:xfrm>
        </p:grpSpPr>
        <p:sp>
          <p:nvSpPr>
            <p:cNvPr id="88" name=""/>
            <p:cNvSpPr/>
            <p:nvPr/>
          </p:nvSpPr>
          <p:spPr>
            <a:xfrm>
              <a:off x="4267080" y="121932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1219320"/>
              <a:ext cx="304920" cy="609480"/>
            </a:xfrm>
            <a:prstGeom prst="downArrow">
              <a:avLst>
                <a:gd name="adj1" fmla="val 50000"/>
                <a:gd name="adj2" fmla="val 4997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5715000"/>
            <a:ext cx="609120" cy="609480"/>
            <a:chOff x="4419720" y="5715000"/>
            <a:chExt cx="609120" cy="609480"/>
          </a:xfrm>
        </p:grpSpPr>
        <p:sp>
          <p:nvSpPr>
            <p:cNvPr id="91" name=""/>
            <p:cNvSpPr/>
            <p:nvPr/>
          </p:nvSpPr>
          <p:spPr>
            <a:xfrm>
              <a:off x="4419720" y="571500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24280" y="571500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0384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94160" y="4457880"/>
            <a:ext cx="609120" cy="609480"/>
            <a:chOff x="4394160" y="4457880"/>
            <a:chExt cx="609120" cy="609480"/>
          </a:xfrm>
        </p:grpSpPr>
        <p:sp>
          <p:nvSpPr>
            <p:cNvPr id="95" name=""/>
            <p:cNvSpPr/>
            <p:nvPr/>
          </p:nvSpPr>
          <p:spPr>
            <a:xfrm>
              <a:off x="4394160" y="445788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98720" y="4457880"/>
              <a:ext cx="304560" cy="609480"/>
            </a:xfrm>
            <a:prstGeom prst="downArrow">
              <a:avLst>
                <a:gd name="adj1" fmla="val 50000"/>
                <a:gd name="adj2" fmla="val 50030"/>
              </a:avLst>
            </a:prstGeom>
            <a:solidFill>
              <a:srgbClr val="ff0000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6320" y="10620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1, Page 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533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)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gh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)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hoto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0AFD-2217-4CD7-9FF9-D2DE757D49F0}" type="slidenum">
              <a:t>5</a:t>
            </a:fld>
          </a:p>
        </p:txBody>
      </p:sp>
    </p:spTree>
  </p:cSld>
  <p:transition spd="med"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6868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molecules store energy in their arrangement of ato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the systematic degradation of organic molecules that are rich in energy to simpler waste products with less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f the released energy is used to do work and the rest is dissipated as he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bolic pathways that release the energy stored in complex organic molecules a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bol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هدم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 is a type of catabolic process leads to the partial degrad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حلل الجز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ugars in the absence of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ular respiration is a more important catabolic process, uses oxygen as a reactant to complete the breakdown of a variety of organic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ocess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ganic compounds + 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bohydrates, fats, and proteins can all be used as the fuel, but we will start learning with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-&gt; 6CO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+ 6H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 + Energy (ATP 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hea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Cellular respiration and fermentation are catabolic, energy-yield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تج للطاقة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706A-8C53-4965-8F67-33143EE56479}" type="slidenum">
              <a:t>6</a:t>
            </a:fld>
          </a:p>
        </p:txBody>
      </p:sp>
    </p:spTree>
  </p:cSld>
  <p:transition spd="med">
    <p:push dir="r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066680"/>
            <a:ext cx="2362320" cy="129564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  <a:effectLst>
            <a:outerShdw dist="117181" dir="7838368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Fuel of energy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1295280"/>
            <a:ext cx="2590920" cy="91440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380000"/>
              </a:gs>
            </a:gsLst>
            <a:lin ang="5400000"/>
          </a:gradFill>
          <a:ln w="19080">
            <a:solidFill>
              <a:srgbClr val="0000ff"/>
            </a:solidFill>
            <a:miter/>
          </a:ln>
          <a:effectLst>
            <a:outerShdw dist="92520" dir="63622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276720" y="762120"/>
            <a:ext cx="990360" cy="2297880"/>
            <a:chOff x="3276720" y="762120"/>
            <a:chExt cx="990360" cy="2297880"/>
          </a:xfrm>
        </p:grpSpPr>
        <p:sp>
          <p:nvSpPr>
            <p:cNvPr id="106" name=""/>
            <p:cNvSpPr/>
            <p:nvPr/>
          </p:nvSpPr>
          <p:spPr>
            <a:xfrm>
              <a:off x="3352680" y="21337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76720" y="762120"/>
              <a:ext cx="9144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4800" spc="-1" strike="noStrike" baseline="-25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257800" y="990720"/>
            <a:ext cx="2057400" cy="137160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5638320" y="2895480"/>
            <a:ext cx="1295640" cy="23623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2362320"/>
              <a:gd name="textAreaBottom" fmla="*/ 236268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1f1f00"/>
              </a:gs>
              <a:gs pos="100000">
                <a:srgbClr val="ffff00"/>
              </a:gs>
            </a:gsLst>
            <a:lin ang="2700000"/>
          </a:gradFill>
          <a:ln w="28440">
            <a:solidFill>
              <a:srgbClr val="0000ff"/>
            </a:solidFill>
            <a:miter/>
          </a:ln>
          <a:effectLst>
            <a:outerShdw dist="108455" dir="663603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315200" y="762120"/>
            <a:ext cx="1676520" cy="2158920"/>
            <a:chOff x="7315200" y="762120"/>
            <a:chExt cx="1676520" cy="2158920"/>
          </a:xfrm>
        </p:grpSpPr>
        <p:sp>
          <p:nvSpPr>
            <p:cNvPr id="111" name=""/>
            <p:cNvSpPr/>
            <p:nvPr/>
          </p:nvSpPr>
          <p:spPr>
            <a:xfrm>
              <a:off x="7696080" y="7621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H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080" y="2133720"/>
              <a:ext cx="12956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15200" y="1143000"/>
              <a:ext cx="762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133720" y="4191120"/>
            <a:ext cx="304776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27008" dir="7616091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ellular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4920" y="5715000"/>
            <a:ext cx="8533800" cy="510120"/>
            <a:chOff x="304920" y="5715000"/>
            <a:chExt cx="8533800" cy="510120"/>
          </a:xfrm>
        </p:grpSpPr>
        <p:sp>
          <p:nvSpPr>
            <p:cNvPr id="117" name=""/>
            <p:cNvSpPr/>
            <p:nvPr/>
          </p:nvSpPr>
          <p:spPr>
            <a:xfrm>
              <a:off x="304920" y="5715000"/>
              <a:ext cx="426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ganic compounds + 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10080" y="5715000"/>
              <a:ext cx="3428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ergy + 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90760" y="5867280"/>
              <a:ext cx="1218960" cy="228600"/>
            </a:xfrm>
            <a:custGeom>
              <a:avLst/>
              <a:gdLst>
                <a:gd name="textAreaLeft" fmla="*/ 152280 w 1218960"/>
                <a:gd name="textAreaRight" fmla="*/ 1066680 w 121896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4A62-8C2C-43AF-BAE1-4D6B60275702}" type="slidenum">
              <a:t>7</a:t>
            </a:fld>
          </a:p>
        </p:txBody>
      </p:sp>
    </p:spTree>
  </p:cSld>
  <p:transition spd="med"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882720"/>
            <a:ext cx="8686800" cy="587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T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-</a:t>
            </a:r>
            <a:r>
              <a:rPr b="1" lang="en-US" sz="2600" spc="-1" strike="noStrike">
                <a:solidFill>
                  <a:srgbClr val="f63f1b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phate) is the important molecule in cellular energetic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مليات إنتاج الطاقة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attachment of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ree negatively-charged phosphate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s an unstab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عير مستقر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nergy-stor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خزن للطاق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rrangemen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5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oss of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nd phosphate 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lease en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50000"/>
              </a:lnSpc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price of most cellular work is the conversion of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</a:rPr>
              <a:t>ATP to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AD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phosphate (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nimal cell regenerat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يد إنتا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D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ca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هد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organic molec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 Cells recycle t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they use fo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0BC-BBF2-450D-AB6C-2CF7E2B33485}" type="slidenum">
              <a:t>8</a:t>
            </a:fld>
          </a:p>
        </p:txBody>
      </p:sp>
    </p:spTree>
  </p:cSld>
  <p:transition spd="med">
    <p:push dir="r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enosin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ri-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osphate (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ATP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510280" y="1038600"/>
            <a:ext cx="2279880" cy="2209680"/>
            <a:chOff x="2510280" y="1038600"/>
            <a:chExt cx="2279880" cy="2209680"/>
          </a:xfrm>
        </p:grpSpPr>
        <p:sp>
          <p:nvSpPr>
            <p:cNvPr id="125" name=""/>
            <p:cNvSpPr/>
            <p:nvPr/>
          </p:nvSpPr>
          <p:spPr>
            <a:xfrm rot="1476000">
              <a:off x="3581280" y="1218960"/>
              <a:ext cx="1067040" cy="914040"/>
            </a:xfrm>
            <a:prstGeom prst="hexagon">
              <a:avLst>
                <a:gd name="adj" fmla="val 29185"/>
                <a:gd name="vf" fmla="val 115470"/>
              </a:avLst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995000">
              <a:off x="2944440" y="1298160"/>
              <a:ext cx="762120" cy="831600"/>
            </a:xfrm>
            <a:prstGeom prst="pentagon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174400">
              <a:off x="2615760" y="2437920"/>
              <a:ext cx="762120" cy="685440"/>
            </a:xfrm>
            <a:prstGeom prst="pentagon">
              <a:avLst/>
            </a:prstGeom>
            <a:solidFill>
              <a:srgbClr val="cc00ff"/>
            </a:solidFill>
            <a:ln w="19080">
              <a:solidFill>
                <a:srgbClr val="000000"/>
              </a:solidFill>
              <a:miter/>
            </a:ln>
            <a:effectLst>
              <a:outerShdw dist="120672" dir="4293903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01920" y="21841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16120" y="2489040"/>
              <a:ext cx="0" cy="38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752480" y="2286000"/>
            <a:ext cx="851040" cy="457200"/>
            <a:chOff x="1752480" y="2286000"/>
            <a:chExt cx="851040" cy="457200"/>
          </a:xfrm>
        </p:grpSpPr>
        <p:sp>
          <p:nvSpPr>
            <p:cNvPr id="131" name=""/>
            <p:cNvSpPr/>
            <p:nvPr/>
          </p:nvSpPr>
          <p:spPr>
            <a:xfrm flipH="1">
              <a:off x="2222640" y="2501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5248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8600" y="2286000"/>
            <a:ext cx="761760" cy="457200"/>
            <a:chOff x="228600" y="2286000"/>
            <a:chExt cx="761760" cy="457200"/>
          </a:xfrm>
        </p:grpSpPr>
        <p:sp>
          <p:nvSpPr>
            <p:cNvPr id="134" name=""/>
            <p:cNvSpPr/>
            <p:nvPr/>
          </p:nvSpPr>
          <p:spPr>
            <a:xfrm>
              <a:off x="22860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85440" y="251460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03320" y="2286000"/>
            <a:ext cx="749160" cy="457200"/>
            <a:chOff x="1003320" y="2286000"/>
            <a:chExt cx="749160" cy="457200"/>
          </a:xfrm>
        </p:grpSpPr>
        <p:sp>
          <p:nvSpPr>
            <p:cNvPr id="137" name=""/>
            <p:cNvSpPr/>
            <p:nvPr/>
          </p:nvSpPr>
          <p:spPr>
            <a:xfrm>
              <a:off x="1003320" y="2286000"/>
              <a:ext cx="457200" cy="45720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447920" y="251460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419720" y="5029200"/>
            <a:ext cx="457200" cy="4572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118120" y="3781800"/>
            <a:ext cx="3786840" cy="2209680"/>
            <a:chOff x="5118120" y="3781800"/>
            <a:chExt cx="3786840" cy="2209680"/>
          </a:xfrm>
        </p:grpSpPr>
        <p:grpSp>
          <p:nvGrpSpPr>
            <p:cNvPr id="141" name=""/>
            <p:cNvGrpSpPr/>
            <p:nvPr/>
          </p:nvGrpSpPr>
          <p:grpSpPr>
            <a:xfrm>
              <a:off x="6625080" y="3781800"/>
              <a:ext cx="2279880" cy="2209680"/>
              <a:chOff x="6625080" y="3781800"/>
              <a:chExt cx="2279880" cy="2209680"/>
            </a:xfrm>
          </p:grpSpPr>
          <p:sp>
            <p:nvSpPr>
              <p:cNvPr id="142" name=""/>
              <p:cNvSpPr/>
              <p:nvPr/>
            </p:nvSpPr>
            <p:spPr>
              <a:xfrm rot="1476000">
                <a:off x="7696080" y="3962160"/>
                <a:ext cx="1067040" cy="914040"/>
              </a:xfrm>
              <a:prstGeom prst="hexagon">
                <a:avLst>
                  <a:gd name="adj" fmla="val 29185"/>
                  <a:gd name="vf" fmla="val 115470"/>
                </a:avLst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9995000">
                <a:off x="7059240" y="4041360"/>
                <a:ext cx="762120" cy="831600"/>
              </a:xfrm>
              <a:prstGeom prst="pentagon">
                <a:avLst/>
              </a:prstGeom>
              <a:solidFill>
                <a:srgbClr val="ff6600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174400">
                <a:off x="6730560" y="5181120"/>
                <a:ext cx="762120" cy="685440"/>
              </a:xfrm>
              <a:prstGeom prst="pentagon">
                <a:avLst/>
              </a:prstGeom>
              <a:solidFill>
                <a:srgbClr val="cc00ff"/>
              </a:solidFill>
              <a:ln w="1908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16720" y="492732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0920" y="52322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867280" y="5029200"/>
              <a:ext cx="851040" cy="456840"/>
              <a:chOff x="5867280" y="5029200"/>
              <a:chExt cx="851040" cy="45684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6337440" y="524448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728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5118120" y="5029200"/>
              <a:ext cx="749160" cy="456840"/>
              <a:chOff x="5118120" y="5029200"/>
              <a:chExt cx="749160" cy="456840"/>
            </a:xfrm>
          </p:grpSpPr>
          <p:sp>
            <p:nvSpPr>
              <p:cNvPr id="151" name=""/>
              <p:cNvSpPr/>
              <p:nvPr/>
            </p:nvSpPr>
            <p:spPr>
              <a:xfrm>
                <a:off x="5118120" y="5029200"/>
                <a:ext cx="457200" cy="456840"/>
              </a:xfrm>
              <a:prstGeom prst="ellipse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2298" dir="49755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5562720" y="525744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4894560" y="1752480"/>
            <a:ext cx="2212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1" lang="en-US" sz="5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52578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419720"/>
            <a:ext cx="2209680" cy="1676160"/>
          </a:xfrm>
          <a:prstGeom prst="irregularSeal1">
            <a:avLst/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2193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denos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29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i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137600">
            <a:off x="5457600" y="2619000"/>
            <a:ext cx="533160" cy="2133720"/>
          </a:xfrm>
          <a:prstGeom prst="downArrow">
            <a:avLst>
              <a:gd name="adj1" fmla="val 50000"/>
              <a:gd name="adj2" fmla="val 100051"/>
            </a:avLst>
          </a:prstGeom>
          <a:solidFill>
            <a:srgbClr val="00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osine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507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6.8, Page 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EFF-4213-4C2E-B784-30B3EC55464E}" type="slidenum">
              <a:t>9</a:t>
            </a:fld>
          </a:p>
        </p:txBody>
      </p:sp>
    </p:spTree>
  </p:cSld>
  <p:transition spd="med"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-0.14445 E">
                                      <p:cBhvr>
                                        <p:cTn id="35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35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7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20:37:44Z</dcterms:created>
  <dc:creator>User</dc:creator>
  <dc:description/>
  <dc:language>en-US</dc:language>
  <cp:lastModifiedBy>Saad</cp:lastModifiedBy>
  <dcterms:modified xsi:type="dcterms:W3CDTF">2007-10-06T20:09:06Z</dcterms:modified>
  <cp:revision>8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