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34A-C794-4FA9-998B-FF2F1C30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1C1-164E-4385-9EA1-3439B12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B38-F5F8-42CC-A3BD-8073311D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A26-A8EA-4E50-BE01-CD0171F2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CF5-1B56-41E7-85BB-20023FB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73E-AE48-4E06-97FE-267FE186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22C-DAB9-4D36-847B-F5DC65B8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B1E-B1ED-4E37-99DE-FDF4F14C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85A-BCFF-4E8B-81E9-76E214A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73F-05C8-48BA-AA2E-B4DAF070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782-EDB6-4A33-8A65-22D952B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A46-24E4-4942-A879-F41F42E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0D33-114E-4D34-A338-5B42C4F9A5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AB9-E8AF-4590-910E-FFF79F94C9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33cc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A35-1350-4B7A-AB26-6144CB787D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3E7-DAB1-454C-8073-1D30E69B5F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677-2A2E-4A08-A8F1-B64BDDC148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F6A4-5642-498A-99C5-7EE4CAB213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6E36-A0C4-4E46-8CDA-898DA1936A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1284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User</cp:lastModifiedBy>
  <dcterms:modified xsi:type="dcterms:W3CDTF">2014-01-04T04:22:29Z</dcterms:modified>
  <cp:revision>72</cp:revision>
  <dc:subject/>
  <dc:title>Slide 1</dc:title>
</cp:coreProperties>
</file>