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852-DA30-4A53-9026-B529AA9E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771-B18D-441A-A1F1-36E08852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389-0E54-44B1-8BAD-F8A71166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194-8ACB-43F5-BBEA-90CB1FC4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6D8-0BB7-4311-A3F1-85BBCED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68C-7377-466D-82DF-684D462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918-A3BF-432B-9F4A-5A668B0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610-BC8C-4F18-A828-C19E010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866-4B79-49E8-9D02-2B97823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8F1-13D7-46D1-860E-8FB132C5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46E-689F-4870-B694-98963C2D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768-B0B4-4FD7-9DEC-3E63C94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4E18-AFB4-41C9-99E4-87CD014CA4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AB4-00E2-4BDC-93BE-44451D9B6B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33cc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5F5-B07F-4465-A6C2-41D522DC28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EF9-AA26-43A5-9160-D15F20D0EB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F2A-6A0C-4931-9597-3CEAABA4A6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633-003E-44F5-8924-52CFDF339F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43C-ACB7-4E7E-B4AC-31660B8B05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1284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User</cp:lastModifiedBy>
  <dcterms:modified xsi:type="dcterms:W3CDTF">2014-01-04T04:22:29Z</dcterms:modified>
  <cp:revision>72</cp:revision>
  <dc:subject/>
  <dc:title>Slide 1</dc:title>
</cp:coreProperties>
</file>