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508E-896A-4FC4-86A4-637F04843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9B78-E908-4A03-9E23-578143DC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7DA8-5D7B-4263-9C2F-7E3B2FA03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6C97-5C64-41F7-806E-8F1898BB3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7015-B023-4766-8D06-003BB41C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DE98-8A72-4BE8-8D87-E22D2EEC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568F-59AE-4AFF-87FD-6D5230FB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3CFA-FDE2-4115-84B2-A0AF6F59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EDC2-E38F-4A16-A851-4173CFD7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F39E-2234-423E-AF7B-D165690C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502D-AD0F-499B-8554-91B883F8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0FFF-BFF2-4D8B-A727-44532999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3EF7-B104-4408-8863-73B614225F8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CED9-4F91-4962-8C30-56AD95C2D98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2057400" y="1522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2"/>
          <a:srcRect l="4303" t="21667" r="9999" b="21667"/>
          <a:stretch/>
        </p:blipFill>
        <p:spPr>
          <a:xfrm>
            <a:off x="76320" y="4038480"/>
            <a:ext cx="8991360" cy="2749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7" name="Text Box 9"/>
          <p:cNvSpPr/>
          <p:nvPr/>
        </p:nvSpPr>
        <p:spPr>
          <a:xfrm>
            <a:off x="2743200" y="27288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RODUCTION                                      TO 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76320" y="1600200"/>
            <a:ext cx="8991360" cy="2362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28600" y="16765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Section C: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 The Control of Metabo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152280" y="2727360"/>
            <a:ext cx="89154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bolic control often depends on allosteric regul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حكم الجانب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ocalization of enzymes within a cell helps order metabol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2514600" y="22096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ff"/>
                </a:solidFill>
                <a:latin typeface="Arial"/>
                <a:cs typeface="AL-Hosam"/>
              </a:rPr>
              <a:t>التحكم فى الأي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388800" y="6491160"/>
            <a:ext cx="78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northland.cc.mn.us/biology/Biology1111/animations/enzy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9" descr=""/>
          <p:cNvPicPr/>
          <p:nvPr/>
        </p:nvPicPr>
        <p:blipFill>
          <a:blip r:embed="rId3"/>
          <a:srcRect l="18593" t="8069" r="4057" b="0"/>
          <a:stretch/>
        </p:blipFill>
        <p:spPr>
          <a:xfrm>
            <a:off x="19080" y="19080"/>
            <a:ext cx="13190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1943-085D-4096-9CAE-20AD947F63F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240" y="1219320"/>
            <a:ext cx="609588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any cases, the molecules that naturally regulate enzyme activity behave like reversible noncompetitive inhibi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often bind weakly to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llosteric s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which is a specific receptor on the enzyme that is not the active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can eithe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inhibi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stimul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nzyme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980720" y="301320"/>
            <a:ext cx="403884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)- Metabolic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8600" y="3365640"/>
            <a:ext cx="48006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1)- Allosteric Regulation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نظيم الألوستي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allosterically regulated enzymes are constructed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or more polypeptide cha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subunit has its 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te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llosteric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t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e often located where subunits are joi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hole protein exists in two conformational shapes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 f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th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active f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rcRect l="0" t="0" r="50012" b="7026"/>
          <a:stretch/>
        </p:blipFill>
        <p:spPr>
          <a:xfrm>
            <a:off x="5105520" y="3200400"/>
            <a:ext cx="4038480" cy="3056040"/>
          </a:xfrm>
          <a:prstGeom prst="rect">
            <a:avLst/>
          </a:prstGeom>
          <a:ln w="0">
            <a:noFill/>
          </a:ln>
        </p:spPr>
      </p:pic>
      <p:sp>
        <p:nvSpPr>
          <p:cNvPr id="59" name="Line 6"/>
          <p:cNvSpPr/>
          <p:nvPr/>
        </p:nvSpPr>
        <p:spPr>
          <a:xfrm>
            <a:off x="320760" y="10904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13"/>
          <p:cNvGrpSpPr/>
          <p:nvPr/>
        </p:nvGrpSpPr>
        <p:grpSpPr>
          <a:xfrm>
            <a:off x="6172200" y="838080"/>
            <a:ext cx="2971800" cy="1828800"/>
            <a:chOff x="6172200" y="838080"/>
            <a:chExt cx="2971800" cy="1828800"/>
          </a:xfrm>
        </p:grpSpPr>
        <p:pic>
          <p:nvPicPr>
            <p:cNvPr id="62" name="Picture 9" descr=""/>
            <p:cNvPicPr/>
            <p:nvPr/>
          </p:nvPicPr>
          <p:blipFill>
            <a:blip r:embed="rId3"/>
            <a:srcRect l="0" t="0" r="0" b="68252"/>
            <a:stretch/>
          </p:blipFill>
          <p:spPr>
            <a:xfrm>
              <a:off x="6172200" y="838080"/>
              <a:ext cx="297180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Group 12"/>
            <p:cNvGrpSpPr/>
            <p:nvPr/>
          </p:nvGrpSpPr>
          <p:grpSpPr>
            <a:xfrm>
              <a:off x="6616800" y="1485720"/>
              <a:ext cx="1396440" cy="914400"/>
              <a:chOff x="6616800" y="1485720"/>
              <a:chExt cx="1396440" cy="914400"/>
            </a:xfrm>
          </p:grpSpPr>
          <p:sp>
            <p:nvSpPr>
              <p:cNvPr id="64" name="Text Box 10"/>
              <p:cNvSpPr/>
              <p:nvPr/>
            </p:nvSpPr>
            <p:spPr>
              <a:xfrm>
                <a:off x="6616800" y="1485720"/>
                <a:ext cx="990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Allosteric si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1"/>
              <p:cNvSpPr/>
              <p:nvPr/>
            </p:nvSpPr>
            <p:spPr>
              <a:xfrm>
                <a:off x="7099200" y="1790640"/>
                <a:ext cx="9140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F95C-3087-430D-BC2C-8B68D4249D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320400"/>
            <a:ext cx="449568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)- Allosteric activa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ش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has a functional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)- Allosteric inhibi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ثب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lacks an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49993" t="0" r="0" b="4986"/>
          <a:stretch/>
        </p:blipFill>
        <p:spPr>
          <a:xfrm>
            <a:off x="4876920" y="76320"/>
            <a:ext cx="4267080" cy="3068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76320" y="3352680"/>
            <a:ext cx="8915400" cy="27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ases, both inhibitors and activators are similar enough in shape that they compete for the same allosteric s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molecules may be products and substrates of a metabolic path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some catabolic pathways have allosteric sites that are inhibited when ATP binds, but activated when AMP (adenosine monophosphate) bi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ATP levels are low, AMP levels are high, and the pathway is turned on until ATP levels rise, AMP levels fall and inhibition by ATP occ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B443-1A6C-4FC9-AEA2-6E8122AA17F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91880"/>
            <a:ext cx="4114800" cy="64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ii)- Feedback inhibition</a:t>
            </a: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ثبيط</a:t>
            </a:r>
            <a:r>
              <a:rPr b="1" lang="ar-EG" sz="1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الأثر الراجع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one of the common methods of metabolic control in which a metabolic pathway is turned of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توق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ts end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تج النها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Exampl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duction of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soleuc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 deamin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d product acts as an inhibitor of an enzyme in the path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product is abundan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ف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pathway is turned off, when rar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ل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athway is 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rcRect l="0" t="0" r="0" b="3572"/>
          <a:stretch/>
        </p:blipFill>
        <p:spPr>
          <a:xfrm>
            <a:off x="4343400" y="0"/>
            <a:ext cx="4800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84A7-0AAF-4F4B-9346-2016065792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382240" cy="602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B)- Cooperativity regulation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نظيم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ضامن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occurs in enzymes with                                              multiple catalytic subunits.                                                  Lending a substrate to                                              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ne active si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bilizes                                                favorable conformational                                                     changes at all other                                                       subunits, a process called                                           cooperativit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ضام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echanism ampl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زي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ستجاب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enzymes to substrates, making the enzy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cept additiona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ضاف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rate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0" t="0" r="0" b="6338"/>
          <a:stretch/>
        </p:blipFill>
        <p:spPr>
          <a:xfrm>
            <a:off x="4876920" y="1219320"/>
            <a:ext cx="4114800" cy="3222360"/>
          </a:xfrm>
          <a:prstGeom prst="rect">
            <a:avLst/>
          </a:prstGeom>
          <a:ln w="0">
            <a:noFill/>
          </a:ln>
        </p:spPr>
      </p:pic>
      <p:sp>
        <p:nvSpPr>
          <p:cNvPr id="7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99B3-94F7-4B76-B357-C34548929A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Summary of metabolic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control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i.e.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enzyme activity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52280" y="169056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1)-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llosteric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Regul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04920" y="12794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he cell is controlling its metabolism by regulating enzyme activ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80880" y="220968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ulatory molecules that bind weakly to an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losteric si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f the enzyme (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Allosteric Enzy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in order to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inhib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imul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enzyme activity (see Fig 6.18 carefull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990720" y="32907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)- Allosteric activa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990720" y="37479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)- Allosteric inhib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990720" y="42814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)- Feedback inhibi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52280" y="4876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2- Cooperativ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609480" y="5410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bilizes  favorable conformational changes at all other subunits to mak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nzyme more e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509400" y="6262560"/>
            <a:ext cx="78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northland.cc.mn.us/biology/Biology1111/animations/enzy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9:43:05Z</dcterms:created>
  <dc:creator>User</dc:creator>
  <dc:description/>
  <dc:language>en-US</dc:language>
  <cp:lastModifiedBy>HP</cp:lastModifiedBy>
  <dcterms:modified xsi:type="dcterms:W3CDTF">2014-01-07T16:38:02Z</dcterms:modified>
  <cp:revision>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4066F551-C6C6-44F6-97C8-3BFEDC007547</vt:lpwstr>
  </property>
  <property fmtid="{D5CDD505-2E9C-101B-9397-08002B2CF9AE}" pid="3" name="ArticulatePath">
    <vt:lpwstr>Lecture 12</vt:lpwstr>
  </property>
</Properties>
</file>