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AF02-4B4A-4073-8FA7-40108FC9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70D-50CC-4C20-96AC-B0CE4658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B9E-7EB8-4BEB-A0DE-B3359CAD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FAC-E494-43FC-8F4D-91329749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2AC-16B7-48F4-BF2B-28E87927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DCB-33FD-4187-8AE9-FBFF337F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D6A-5AF4-4A5B-AFAE-FBB5A6D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C44-D788-40EB-BC58-FCC1AFA1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E7D-DB9A-4A68-BBC1-DDEA61E6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06F-5C06-46F8-95C1-D430D1ED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1904-9FF0-44BB-9C86-E5C625E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4C4-050E-420C-A976-39E21F2D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26C8-535B-45F1-BB8C-78795BF9D2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022E-60C4-4A6A-B677-B1ECBC0717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7" name="Text Box 9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28600" y="1676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Section C: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 The Control of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52280" y="2727360"/>
            <a:ext cx="89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bolic control often depends on allosteric regul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كم الجانب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lization of enzymes within a cell helps order metabol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514600" y="2209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ff"/>
                </a:solidFill>
                <a:latin typeface="Arial"/>
                <a:cs typeface="AL-Hosam"/>
              </a:rPr>
              <a:t>التحكم فى الأي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88800" y="64911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3"/>
          <a:srcRect l="18593" t="8069" r="4057" b="0"/>
          <a:stretch/>
        </p:blipFill>
        <p:spPr>
          <a:xfrm>
            <a:off x="19080" y="19080"/>
            <a:ext cx="13190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A110-3A0D-4139-9D58-AB07B4FC33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609588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980720" y="301320"/>
            <a:ext cx="403884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)- Metabolic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 fo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10552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59" name="Line 6"/>
          <p:cNvSpPr/>
          <p:nvPr/>
        </p:nvSpPr>
        <p:spPr>
          <a:xfrm>
            <a:off x="320760" y="10904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3"/>
          <p:cNvGrpSpPr/>
          <p:nvPr/>
        </p:nvGrpSpPr>
        <p:grpSpPr>
          <a:xfrm>
            <a:off x="6172200" y="838080"/>
            <a:ext cx="2971800" cy="1828800"/>
            <a:chOff x="6172200" y="838080"/>
            <a:chExt cx="2971800" cy="1828800"/>
          </a:xfrm>
        </p:grpSpPr>
        <p:pic>
          <p:nvPicPr>
            <p:cNvPr id="62" name="Picture 9" descr=""/>
            <p:cNvPicPr/>
            <p:nvPr/>
          </p:nvPicPr>
          <p:blipFill>
            <a:blip r:embed="rId3"/>
            <a:srcRect l="0" t="0" r="0" b="68252"/>
            <a:stretch/>
          </p:blipFill>
          <p:spPr>
            <a:xfrm>
              <a:off x="6172200" y="83808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Group 12"/>
            <p:cNvGrpSpPr/>
            <p:nvPr/>
          </p:nvGrpSpPr>
          <p:grpSpPr>
            <a:xfrm>
              <a:off x="6616800" y="1485720"/>
              <a:ext cx="1396440" cy="914400"/>
              <a:chOff x="6616800" y="1485720"/>
              <a:chExt cx="1396440" cy="914400"/>
            </a:xfrm>
          </p:grpSpPr>
          <p:sp>
            <p:nvSpPr>
              <p:cNvPr id="64" name="Text Box 10"/>
              <p:cNvSpPr/>
              <p:nvPr/>
            </p:nvSpPr>
            <p:spPr>
              <a:xfrm>
                <a:off x="6616800" y="148572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7099200" y="179064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70D5-86A1-4A86-A73F-7A64A2B19B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97D0-8327-4F65-83A3-EC773159D9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ii)- Feedback inhibition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1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الأثر الراجع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tion of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D50-C9C1-4BA8-A4B4-44BF314A05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</a:rPr>
              <a:t>B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ضام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.                                                  Lending a substrate to                                                 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pt addition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ض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876920" y="1219320"/>
            <a:ext cx="4114800" cy="3222360"/>
          </a:xfrm>
          <a:prstGeom prst="rect">
            <a:avLst/>
          </a:prstGeom>
          <a:ln w="0">
            <a:noFill/>
          </a:ln>
        </p:spPr>
      </p:pic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637-C2A3-4A5A-903A-E86BCD992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74680"/>
            <a:ext cx="73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Summary of metabolic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ontrol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i.e.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enzyme activity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04920" y="1279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609480" y="54100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subunits to m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509400" y="6262560"/>
            <a:ext cx="78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northland.cc.mn.us/biology/Biology1111/animations/enzym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HP</cp:lastModifiedBy>
  <dcterms:modified xsi:type="dcterms:W3CDTF">2014-01-07T16:38:02Z</dcterms:modified>
  <cp:revision>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4066F551-C6C6-44F6-97C8-3BFEDC007547</vt:lpwstr>
  </property>
  <property fmtid="{D5CDD505-2E9C-101B-9397-08002B2CF9AE}" pid="3" name="ArticulatePath">
    <vt:lpwstr>Lecture 12</vt:lpwstr>
  </property>
</Properties>
</file>