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97D-CCEF-4C7B-BEF2-D61DF2F2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B10-0324-4851-A95C-D7BF2B08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483-02C3-4B08-822B-1E6CADEA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5E9-F1FC-452C-98F3-088B7CB4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F2C-24CF-43C1-A3A9-59EBAE13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BC6-A1C4-4C21-9DE5-9BDCE4EA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CE9-8DC6-4675-8D87-BA7CC1B2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150-273B-49BF-99EB-71802A68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4375-268A-433C-B75C-92BD7370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FE3-03C4-403E-AD6B-2D8855D5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ACF-23A3-445B-83C3-6F0CFE6D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3A2-9760-47DC-AF69-AC848BFC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1D6E-D058-409F-BE9D-6A81967969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C8D6-6792-43EE-9B60-F343AD21A8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ff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1C06-D681-405A-9B05-0734ADA5BA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7B97-2446-4B15-ACB1-414A327FD4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DD4A-AA55-4872-9F02-37050E43D4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5666-BBAF-4281-9EB5-F21C7E5433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ECD3-7B78-4B81-B256-699C1BCAAC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0940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melobeid</cp:lastModifiedBy>
  <dcterms:modified xsi:type="dcterms:W3CDTF">2014-01-12T08:38:48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066F551-C6C6-44F6-97C8-3BFEDC007547</vt:lpwstr>
  </property>
  <property fmtid="{D5CDD505-2E9C-101B-9397-08002B2CF9AE}" pid="3" name="ArticulatePath">
    <vt:lpwstr>Lecture 12</vt:lpwstr>
  </property>
</Properties>
</file>