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7195-B696-4921-8A91-84DD470C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001D-C442-4174-9C12-16723D82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814-08DA-41AF-AED6-BBE47F2C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DED-DD66-4084-950C-5790E522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382-0DAA-41AB-993D-B97D78B4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CE2-BE08-4F54-BFE8-1CA0FB41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C22-08B9-4AFB-BA88-F2919F6A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82B-A188-4972-ADCE-473542FD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DB13-937B-4FC1-B0DF-6BCCF306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8B9-5341-4BFA-B2A4-F3A130C1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2E8-9DBA-49A0-80F5-20E42930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E314-C247-405A-87E5-9539CC65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67EB-8E8B-473C-A386-F7FBFEB11F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FDEF-83B0-4ED5-8DF6-3CDDA5CB05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7" name="Text Box 9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1676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ection C: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The Control of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2727360"/>
            <a:ext cx="8915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c control often depends on allosteric regul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كم الجانب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calization of enzymes within a cell helps order metabol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514600" y="2209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ff"/>
                </a:solidFill>
                <a:latin typeface="Arial"/>
                <a:cs typeface="AL-Hosam"/>
              </a:rPr>
              <a:t>التحكم فى الأي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388800" y="64911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1908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2104-A8A1-4A12-BC80-341C6D5699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09588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980720" y="301320"/>
            <a:ext cx="403884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)- Metabol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10552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59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3"/>
          <p:cNvGrpSpPr/>
          <p:nvPr/>
        </p:nvGrpSpPr>
        <p:grpSpPr>
          <a:xfrm>
            <a:off x="6172200" y="838080"/>
            <a:ext cx="2971800" cy="1828800"/>
            <a:chOff x="6172200" y="838080"/>
            <a:chExt cx="2971800" cy="1828800"/>
          </a:xfrm>
        </p:grpSpPr>
        <p:pic>
          <p:nvPicPr>
            <p:cNvPr id="62" name="Picture 9" descr=""/>
            <p:cNvPicPr/>
            <p:nvPr/>
          </p:nvPicPr>
          <p:blipFill>
            <a:blip r:embed="rId3"/>
            <a:srcRect l="0" t="0" r="0" b="68252"/>
            <a:stretch/>
          </p:blipFill>
          <p:spPr>
            <a:xfrm>
              <a:off x="6172200" y="83808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12"/>
            <p:cNvGrpSpPr/>
            <p:nvPr/>
          </p:nvGrpSpPr>
          <p:grpSpPr>
            <a:xfrm>
              <a:off x="6616800" y="1485720"/>
              <a:ext cx="1396440" cy="914400"/>
              <a:chOff x="6616800" y="1485720"/>
              <a:chExt cx="1396440" cy="914400"/>
            </a:xfrm>
          </p:grpSpPr>
          <p:sp>
            <p:nvSpPr>
              <p:cNvPr id="64" name="Text Box 10"/>
              <p:cNvSpPr/>
              <p:nvPr/>
            </p:nvSpPr>
            <p:spPr>
              <a:xfrm>
                <a:off x="6616800" y="148572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7099200" y="179064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4384-C35D-45FF-80E6-B83F7C1C12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0554-57EF-400A-B87E-0A02440E6A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ii)- Feedback inhibition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الأثر الراجع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tion of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C1AB-B5AA-4E7F-8F82-44A1507FCB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B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ضام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.                                                  Lending a substrate to                         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pt addition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876920" y="1219320"/>
            <a:ext cx="4114800" cy="3222360"/>
          </a:xfrm>
          <a:prstGeom prst="rect">
            <a:avLst/>
          </a:prstGeom>
          <a:ln w="0">
            <a:noFill/>
          </a:ln>
        </p:spPr>
      </p:pic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89E2-7059-4248-952B-5FCAA7F2A8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Summary of metabolic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ontrol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i.e.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enzyme activity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2280" y="16905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)-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llosteri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Regu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04920" y="1279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cell is controlling its metabolism by regulating enzyme 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22096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molecules that bind weakly to a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osteric s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enzyme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llosteric Enzy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in order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hib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mul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nzyme activity (see Fig 6.18 carefu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90720" y="32907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)- Allosteric activ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990720" y="37479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)- Allosteric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990720" y="4281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)- Feedback inhib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522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2- Cooper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0948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bilizes  favorable conformational changes at all other subunits to m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nzyme more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509400" y="62625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43:05Z</dcterms:created>
  <dc:creator>User</dc:creator>
  <dc:description/>
  <dc:language>en-US</dc:language>
  <cp:lastModifiedBy>HP</cp:lastModifiedBy>
  <dcterms:modified xsi:type="dcterms:W3CDTF">2014-01-07T16:38:02Z</dcterms:modified>
  <cp:revision>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066F551-C6C6-44F6-97C8-3BFEDC007547</vt:lpwstr>
  </property>
  <property fmtid="{D5CDD505-2E9C-101B-9397-08002B2CF9AE}" pid="3" name="ArticulatePath">
    <vt:lpwstr>Lecture 12</vt:lpwstr>
  </property>
</Properties>
</file>