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9215-B201-4DBC-A254-B535C0BF8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43120" y="365040"/>
            <a:ext cx="6772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9bd5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1440" y="1825200"/>
            <a:ext cx="734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71440" y="4098240"/>
            <a:ext cx="734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C96E-ED0F-484B-BAEF-113C3C0E6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43120" y="365040"/>
            <a:ext cx="6772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9bd5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1440" y="1825200"/>
            <a:ext cx="3583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4880" y="1825200"/>
            <a:ext cx="3583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71440" y="4098240"/>
            <a:ext cx="3583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4880" y="4098240"/>
            <a:ext cx="3583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50C9-A262-47E7-B9D4-14AB91367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43120" y="365040"/>
            <a:ext cx="6772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9bd5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1440" y="1825200"/>
            <a:ext cx="2364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4360" y="1825200"/>
            <a:ext cx="2364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37640" y="1825200"/>
            <a:ext cx="2364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71440" y="4098240"/>
            <a:ext cx="2364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4360" y="4098240"/>
            <a:ext cx="2364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37640" y="4098240"/>
            <a:ext cx="2364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EFE0-7FD2-4708-B33E-B5084A6FA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43120" y="365040"/>
            <a:ext cx="6772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9bd5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71440" y="1825200"/>
            <a:ext cx="73440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7602-8669-43E0-B8B3-49BFFCA14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43120" y="365040"/>
            <a:ext cx="6772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9bd5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71440" y="1825200"/>
            <a:ext cx="734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316F-BB9E-404E-AE81-51C6BA77F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43120" y="365040"/>
            <a:ext cx="6772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9bd5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71440" y="1825200"/>
            <a:ext cx="35838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4880" y="1825200"/>
            <a:ext cx="35838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3A4B-593A-4188-AF5A-FBC10550B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43120" y="365040"/>
            <a:ext cx="6772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9bd5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FBCC-92FC-42BA-9B22-60D26A6F0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43120" y="365040"/>
            <a:ext cx="677232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85D3-D483-4A11-8051-570B8CFDF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43120" y="365040"/>
            <a:ext cx="6772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9bd5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71440" y="1825200"/>
            <a:ext cx="3583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4880" y="1825200"/>
            <a:ext cx="35838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71440" y="4098240"/>
            <a:ext cx="3583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F263-5612-4493-B060-B33ACA97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43120" y="365040"/>
            <a:ext cx="6772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9bd5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1440" y="1825200"/>
            <a:ext cx="35838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4880" y="1825200"/>
            <a:ext cx="3583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4880" y="4098240"/>
            <a:ext cx="3583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812A-07E7-4AC2-A561-59544959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43120" y="365040"/>
            <a:ext cx="6772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9bd5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1440" y="1825200"/>
            <a:ext cx="3583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4880" y="1825200"/>
            <a:ext cx="3583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71440" y="4098240"/>
            <a:ext cx="734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C95C-F920-4231-A8F1-64AA7E41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171080" y="6356520"/>
            <a:ext cx="1914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486240" y="6356520"/>
            <a:ext cx="2171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15B1E-A4C4-470F-A4D5-8328F650A7C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71440" y="1825200"/>
            <a:ext cx="734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a5a5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a5a5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a5a5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a5a5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a5a5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743120" y="365040"/>
            <a:ext cx="6772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9bd5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5b9bd5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041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70c0"/>
                </a:solidFill>
                <a:latin typeface="Cambria"/>
              </a:rPr>
              <a:t>File Upload</a:t>
            </a:r>
            <a:endParaRPr b="0" lang="en-US" sz="6000" spc="-1" strike="noStrike">
              <a:solidFill>
                <a:srgbClr val="5b9bd5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14850-220C-46EA-91D1-CEE4971F458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rcRect l="30705" t="25523" r="30900" b="29127"/>
          <a:stretch/>
        </p:blipFill>
        <p:spPr>
          <a:xfrm>
            <a:off x="108000" y="2066760"/>
            <a:ext cx="4427640" cy="3456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rcRect l="30507" t="25523" r="30510" b="29127"/>
          <a:stretch/>
        </p:blipFill>
        <p:spPr>
          <a:xfrm>
            <a:off x="4716360" y="2066760"/>
            <a:ext cx="4356360" cy="3456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4"/>
          <p:cNvSpPr/>
          <p:nvPr/>
        </p:nvSpPr>
        <p:spPr>
          <a:xfrm>
            <a:off x="611280" y="90180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its properties. Then, add as many HotSpots as you ne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3"/>
          <p:cNvSpPr/>
          <p:nvPr/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77E03-024C-4F36-8E40-CE316BE6DDE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611280" y="404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ill be the resul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6"/>
          <p:cNvGrpSpPr/>
          <p:nvPr/>
        </p:nvGrpSpPr>
        <p:grpSpPr>
          <a:xfrm>
            <a:off x="324000" y="836640"/>
            <a:ext cx="3643200" cy="5905440"/>
            <a:chOff x="324000" y="836640"/>
            <a:chExt cx="3643200" cy="5905440"/>
          </a:xfrm>
        </p:grpSpPr>
        <p:pic>
          <p:nvPicPr>
            <p:cNvPr id="74" name="Picture 2" descr=""/>
            <p:cNvPicPr/>
            <p:nvPr/>
          </p:nvPicPr>
          <p:blipFill>
            <a:blip r:embed="rId1"/>
            <a:srcRect l="0" t="3415" r="67725" b="12877"/>
            <a:stretch/>
          </p:blipFill>
          <p:spPr>
            <a:xfrm>
              <a:off x="324000" y="836640"/>
              <a:ext cx="3643200" cy="590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Line 4"/>
            <p:cNvSpPr/>
            <p:nvPr/>
          </p:nvSpPr>
          <p:spPr>
            <a:xfrm flipH="1">
              <a:off x="2411280" y="6597720"/>
              <a:ext cx="1152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5"/>
            <p:cNvSpPr/>
            <p:nvPr/>
          </p:nvSpPr>
          <p:spPr>
            <a:xfrm flipH="1">
              <a:off x="2195280" y="3357720"/>
              <a:ext cx="1152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10"/>
          <p:cNvGrpSpPr/>
          <p:nvPr/>
        </p:nvGrpSpPr>
        <p:grpSpPr>
          <a:xfrm>
            <a:off x="4483080" y="836640"/>
            <a:ext cx="3473640" cy="5905440"/>
            <a:chOff x="4483080" y="836640"/>
            <a:chExt cx="3473640" cy="5905440"/>
          </a:xfrm>
        </p:grpSpPr>
        <p:pic>
          <p:nvPicPr>
            <p:cNvPr id="78" name="Picture 7" descr=""/>
            <p:cNvPicPr/>
            <p:nvPr/>
          </p:nvPicPr>
          <p:blipFill>
            <a:blip r:embed="rId2"/>
            <a:srcRect l="0" t="3415" r="72448" b="13062"/>
            <a:stretch/>
          </p:blipFill>
          <p:spPr>
            <a:xfrm>
              <a:off x="4483080" y="836640"/>
              <a:ext cx="3473640" cy="590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Line 8"/>
            <p:cNvSpPr/>
            <p:nvPr/>
          </p:nvSpPr>
          <p:spPr>
            <a:xfrm flipH="1">
              <a:off x="6803640" y="6597720"/>
              <a:ext cx="863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9"/>
            <p:cNvSpPr/>
            <p:nvPr/>
          </p:nvSpPr>
          <p:spPr>
            <a:xfrm flipH="1">
              <a:off x="6659640" y="5300640"/>
              <a:ext cx="1008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3"/>
          <p:cNvSpPr/>
          <p:nvPr/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D5408-E581-4AD6-8CC0-E41A144AAC6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rcRect l="0" t="0" r="71852" b="25353"/>
          <a:stretch/>
        </p:blipFill>
        <p:spPr>
          <a:xfrm>
            <a:off x="1027080" y="1343160"/>
            <a:ext cx="3040200" cy="50385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"/>
          <p:cNvPicPr/>
          <p:nvPr/>
        </p:nvPicPr>
        <p:blipFill>
          <a:blip r:embed="rId2"/>
          <a:srcRect l="84261" t="51958" r="0" b="6458"/>
          <a:stretch/>
        </p:blipFill>
        <p:spPr>
          <a:xfrm>
            <a:off x="5435640" y="1916280"/>
            <a:ext cx="1919160" cy="31683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324000" y="55548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reate an image button, click on the Image Button Control. Then, choose the image’s URL from the properties wind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3"/>
          <p:cNvSpPr/>
          <p:nvPr/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ED1D9-96BE-4600-A082-96D59E4934F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468360" y="62244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 button appear in the web form , then double click on it  and write any action you w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9" descr=""/>
          <p:cNvPicPr/>
          <p:nvPr/>
        </p:nvPicPr>
        <p:blipFill>
          <a:blip r:embed="rId1"/>
          <a:srcRect l="0" t="11978" r="0" b="8681"/>
          <a:stretch/>
        </p:blipFill>
        <p:spPr>
          <a:xfrm>
            <a:off x="468360" y="1700280"/>
            <a:ext cx="8136000" cy="4465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3"/>
          <p:cNvSpPr/>
          <p:nvPr/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CFC04-44AF-463D-91DD-FB8608F89F8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395280" y="54144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1"/>
          <a:srcRect l="0" t="13031" r="15934" b="9547"/>
          <a:stretch/>
        </p:blipFill>
        <p:spPr>
          <a:xfrm>
            <a:off x="725400" y="1628640"/>
            <a:ext cx="7817040" cy="4792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1"/>
          <p:cNvSpPr/>
          <p:nvPr/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3BD10-547F-474E-BA3D-EC540D2F062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E:\FileUpload1.png"/>
          <p:cNvPicPr/>
          <p:nvPr/>
        </p:nvPicPr>
        <p:blipFill>
          <a:blip r:embed="rId1"/>
          <a:srcRect l="1425" t="12661" r="28121" b="45571"/>
          <a:stretch/>
        </p:blipFill>
        <p:spPr>
          <a:xfrm>
            <a:off x="250920" y="2276640"/>
            <a:ext cx="8613720" cy="287172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776160" y="914400"/>
            <a:ext cx="661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ert  FileUpload control from Tool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457200" y="3886200"/>
            <a:ext cx="2209680" cy="228600"/>
          </a:xfrm>
          <a:prstGeom prst="rect">
            <a:avLst/>
          </a:prstGeom>
          <a:noFill/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E:\FileUpload2.png"/>
          <p:cNvPicPr/>
          <p:nvPr/>
        </p:nvPicPr>
        <p:blipFill>
          <a:blip r:embed="rId1"/>
          <a:srcRect l="1975" t="11460" r="55858" b="55211"/>
          <a:stretch/>
        </p:blipFill>
        <p:spPr>
          <a:xfrm>
            <a:off x="1219320" y="2133720"/>
            <a:ext cx="6688080" cy="29718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4"/>
          <p:cNvSpPr/>
          <p:nvPr/>
        </p:nvSpPr>
        <p:spPr>
          <a:xfrm>
            <a:off x="1295280" y="4343400"/>
            <a:ext cx="685800" cy="3049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E:\FileUpload3.png"/>
          <p:cNvPicPr/>
          <p:nvPr/>
        </p:nvPicPr>
        <p:blipFill>
          <a:blip r:embed="rId1"/>
          <a:srcRect l="2672" t="11785" r="31070" b="20869"/>
          <a:stretch/>
        </p:blipFill>
        <p:spPr>
          <a:xfrm>
            <a:off x="533520" y="533520"/>
            <a:ext cx="8216640" cy="469584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4"/>
          <p:cNvSpPr/>
          <p:nvPr/>
        </p:nvSpPr>
        <p:spPr>
          <a:xfrm>
            <a:off x="3200400" y="1600200"/>
            <a:ext cx="1295280" cy="228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1371600" y="2286000"/>
            <a:ext cx="4572000" cy="152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- Don’t forget to Add a Folder for example: “UploadedImages” in your website to hold all the uploa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- You can separate the uploaded files depend on the file typ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- If you didn’t  specify which file type you allow to uploaded, then any type of files (images,documents,viruses … etc) will be allowed to uploa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901"/>
              </a:spcBef>
              <a:buClr>
                <a:srgbClr val="a5a5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3120" y="365040"/>
            <a:ext cx="67723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mbria"/>
              </a:rPr>
              <a:t>hints</a:t>
            </a:r>
            <a:endParaRPr b="0" lang="en-US" sz="4400" spc="-1" strike="noStrike">
              <a:solidFill>
                <a:srgbClr val="5b9bd5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AA87B-50ED-40D0-9FB2-74A5BAE21EB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755640" y="2133720"/>
            <a:ext cx="748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9bd5"/>
                </a:solidFill>
                <a:latin typeface="Book Antiqua"/>
              </a:rPr>
              <a:t>Creating Image Map &amp; Image Butt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3"/>
          <p:cNvSpPr/>
          <p:nvPr/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0B2D0-720A-458F-9D8A-548D2EDC715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755640" y="54936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ng Image Map by this co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rcRect l="17514" t="9438" r="48230" b="28211"/>
          <a:stretch/>
        </p:blipFill>
        <p:spPr>
          <a:xfrm>
            <a:off x="395280" y="1295280"/>
            <a:ext cx="4176720" cy="4751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2"/>
          <a:srcRect l="0" t="3415" r="71265" b="13062"/>
          <a:stretch/>
        </p:blipFill>
        <p:spPr>
          <a:xfrm>
            <a:off x="5148360" y="1268280"/>
            <a:ext cx="3503520" cy="48513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5435640" y="68724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sult will b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8480C-0C2C-472D-9AA5-A2DC3D9DAFA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"/>
          <p:cNvSpPr/>
          <p:nvPr/>
        </p:nvSpPr>
        <p:spPr>
          <a:xfrm>
            <a:off x="755640" y="83664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Create Image Map by control tool. Then, select the image’s path. After that, select the HotSp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rcRect l="84261" t="51982" r="0" b="6458"/>
          <a:stretch/>
        </p:blipFill>
        <p:spPr>
          <a:xfrm>
            <a:off x="6588000" y="2349360"/>
            <a:ext cx="1919520" cy="3167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2"/>
          <a:srcRect l="0" t="0" r="72448" b="34791"/>
          <a:stretch/>
        </p:blipFill>
        <p:spPr>
          <a:xfrm>
            <a:off x="565200" y="1555920"/>
            <a:ext cx="3359160" cy="4968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3"/>
          <a:srcRect l="84261" t="51982" r="0" b="6439"/>
          <a:stretch/>
        </p:blipFill>
        <p:spPr>
          <a:xfrm>
            <a:off x="4165560" y="2349360"/>
            <a:ext cx="1919160" cy="316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3"/>
          <p:cNvSpPr/>
          <p:nvPr/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B95E8-21E7-48E6-BC04-DB6E5168C93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rcRect l="0" t="0" r="0" b="5740"/>
          <a:stretch/>
        </p:blipFill>
        <p:spPr>
          <a:xfrm>
            <a:off x="250920" y="1125360"/>
            <a:ext cx="8675640" cy="5112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468360" y="48420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ialog box will appear, click on the arrow next to Add. Then, choose one of the Hotspots types (for example, the Circ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1T16:21:13Z</dcterms:created>
  <dc:creator>a</dc:creator>
  <dc:description/>
  <dc:language>en-US</dc:language>
  <cp:lastModifiedBy>User</cp:lastModifiedBy>
  <dcterms:modified xsi:type="dcterms:W3CDTF">2016-11-05T19:41:29Z</dcterms:modified>
  <cp:revision>111</cp:revision>
  <dc:subject/>
  <dc:title>Slide 1</dc:title>
</cp:coreProperties>
</file>