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B77-93D5-417B-AAE6-A4C85FDB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A2A-81A9-4E18-8D27-61C65FE2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98F-6668-4B64-839A-DD65FD1F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436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76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436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76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ED11-9FFC-4FF9-8E7D-ED6F5309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54F-79E2-4342-95F4-E584B0D7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BEB2-DAC8-4D80-A274-0851F867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0F3-A894-4F55-9C85-2DA5298C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C60F-E134-48AE-8E64-CD02187B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3120" y="365040"/>
            <a:ext cx="6772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D5E0-B378-4A43-B00F-10F94845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D32D-5C6F-448F-84B4-3E794DD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41BA-99D4-4883-BBD6-3145497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B09-3421-4E6C-A807-D5C04EE7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71080" y="6356520"/>
            <a:ext cx="1914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86240" y="635652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277E-F06E-423B-B12B-9348ECB8DD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9bd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041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mbria"/>
              </a:rPr>
              <a:t>File Upload</a:t>
            </a:r>
            <a:endParaRPr b="0" lang="en-US" sz="60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7E1C-12F8-4262-A0EB-C24BDA4906C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30705" t="25523" r="30900" b="29127"/>
          <a:stretch/>
        </p:blipFill>
        <p:spPr>
          <a:xfrm>
            <a:off x="108000" y="2066760"/>
            <a:ext cx="4427640" cy="345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rcRect l="30507" t="25523" r="30510" b="29127"/>
          <a:stretch/>
        </p:blipFill>
        <p:spPr>
          <a:xfrm>
            <a:off x="4716360" y="2066760"/>
            <a:ext cx="4356360" cy="3456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611280" y="9018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its properties. Then, add as many HotSpots as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9344-5C61-4B61-8026-FD2EC121DE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611280" y="404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ill be the resul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324000" y="836640"/>
            <a:ext cx="3643200" cy="5905440"/>
            <a:chOff x="324000" y="836640"/>
            <a:chExt cx="3643200" cy="590544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rcRect l="0" t="3415" r="67725" b="12877"/>
            <a:stretch/>
          </p:blipFill>
          <p:spPr>
            <a:xfrm>
              <a:off x="324000" y="836640"/>
              <a:ext cx="364320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Line 4"/>
            <p:cNvSpPr/>
            <p:nvPr/>
          </p:nvSpPr>
          <p:spPr>
            <a:xfrm flipH="1">
              <a:off x="2411280" y="6597720"/>
              <a:ext cx="115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"/>
            <p:cNvSpPr/>
            <p:nvPr/>
          </p:nvSpPr>
          <p:spPr>
            <a:xfrm flipH="1">
              <a:off x="2195280" y="3357720"/>
              <a:ext cx="1152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0"/>
          <p:cNvGrpSpPr/>
          <p:nvPr/>
        </p:nvGrpSpPr>
        <p:grpSpPr>
          <a:xfrm>
            <a:off x="4483080" y="836640"/>
            <a:ext cx="3473640" cy="5905440"/>
            <a:chOff x="4483080" y="836640"/>
            <a:chExt cx="3473640" cy="5905440"/>
          </a:xfrm>
        </p:grpSpPr>
        <p:pic>
          <p:nvPicPr>
            <p:cNvPr id="78" name="Picture 7" descr=""/>
            <p:cNvPicPr/>
            <p:nvPr/>
          </p:nvPicPr>
          <p:blipFill>
            <a:blip r:embed="rId2"/>
            <a:srcRect l="0" t="3415" r="72448" b="13062"/>
            <a:stretch/>
          </p:blipFill>
          <p:spPr>
            <a:xfrm>
              <a:off x="4483080" y="836640"/>
              <a:ext cx="347364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Line 8"/>
            <p:cNvSpPr/>
            <p:nvPr/>
          </p:nvSpPr>
          <p:spPr>
            <a:xfrm flipH="1">
              <a:off x="6803640" y="6597720"/>
              <a:ext cx="863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"/>
            <p:cNvSpPr/>
            <p:nvPr/>
          </p:nvSpPr>
          <p:spPr>
            <a:xfrm flipH="1">
              <a:off x="6659640" y="5300640"/>
              <a:ext cx="1008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098-055E-413F-9E93-E1C11C7FD5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0" t="0" r="71852" b="25353"/>
          <a:stretch/>
        </p:blipFill>
        <p:spPr>
          <a:xfrm>
            <a:off x="1027080" y="1343160"/>
            <a:ext cx="3040200" cy="5038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rcRect l="84261" t="51958" r="0" b="6458"/>
          <a:stretch/>
        </p:blipFill>
        <p:spPr>
          <a:xfrm>
            <a:off x="5435640" y="1916280"/>
            <a:ext cx="1919160" cy="31683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24000" y="5554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n image button, click on the Image Button Control. Then, choose the image’s URL from the properties wind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094C-8656-4F3E-ABEE-304ECF8105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468360" y="6224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button appear in the web form , then double click on it  and write any action you w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1"/>
          <a:srcRect l="0" t="11978" r="0" b="8681"/>
          <a:stretch/>
        </p:blipFill>
        <p:spPr>
          <a:xfrm>
            <a:off x="468360" y="1700280"/>
            <a:ext cx="8136000" cy="4465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7A5E-BD21-4D98-A36C-45D36E5850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95280" y="54144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rcRect l="0" t="13031" r="15934" b="9547"/>
          <a:stretch/>
        </p:blipFill>
        <p:spPr>
          <a:xfrm>
            <a:off x="725400" y="1628640"/>
            <a:ext cx="7817040" cy="4792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1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CECA-7D5B-46F4-A017-11C0EC02A0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FileUpload1.png"/>
          <p:cNvPicPr/>
          <p:nvPr/>
        </p:nvPicPr>
        <p:blipFill>
          <a:blip r:embed="rId1"/>
          <a:srcRect l="1425" t="12661" r="28121" b="45571"/>
          <a:stretch/>
        </p:blipFill>
        <p:spPr>
          <a:xfrm>
            <a:off x="250920" y="2276640"/>
            <a:ext cx="8613720" cy="28717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776160" y="914400"/>
            <a:ext cx="66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 FileUpload control from Tool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457200" y="3886200"/>
            <a:ext cx="2209680" cy="228600"/>
          </a:xfrm>
          <a:prstGeom prst="rect">
            <a:avLst/>
          </a:prstGeom>
          <a:noFill/>
          <a:ln w="1260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:\FileUpload2.png"/>
          <p:cNvPicPr/>
          <p:nvPr/>
        </p:nvPicPr>
        <p:blipFill>
          <a:blip r:embed="rId1"/>
          <a:srcRect l="1975" t="11460" r="55858" b="55211"/>
          <a:stretch/>
        </p:blipFill>
        <p:spPr>
          <a:xfrm>
            <a:off x="1219320" y="2133720"/>
            <a:ext cx="668808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1295280" y="4343400"/>
            <a:ext cx="685800" cy="304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E:\FileUpload3.png"/>
          <p:cNvPicPr/>
          <p:nvPr/>
        </p:nvPicPr>
        <p:blipFill>
          <a:blip r:embed="rId1"/>
          <a:srcRect l="2672" t="11785" r="31070" b="20869"/>
          <a:stretch/>
        </p:blipFill>
        <p:spPr>
          <a:xfrm>
            <a:off x="533520" y="533520"/>
            <a:ext cx="8216640" cy="46958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3200400" y="1600200"/>
            <a:ext cx="1295280" cy="228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371600" y="2286000"/>
            <a:ext cx="4572000" cy="152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Don’t forget to Add a Folder for example: “UploadedImages” in your website to hold all the uploa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You can separate the uploaded files depend on the file typ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If you didn’t  specify which file type you allow to uploaded, then any type of files (images,documents,viruses … etc) will be allowed to uploa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mbria"/>
              </a:rPr>
              <a:t>hints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1E27-EFCF-447B-A241-920CD55FF8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755640" y="2133720"/>
            <a:ext cx="748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9bd5"/>
                </a:solidFill>
                <a:latin typeface="Book Antiqua"/>
              </a:rPr>
              <a:t>Creating Image Map &amp; Image But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1C9A-7CC3-42C5-A895-2CE8B2F491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55640" y="54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Image Map by this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17514" t="9438" r="48230" b="28211"/>
          <a:stretch/>
        </p:blipFill>
        <p:spPr>
          <a:xfrm>
            <a:off x="395280" y="1295280"/>
            <a:ext cx="4176720" cy="4751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rcRect l="0" t="3415" r="71265" b="13062"/>
          <a:stretch/>
        </p:blipFill>
        <p:spPr>
          <a:xfrm>
            <a:off x="5148360" y="1268280"/>
            <a:ext cx="3503520" cy="48513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35640" y="6872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will b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9327-A6EC-4042-B60A-332CE3BF21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755640" y="8366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Create Image Map by control tool. Then, select the image’s path. After that, select the HotSp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rcRect l="84261" t="51982" r="0" b="6458"/>
          <a:stretch/>
        </p:blipFill>
        <p:spPr>
          <a:xfrm>
            <a:off x="6588000" y="2349360"/>
            <a:ext cx="1919520" cy="316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rcRect l="0" t="0" r="72448" b="34791"/>
          <a:stretch/>
        </p:blipFill>
        <p:spPr>
          <a:xfrm>
            <a:off x="565200" y="1555920"/>
            <a:ext cx="3359160" cy="496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3"/>
          <a:srcRect l="84261" t="51982" r="0" b="6439"/>
          <a:stretch/>
        </p:blipFill>
        <p:spPr>
          <a:xfrm>
            <a:off x="4165560" y="2349360"/>
            <a:ext cx="191916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69F5-37B1-4BEC-A693-AD213AB242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0" t="0" r="0" b="5740"/>
          <a:stretch/>
        </p:blipFill>
        <p:spPr>
          <a:xfrm>
            <a:off x="250920" y="1125360"/>
            <a:ext cx="8675640" cy="5112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468360" y="484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alog box will appear, click on the arrow next to Add. Then, choose one of the Hotspots types (for example, the Cir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21:13Z</dcterms:created>
  <dc:creator>a</dc:creator>
  <dc:description/>
  <dc:language>en-US</dc:language>
  <cp:lastModifiedBy>User</cp:lastModifiedBy>
  <dcterms:modified xsi:type="dcterms:W3CDTF">2016-11-05T19:41:29Z</dcterms:modified>
  <cp:revision>111</cp:revision>
  <dc:subject/>
  <dc:title>Slide 1</dc:title>
</cp:coreProperties>
</file>