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B61-79A5-4AF4-B100-2D36B985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302-FB67-400E-8C98-311C6F62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170-5FD5-4142-A8C8-943BEA61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436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76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436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76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4AB-C6D6-43A6-8E7F-78B003FE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8ED-661F-46AF-B702-0AA0514E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1EC-20F7-43A0-9F80-FA8E33E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451-6ECB-422B-B18A-8ADB5E43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387-8049-4A52-83EA-A820AB47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3120" y="365040"/>
            <a:ext cx="6772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1C7-7F29-4D49-A257-2C46F5B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E3B-535A-4C50-9B91-5768035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971-FFBB-409C-9971-70A05389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339-D84C-4AD5-8957-BE735D73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71080" y="6356520"/>
            <a:ext cx="191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86240" y="635652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4EF-2E03-40DF-99BB-F4B40F0CDC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041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mbria"/>
              </a:rPr>
              <a:t>File Upload</a:t>
            </a:r>
            <a:endParaRPr b="0" lang="en-US" sz="60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14EA-77EA-4DBA-B393-355DC7EA3F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30705" t="25523" r="30900" b="29127"/>
          <a:stretch/>
        </p:blipFill>
        <p:spPr>
          <a:xfrm>
            <a:off x="108000" y="206676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30507" t="25523" r="30510" b="29127"/>
          <a:stretch/>
        </p:blipFill>
        <p:spPr>
          <a:xfrm>
            <a:off x="4716360" y="2066760"/>
            <a:ext cx="435636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11280" y="9018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ts properties. Then, add as many HotSpots as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9F17-BAF0-435C-9ACC-BBE009F0DF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128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 the 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324000" y="836640"/>
            <a:ext cx="3643200" cy="5905440"/>
            <a:chOff x="324000" y="836640"/>
            <a:chExt cx="3643200" cy="590544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3415" r="67725" b="12877"/>
            <a:stretch/>
          </p:blipFill>
          <p:spPr>
            <a:xfrm>
              <a:off x="324000" y="836640"/>
              <a:ext cx="364320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4"/>
            <p:cNvSpPr/>
            <p:nvPr/>
          </p:nvSpPr>
          <p:spPr>
            <a:xfrm flipH="1">
              <a:off x="2411280" y="659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195280" y="335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483080" y="836640"/>
            <a:ext cx="3473640" cy="5905440"/>
            <a:chOff x="4483080" y="836640"/>
            <a:chExt cx="3473640" cy="5905440"/>
          </a:xfrm>
        </p:grpSpPr>
        <p:pic>
          <p:nvPicPr>
            <p:cNvPr id="78" name="Picture 7" descr=""/>
            <p:cNvPicPr/>
            <p:nvPr/>
          </p:nvPicPr>
          <p:blipFill>
            <a:blip r:embed="rId2"/>
            <a:srcRect l="0" t="3415" r="72448" b="13062"/>
            <a:stretch/>
          </p:blipFill>
          <p:spPr>
            <a:xfrm>
              <a:off x="4483080" y="836640"/>
              <a:ext cx="347364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Line 8"/>
            <p:cNvSpPr/>
            <p:nvPr/>
          </p:nvSpPr>
          <p:spPr>
            <a:xfrm flipH="1">
              <a:off x="6803640" y="6597720"/>
              <a:ext cx="86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>
              <a:off x="6659640" y="530064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932D-1D22-4B28-A04C-49AFABA08D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0" t="0" r="71852" b="25353"/>
          <a:stretch/>
        </p:blipFill>
        <p:spPr>
          <a:xfrm>
            <a:off x="1027080" y="1343160"/>
            <a:ext cx="3040200" cy="50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rcRect l="84261" t="51958" r="0" b="6458"/>
          <a:stretch/>
        </p:blipFill>
        <p:spPr>
          <a:xfrm>
            <a:off x="5435640" y="1916280"/>
            <a:ext cx="1919160" cy="3168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4000" y="5554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n image button, click on the Image Button Control. Then, choose the image’s URL from the propertie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553F-CA9D-4B76-AE76-1A495CC5C2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8360" y="6224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button appear in the web form , then double click on it  and write any action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rcRect l="0" t="11978" r="0" b="8681"/>
          <a:stretch/>
        </p:blipFill>
        <p:spPr>
          <a:xfrm>
            <a:off x="468360" y="1700280"/>
            <a:ext cx="813600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D388-776C-46FF-B593-4C5AFECF1B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5414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rcRect l="0" t="13031" r="15934" b="9547"/>
          <a:stretch/>
        </p:blipFill>
        <p:spPr>
          <a:xfrm>
            <a:off x="725400" y="1628640"/>
            <a:ext cx="7817040" cy="479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692-FD35-4D34-BFDE-4500B7B895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FileUpload1.png"/>
          <p:cNvPicPr/>
          <p:nvPr/>
        </p:nvPicPr>
        <p:blipFill>
          <a:blip r:embed="rId1"/>
          <a:srcRect l="1425" t="12661" r="28121" b="45571"/>
          <a:stretch/>
        </p:blipFill>
        <p:spPr>
          <a:xfrm>
            <a:off x="250920" y="2276640"/>
            <a:ext cx="8613720" cy="2871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776160" y="914400"/>
            <a:ext cx="66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 FileUpload control from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886200"/>
            <a:ext cx="2209680" cy="228600"/>
          </a:xfrm>
          <a:prstGeom prst="rect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FileUpload2.png"/>
          <p:cNvPicPr/>
          <p:nvPr/>
        </p:nvPicPr>
        <p:blipFill>
          <a:blip r:embed="rId1"/>
          <a:srcRect l="1975" t="11460" r="55858" b="55211"/>
          <a:stretch/>
        </p:blipFill>
        <p:spPr>
          <a:xfrm>
            <a:off x="1219320" y="2133720"/>
            <a:ext cx="66880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295280" y="4343400"/>
            <a:ext cx="68580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FileUpload3.png"/>
          <p:cNvPicPr/>
          <p:nvPr/>
        </p:nvPicPr>
        <p:blipFill>
          <a:blip r:embed="rId1"/>
          <a:srcRect l="2672" t="11785" r="31070" b="20869"/>
          <a:stretch/>
        </p:blipFill>
        <p:spPr>
          <a:xfrm>
            <a:off x="533520" y="533520"/>
            <a:ext cx="8216640" cy="4695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3200400" y="1600200"/>
            <a:ext cx="129528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71600" y="2286000"/>
            <a:ext cx="4572000" cy="15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Don’t forget to Add a Folder for example: “UploadedImages” in your website to hold all the uplo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You can separate the uploaded files depend on the file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If you didn’t  specify which file type you allow to uploaded, then any type of files (images,documents,viruses … etc) will be allowed to uplo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mbria"/>
              </a:rPr>
              <a:t>hints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38C-5464-432C-81D8-0511E1FEA5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55640" y="213372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Book Antiqua"/>
              </a:rPr>
              <a:t>Creating Image Map &amp; Image Bu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3F49-5A2B-46C5-9029-1D8B043178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55640" y="5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mage Map by this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17514" t="9438" r="48230" b="28211"/>
          <a:stretch/>
        </p:blipFill>
        <p:spPr>
          <a:xfrm>
            <a:off x="395280" y="1295280"/>
            <a:ext cx="4176720" cy="475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rcRect l="0" t="3415" r="71265" b="13062"/>
          <a:stretch/>
        </p:blipFill>
        <p:spPr>
          <a:xfrm>
            <a:off x="5148360" y="1268280"/>
            <a:ext cx="3503520" cy="4851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35640" y="6872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558-EDA3-4921-8CAB-9B7972242E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755640" y="83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Image Map by control tool. Then, select the image’s path. After that, select the HotSp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84261" t="51982" r="0" b="6458"/>
          <a:stretch/>
        </p:blipFill>
        <p:spPr>
          <a:xfrm>
            <a:off x="6588000" y="2349360"/>
            <a:ext cx="1919520" cy="316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rcRect l="0" t="0" r="72448" b="34791"/>
          <a:stretch/>
        </p:blipFill>
        <p:spPr>
          <a:xfrm>
            <a:off x="565200" y="1555920"/>
            <a:ext cx="335916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rcRect l="84261" t="51982" r="0" b="6439"/>
          <a:stretch/>
        </p:blipFill>
        <p:spPr>
          <a:xfrm>
            <a:off x="4165560" y="2349360"/>
            <a:ext cx="191916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2C3-E907-4B28-AEE0-F2BB943A86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5740"/>
          <a:stretch/>
        </p:blipFill>
        <p:spPr>
          <a:xfrm>
            <a:off x="250920" y="1125360"/>
            <a:ext cx="8675640" cy="511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48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log box will appear, click on the arrow next to Add. Then, choose one of the Hotspots types (for example, the Cir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1:13Z</dcterms:created>
  <dc:creator>a</dc:creator>
  <dc:description/>
  <dc:language>en-US</dc:language>
  <cp:lastModifiedBy>User</cp:lastModifiedBy>
  <dcterms:modified xsi:type="dcterms:W3CDTF">2016-11-05T19:41:29Z</dcterms:modified>
  <cp:revision>111</cp:revision>
  <dc:subject/>
  <dc:title>Slide 1</dc:title>
</cp:coreProperties>
</file>