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F19-7E89-4BF4-B128-399CF953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4D4-B804-450A-9983-CA47D40A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3C7D-8743-4A9E-ABD7-D0983E11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477-757F-4144-B5FB-D746695D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7C02-FAC4-43CA-ACF7-DE3E3769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6FA2-ED88-4368-9623-D0F5B4D8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291C-6DF4-4C87-96DE-F2ED34AD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6054-B79D-4030-8E45-16B5E96F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1B03-1634-4E3A-8041-4E2A61EC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0D14-3C1A-4707-A809-EC1BD84C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33A8-68F9-4C2F-8715-D7B77CAB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10B-F8A6-442A-81AD-F612CE05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5B0A-F186-4E00-9F6E-77F05D4E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F74D-D7D4-4AF7-AAAD-975D0D67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71DB-1496-4F8D-B0E0-93C4B391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7056-B3DA-47C5-B996-E5E84486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CA30-33B1-4321-AAAD-4B191C47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8CD7D-9030-4575-8CC7-EFA4B001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CCEE5-B3A6-4E5F-A01C-E42ADBA5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6593C-3D4E-42C7-BACF-DE58FEA2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29384-D248-4BA1-BAE1-F98F003F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57172-6A02-4725-875D-56A9E4F6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306-C5F2-45F0-933F-28EA1EFC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ABF44-05C9-404C-8A58-EEB54242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CA10-E503-4BA9-805A-C397199C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9E608-6741-4E02-AFC6-E12EC950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406D-CC83-4074-A854-4BDAEA6A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FF2D3-7315-4EA6-B8C6-213E3024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52F88-5F4B-4153-AA4F-05587BAE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82634-2704-48DE-903A-078660AF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322F-A349-4821-8872-580EF46F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F2791-C534-42B9-A4CD-E8BA7B04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36420-A3BB-4B83-9E40-B7DFCCE4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AFB-E400-4F2D-8B94-F681BC44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432C8-C4EA-4F8E-8734-E323845F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9D2B2-7CCE-4094-9853-36E4C06B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D4010-1213-41F8-849C-FA354CE3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2B6BA-1CC5-45AF-91C7-038D2CD2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07A7E-C1F9-4AAA-ADD9-760B5F87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1C4BA-5C9C-421B-865F-1DBF778E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19C20-B190-4DD1-ACBF-6FF40FA6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64EA-AACB-4EC6-A0F3-F3A3AA22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37103-F40A-459A-93DE-3573E469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094-730C-4B29-B54D-3A12420F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6D8-B471-4F81-9D22-695E896A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14E-9558-4930-BA52-20661020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04C-6E7B-46DB-91C3-0FA6BD3D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0DD-CBC6-4A09-8768-91959934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EDA7-9D7D-450A-85A5-32AD68A2C59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3A6D-9582-410D-9287-C2734B83661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890F-A02C-4A53-BDF3-0E8126FAE99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8CC1-DF7F-4FDB-BD5A-28B86EE1B0D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1280" y="774720"/>
            <a:ext cx="540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3) Connective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04920" y="1662120"/>
            <a:ext cx="838188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nective tissue function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mainly to bin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upport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ve tissues have a population of cells scattere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an extracellular matrix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الوسط بين الخلو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trix generally consists of fiber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may be liquid, jellylike, or so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most cases, the connective tissue cells secrete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atrix may b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l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one)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f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loose connective tissue),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liqu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lood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57280" y="222120"/>
            <a:ext cx="4114800" cy="56376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2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608040"/>
            <a:ext cx="83818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ervous tissu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nses stimuli and transmits signals from one part of the animal to an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functional unit of nervous tissue is 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uro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or nerv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consists of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ell bod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wo or more extensions, calle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endrit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xon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65160" y="2924280"/>
            <a:ext cx="9078840" cy="3773520"/>
            <a:chOff x="65160" y="2924280"/>
            <a:chExt cx="9078840" cy="3773520"/>
          </a:xfrm>
        </p:grpSpPr>
        <p:pic>
          <p:nvPicPr>
            <p:cNvPr id="250" name="Picture 4" descr=""/>
            <p:cNvPicPr/>
            <p:nvPr/>
          </p:nvPicPr>
          <p:blipFill>
            <a:blip r:embed="rId1"/>
            <a:stretch/>
          </p:blipFill>
          <p:spPr>
            <a:xfrm>
              <a:off x="65160" y="2997360"/>
              <a:ext cx="2922480" cy="36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1" name="Picture 7" descr=""/>
            <p:cNvPicPr/>
            <p:nvPr/>
          </p:nvPicPr>
          <p:blipFill>
            <a:blip r:embed="rId2"/>
            <a:srcRect l="0" t="0" r="-1616" b="4157"/>
            <a:stretch/>
          </p:blipFill>
          <p:spPr>
            <a:xfrm>
              <a:off x="3024360" y="2924280"/>
              <a:ext cx="611964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Oval 8"/>
            <p:cNvSpPr/>
            <p:nvPr/>
          </p:nvSpPr>
          <p:spPr>
            <a:xfrm>
              <a:off x="4127400" y="3103560"/>
              <a:ext cx="792360" cy="2160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4292640" y="3916440"/>
              <a:ext cx="588960" cy="3603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4152960" y="518328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3157560" y="604692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395280" y="112536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drit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nerve impul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rom their tips toward the rest of the neu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xo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impulses toward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neuron or toward an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fect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uch as a muscl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39800"/>
            <a:ext cx="876312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re are three kinds of connective tissues fibers, which are all protei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Collagenous fibers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hit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كوللاجين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made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non-elasti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ير مرن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Elastic fibers (</a:t>
            </a:r>
            <a:r>
              <a:rPr b="1" lang="en-US" sz="2800" spc="-1" strike="noStrike">
                <a:solidFill>
                  <a:srgbClr val="ff9900"/>
                </a:solidFill>
                <a:latin typeface="Constantia"/>
              </a:rPr>
              <a:t>Yellow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 المرن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long threads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elast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provide a   rubbery qualit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Reticular fibe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شبكي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very thin and branched, and composed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It joins connective tissues to adjacent tissu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85840" y="928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560" y="1409760"/>
            <a:ext cx="8381880" cy="55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ajor types of connective tissues in vertebrates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Lo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جو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Adip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ن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Fibrous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ليف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D)- Cartilag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E)- 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7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)- 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has a structure correlated with its specialized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4920" y="777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6443640" y="2349360"/>
            <a:ext cx="2016000" cy="1368720"/>
            <a:chOff x="6443640" y="2349360"/>
            <a:chExt cx="2016000" cy="1368720"/>
          </a:xfrm>
        </p:grpSpPr>
        <p:sp>
          <p:nvSpPr>
            <p:cNvPr id="203" name="AutoShape 6"/>
            <p:cNvSpPr/>
            <p:nvPr/>
          </p:nvSpPr>
          <p:spPr>
            <a:xfrm>
              <a:off x="6443640" y="2349360"/>
              <a:ext cx="216000" cy="136872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5640 h 1368720"/>
                <a:gd name="textAreaBottom" fmla="*/ 1333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6659640" y="285264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ضامة أصيل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2"/>
          <p:cNvGrpSpPr/>
          <p:nvPr/>
        </p:nvGrpSpPr>
        <p:grpSpPr>
          <a:xfrm>
            <a:off x="3780000" y="4292640"/>
            <a:ext cx="2087280" cy="936720"/>
            <a:chOff x="3780000" y="4292640"/>
            <a:chExt cx="2087280" cy="936720"/>
          </a:xfrm>
        </p:grpSpPr>
        <p:sp>
          <p:nvSpPr>
            <p:cNvPr id="206" name="AutoShape 7"/>
            <p:cNvSpPr/>
            <p:nvPr/>
          </p:nvSpPr>
          <p:spPr>
            <a:xfrm>
              <a:off x="3780000" y="4292640"/>
              <a:ext cx="215640" cy="93672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4067280" y="457524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هيكلي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"/>
          <p:cNvSpPr/>
          <p:nvPr/>
        </p:nvSpPr>
        <p:spPr>
          <a:xfrm>
            <a:off x="255600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أنسجة وعائية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51920" y="75384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Loose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فجو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epithelia to underlying tissues and functions a holding organs in pla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t has all three fiber typ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3429000"/>
            <a:ext cx="327672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ibroblast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خلايا لي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e the protein ingredients of the extracellular fi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acrophages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خلايا بلعم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amoeboid cells that engulfing bacteria and the debris of dead cells by phagocy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4240" y="300024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omposes of two cell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3714840" y="2728800"/>
            <a:ext cx="5410080" cy="4057560"/>
            <a:chOff x="3714840" y="2728800"/>
            <a:chExt cx="5410080" cy="4057560"/>
          </a:xfrm>
        </p:grpSpPr>
        <p:pic>
          <p:nvPicPr>
            <p:cNvPr id="213" name="Picture 6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714840" y="272880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/>
            <p:cNvSpPr/>
            <p:nvPr/>
          </p:nvSpPr>
          <p:spPr>
            <a:xfrm>
              <a:off x="4933800" y="51861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4629240" y="6591240"/>
              <a:ext cx="1295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3571920" y="2286000"/>
            <a:ext cx="5562720" cy="4429080"/>
            <a:chOff x="3571920" y="2286000"/>
            <a:chExt cx="5562720" cy="4429080"/>
          </a:xfrm>
        </p:grpSpPr>
        <p:pic>
          <p:nvPicPr>
            <p:cNvPr id="21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571920" y="2448000"/>
              <a:ext cx="556272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4"/>
            <p:cNvSpPr/>
            <p:nvPr/>
          </p:nvSpPr>
          <p:spPr>
            <a:xfrm>
              <a:off x="6696360" y="2286000"/>
              <a:ext cx="3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7286760" y="351468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214200" y="713880"/>
            <a:ext cx="83822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Adipos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دهن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a specialized form of loose connective tissues that store fat i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adipose cell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دهن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tributed throughout the matri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28600" y="342900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ipose tissu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tores fu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fat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adipose cell contains a large fat droplet that swells when fat is stored and shrinks when the body uses fat as f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28600" y="29289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429000" y="1930320"/>
            <a:ext cx="5651280" cy="4784400"/>
            <a:chOff x="3429000" y="1930320"/>
            <a:chExt cx="5651280" cy="4784400"/>
          </a:xfrm>
        </p:grpSpPr>
        <p:pic>
          <p:nvPicPr>
            <p:cNvPr id="224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429000" y="1930320"/>
              <a:ext cx="5651280" cy="47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4"/>
            <p:cNvSpPr/>
            <p:nvPr/>
          </p:nvSpPr>
          <p:spPr>
            <a:xfrm>
              <a:off x="7222320" y="5875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6138720" y="6714720"/>
              <a:ext cx="1470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 txBox="1"/>
          <p:nvPr/>
        </p:nvSpPr>
        <p:spPr>
          <a:xfrm>
            <a:off x="304920" y="713880"/>
            <a:ext cx="868680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95000"/>
              <a:buFont typeface="Constantia"/>
              <a:buAutoNum type="alpha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Fibrous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ليف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dense, due to its large number of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lagenous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fibers are organized into parallel bundles making it stro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28600" y="39625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type of connective tissu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ttaching muscl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joining bon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t j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28600" y="3124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071880" y="1646280"/>
            <a:ext cx="6019200" cy="5140080"/>
            <a:chOff x="3071880" y="1646280"/>
            <a:chExt cx="6019200" cy="514008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071880" y="1646280"/>
              <a:ext cx="601920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8101800" y="5226120"/>
              <a:ext cx="42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>
              <a:off x="7440120" y="6012000"/>
              <a:ext cx="57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304560" y="749160"/>
            <a:ext cx="845820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tilag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has an abundance of collagenous fibers embedded in a rubbery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79280" y="291456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ondrocyte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غضرو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making cartilage flexible support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cartilage in nose, ears, and vertebral d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124080" y="1933560"/>
            <a:ext cx="6019920" cy="4852800"/>
            <a:chOff x="3124080" y="1933560"/>
            <a:chExt cx="6019920" cy="485280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124080" y="1933560"/>
              <a:ext cx="6019920" cy="48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3659040" y="468648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3886200" y="5036400"/>
              <a:ext cx="577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304560" y="588600"/>
            <a:ext cx="83818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keleton supporting most vertebrates is made of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mineralized connective tissue. This bone c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ntains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osteobla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لايا العظم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eposit a matrix of collage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1280" y="231156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ne is harder than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mammalian bones consists of repeating unit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steo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محافظ عظم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Haversian syst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osteon has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entral ca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ing blood vessels and nerves that service the 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3124080" y="213840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6934320" y="426708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7010280" y="4572000"/>
            <a:ext cx="57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560" y="636480"/>
            <a:ext cx="838188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Vascular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unctions differently from other connective tissues, but it does have an extensive extra-cellular matrix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matrix is a liquid called plasma, consisting of water, salts, and a variety of dissolved protei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71280" y="2562120"/>
            <a:ext cx="349092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ypes of blood cells 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Erythr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red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Leuk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white bloo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late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unctions of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 cells carry oxy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te cells function i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ense  against microb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elets help in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ot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03:59Z</dcterms:created>
  <dc:creator>Dr. A A</dc:creator>
  <dc:description/>
  <dc:language>en-US</dc:language>
  <cp:lastModifiedBy>د أشرف مشالي</cp:lastModifiedBy>
  <dcterms:modified xsi:type="dcterms:W3CDTF">2013-09-01T08:31:14Z</dcterms:modified>
  <cp:revision>45</cp:revision>
  <dc:subject/>
  <dc:title>Slide 1</dc:title>
</cp:coreProperties>
</file>