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E4E-1591-4E00-9ABA-57BD30D5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74F-0BF7-4F93-9616-4E5660CA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4D3-9093-45F9-A220-BA103EC3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DD6-E653-4AC6-AB08-D609B0DE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0371-648B-4689-BF24-76906955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815E-C4FF-4C52-BAEB-9E19452B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C96E-9C7F-45C5-AA88-F16A75E6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75C6-2B9D-4307-ACFB-752AD13F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64CF-D84D-44E6-9B15-A3D2D9C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70C8-1899-4A68-9991-B97CA2BA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3EEC-E2E2-4354-9ADA-3108E898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D1E-1F49-42DD-BA09-FF80F8C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F955-0870-4B77-B67D-45A3E2BB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1799-E1DF-4FB2-A99E-B8BCF69A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698A-5A99-4FC0-86E5-0DFD03B1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384E-6A5D-4FB2-B9AB-B69A6FBE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F24A-160F-4EA7-8AF0-D0F0E5EF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FB0E-70FE-4E74-9216-EEB5BF6E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BAA5-DB66-424B-8294-8E15B49A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5B54-AE98-42E6-A90B-1F320F63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6EB2-7EE4-47C8-BFA7-82518206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3D3B-97FC-4409-9A3D-22BE3027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E38-9C7C-4EA8-A737-36027392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758D-ABA8-4966-81B9-5331A32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538A-A28B-4D51-8343-21D2470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68DD-1734-4E13-AA0D-D3B5E849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BEC7-C067-473F-91BB-1F40806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392A-2B37-4E31-9013-2D2C2A4A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2B8D-27B5-4CCF-857D-A729B434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CCA4-8F80-4B2C-9E51-66361BDD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CD54A-8F9E-4A77-8E7E-66205C0D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31CE-0E45-4B6D-AE16-5DB270BB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435B-B7A1-4204-8591-DD0CB296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BC4-757E-425D-BC5B-A847C9F6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6BEB-7F07-41F1-8D06-043A2286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AE9C-68F1-46F4-A3AD-1F2A74F9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6460A-2829-4D30-90F6-533E0C22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ACE8-9298-41BD-BDAF-52865524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400E-0205-43B7-8916-A2AD0C33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8D95-B732-43BB-B285-56CDE9DD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FD155-D249-44B2-B46E-5F19B8BC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3240-4412-4CCF-8D21-0EB930C9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76462-921A-41D6-AB49-7B463375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06D-EB63-41D3-A9D6-3B7E834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2E3-BF49-4510-94F5-41EC92F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AF3-78FA-4941-A1A4-0742477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EFA-C8ED-440A-B430-0B401304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FFF-B7C3-4356-84D0-88117774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E721-142C-4A40-A11E-88E4BE497C4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7B54-A159-41B3-AFB1-812E43C7F0A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5CCB-96E1-4F52-B7FD-65011000BB8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C1C-6FD6-403B-950E-CBF29B0FF10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User</cp:lastModifiedBy>
  <dcterms:modified xsi:type="dcterms:W3CDTF">2015-03-11T03:35:58Z</dcterms:modified>
  <cp:revision>45</cp:revision>
  <dc:subject/>
  <dc:title>Slide 1</dc:title>
</cp:coreProperties>
</file>