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7B6-E6C3-470E-8530-4B8C1861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C23-94AD-490F-A9F2-C826923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53C-52FA-4C68-A5B8-82650BC6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FF3-28C5-4904-93AB-09980524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33CB-006C-4931-A399-C375C690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BA37-3022-48EC-8758-6B374725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EA2D-75DA-4726-8E77-BB968811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D0DA-8787-455C-8547-29F55EA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B2CE-1AAF-4539-9A91-E9B074E4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A59A-4B15-4EE7-BF16-94C92A49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7371-22AB-4217-A94C-6C6F529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160-C712-473E-936A-190658CE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BE73-788E-43D3-A104-DD11A85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F33-AE1D-45EF-95D8-4E11620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C69C-AF02-4DD0-BB14-026CFE2E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07E7-BAC9-42E7-B7AE-F7EEC1C2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0BD3-8872-46AE-8D2B-5D3F56D2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02F6-7FD0-4352-81FC-4A1A618A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36AAB-5C1B-4D30-8A97-13A628F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B093-054C-48FC-8EFD-B946B71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9593-3654-4FDF-9296-212255EF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4E05-61D6-4136-A242-423334CD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213-5D19-46BA-ACD2-2FFD3DA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5677-E821-4E39-9442-360CCF74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D3E5-84EB-4258-AB08-53D80E4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DB6B-BB1B-4202-BC31-C7C8E4F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7B66-D6E1-4BA0-8F44-60C3B393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AB16-247E-4BFF-A4E7-3282F985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BA57-CCE0-4A59-8E7C-BDA3E985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4C10-9D42-4759-A13D-FD70E43E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9446-F0D3-4B35-9775-4B0FB67D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6C68-3580-4433-9FC5-CFA68112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FE43-12FD-4124-9D23-4F29AA2E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B9E-09C0-4A52-8303-E181B182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E8AA-558F-4F14-BDDE-539B3B0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B63E-127E-49A5-992A-BFBA6F7E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CD71-6ADC-40AF-B1C8-6805E108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4512-F194-4273-9C7C-92F778E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91CC-ECA9-486D-83E2-BDA413D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E4F5-556C-45FC-B42C-A28DF4C4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0624-BF30-4B83-9267-5AE0710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53D3-B69E-49A4-B98E-5C66BAFD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D91F-C4D4-4817-AF3D-CF602D72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651-75F9-4062-BE5A-03F4B227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AC5-8B5C-4348-BBE9-40BA2AB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D92-5B51-46A2-9F0A-7CAAF8C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8DD-E182-4BDC-8BFA-D2AB924B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641-9BBC-4F4C-B7FB-019B12F7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E30-DD46-4328-B8C7-9C56994A262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20C-C9D5-4C1B-8E85-E5FEBA42C83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631E-B764-48C0-BA53-9062EE8CB7E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9FA2-8963-4BBE-BED0-7C884FCA9E3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33200" y="380880"/>
            <a:ext cx="8902800" cy="143460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Other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"/>
          <p:cNvGrpSpPr/>
          <p:nvPr/>
        </p:nvGrpSpPr>
        <p:grpSpPr>
          <a:xfrm>
            <a:off x="57240" y="1413000"/>
            <a:ext cx="9021600" cy="4935960"/>
            <a:chOff x="57240" y="1413000"/>
            <a:chExt cx="9021600" cy="4935960"/>
          </a:xfrm>
        </p:grpSpPr>
        <p:grpSp>
          <p:nvGrpSpPr>
            <p:cNvPr id="198" name="Group 3"/>
            <p:cNvGrpSpPr/>
            <p:nvPr/>
          </p:nvGrpSpPr>
          <p:grpSpPr>
            <a:xfrm>
              <a:off x="88560" y="1413000"/>
              <a:ext cx="8990280" cy="2300760"/>
              <a:chOff x="88560" y="1413000"/>
              <a:chExt cx="8990280" cy="2300760"/>
            </a:xfrm>
          </p:grpSpPr>
          <p:grpSp>
            <p:nvGrpSpPr>
              <p:cNvPr id="199" name="Group 4"/>
              <p:cNvGrpSpPr/>
              <p:nvPr/>
            </p:nvGrpSpPr>
            <p:grpSpPr>
              <a:xfrm>
                <a:off x="88560" y="1921320"/>
                <a:ext cx="7683480" cy="1360080"/>
                <a:chOff x="88560" y="1921320"/>
                <a:chExt cx="7683480" cy="1360080"/>
              </a:xfrm>
            </p:grpSpPr>
            <p:sp>
              <p:nvSpPr>
                <p:cNvPr id="200" name="Text Box 4"/>
                <p:cNvSpPr/>
                <p:nvPr/>
              </p:nvSpPr>
              <p:spPr>
                <a:xfrm>
                  <a:off x="88560" y="2577600"/>
                  <a:ext cx="2590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Epithelial tissu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نسيج الطلائ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Group 10"/>
                <p:cNvGrpSpPr/>
                <p:nvPr/>
              </p:nvGrpSpPr>
              <p:grpSpPr>
                <a:xfrm>
                  <a:off x="1371240" y="1921320"/>
                  <a:ext cx="6400800" cy="1051560"/>
                  <a:chOff x="1371240" y="1921320"/>
                  <a:chExt cx="6400800" cy="1051560"/>
                </a:xfrm>
              </p:grpSpPr>
              <p:sp>
                <p:nvSpPr>
                  <p:cNvPr id="202" name="Line 11"/>
                  <p:cNvSpPr/>
                  <p:nvPr/>
                </p:nvSpPr>
                <p:spPr>
                  <a:xfrm>
                    <a:off x="4558680" y="1921320"/>
                    <a:ext cx="0" cy="32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12"/>
                  <p:cNvSpPr/>
                  <p:nvPr/>
                </p:nvSpPr>
                <p:spPr>
                  <a:xfrm>
                    <a:off x="1371240" y="2241720"/>
                    <a:ext cx="6400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3"/>
                  <p:cNvSpPr/>
                  <p:nvPr/>
                </p:nvSpPr>
                <p:spPr>
                  <a:xfrm>
                    <a:off x="3347640" y="2241720"/>
                    <a:ext cx="0" cy="731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5" name="Line 14"/>
              <p:cNvSpPr/>
              <p:nvPr/>
            </p:nvSpPr>
            <p:spPr>
              <a:xfrm>
                <a:off x="776016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4"/>
              <p:cNvSpPr/>
              <p:nvPr/>
            </p:nvSpPr>
            <p:spPr>
              <a:xfrm>
                <a:off x="138312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"/>
              <p:cNvSpPr/>
              <p:nvPr/>
            </p:nvSpPr>
            <p:spPr>
              <a:xfrm>
                <a:off x="5796000" y="22377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4"/>
              <p:cNvSpPr/>
              <p:nvPr/>
            </p:nvSpPr>
            <p:spPr>
              <a:xfrm>
                <a:off x="2052360" y="30099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Connective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ضا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4"/>
              <p:cNvSpPr/>
              <p:nvPr/>
            </p:nvSpPr>
            <p:spPr>
              <a:xfrm>
                <a:off x="4512960" y="2997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3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Muscular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ج العضل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4"/>
              <p:cNvSpPr/>
              <p:nvPr/>
            </p:nvSpPr>
            <p:spPr>
              <a:xfrm>
                <a:off x="6487920" y="2565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4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Nervous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عصب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4"/>
              <p:cNvSpPr/>
              <p:nvPr/>
            </p:nvSpPr>
            <p:spPr>
              <a:xfrm>
                <a:off x="2458800" y="1413000"/>
                <a:ext cx="4213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 u="sng">
                    <a:solidFill>
                      <a:srgbClr val="0d0d0d"/>
                    </a:solidFill>
                    <a:uFillTx/>
                    <a:latin typeface="Constantia"/>
                  </a:rPr>
                  <a:t>Types of animal tissu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3"/>
            <p:cNvGrpSpPr/>
            <p:nvPr/>
          </p:nvGrpSpPr>
          <p:grpSpPr>
            <a:xfrm>
              <a:off x="623880" y="3821400"/>
              <a:ext cx="5028120" cy="1046520"/>
              <a:chOff x="623880" y="3821400"/>
              <a:chExt cx="5028120" cy="1046520"/>
            </a:xfrm>
          </p:grpSpPr>
          <p:grpSp>
            <p:nvGrpSpPr>
              <p:cNvPr id="213" name="Group 4"/>
              <p:cNvGrpSpPr/>
              <p:nvPr/>
            </p:nvGrpSpPr>
            <p:grpSpPr>
              <a:xfrm>
                <a:off x="623880" y="3821400"/>
                <a:ext cx="4379760" cy="1046520"/>
                <a:chOff x="623880" y="3821400"/>
                <a:chExt cx="4379760" cy="1046520"/>
              </a:xfrm>
            </p:grpSpPr>
            <p:sp>
              <p:nvSpPr>
                <p:cNvPr id="214" name="Text Box 4"/>
                <p:cNvSpPr/>
                <p:nvPr/>
              </p:nvSpPr>
              <p:spPr>
                <a:xfrm>
                  <a:off x="623880" y="4469040"/>
                  <a:ext cx="1427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10"/>
                <p:cNvGrpSpPr/>
                <p:nvPr/>
              </p:nvGrpSpPr>
              <p:grpSpPr>
                <a:xfrm>
                  <a:off x="1328400" y="3821400"/>
                  <a:ext cx="3675240" cy="419040"/>
                  <a:chOff x="1328400" y="3821400"/>
                  <a:chExt cx="3675240" cy="419040"/>
                </a:xfrm>
              </p:grpSpPr>
              <p:sp>
                <p:nvSpPr>
                  <p:cNvPr id="216" name="Line 11"/>
                  <p:cNvSpPr/>
                  <p:nvPr/>
                </p:nvSpPr>
                <p:spPr>
                  <a:xfrm>
                    <a:off x="3347640" y="382140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"/>
                  <p:cNvSpPr/>
                  <p:nvPr/>
                </p:nvSpPr>
                <p:spPr>
                  <a:xfrm>
                    <a:off x="1328400" y="4240440"/>
                    <a:ext cx="3675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Line 14"/>
              <p:cNvSpPr/>
              <p:nvPr/>
            </p:nvSpPr>
            <p:spPr>
              <a:xfrm>
                <a:off x="349164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500400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4"/>
              <p:cNvSpPr/>
              <p:nvPr/>
            </p:nvSpPr>
            <p:spPr>
              <a:xfrm>
                <a:off x="133128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4"/>
              <p:cNvSpPr/>
              <p:nvPr/>
            </p:nvSpPr>
            <p:spPr>
              <a:xfrm>
                <a:off x="2737080" y="44686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4"/>
              <p:cNvSpPr/>
              <p:nvPr/>
            </p:nvSpPr>
            <p:spPr>
              <a:xfrm>
                <a:off x="4354920" y="4468680"/>
                <a:ext cx="12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"/>
            <p:cNvGrpSpPr/>
            <p:nvPr/>
          </p:nvGrpSpPr>
          <p:grpSpPr>
            <a:xfrm>
              <a:off x="57240" y="4797720"/>
              <a:ext cx="2655720" cy="1551240"/>
              <a:chOff x="57240" y="4797720"/>
              <a:chExt cx="2655720" cy="155124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57240" y="4797720"/>
                <a:ext cx="1942920" cy="1066680"/>
                <a:chOff x="57240" y="4797720"/>
                <a:chExt cx="1942920" cy="1066680"/>
              </a:xfrm>
            </p:grpSpPr>
            <p:sp>
              <p:nvSpPr>
                <p:cNvPr id="225" name="Text Box 4"/>
                <p:cNvSpPr/>
                <p:nvPr/>
              </p:nvSpPr>
              <p:spPr>
                <a:xfrm>
                  <a:off x="57240" y="54655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Group 10"/>
                <p:cNvGrpSpPr/>
                <p:nvPr/>
              </p:nvGrpSpPr>
              <p:grpSpPr>
                <a:xfrm>
                  <a:off x="704880" y="4797720"/>
                  <a:ext cx="1295280" cy="419040"/>
                  <a:chOff x="704880" y="4797720"/>
                  <a:chExt cx="1295280" cy="4190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>
                    <a:off x="1326960" y="479772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>
                    <a:off x="704880" y="5216760"/>
                    <a:ext cx="1295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Line 14"/>
              <p:cNvSpPr/>
              <p:nvPr/>
            </p:nvSpPr>
            <p:spPr>
              <a:xfrm>
                <a:off x="132804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4"/>
              <p:cNvSpPr/>
              <p:nvPr/>
            </p:nvSpPr>
            <p:spPr>
              <a:xfrm>
                <a:off x="200088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4"/>
              <p:cNvSpPr/>
              <p:nvPr/>
            </p:nvSpPr>
            <p:spPr>
              <a:xfrm>
                <a:off x="70452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4"/>
              <p:cNvSpPr/>
              <p:nvPr/>
            </p:nvSpPr>
            <p:spPr>
              <a:xfrm>
                <a:off x="56988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4"/>
              <p:cNvSpPr/>
              <p:nvPr/>
            </p:nvSpPr>
            <p:spPr>
              <a:xfrm>
                <a:off x="1293840" y="5465880"/>
                <a:ext cx="141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"/>
            <p:cNvGrpSpPr/>
            <p:nvPr/>
          </p:nvGrpSpPr>
          <p:grpSpPr>
            <a:xfrm>
              <a:off x="2327400" y="4797720"/>
              <a:ext cx="2520720" cy="1551240"/>
              <a:chOff x="2327400" y="4797720"/>
              <a:chExt cx="2520720" cy="1551240"/>
            </a:xfrm>
          </p:grpSpPr>
          <p:grpSp>
            <p:nvGrpSpPr>
              <p:cNvPr id="235" name="Group 10"/>
              <p:cNvGrpSpPr/>
              <p:nvPr/>
            </p:nvGrpSpPr>
            <p:grpSpPr>
              <a:xfrm>
                <a:off x="3093840" y="4797720"/>
                <a:ext cx="863640" cy="419040"/>
                <a:chOff x="3093840" y="4797720"/>
                <a:chExt cx="863640" cy="419040"/>
              </a:xfrm>
            </p:grpSpPr>
            <p:sp>
              <p:nvSpPr>
                <p:cNvPr id="236" name="Line 11"/>
                <p:cNvSpPr/>
                <p:nvPr/>
              </p:nvSpPr>
              <p:spPr>
                <a:xfrm>
                  <a:off x="3520800" y="479772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2"/>
                <p:cNvSpPr/>
                <p:nvPr/>
              </p:nvSpPr>
              <p:spPr>
                <a:xfrm>
                  <a:off x="3093840" y="5216760"/>
                  <a:ext cx="863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Line 14"/>
              <p:cNvSpPr/>
              <p:nvPr/>
            </p:nvSpPr>
            <p:spPr>
              <a:xfrm>
                <a:off x="395784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>
                <a:off x="309348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4"/>
              <p:cNvSpPr/>
              <p:nvPr/>
            </p:nvSpPr>
            <p:spPr>
              <a:xfrm>
                <a:off x="232740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4"/>
              <p:cNvSpPr/>
              <p:nvPr/>
            </p:nvSpPr>
            <p:spPr>
              <a:xfrm>
                <a:off x="3081240" y="5477400"/>
                <a:ext cx="176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Box 2"/>
            <p:cNvSpPr/>
            <p:nvPr/>
          </p:nvSpPr>
          <p:spPr>
            <a:xfrm>
              <a:off x="2843640" y="4469760"/>
              <a:ext cx="1421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2"/>
            <p:cNvSpPr/>
            <p:nvPr/>
          </p:nvSpPr>
          <p:spPr>
            <a:xfrm>
              <a:off x="4428000" y="4475160"/>
              <a:ext cx="120456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"/>
            <p:cNvSpPr/>
            <p:nvPr/>
          </p:nvSpPr>
          <p:spPr>
            <a:xfrm>
              <a:off x="4644000" y="3033720"/>
              <a:ext cx="2357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"/>
            <p:cNvSpPr/>
            <p:nvPr/>
          </p:nvSpPr>
          <p:spPr>
            <a:xfrm>
              <a:off x="6660360" y="2565000"/>
              <a:ext cx="223632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3"/>
            <p:cNvGrpSpPr/>
            <p:nvPr/>
          </p:nvGrpSpPr>
          <p:grpSpPr>
            <a:xfrm>
              <a:off x="5364000" y="3501360"/>
              <a:ext cx="3672360" cy="2231280"/>
              <a:chOff x="5364000" y="3501360"/>
              <a:chExt cx="3672360" cy="2231280"/>
            </a:xfrm>
          </p:grpSpPr>
          <p:grpSp>
            <p:nvGrpSpPr>
              <p:cNvPr id="247" name="Group 4"/>
              <p:cNvGrpSpPr/>
              <p:nvPr/>
            </p:nvGrpSpPr>
            <p:grpSpPr>
              <a:xfrm>
                <a:off x="5364000" y="3501360"/>
                <a:ext cx="2952000" cy="2231280"/>
                <a:chOff x="5364000" y="3501360"/>
                <a:chExt cx="2952000" cy="2231280"/>
              </a:xfrm>
            </p:grpSpPr>
            <p:sp>
              <p:nvSpPr>
                <p:cNvPr id="248" name="Text Box 4"/>
                <p:cNvSpPr/>
                <p:nvPr/>
              </p:nvSpPr>
              <p:spPr>
                <a:xfrm>
                  <a:off x="5364000" y="5333760"/>
                  <a:ext cx="158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Skele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0"/>
                <p:cNvGrpSpPr/>
                <p:nvPr/>
              </p:nvGrpSpPr>
              <p:grpSpPr>
                <a:xfrm>
                  <a:off x="6155280" y="3501360"/>
                  <a:ext cx="2160720" cy="419040"/>
                  <a:chOff x="6155280" y="3501360"/>
                  <a:chExt cx="2160720" cy="419040"/>
                </a:xfrm>
              </p:grpSpPr>
              <p:sp>
                <p:nvSpPr>
                  <p:cNvPr id="250" name="Line 11"/>
                  <p:cNvSpPr/>
                  <p:nvPr/>
                </p:nvSpPr>
                <p:spPr>
                  <a:xfrm>
                    <a:off x="6777360" y="350136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2"/>
                  <p:cNvSpPr/>
                  <p:nvPr/>
                </p:nvSpPr>
                <p:spPr>
                  <a:xfrm>
                    <a:off x="6155280" y="3920400"/>
                    <a:ext cx="2160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14"/>
              <p:cNvSpPr/>
              <p:nvPr/>
            </p:nvSpPr>
            <p:spPr>
              <a:xfrm>
                <a:off x="7236360" y="39333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4"/>
              <p:cNvSpPr/>
              <p:nvPr/>
            </p:nvSpPr>
            <p:spPr>
              <a:xfrm>
                <a:off x="831672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4"/>
              <p:cNvSpPr/>
              <p:nvPr/>
            </p:nvSpPr>
            <p:spPr>
              <a:xfrm>
                <a:off x="615528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4"/>
              <p:cNvSpPr/>
              <p:nvPr/>
            </p:nvSpPr>
            <p:spPr>
              <a:xfrm>
                <a:off x="6481800" y="465444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di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4"/>
              <p:cNvSpPr/>
              <p:nvPr/>
            </p:nvSpPr>
            <p:spPr>
              <a:xfrm>
                <a:off x="7617240" y="5333760"/>
                <a:ext cx="141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moo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US" sz="3700" spc="-1" strike="noStrike">
                <a:solidFill>
                  <a:srgbClr val="0000ff"/>
                </a:solidFill>
                <a:latin typeface="Constantia"/>
                <a:ea typeface="Arial"/>
              </a:rPr>
              <a:t>Skeletal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هيك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2280" y="1295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on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عظ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76320" y="1905120"/>
            <a:ext cx="4952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duces solid matrix of calcium phosphate and collagen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osteon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حافظ عظم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aversian systems) has a central canal containing blood vessels and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one is harder than cartil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bone are support, movement, protection of internal organs, mineral storage (calcium, phosphate) and blood cel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https://kel-tay-lii.wikispaces.com/file/view/osteon2.jpg/298895502/799x294/osteon2.jpg"/>
          <p:cNvPicPr/>
          <p:nvPr/>
        </p:nvPicPr>
        <p:blipFill>
          <a:blip r:embed="rId1"/>
          <a:srcRect l="59886" t="12775" r="1620" b="15652"/>
          <a:stretch/>
        </p:blipFill>
        <p:spPr>
          <a:xfrm>
            <a:off x="5603760" y="1184400"/>
            <a:ext cx="2930760" cy="20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Picture 18" descr="Transverse Section Of Bone.png"/>
          <p:cNvPicPr/>
          <p:nvPr/>
        </p:nvPicPr>
        <p:blipFill>
          <a:blip r:embed="rId2"/>
          <a:stretch/>
        </p:blipFill>
        <p:spPr>
          <a:xfrm>
            <a:off x="5105520" y="3292560"/>
            <a:ext cx="3962160" cy="34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2280" y="3049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B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artilag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غضرو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76320" y="1447920"/>
            <a:ext cx="4800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upport soft tissues (nose, ear, trachea and vertebral dis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liding areas for joints, facilitate bon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ure cell in cartilage is a chondrocy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ية غضرو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are found in Lacun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ات (ثغور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ibers may be elastic or non-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histology of hyaline"/>
          <p:cNvPicPr/>
          <p:nvPr/>
        </p:nvPicPr>
        <p:blipFill>
          <a:blip r:embed="rId1"/>
          <a:stretch/>
        </p:blipFill>
        <p:spPr>
          <a:xfrm>
            <a:off x="5151600" y="4010040"/>
            <a:ext cx="3840120" cy="2743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http://medcell.med.yale.edu/histology/connective_tissue_lab/images/hyaline_cartilage.jpg"/>
          <p:cNvPicPr/>
          <p:nvPr/>
        </p:nvPicPr>
        <p:blipFill>
          <a:blip r:embed="rId2"/>
          <a:stretch/>
        </p:blipFill>
        <p:spPr>
          <a:xfrm>
            <a:off x="5151600" y="1162080"/>
            <a:ext cx="384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Arial"/>
              </a:rPr>
              <a:t>3-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Blood (Vascular Tissu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م (النسيج الوعائي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76320" y="134136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is a liquid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lasm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proteins, hormones, vitamins, nutri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re are three types of blood cell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3622680"/>
          <a:ext cx="4572000" cy="27781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lood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rythr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Red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y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euc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White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fense against mic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tele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od clo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72" name="Picture 25" descr="Blood Tissue"/>
          <p:cNvPicPr/>
          <p:nvPr/>
        </p:nvPicPr>
        <p:blipFill>
          <a:blip r:embed="rId1"/>
          <a:stretch/>
        </p:blipFill>
        <p:spPr>
          <a:xfrm>
            <a:off x="4978440" y="3695760"/>
            <a:ext cx="4013280" cy="300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6" descr="&#13;platelets.jpg                                                  00025923_x000c_Macintosh HD                   ABA78158:"/>
          <p:cNvPicPr/>
          <p:nvPr/>
        </p:nvPicPr>
        <p:blipFill>
          <a:blip r:embed="rId2"/>
          <a:stretch/>
        </p:blipFill>
        <p:spPr>
          <a:xfrm>
            <a:off x="5334120" y="1371600"/>
            <a:ext cx="3657600" cy="22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ird: Muscular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76320" y="1371600"/>
            <a:ext cx="88390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issue with cells having muscle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 عض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specialized for contractio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باض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It has large numbers of myofibril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لُيَيفات عض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made of the contractile proteins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acti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كتي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myosin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وسين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Muscular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320" y="1197000"/>
            <a:ext cx="8991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three types of muscular tissues in the vertebrat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keletal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هيك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attaches to bones by 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sible for voluntary move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ات الإرا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called striated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ضلات مخطط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ardiac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قلب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 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diac muscle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cala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راص الب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3- Smooth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ملساء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stria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s of the digestive system,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hape of the cells are spindle-shaped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مغزل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http://www.mun.ca/biology/mcolbo/Lectures%2012,13,14/40-04-VertebrateMuscles-L.gif"/>
          <p:cNvPicPr/>
          <p:nvPr/>
        </p:nvPicPr>
        <p:blipFill>
          <a:blip r:embed="rId1"/>
          <a:srcRect l="0" t="0" r="0" b="3315"/>
          <a:stretch/>
        </p:blipFill>
        <p:spPr>
          <a:xfrm>
            <a:off x="179280" y="534960"/>
            <a:ext cx="8702640" cy="591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57200" y="371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ourth: Nervous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228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5960" y="1371600"/>
            <a:ext cx="883908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tissue is the main component of the nervous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neur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يورو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consists of three parts: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ell bod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سم الخل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singl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x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حو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endrit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زوائ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ndrites transmit nerve impulses from their tips toward the rest of the neur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ons transmit impulses toward another neuron, muscles or gla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http://faculty.harford.edu/faculty/wrappazzo/a_oldsite/tissue%20lab/tissue%20lab%20photos/neuron.gif"/>
          <p:cNvPicPr/>
          <p:nvPr/>
        </p:nvPicPr>
        <p:blipFill>
          <a:blip r:embed="rId1"/>
          <a:stretch/>
        </p:blipFill>
        <p:spPr>
          <a:xfrm>
            <a:off x="179280" y="114480"/>
            <a:ext cx="33908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3"/>
          <p:cNvGrpSpPr/>
          <p:nvPr/>
        </p:nvGrpSpPr>
        <p:grpSpPr>
          <a:xfrm>
            <a:off x="985680" y="2890800"/>
            <a:ext cx="7115400" cy="3851280"/>
            <a:chOff x="985680" y="2890800"/>
            <a:chExt cx="7115400" cy="3851280"/>
          </a:xfrm>
        </p:grpSpPr>
        <p:pic>
          <p:nvPicPr>
            <p:cNvPr id="286" name="Picture 10" descr="https://classconnection.s3.amazonaws.com/896/flashcards/797896/png/screen_shot_2012-02-18_at_7.30.36_pm1329611500829.png"/>
            <p:cNvPicPr/>
            <p:nvPr/>
          </p:nvPicPr>
          <p:blipFill>
            <a:blip r:embed="rId2"/>
            <a:stretch/>
          </p:blipFill>
          <p:spPr>
            <a:xfrm>
              <a:off x="985680" y="2925000"/>
              <a:ext cx="7115400" cy="38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Box 2"/>
            <p:cNvSpPr/>
            <p:nvPr/>
          </p:nvSpPr>
          <p:spPr>
            <a:xfrm>
              <a:off x="1692000" y="289080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9"/>
            <p:cNvSpPr/>
            <p:nvPr/>
          </p:nvSpPr>
          <p:spPr>
            <a:xfrm>
              <a:off x="3339000" y="375804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0"/>
            <p:cNvSpPr/>
            <p:nvPr/>
          </p:nvSpPr>
          <p:spPr>
            <a:xfrm>
              <a:off x="4728960" y="6166080"/>
              <a:ext cx="9010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Dell</cp:lastModifiedBy>
  <dcterms:modified xsi:type="dcterms:W3CDTF">2015-10-10T08:06:56Z</dcterms:modified>
  <cp:revision>131</cp:revision>
  <dc:subject/>
  <dc:title>Slide 1</dc:title>
</cp:coreProperties>
</file>