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10C-AA47-4271-9A2D-97430C5C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D40-A567-42EA-B2B9-FE2557C7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EB34-41AB-430C-9844-3531665E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DA3-DF04-49BB-A8CF-B06DFA20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2696-39C1-4C61-82A2-A41FABE1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0D5A-163D-4E1F-97C1-FFFBCCBF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DA36-EEDB-4E40-B699-18EC5894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DA3D-3A7F-49FE-A6BE-BA7660C4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FCCB-9F19-43D6-9E35-3C2D1051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D061-0047-4103-ABA8-6AD19EBB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C253-0D92-48A9-8DFB-3C57E113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1E9-7023-47F9-BA35-2E75E6F6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D5FE-773D-4CC0-9DEB-C9BFF11D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FA04-F48C-4F05-961C-8A2B5B39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2134-708E-489C-9639-F3C08030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1CBE-6EEA-40E1-A756-ADE1B72A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38D3-78CE-4042-9934-A3775DB9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AD728-597C-4F6B-9EA7-BD15EDE8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DAEE1-9E27-4844-89C0-B1075D0B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F010C-D4E1-437F-9CFE-633E0793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160CC-034E-41AB-B67B-AA08165E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91F88-2AB6-4356-852E-63604B32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56F-AE71-42DF-A6BE-222EC4DE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32D87-88DF-474A-93C3-4E437262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6A1ED-1F89-415E-9699-84AA9ADE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14AEF-76B6-4AE0-B619-186E683B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1153C-561D-43EF-97B2-3286A6AC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8053C-261D-4663-81BD-04FCD7DA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75BE8-EFF2-40F7-91CF-0E2D6E99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9A5D0-49EA-494B-B6D7-668D77BD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B72F5-98C0-458C-A622-5B2C7E08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FD1B7-B07C-4B2E-A45C-CB7FB20C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48A4B-32A7-4EA6-9698-0837873D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9A0F-AC69-4EDB-9139-00485611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787A9-42D4-4774-B83F-A3A754C1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C8228-9F60-4AD0-9C8E-C2B1947C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7C073-BEEB-4784-8C8D-AE6258B6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D5039-EECE-4976-9AA7-E05B055E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A6131-35CE-4C71-BD7E-E2381A5B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F1891-5918-4C69-B5C7-E329EF58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2D81E-4C83-442E-946B-7731D536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DB9D1-F91A-49E2-9046-F619C4CF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8C244-2490-4943-AB28-6EA15AD5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220C-B7F3-4BA6-8E71-169C3E6D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5BDB-1563-4E90-8EFC-52AA4454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BCA-880F-4E01-9BC8-CCB0BE86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170-D479-4DCB-BC7D-E1CAD78E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82A-F676-4395-8321-B804732F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8319-5E35-491F-B01A-750AE932519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233A-BA45-47EB-AF2E-3D4372FBE69A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7C7C-F576-40A1-BA5C-08A327679A6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A5C9-1FC6-45BF-852D-A3B32B0D898F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133200" y="380880"/>
            <a:ext cx="8902800" cy="143460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: Other Animal Tiss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2"/>
          <p:cNvGrpSpPr/>
          <p:nvPr/>
        </p:nvGrpSpPr>
        <p:grpSpPr>
          <a:xfrm>
            <a:off x="57240" y="1413000"/>
            <a:ext cx="9021600" cy="4935960"/>
            <a:chOff x="57240" y="1413000"/>
            <a:chExt cx="9021600" cy="4935960"/>
          </a:xfrm>
        </p:grpSpPr>
        <p:grpSp>
          <p:nvGrpSpPr>
            <p:cNvPr id="198" name="Group 3"/>
            <p:cNvGrpSpPr/>
            <p:nvPr/>
          </p:nvGrpSpPr>
          <p:grpSpPr>
            <a:xfrm>
              <a:off x="88560" y="1413000"/>
              <a:ext cx="8990280" cy="2300760"/>
              <a:chOff x="88560" y="1413000"/>
              <a:chExt cx="8990280" cy="2300760"/>
            </a:xfrm>
          </p:grpSpPr>
          <p:grpSp>
            <p:nvGrpSpPr>
              <p:cNvPr id="199" name="Group 4"/>
              <p:cNvGrpSpPr/>
              <p:nvPr/>
            </p:nvGrpSpPr>
            <p:grpSpPr>
              <a:xfrm>
                <a:off x="88560" y="1921320"/>
                <a:ext cx="7683480" cy="1360080"/>
                <a:chOff x="88560" y="1921320"/>
                <a:chExt cx="7683480" cy="1360080"/>
              </a:xfrm>
            </p:grpSpPr>
            <p:sp>
              <p:nvSpPr>
                <p:cNvPr id="200" name="Text Box 4"/>
                <p:cNvSpPr/>
                <p:nvPr/>
              </p:nvSpPr>
              <p:spPr>
                <a:xfrm>
                  <a:off x="88560" y="2577600"/>
                  <a:ext cx="2590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1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Epithelial tissue </a:t>
                  </a:r>
                  <a:r>
                    <a:rPr b="0" lang="ar-SA" sz="2000" spc="-1" strike="noStrike">
                      <a:solidFill>
                        <a:srgbClr val="ff0000"/>
                      </a:solidFill>
                      <a:latin typeface="Constantia"/>
                      <a:cs typeface="Majalla UI"/>
                    </a:rPr>
                    <a:t>النسيج الطلائي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Group 10"/>
                <p:cNvGrpSpPr/>
                <p:nvPr/>
              </p:nvGrpSpPr>
              <p:grpSpPr>
                <a:xfrm>
                  <a:off x="1371240" y="1921320"/>
                  <a:ext cx="6400800" cy="1051560"/>
                  <a:chOff x="1371240" y="1921320"/>
                  <a:chExt cx="6400800" cy="1051560"/>
                </a:xfrm>
              </p:grpSpPr>
              <p:sp>
                <p:nvSpPr>
                  <p:cNvPr id="202" name="Line 11"/>
                  <p:cNvSpPr/>
                  <p:nvPr/>
                </p:nvSpPr>
                <p:spPr>
                  <a:xfrm>
                    <a:off x="4558680" y="1921320"/>
                    <a:ext cx="0" cy="320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12"/>
                  <p:cNvSpPr/>
                  <p:nvPr/>
                </p:nvSpPr>
                <p:spPr>
                  <a:xfrm>
                    <a:off x="1371240" y="2241720"/>
                    <a:ext cx="6400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13"/>
                  <p:cNvSpPr/>
                  <p:nvPr/>
                </p:nvSpPr>
                <p:spPr>
                  <a:xfrm>
                    <a:off x="3347640" y="2241720"/>
                    <a:ext cx="0" cy="731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5" name="Line 14"/>
              <p:cNvSpPr/>
              <p:nvPr/>
            </p:nvSpPr>
            <p:spPr>
              <a:xfrm>
                <a:off x="7760160" y="222588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4"/>
              <p:cNvSpPr/>
              <p:nvPr/>
            </p:nvSpPr>
            <p:spPr>
              <a:xfrm>
                <a:off x="1383120" y="222588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3"/>
              <p:cNvSpPr/>
              <p:nvPr/>
            </p:nvSpPr>
            <p:spPr>
              <a:xfrm>
                <a:off x="5796000" y="2237760"/>
                <a:ext cx="0" cy="73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4"/>
              <p:cNvSpPr/>
              <p:nvPr/>
            </p:nvSpPr>
            <p:spPr>
              <a:xfrm>
                <a:off x="2052360" y="3009960"/>
                <a:ext cx="2590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2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Connective tissue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نسيج الضام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4"/>
              <p:cNvSpPr/>
              <p:nvPr/>
            </p:nvSpPr>
            <p:spPr>
              <a:xfrm>
                <a:off x="4512960" y="2997360"/>
                <a:ext cx="2590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3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Muscular tissue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نسج العضلي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4"/>
              <p:cNvSpPr/>
              <p:nvPr/>
            </p:nvSpPr>
            <p:spPr>
              <a:xfrm>
                <a:off x="6487920" y="2565360"/>
                <a:ext cx="2590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4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Nervous tissue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نسيج العصبي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4"/>
              <p:cNvSpPr/>
              <p:nvPr/>
            </p:nvSpPr>
            <p:spPr>
              <a:xfrm>
                <a:off x="2458800" y="1413000"/>
                <a:ext cx="4213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 u="sng">
                    <a:solidFill>
                      <a:srgbClr val="0d0d0d"/>
                    </a:solidFill>
                    <a:uFillTx/>
                    <a:latin typeface="Constantia"/>
                  </a:rPr>
                  <a:t>Types of animal tissu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3"/>
            <p:cNvGrpSpPr/>
            <p:nvPr/>
          </p:nvGrpSpPr>
          <p:grpSpPr>
            <a:xfrm>
              <a:off x="623880" y="3821400"/>
              <a:ext cx="5028120" cy="1046520"/>
              <a:chOff x="623880" y="3821400"/>
              <a:chExt cx="5028120" cy="1046520"/>
            </a:xfrm>
          </p:grpSpPr>
          <p:grpSp>
            <p:nvGrpSpPr>
              <p:cNvPr id="213" name="Group 4"/>
              <p:cNvGrpSpPr/>
              <p:nvPr/>
            </p:nvGrpSpPr>
            <p:grpSpPr>
              <a:xfrm>
                <a:off x="623880" y="3821400"/>
                <a:ext cx="4379760" cy="1046520"/>
                <a:chOff x="623880" y="3821400"/>
                <a:chExt cx="4379760" cy="1046520"/>
              </a:xfrm>
            </p:grpSpPr>
            <p:sp>
              <p:nvSpPr>
                <p:cNvPr id="214" name="Text Box 4"/>
                <p:cNvSpPr/>
                <p:nvPr/>
              </p:nvSpPr>
              <p:spPr>
                <a:xfrm>
                  <a:off x="623880" y="4469040"/>
                  <a:ext cx="1427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1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Prope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5" name="Group 10"/>
                <p:cNvGrpSpPr/>
                <p:nvPr/>
              </p:nvGrpSpPr>
              <p:grpSpPr>
                <a:xfrm>
                  <a:off x="1328400" y="3821400"/>
                  <a:ext cx="3675240" cy="419040"/>
                  <a:chOff x="1328400" y="3821400"/>
                  <a:chExt cx="3675240" cy="419040"/>
                </a:xfrm>
              </p:grpSpPr>
              <p:sp>
                <p:nvSpPr>
                  <p:cNvPr id="216" name="Line 11"/>
                  <p:cNvSpPr/>
                  <p:nvPr/>
                </p:nvSpPr>
                <p:spPr>
                  <a:xfrm>
                    <a:off x="3347640" y="3821400"/>
                    <a:ext cx="0" cy="419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12"/>
                  <p:cNvSpPr/>
                  <p:nvPr/>
                </p:nvSpPr>
                <p:spPr>
                  <a:xfrm>
                    <a:off x="1328400" y="4240440"/>
                    <a:ext cx="3675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8" name="Line 14"/>
              <p:cNvSpPr/>
              <p:nvPr/>
            </p:nvSpPr>
            <p:spPr>
              <a:xfrm>
                <a:off x="3491640" y="423612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4"/>
              <p:cNvSpPr/>
              <p:nvPr/>
            </p:nvSpPr>
            <p:spPr>
              <a:xfrm>
                <a:off x="5004000" y="423612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4"/>
              <p:cNvSpPr/>
              <p:nvPr/>
            </p:nvSpPr>
            <p:spPr>
              <a:xfrm>
                <a:off x="1331280" y="423612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 Box 4"/>
              <p:cNvSpPr/>
              <p:nvPr/>
            </p:nvSpPr>
            <p:spPr>
              <a:xfrm>
                <a:off x="2737080" y="4468680"/>
                <a:ext cx="154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2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Skelet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4"/>
              <p:cNvSpPr/>
              <p:nvPr/>
            </p:nvSpPr>
            <p:spPr>
              <a:xfrm>
                <a:off x="4354920" y="4468680"/>
                <a:ext cx="129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ff"/>
                    </a:solidFill>
                    <a:latin typeface="Calibri"/>
                  </a:rPr>
                  <a:t>3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Bloo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3"/>
            <p:cNvGrpSpPr/>
            <p:nvPr/>
          </p:nvGrpSpPr>
          <p:grpSpPr>
            <a:xfrm>
              <a:off x="57240" y="4797720"/>
              <a:ext cx="2655720" cy="1551240"/>
              <a:chOff x="57240" y="4797720"/>
              <a:chExt cx="2655720" cy="1551240"/>
            </a:xfrm>
          </p:grpSpPr>
          <p:grpSp>
            <p:nvGrpSpPr>
              <p:cNvPr id="224" name="Group 4"/>
              <p:cNvGrpSpPr/>
              <p:nvPr/>
            </p:nvGrpSpPr>
            <p:grpSpPr>
              <a:xfrm>
                <a:off x="57240" y="4797720"/>
                <a:ext cx="1942920" cy="1066680"/>
                <a:chOff x="57240" y="4797720"/>
                <a:chExt cx="1942920" cy="1066680"/>
              </a:xfrm>
            </p:grpSpPr>
            <p:sp>
              <p:nvSpPr>
                <p:cNvPr id="225" name="Text Box 4"/>
                <p:cNvSpPr/>
                <p:nvPr/>
              </p:nvSpPr>
              <p:spPr>
                <a:xfrm>
                  <a:off x="57240" y="546552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a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</a:t>
                  </a:r>
                  <a:r>
                    <a:rPr b="1" lang="en-US" sz="2000" spc="-1" strike="noStrike">
                      <a:solidFill>
                        <a:srgbClr val="0000ff"/>
                      </a:solidFill>
                      <a:latin typeface="Constantia"/>
                    </a:rPr>
                    <a:t>Loos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6" name="Group 10"/>
                <p:cNvGrpSpPr/>
                <p:nvPr/>
              </p:nvGrpSpPr>
              <p:grpSpPr>
                <a:xfrm>
                  <a:off x="704880" y="4797720"/>
                  <a:ext cx="1295280" cy="419040"/>
                  <a:chOff x="704880" y="4797720"/>
                  <a:chExt cx="1295280" cy="419040"/>
                </a:xfrm>
              </p:grpSpPr>
              <p:sp>
                <p:nvSpPr>
                  <p:cNvPr id="227" name="Line 11"/>
                  <p:cNvSpPr/>
                  <p:nvPr/>
                </p:nvSpPr>
                <p:spPr>
                  <a:xfrm>
                    <a:off x="1326960" y="4797720"/>
                    <a:ext cx="0" cy="419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2"/>
                  <p:cNvSpPr/>
                  <p:nvPr/>
                </p:nvSpPr>
                <p:spPr>
                  <a:xfrm>
                    <a:off x="704880" y="5216760"/>
                    <a:ext cx="1295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9" name="Line 14"/>
              <p:cNvSpPr/>
              <p:nvPr/>
            </p:nvSpPr>
            <p:spPr>
              <a:xfrm>
                <a:off x="1328040" y="5212440"/>
                <a:ext cx="0" cy="73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4"/>
              <p:cNvSpPr/>
              <p:nvPr/>
            </p:nvSpPr>
            <p:spPr>
              <a:xfrm>
                <a:off x="2000880" y="521244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14"/>
              <p:cNvSpPr/>
              <p:nvPr/>
            </p:nvSpPr>
            <p:spPr>
              <a:xfrm>
                <a:off x="704520" y="521244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4"/>
              <p:cNvSpPr/>
              <p:nvPr/>
            </p:nvSpPr>
            <p:spPr>
              <a:xfrm>
                <a:off x="569880" y="5950080"/>
                <a:ext cx="154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b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Adipo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4"/>
              <p:cNvSpPr/>
              <p:nvPr/>
            </p:nvSpPr>
            <p:spPr>
              <a:xfrm>
                <a:off x="1293840" y="5465880"/>
                <a:ext cx="1419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alibri"/>
                  </a:rPr>
                  <a:t>c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Fibrou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3"/>
            <p:cNvGrpSpPr/>
            <p:nvPr/>
          </p:nvGrpSpPr>
          <p:grpSpPr>
            <a:xfrm>
              <a:off x="2327400" y="4797720"/>
              <a:ext cx="2520720" cy="1551240"/>
              <a:chOff x="2327400" y="4797720"/>
              <a:chExt cx="2520720" cy="1551240"/>
            </a:xfrm>
          </p:grpSpPr>
          <p:grpSp>
            <p:nvGrpSpPr>
              <p:cNvPr id="235" name="Group 10"/>
              <p:cNvGrpSpPr/>
              <p:nvPr/>
            </p:nvGrpSpPr>
            <p:grpSpPr>
              <a:xfrm>
                <a:off x="3093840" y="4797720"/>
                <a:ext cx="863640" cy="419040"/>
                <a:chOff x="3093840" y="4797720"/>
                <a:chExt cx="863640" cy="419040"/>
              </a:xfrm>
            </p:grpSpPr>
            <p:sp>
              <p:nvSpPr>
                <p:cNvPr id="236" name="Line 11"/>
                <p:cNvSpPr/>
                <p:nvPr/>
              </p:nvSpPr>
              <p:spPr>
                <a:xfrm>
                  <a:off x="3520800" y="4797720"/>
                  <a:ext cx="0" cy="419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2"/>
                <p:cNvSpPr/>
                <p:nvPr/>
              </p:nvSpPr>
              <p:spPr>
                <a:xfrm>
                  <a:off x="3093840" y="5216760"/>
                  <a:ext cx="863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Line 14"/>
              <p:cNvSpPr/>
              <p:nvPr/>
            </p:nvSpPr>
            <p:spPr>
              <a:xfrm>
                <a:off x="3957840" y="521244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4"/>
              <p:cNvSpPr/>
              <p:nvPr/>
            </p:nvSpPr>
            <p:spPr>
              <a:xfrm>
                <a:off x="3093480" y="5212440"/>
                <a:ext cx="0" cy="73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4"/>
              <p:cNvSpPr/>
              <p:nvPr/>
            </p:nvSpPr>
            <p:spPr>
              <a:xfrm>
                <a:off x="2327400" y="5950080"/>
                <a:ext cx="154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a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B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4"/>
              <p:cNvSpPr/>
              <p:nvPr/>
            </p:nvSpPr>
            <p:spPr>
              <a:xfrm>
                <a:off x="3081240" y="5477400"/>
                <a:ext cx="176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alibri"/>
                  </a:rPr>
                  <a:t>b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Cartilag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TextBox 2"/>
            <p:cNvSpPr/>
            <p:nvPr/>
          </p:nvSpPr>
          <p:spPr>
            <a:xfrm>
              <a:off x="2843640" y="4469760"/>
              <a:ext cx="142128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2"/>
            <p:cNvSpPr/>
            <p:nvPr/>
          </p:nvSpPr>
          <p:spPr>
            <a:xfrm>
              <a:off x="4428000" y="4475160"/>
              <a:ext cx="120456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2"/>
            <p:cNvSpPr/>
            <p:nvPr/>
          </p:nvSpPr>
          <p:spPr>
            <a:xfrm>
              <a:off x="4644000" y="3033720"/>
              <a:ext cx="235728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2"/>
            <p:cNvSpPr/>
            <p:nvPr/>
          </p:nvSpPr>
          <p:spPr>
            <a:xfrm>
              <a:off x="6660360" y="2565000"/>
              <a:ext cx="223632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3"/>
            <p:cNvGrpSpPr/>
            <p:nvPr/>
          </p:nvGrpSpPr>
          <p:grpSpPr>
            <a:xfrm>
              <a:off x="5364000" y="3501360"/>
              <a:ext cx="3672360" cy="2231280"/>
              <a:chOff x="5364000" y="3501360"/>
              <a:chExt cx="3672360" cy="2231280"/>
            </a:xfrm>
          </p:grpSpPr>
          <p:grpSp>
            <p:nvGrpSpPr>
              <p:cNvPr id="247" name="Group 4"/>
              <p:cNvGrpSpPr/>
              <p:nvPr/>
            </p:nvGrpSpPr>
            <p:grpSpPr>
              <a:xfrm>
                <a:off x="5364000" y="3501360"/>
                <a:ext cx="2952000" cy="2231280"/>
                <a:chOff x="5364000" y="3501360"/>
                <a:chExt cx="2952000" cy="2231280"/>
              </a:xfrm>
            </p:grpSpPr>
            <p:sp>
              <p:nvSpPr>
                <p:cNvPr id="248" name="Text Box 4"/>
                <p:cNvSpPr/>
                <p:nvPr/>
              </p:nvSpPr>
              <p:spPr>
                <a:xfrm>
                  <a:off x="5364000" y="5333760"/>
                  <a:ext cx="1584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a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</a:t>
                  </a:r>
                  <a:r>
                    <a:rPr b="1" lang="en-US" sz="2000" spc="-1" strike="noStrike">
                      <a:solidFill>
                        <a:srgbClr val="0000ff"/>
                      </a:solidFill>
                      <a:latin typeface="Constantia"/>
                    </a:rPr>
                    <a:t>Skele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Group 10"/>
                <p:cNvGrpSpPr/>
                <p:nvPr/>
              </p:nvGrpSpPr>
              <p:grpSpPr>
                <a:xfrm>
                  <a:off x="6155280" y="3501360"/>
                  <a:ext cx="2160720" cy="419040"/>
                  <a:chOff x="6155280" y="3501360"/>
                  <a:chExt cx="2160720" cy="419040"/>
                </a:xfrm>
              </p:grpSpPr>
              <p:sp>
                <p:nvSpPr>
                  <p:cNvPr id="250" name="Line 11"/>
                  <p:cNvSpPr/>
                  <p:nvPr/>
                </p:nvSpPr>
                <p:spPr>
                  <a:xfrm>
                    <a:off x="6777360" y="3501360"/>
                    <a:ext cx="0" cy="419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12"/>
                  <p:cNvSpPr/>
                  <p:nvPr/>
                </p:nvSpPr>
                <p:spPr>
                  <a:xfrm>
                    <a:off x="6155280" y="3920400"/>
                    <a:ext cx="2160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" name="Line 14"/>
              <p:cNvSpPr/>
              <p:nvPr/>
            </p:nvSpPr>
            <p:spPr>
              <a:xfrm>
                <a:off x="7236360" y="3933360"/>
                <a:ext cx="0" cy="73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14"/>
              <p:cNvSpPr/>
              <p:nvPr/>
            </p:nvSpPr>
            <p:spPr>
              <a:xfrm>
                <a:off x="8316720" y="3915720"/>
                <a:ext cx="0" cy="14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4"/>
              <p:cNvSpPr/>
              <p:nvPr/>
            </p:nvSpPr>
            <p:spPr>
              <a:xfrm>
                <a:off x="6155280" y="3915720"/>
                <a:ext cx="0" cy="14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4"/>
              <p:cNvSpPr/>
              <p:nvPr/>
            </p:nvSpPr>
            <p:spPr>
              <a:xfrm>
                <a:off x="6481800" y="4654440"/>
                <a:ext cx="154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b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Cardia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4"/>
              <p:cNvSpPr/>
              <p:nvPr/>
            </p:nvSpPr>
            <p:spPr>
              <a:xfrm>
                <a:off x="7617240" y="5333760"/>
                <a:ext cx="141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alibri"/>
                  </a:rPr>
                  <a:t>c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Smoot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0" y="304920"/>
            <a:ext cx="9155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ff"/>
                </a:solidFill>
                <a:latin typeface="Calibri"/>
                <a:ea typeface="Arial"/>
              </a:rPr>
              <a:t>2- </a:t>
            </a:r>
            <a:r>
              <a:rPr b="1" lang="en-US" sz="3700" spc="-1" strike="noStrike">
                <a:solidFill>
                  <a:srgbClr val="0000ff"/>
                </a:solidFill>
                <a:latin typeface="Constantia"/>
                <a:ea typeface="Arial"/>
              </a:rPr>
              <a:t>Skeletal Connective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 الضامة الهيك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52280" y="12952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A-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Bone 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Constantia"/>
                <a:cs typeface="Majalla UI"/>
              </a:rPr>
              <a:t>العظ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76320" y="1905120"/>
            <a:ext cx="49528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roduces solid matrix of calcium phosphate and collagen fi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Each osteon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حافظ عظمية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Haversian systems) has a central canal containing blood vessels and ner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one is harder than cartil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functions of bone are support, movement, protection of internal organs, mineral storage (calcium, phosphate) and blood cell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4" descr="https://kel-tay-lii.wikispaces.com/file/view/osteon2.jpg/298895502/799x294/osteon2.jpg"/>
          <p:cNvPicPr/>
          <p:nvPr/>
        </p:nvPicPr>
        <p:blipFill>
          <a:blip r:embed="rId1"/>
          <a:srcRect l="59886" t="12775" r="1620" b="15652"/>
          <a:stretch/>
        </p:blipFill>
        <p:spPr>
          <a:xfrm>
            <a:off x="5603760" y="1184400"/>
            <a:ext cx="2930760" cy="200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2" name="Picture 18" descr="Transverse Section Of Bone.png"/>
          <p:cNvPicPr/>
          <p:nvPr/>
        </p:nvPicPr>
        <p:blipFill>
          <a:blip r:embed="rId2"/>
          <a:stretch/>
        </p:blipFill>
        <p:spPr>
          <a:xfrm>
            <a:off x="5105520" y="3292560"/>
            <a:ext cx="3962160" cy="346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52280" y="304920"/>
            <a:ext cx="3429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B-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Cartilage 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Constantia"/>
                <a:cs typeface="Majalla UI"/>
              </a:rPr>
              <a:t>الغضرو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76320" y="1447920"/>
            <a:ext cx="4800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Support soft tissues (nose, ear, trachea and vertebral disc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Sliding areas for joints, facilitate bone mov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mature cell in cartilage is a chondrocyt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خلية غضروف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ells are found in Lacuna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فجوات (ثغور)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with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Fibers may be elastic or non-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histology of hyaline"/>
          <p:cNvPicPr/>
          <p:nvPr/>
        </p:nvPicPr>
        <p:blipFill>
          <a:blip r:embed="rId1"/>
          <a:stretch/>
        </p:blipFill>
        <p:spPr>
          <a:xfrm>
            <a:off x="5151600" y="4010040"/>
            <a:ext cx="3840120" cy="2743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http://medcell.med.yale.edu/histology/connective_tissue_lab/images/hyaline_cartilage.jpg"/>
          <p:cNvPicPr/>
          <p:nvPr/>
        </p:nvPicPr>
        <p:blipFill>
          <a:blip r:embed="rId2"/>
          <a:stretch/>
        </p:blipFill>
        <p:spPr>
          <a:xfrm>
            <a:off x="5151600" y="1162080"/>
            <a:ext cx="3840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3"/>
          <p:cNvSpPr/>
          <p:nvPr/>
        </p:nvSpPr>
        <p:spPr>
          <a:xfrm>
            <a:off x="0" y="304920"/>
            <a:ext cx="9155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  <a:ea typeface="Arial"/>
              </a:rPr>
              <a:t>3- 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Blood (Vascular Tissue)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دم (النسيج الوعائي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76320" y="1341360"/>
            <a:ext cx="52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2880" indent="-272880" algn="just">
              <a:lnSpc>
                <a:spcPct val="120000"/>
              </a:lnSpc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matrix is a liquid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plasma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55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%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ffc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%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ffc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% proteins, hormones, vitamins, nutrient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re are three types of blood cells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45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28600" y="3622680"/>
          <a:ext cx="4572000" cy="27781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Blood cel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Erythrocyt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Red Blood Cel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rry oxy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Leucocyt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White Blood Cel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fense against micro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latele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lood clo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72" name="Picture 25" descr="Blood Tissue"/>
          <p:cNvPicPr/>
          <p:nvPr/>
        </p:nvPicPr>
        <p:blipFill>
          <a:blip r:embed="rId1"/>
          <a:stretch/>
        </p:blipFill>
        <p:spPr>
          <a:xfrm>
            <a:off x="4978440" y="3695760"/>
            <a:ext cx="4013280" cy="300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3" name="Picture 6" descr="&#13;platelets.jpg                                                  00025923_x000c_Macintosh HD                   ABA78158:"/>
          <p:cNvPicPr/>
          <p:nvPr/>
        </p:nvPicPr>
        <p:blipFill>
          <a:blip r:embed="rId2"/>
          <a:stretch/>
        </p:blipFill>
        <p:spPr>
          <a:xfrm>
            <a:off x="5334120" y="1371600"/>
            <a:ext cx="3657600" cy="220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3"/>
          <p:cNvSpPr/>
          <p:nvPr/>
        </p:nvSpPr>
        <p:spPr>
          <a:xfrm>
            <a:off x="45720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hird: Muscular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ض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76320" y="1371600"/>
            <a:ext cx="8839080" cy="25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Characterized by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تميز بما ي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Tissue with cells having muscle fiber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ألياف عضلية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specialized for contraction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باض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It has large numbers of myofibrils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لُيَيفات عضلية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made of the contractile proteins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  <a:ea typeface="Arial"/>
              </a:rPr>
              <a:t>actin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كتين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and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  <a:ea typeface="Arial"/>
              </a:rPr>
              <a:t>myosin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يوسين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3"/>
          <p:cNvSpPr/>
          <p:nvPr/>
        </p:nvSpPr>
        <p:spPr>
          <a:xfrm>
            <a:off x="0" y="304920"/>
            <a:ext cx="906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Constantia"/>
                <a:ea typeface="Arial"/>
              </a:rPr>
              <a:t>Types of Muscular Tissu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6320" y="1197000"/>
            <a:ext cx="8991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are three types of muscular tissues in the vertebrate bod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-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Skeletal Musc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ضلات الهيكل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attaches to bones by tendo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وتا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sponsible for voluntary movement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ركات الإراد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 called striated musc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ضلات مخطط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-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Cardiac musc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ضلات القلب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is found in the wall  of the hear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diac muscles are branch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tercalated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sc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قراص البين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3- Smooth musc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ضلات الملساء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 stria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is found in the walls of the digestive system, urinary bladder, arteries, and other internal orga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shape of the cells are spindle-shaped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شكل المغزل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6" descr="http://www.mun.ca/biology/mcolbo/Lectures%2012,13,14/40-04-VertebrateMuscles-L.gif"/>
          <p:cNvPicPr/>
          <p:nvPr/>
        </p:nvPicPr>
        <p:blipFill>
          <a:blip r:embed="rId1"/>
          <a:srcRect l="0" t="0" r="0" b="3315"/>
          <a:stretch/>
        </p:blipFill>
        <p:spPr>
          <a:xfrm>
            <a:off x="179280" y="534960"/>
            <a:ext cx="8702640" cy="591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457200" y="371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Fourth: Nervous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صب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"/>
          <p:cNvSpPr/>
          <p:nvPr/>
        </p:nvSpPr>
        <p:spPr>
          <a:xfrm>
            <a:off x="152280" y="105264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5960" y="1371600"/>
            <a:ext cx="8839080" cy="55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rvous tissue is the main component of the nervous syst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unctional unit of nervous tissue is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neuron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يورون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or nerve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consists of three parts: 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ell body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جسم الخل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 singl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x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حور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dendrit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زوائد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صب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ndrites transmit nerve impulses from their tips toward the rest of the neur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xons transmit impulses toward another neuron, muscles or glan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6" descr="http://faculty.harford.edu/faculty/wrappazzo/a_oldsite/tissue%20lab/tissue%20lab%20photos/neuron.gif"/>
          <p:cNvPicPr/>
          <p:nvPr/>
        </p:nvPicPr>
        <p:blipFill>
          <a:blip r:embed="rId1"/>
          <a:stretch/>
        </p:blipFill>
        <p:spPr>
          <a:xfrm>
            <a:off x="179280" y="114480"/>
            <a:ext cx="3390840" cy="266688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3"/>
          <p:cNvGrpSpPr/>
          <p:nvPr/>
        </p:nvGrpSpPr>
        <p:grpSpPr>
          <a:xfrm>
            <a:off x="985680" y="2890800"/>
            <a:ext cx="7115400" cy="3851280"/>
            <a:chOff x="985680" y="2890800"/>
            <a:chExt cx="7115400" cy="3851280"/>
          </a:xfrm>
        </p:grpSpPr>
        <p:pic>
          <p:nvPicPr>
            <p:cNvPr id="286" name="Picture 10" descr="https://classconnection.s3.amazonaws.com/896/flashcards/797896/png/screen_shot_2012-02-18_at_7.30.36_pm1329611500829.png"/>
            <p:cNvPicPr/>
            <p:nvPr/>
          </p:nvPicPr>
          <p:blipFill>
            <a:blip r:embed="rId2"/>
            <a:stretch/>
          </p:blipFill>
          <p:spPr>
            <a:xfrm>
              <a:off x="985680" y="2925000"/>
              <a:ext cx="7115400" cy="381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Box 2"/>
            <p:cNvSpPr/>
            <p:nvPr/>
          </p:nvSpPr>
          <p:spPr>
            <a:xfrm>
              <a:off x="1692000" y="2890800"/>
              <a:ext cx="129600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9"/>
            <p:cNvSpPr/>
            <p:nvPr/>
          </p:nvSpPr>
          <p:spPr>
            <a:xfrm>
              <a:off x="3339000" y="3758040"/>
              <a:ext cx="129600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0"/>
            <p:cNvSpPr/>
            <p:nvPr/>
          </p:nvSpPr>
          <p:spPr>
            <a:xfrm>
              <a:off x="4728960" y="6166080"/>
              <a:ext cx="90108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03:59Z</dcterms:created>
  <dc:creator>Dr. A A</dc:creator>
  <dc:description/>
  <dc:language>en-US</dc:language>
  <cp:lastModifiedBy>Dell</cp:lastModifiedBy>
  <dcterms:modified xsi:type="dcterms:W3CDTF">2015-10-10T08:06:56Z</dcterms:modified>
  <cp:revision>131</cp:revision>
  <dc:subject/>
  <dc:title>Slide 1</dc:title>
</cp:coreProperties>
</file>