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2ECB-2BF2-452F-BD05-2BE748C759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1470-6CEB-4EEB-AF41-79283A1E06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EB2F-AC8C-46DC-AD20-D37D8A69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0BF9-E16C-4402-871A-EAB1F386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FE36-6561-45B2-9D31-50D8D45A9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953A-856B-4660-A5E1-B3673DB87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733D-DEB2-4B5B-99B3-FE7C4F790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CAD7-914D-438D-87F5-AC9D5048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A8AA-7B03-481F-AB48-66FC6526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ED31-5021-456D-AC7E-2387B1E2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6846-42C6-442E-92D5-6EDB804E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8AE2-D5A7-4AC9-A34C-B051DA65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8FF4-38D6-405E-A262-107F7705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2213-5844-4321-9355-8515A877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DE23-D305-4CBC-9F28-45E65FB9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1DD5-7EA9-43AA-8DAA-A84D17C9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FEA7-F212-4478-8EAA-95D1A549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5BE4-57BF-4F45-A7A1-46F9F884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1985-9781-4239-8B1B-7CF89770F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F70D6-1FBE-410E-BB79-E2D11968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60BFE-2896-4D75-8DF2-372E4A8B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C3080-DFE3-484B-B99D-19C8FF38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308A3-DBAA-44EA-926D-D0CC124F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B1248-3616-4315-B8A2-C73503F8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E4F7-E05B-4E55-A5B2-DB1471F6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5437F-7CD5-49DF-A65B-272B92A7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923E7-5CCA-4B66-8A46-49BD5184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E04FB-648B-4500-9117-B16D3D38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1DE8B-808A-41E5-923B-079D86D0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7F345-4D92-4749-A4C2-A5ABDA4C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374F2-F693-476E-93E1-D81B8B4B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3EB78-BE5D-4BDE-8371-60A17195D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72B50-C583-4667-9B56-028020E96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A5667-2460-4074-825A-A183FFFB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F057E-FC32-4FAE-872F-6A1070C9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A3D1-18F6-4123-8E00-0A7F2D7E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10D40-FD13-4102-ACB0-2D3F04F4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E14FD-2192-4254-A6C7-F9CD66AB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6B509-EC7F-4ACD-A6F3-A639DAE7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F30A8-BA1D-42F1-8777-3A61C949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8ED40-A34C-4F34-B376-C2D71962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4E0BD-63F9-41BE-B8A8-6FC35362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86401-EF0A-4066-BDF2-A2DC25DF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E28A0-DED0-4505-959D-D5818D768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32D25-D153-4D3F-AEC6-86049EDD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D14B-68E1-405D-8A19-C57B38E6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04D1-CE4B-4420-B49C-B19884FF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D8CA-241C-45F8-B92F-61847792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C6F7-A816-43E5-97EC-745BA3C0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9CDF-D639-4FE3-9DE1-CD623EE4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7991-567A-4731-8D48-AED1D1481519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3325-5A9E-428B-B157-3F559B7FBE40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E1E1-36DC-45BE-9A04-7E148F4305E2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0C3B-C4E0-4A54-8CE2-1EDE032A7197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133200" y="380880"/>
            <a:ext cx="8902800" cy="143460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12</a:t>
            </a: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: Other Animal Tissu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2"/>
          <p:cNvGrpSpPr/>
          <p:nvPr/>
        </p:nvGrpSpPr>
        <p:grpSpPr>
          <a:xfrm>
            <a:off x="57240" y="1413000"/>
            <a:ext cx="9021600" cy="4935960"/>
            <a:chOff x="57240" y="1413000"/>
            <a:chExt cx="9021600" cy="4935960"/>
          </a:xfrm>
        </p:grpSpPr>
        <p:grpSp>
          <p:nvGrpSpPr>
            <p:cNvPr id="205" name="Group 3"/>
            <p:cNvGrpSpPr/>
            <p:nvPr/>
          </p:nvGrpSpPr>
          <p:grpSpPr>
            <a:xfrm>
              <a:off x="88560" y="1413000"/>
              <a:ext cx="8990280" cy="2300760"/>
              <a:chOff x="88560" y="1413000"/>
              <a:chExt cx="8990280" cy="2300760"/>
            </a:xfrm>
          </p:grpSpPr>
          <p:grpSp>
            <p:nvGrpSpPr>
              <p:cNvPr id="206" name="Group 4"/>
              <p:cNvGrpSpPr/>
              <p:nvPr/>
            </p:nvGrpSpPr>
            <p:grpSpPr>
              <a:xfrm>
                <a:off x="88560" y="1921320"/>
                <a:ext cx="7683480" cy="1360080"/>
                <a:chOff x="88560" y="1921320"/>
                <a:chExt cx="7683480" cy="1360080"/>
              </a:xfrm>
            </p:grpSpPr>
            <p:sp>
              <p:nvSpPr>
                <p:cNvPr id="207" name="Text Box 4"/>
                <p:cNvSpPr/>
                <p:nvPr/>
              </p:nvSpPr>
              <p:spPr>
                <a:xfrm>
                  <a:off x="88560" y="2577600"/>
                  <a:ext cx="25909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ff"/>
                      </a:solidFill>
                      <a:latin typeface="Calibri"/>
                    </a:rPr>
                    <a:t>1)</a:t>
                  </a:r>
                  <a:r>
                    <a:rPr b="1" lang="en-GB" sz="2000" spc="-1" strike="noStrike">
                      <a:solidFill>
                        <a:srgbClr val="0000ff"/>
                      </a:solidFill>
                      <a:latin typeface="Constantia"/>
                    </a:rPr>
                    <a:t> Epithelial tissue </a:t>
                  </a:r>
                  <a:r>
                    <a:rPr b="0" lang="ar-SA" sz="2000" spc="-1" strike="noStrike">
                      <a:solidFill>
                        <a:srgbClr val="ff0000"/>
                      </a:solidFill>
                      <a:latin typeface="Constantia"/>
                      <a:cs typeface="Majalla UI"/>
                    </a:rPr>
                    <a:t>النسيج الطلائي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Group 10"/>
                <p:cNvGrpSpPr/>
                <p:nvPr/>
              </p:nvGrpSpPr>
              <p:grpSpPr>
                <a:xfrm>
                  <a:off x="1371240" y="1921320"/>
                  <a:ext cx="6400800" cy="1051560"/>
                  <a:chOff x="1371240" y="1921320"/>
                  <a:chExt cx="6400800" cy="1051560"/>
                </a:xfrm>
              </p:grpSpPr>
              <p:sp>
                <p:nvSpPr>
                  <p:cNvPr id="209" name="Line 11"/>
                  <p:cNvSpPr/>
                  <p:nvPr/>
                </p:nvSpPr>
                <p:spPr>
                  <a:xfrm>
                    <a:off x="4558680" y="1921320"/>
                    <a:ext cx="0" cy="3204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12"/>
                  <p:cNvSpPr/>
                  <p:nvPr/>
                </p:nvSpPr>
                <p:spPr>
                  <a:xfrm>
                    <a:off x="1371240" y="2241720"/>
                    <a:ext cx="6400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13"/>
                  <p:cNvSpPr/>
                  <p:nvPr/>
                </p:nvSpPr>
                <p:spPr>
                  <a:xfrm>
                    <a:off x="3347640" y="2241720"/>
                    <a:ext cx="0" cy="731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2" name="Line 14"/>
              <p:cNvSpPr/>
              <p:nvPr/>
            </p:nvSpPr>
            <p:spPr>
              <a:xfrm>
                <a:off x="7760160" y="2225880"/>
                <a:ext cx="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14"/>
              <p:cNvSpPr/>
              <p:nvPr/>
            </p:nvSpPr>
            <p:spPr>
              <a:xfrm>
                <a:off x="1383120" y="2225880"/>
                <a:ext cx="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13"/>
              <p:cNvSpPr/>
              <p:nvPr/>
            </p:nvSpPr>
            <p:spPr>
              <a:xfrm>
                <a:off x="5796000" y="2237760"/>
                <a:ext cx="0" cy="731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 Box 4"/>
              <p:cNvSpPr/>
              <p:nvPr/>
            </p:nvSpPr>
            <p:spPr>
              <a:xfrm>
                <a:off x="2052360" y="3009960"/>
                <a:ext cx="25909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2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Connective tissue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النسيج الضام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4"/>
              <p:cNvSpPr/>
              <p:nvPr/>
            </p:nvSpPr>
            <p:spPr>
              <a:xfrm>
                <a:off x="4513320" y="2997360"/>
                <a:ext cx="25909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3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Muscular tissue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النسج العضلي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4"/>
              <p:cNvSpPr/>
              <p:nvPr/>
            </p:nvSpPr>
            <p:spPr>
              <a:xfrm>
                <a:off x="6487920" y="2565360"/>
                <a:ext cx="25909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4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Nervous tissue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النسيج العصبي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Text Box 4"/>
              <p:cNvSpPr/>
              <p:nvPr/>
            </p:nvSpPr>
            <p:spPr>
              <a:xfrm>
                <a:off x="2458800" y="1413000"/>
                <a:ext cx="42130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 u="sng">
                    <a:solidFill>
                      <a:srgbClr val="0d0d0d"/>
                    </a:solidFill>
                    <a:uFillTx/>
                    <a:latin typeface="Constantia"/>
                  </a:rPr>
                  <a:t>Types of animal tissue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3"/>
            <p:cNvGrpSpPr/>
            <p:nvPr/>
          </p:nvGrpSpPr>
          <p:grpSpPr>
            <a:xfrm>
              <a:off x="623880" y="3821400"/>
              <a:ext cx="5028120" cy="1046520"/>
              <a:chOff x="623880" y="3821400"/>
              <a:chExt cx="5028120" cy="1046520"/>
            </a:xfrm>
          </p:grpSpPr>
          <p:grpSp>
            <p:nvGrpSpPr>
              <p:cNvPr id="220" name="Group 4"/>
              <p:cNvGrpSpPr/>
              <p:nvPr/>
            </p:nvGrpSpPr>
            <p:grpSpPr>
              <a:xfrm>
                <a:off x="623880" y="3821400"/>
                <a:ext cx="4379760" cy="1046520"/>
                <a:chOff x="623880" y="3821400"/>
                <a:chExt cx="4379760" cy="1046520"/>
              </a:xfrm>
            </p:grpSpPr>
            <p:sp>
              <p:nvSpPr>
                <p:cNvPr id="221" name="Text Box 4"/>
                <p:cNvSpPr/>
                <p:nvPr/>
              </p:nvSpPr>
              <p:spPr>
                <a:xfrm>
                  <a:off x="623880" y="4469040"/>
                  <a:ext cx="1427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ff"/>
                      </a:solidFill>
                      <a:latin typeface="Calibri"/>
                    </a:rPr>
                    <a:t>1)</a:t>
                  </a:r>
                  <a:r>
                    <a:rPr b="1" lang="en-GB" sz="2000" spc="-1" strike="noStrike">
                      <a:solidFill>
                        <a:srgbClr val="0000ff"/>
                      </a:solidFill>
                      <a:latin typeface="Constantia"/>
                    </a:rPr>
                    <a:t> Proper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2" name="Group 10"/>
                <p:cNvGrpSpPr/>
                <p:nvPr/>
              </p:nvGrpSpPr>
              <p:grpSpPr>
                <a:xfrm>
                  <a:off x="1328400" y="3821400"/>
                  <a:ext cx="3675240" cy="419040"/>
                  <a:chOff x="1328400" y="3821400"/>
                  <a:chExt cx="3675240" cy="419040"/>
                </a:xfrm>
              </p:grpSpPr>
              <p:sp>
                <p:nvSpPr>
                  <p:cNvPr id="223" name="Line 11"/>
                  <p:cNvSpPr/>
                  <p:nvPr/>
                </p:nvSpPr>
                <p:spPr>
                  <a:xfrm>
                    <a:off x="3347640" y="3821400"/>
                    <a:ext cx="0" cy="419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12"/>
                  <p:cNvSpPr/>
                  <p:nvPr/>
                </p:nvSpPr>
                <p:spPr>
                  <a:xfrm>
                    <a:off x="1328400" y="4240440"/>
                    <a:ext cx="36752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5" name="Line 14"/>
              <p:cNvSpPr/>
              <p:nvPr/>
            </p:nvSpPr>
            <p:spPr>
              <a:xfrm>
                <a:off x="3491640" y="4236120"/>
                <a:ext cx="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4"/>
              <p:cNvSpPr/>
              <p:nvPr/>
            </p:nvSpPr>
            <p:spPr>
              <a:xfrm>
                <a:off x="5004360" y="4236120"/>
                <a:ext cx="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14"/>
              <p:cNvSpPr/>
              <p:nvPr/>
            </p:nvSpPr>
            <p:spPr>
              <a:xfrm>
                <a:off x="1331640" y="4236120"/>
                <a:ext cx="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4"/>
              <p:cNvSpPr/>
              <p:nvPr/>
            </p:nvSpPr>
            <p:spPr>
              <a:xfrm>
                <a:off x="2737080" y="4468680"/>
                <a:ext cx="1546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2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Skelet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 Box 4"/>
              <p:cNvSpPr/>
              <p:nvPr/>
            </p:nvSpPr>
            <p:spPr>
              <a:xfrm>
                <a:off x="4354920" y="4468680"/>
                <a:ext cx="129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ff"/>
                    </a:solidFill>
                    <a:latin typeface="Calibri"/>
                  </a:rPr>
                  <a:t>3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Bloo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3"/>
            <p:cNvGrpSpPr/>
            <p:nvPr/>
          </p:nvGrpSpPr>
          <p:grpSpPr>
            <a:xfrm>
              <a:off x="57240" y="4797720"/>
              <a:ext cx="2655720" cy="1551240"/>
              <a:chOff x="57240" y="4797720"/>
              <a:chExt cx="2655720" cy="1551240"/>
            </a:xfrm>
          </p:grpSpPr>
          <p:grpSp>
            <p:nvGrpSpPr>
              <p:cNvPr id="231" name="Group 4"/>
              <p:cNvGrpSpPr/>
              <p:nvPr/>
            </p:nvGrpSpPr>
            <p:grpSpPr>
              <a:xfrm>
                <a:off x="57240" y="4797720"/>
                <a:ext cx="1942920" cy="1066680"/>
                <a:chOff x="57240" y="4797720"/>
                <a:chExt cx="1942920" cy="1066680"/>
              </a:xfrm>
            </p:grpSpPr>
            <p:sp>
              <p:nvSpPr>
                <p:cNvPr id="232" name="Text Box 4"/>
                <p:cNvSpPr/>
                <p:nvPr/>
              </p:nvSpPr>
              <p:spPr>
                <a:xfrm>
                  <a:off x="57240" y="5465520"/>
                  <a:ext cx="129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ff"/>
                      </a:solidFill>
                      <a:latin typeface="Calibri"/>
                    </a:rPr>
                    <a:t>a)</a:t>
                  </a:r>
                  <a:r>
                    <a:rPr b="1" lang="en-GB" sz="2000" spc="-1" strike="noStrike">
                      <a:solidFill>
                        <a:srgbClr val="0000ff"/>
                      </a:solidFill>
                      <a:latin typeface="Constantia"/>
                    </a:rPr>
                    <a:t> </a:t>
                  </a:r>
                  <a:r>
                    <a:rPr b="1" lang="en-US" sz="2000" spc="-1" strike="noStrike">
                      <a:solidFill>
                        <a:srgbClr val="0000ff"/>
                      </a:solidFill>
                      <a:latin typeface="Constantia"/>
                    </a:rPr>
                    <a:t>Loos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3" name="Group 10"/>
                <p:cNvGrpSpPr/>
                <p:nvPr/>
              </p:nvGrpSpPr>
              <p:grpSpPr>
                <a:xfrm>
                  <a:off x="704880" y="4797720"/>
                  <a:ext cx="1295280" cy="419040"/>
                  <a:chOff x="704880" y="4797720"/>
                  <a:chExt cx="1295280" cy="419040"/>
                </a:xfrm>
              </p:grpSpPr>
              <p:sp>
                <p:nvSpPr>
                  <p:cNvPr id="234" name="Line 11"/>
                  <p:cNvSpPr/>
                  <p:nvPr/>
                </p:nvSpPr>
                <p:spPr>
                  <a:xfrm>
                    <a:off x="1326960" y="4797720"/>
                    <a:ext cx="0" cy="419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12"/>
                  <p:cNvSpPr/>
                  <p:nvPr/>
                </p:nvSpPr>
                <p:spPr>
                  <a:xfrm>
                    <a:off x="704880" y="5216760"/>
                    <a:ext cx="12952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6" name="Line 14"/>
              <p:cNvSpPr/>
              <p:nvPr/>
            </p:nvSpPr>
            <p:spPr>
              <a:xfrm>
                <a:off x="1328040" y="5212440"/>
                <a:ext cx="0" cy="731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14"/>
              <p:cNvSpPr/>
              <p:nvPr/>
            </p:nvSpPr>
            <p:spPr>
              <a:xfrm>
                <a:off x="2000520" y="5212440"/>
                <a:ext cx="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14"/>
              <p:cNvSpPr/>
              <p:nvPr/>
            </p:nvSpPr>
            <p:spPr>
              <a:xfrm>
                <a:off x="704520" y="5212440"/>
                <a:ext cx="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4"/>
              <p:cNvSpPr/>
              <p:nvPr/>
            </p:nvSpPr>
            <p:spPr>
              <a:xfrm>
                <a:off x="569880" y="5950080"/>
                <a:ext cx="1546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b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Adipo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 Box 4"/>
              <p:cNvSpPr/>
              <p:nvPr/>
            </p:nvSpPr>
            <p:spPr>
              <a:xfrm>
                <a:off x="1293840" y="5465880"/>
                <a:ext cx="14191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Calibri"/>
                  </a:rPr>
                  <a:t>c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Fibrou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3"/>
            <p:cNvGrpSpPr/>
            <p:nvPr/>
          </p:nvGrpSpPr>
          <p:grpSpPr>
            <a:xfrm>
              <a:off x="2327400" y="4797720"/>
              <a:ext cx="2520720" cy="1551240"/>
              <a:chOff x="2327400" y="4797720"/>
              <a:chExt cx="2520720" cy="1551240"/>
            </a:xfrm>
          </p:grpSpPr>
          <p:grpSp>
            <p:nvGrpSpPr>
              <p:cNvPr id="242" name="Group 10"/>
              <p:cNvGrpSpPr/>
              <p:nvPr/>
            </p:nvGrpSpPr>
            <p:grpSpPr>
              <a:xfrm>
                <a:off x="3094200" y="4797720"/>
                <a:ext cx="863640" cy="419040"/>
                <a:chOff x="3094200" y="4797720"/>
                <a:chExt cx="863640" cy="419040"/>
              </a:xfrm>
            </p:grpSpPr>
            <p:sp>
              <p:nvSpPr>
                <p:cNvPr id="243" name="Line 11"/>
                <p:cNvSpPr/>
                <p:nvPr/>
              </p:nvSpPr>
              <p:spPr>
                <a:xfrm>
                  <a:off x="3521160" y="4797720"/>
                  <a:ext cx="0" cy="419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2"/>
                <p:cNvSpPr/>
                <p:nvPr/>
              </p:nvSpPr>
              <p:spPr>
                <a:xfrm>
                  <a:off x="3094200" y="5216760"/>
                  <a:ext cx="863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Line 14"/>
              <p:cNvSpPr/>
              <p:nvPr/>
            </p:nvSpPr>
            <p:spPr>
              <a:xfrm>
                <a:off x="3957840" y="5212440"/>
                <a:ext cx="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14"/>
              <p:cNvSpPr/>
              <p:nvPr/>
            </p:nvSpPr>
            <p:spPr>
              <a:xfrm>
                <a:off x="3093840" y="5212440"/>
                <a:ext cx="0" cy="731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4"/>
              <p:cNvSpPr/>
              <p:nvPr/>
            </p:nvSpPr>
            <p:spPr>
              <a:xfrm>
                <a:off x="2327400" y="5950080"/>
                <a:ext cx="1546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a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B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4"/>
              <p:cNvSpPr/>
              <p:nvPr/>
            </p:nvSpPr>
            <p:spPr>
              <a:xfrm>
                <a:off x="3081240" y="5477040"/>
                <a:ext cx="176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Calibri"/>
                  </a:rPr>
                  <a:t>b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Cartilag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TextBox 2"/>
            <p:cNvSpPr/>
            <p:nvPr/>
          </p:nvSpPr>
          <p:spPr>
            <a:xfrm>
              <a:off x="2843640" y="4469760"/>
              <a:ext cx="1421280" cy="369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Box 2"/>
            <p:cNvSpPr/>
            <p:nvPr/>
          </p:nvSpPr>
          <p:spPr>
            <a:xfrm>
              <a:off x="4428000" y="4475160"/>
              <a:ext cx="1204560" cy="369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Box 2"/>
            <p:cNvSpPr/>
            <p:nvPr/>
          </p:nvSpPr>
          <p:spPr>
            <a:xfrm>
              <a:off x="4644000" y="3033720"/>
              <a:ext cx="2357280" cy="369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Box 2"/>
            <p:cNvSpPr/>
            <p:nvPr/>
          </p:nvSpPr>
          <p:spPr>
            <a:xfrm>
              <a:off x="6660360" y="2565000"/>
              <a:ext cx="2236320" cy="369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Group 3"/>
            <p:cNvGrpSpPr/>
            <p:nvPr/>
          </p:nvGrpSpPr>
          <p:grpSpPr>
            <a:xfrm>
              <a:off x="5364000" y="3501360"/>
              <a:ext cx="3672360" cy="2231280"/>
              <a:chOff x="5364000" y="3501360"/>
              <a:chExt cx="3672360" cy="2231280"/>
            </a:xfrm>
          </p:grpSpPr>
          <p:grpSp>
            <p:nvGrpSpPr>
              <p:cNvPr id="254" name="Group 4"/>
              <p:cNvGrpSpPr/>
              <p:nvPr/>
            </p:nvGrpSpPr>
            <p:grpSpPr>
              <a:xfrm>
                <a:off x="5364000" y="3501360"/>
                <a:ext cx="2952360" cy="2231280"/>
                <a:chOff x="5364000" y="3501360"/>
                <a:chExt cx="2952360" cy="2231280"/>
              </a:xfrm>
            </p:grpSpPr>
            <p:sp>
              <p:nvSpPr>
                <p:cNvPr id="255" name="Text Box 4"/>
                <p:cNvSpPr/>
                <p:nvPr/>
              </p:nvSpPr>
              <p:spPr>
                <a:xfrm>
                  <a:off x="5364000" y="5333760"/>
                  <a:ext cx="1584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ff"/>
                      </a:solidFill>
                      <a:latin typeface="Calibri"/>
                    </a:rPr>
                    <a:t>a)</a:t>
                  </a:r>
                  <a:r>
                    <a:rPr b="1" lang="en-GB" sz="2000" spc="-1" strike="noStrike">
                      <a:solidFill>
                        <a:srgbClr val="0000ff"/>
                      </a:solidFill>
                      <a:latin typeface="Constantia"/>
                    </a:rPr>
                    <a:t> </a:t>
                  </a:r>
                  <a:r>
                    <a:rPr b="1" lang="en-US" sz="2000" spc="-1" strike="noStrike">
                      <a:solidFill>
                        <a:srgbClr val="0000ff"/>
                      </a:solidFill>
                      <a:latin typeface="Constantia"/>
                    </a:rPr>
                    <a:t>Skeletal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6" name="Group 10"/>
                <p:cNvGrpSpPr/>
                <p:nvPr/>
              </p:nvGrpSpPr>
              <p:grpSpPr>
                <a:xfrm>
                  <a:off x="6155640" y="3501360"/>
                  <a:ext cx="2160720" cy="419040"/>
                  <a:chOff x="6155640" y="3501360"/>
                  <a:chExt cx="2160720" cy="419040"/>
                </a:xfrm>
              </p:grpSpPr>
              <p:sp>
                <p:nvSpPr>
                  <p:cNvPr id="257" name="Line 11"/>
                  <p:cNvSpPr/>
                  <p:nvPr/>
                </p:nvSpPr>
                <p:spPr>
                  <a:xfrm>
                    <a:off x="6777720" y="3501360"/>
                    <a:ext cx="0" cy="419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Line 12"/>
                  <p:cNvSpPr/>
                  <p:nvPr/>
                </p:nvSpPr>
                <p:spPr>
                  <a:xfrm>
                    <a:off x="6155640" y="3920400"/>
                    <a:ext cx="21607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9" name="Line 14"/>
              <p:cNvSpPr/>
              <p:nvPr/>
            </p:nvSpPr>
            <p:spPr>
              <a:xfrm>
                <a:off x="7236360" y="3933360"/>
                <a:ext cx="0" cy="731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14"/>
              <p:cNvSpPr/>
              <p:nvPr/>
            </p:nvSpPr>
            <p:spPr>
              <a:xfrm>
                <a:off x="8316720" y="3915720"/>
                <a:ext cx="0" cy="14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14"/>
              <p:cNvSpPr/>
              <p:nvPr/>
            </p:nvSpPr>
            <p:spPr>
              <a:xfrm>
                <a:off x="6155280" y="3915720"/>
                <a:ext cx="0" cy="14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4"/>
              <p:cNvSpPr/>
              <p:nvPr/>
            </p:nvSpPr>
            <p:spPr>
              <a:xfrm>
                <a:off x="6481800" y="4654440"/>
                <a:ext cx="1546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b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Cardia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4"/>
              <p:cNvSpPr/>
              <p:nvPr/>
            </p:nvSpPr>
            <p:spPr>
              <a:xfrm>
                <a:off x="7616880" y="5333760"/>
                <a:ext cx="141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Calibri"/>
                  </a:rPr>
                  <a:t>c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Smoot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3"/>
          <p:cNvSpPr/>
          <p:nvPr/>
        </p:nvSpPr>
        <p:spPr>
          <a:xfrm>
            <a:off x="0" y="304920"/>
            <a:ext cx="9155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ff"/>
                </a:solidFill>
                <a:latin typeface="Calibri"/>
                <a:ea typeface="Arial"/>
              </a:rPr>
              <a:t>2- </a:t>
            </a:r>
            <a:r>
              <a:rPr b="1" lang="en-US" sz="3700" spc="-1" strike="noStrike">
                <a:solidFill>
                  <a:srgbClr val="0000ff"/>
                </a:solidFill>
                <a:latin typeface="Constantia"/>
                <a:ea typeface="Arial"/>
              </a:rPr>
              <a:t>Skeletal Connective Tissues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نسجة الضامة الهيك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52280" y="1295280"/>
            <a:ext cx="2971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A- </a:t>
            </a:r>
            <a:r>
              <a:rPr b="1" lang="en-US" sz="30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Bone </a:t>
            </a:r>
            <a:r>
              <a:rPr b="1" lang="ar-SA" sz="2000" spc="-1" strike="noStrike" u="sng">
                <a:solidFill>
                  <a:srgbClr val="ff0000"/>
                </a:solidFill>
                <a:uFillTx/>
                <a:latin typeface="Constantia"/>
                <a:cs typeface="Majalla UI"/>
              </a:rPr>
              <a:t>العظ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76320" y="1905120"/>
            <a:ext cx="49528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Produces solid matrix of calcium phosphate and collagen fi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Each osteon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حافظ عظمية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Haversian systems) has a central canal containing blood vessels and ner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Bone is harder than cartil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functions of bone are support, movement, protection of internal organs, mineral storage (calcium, phosphate) and blood cell develop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4" descr="https://kel-tay-lii.wikispaces.com/file/view/osteon2.jpg/298895502/799x294/osteon2.jpg"/>
          <p:cNvPicPr/>
          <p:nvPr/>
        </p:nvPicPr>
        <p:blipFill>
          <a:blip r:embed="rId1"/>
          <a:srcRect l="59886" t="12775" r="1620" b="15652"/>
          <a:stretch/>
        </p:blipFill>
        <p:spPr>
          <a:xfrm>
            <a:off x="5603760" y="1184400"/>
            <a:ext cx="2930760" cy="200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9" name="Picture 18" descr="Transverse Section Of Bone.png"/>
          <p:cNvPicPr/>
          <p:nvPr/>
        </p:nvPicPr>
        <p:blipFill>
          <a:blip r:embed="rId2"/>
          <a:stretch/>
        </p:blipFill>
        <p:spPr>
          <a:xfrm>
            <a:off x="5105520" y="3292560"/>
            <a:ext cx="3962160" cy="346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152280" y="304920"/>
            <a:ext cx="3429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B- </a:t>
            </a:r>
            <a:r>
              <a:rPr b="1" lang="en-US" sz="30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Cartilage </a:t>
            </a:r>
            <a:r>
              <a:rPr b="1" lang="ar-SA" sz="2000" spc="-1" strike="noStrike" u="sng">
                <a:solidFill>
                  <a:srgbClr val="ff0000"/>
                </a:solidFill>
                <a:uFillTx/>
                <a:latin typeface="Constantia"/>
                <a:cs typeface="Majalla UI"/>
              </a:rPr>
              <a:t>الغضرو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76320" y="1447920"/>
            <a:ext cx="48006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Support soft tissues (nose, ear, trachea and vertebral disc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Sliding areas for joints, facilitat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تسهيل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bone mov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mature cell in cartilage is a chondrocyt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خلية غضروف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Cells are found in Lacuna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فجوات (ثغور)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within the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Fibers may be elastic or non-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histology of hyaline"/>
          <p:cNvPicPr/>
          <p:nvPr/>
        </p:nvPicPr>
        <p:blipFill>
          <a:blip r:embed="rId1"/>
          <a:stretch/>
        </p:blipFill>
        <p:spPr>
          <a:xfrm>
            <a:off x="5151600" y="4010040"/>
            <a:ext cx="3840120" cy="27432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http://medcell.med.yale.edu/histology/connective_tissue_lab/images/hyaline_cartilage.jpg"/>
          <p:cNvPicPr/>
          <p:nvPr/>
        </p:nvPicPr>
        <p:blipFill>
          <a:blip r:embed="rId2"/>
          <a:stretch/>
        </p:blipFill>
        <p:spPr>
          <a:xfrm>
            <a:off x="5151600" y="1162080"/>
            <a:ext cx="3840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0" y="304920"/>
            <a:ext cx="9155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  <a:ea typeface="Arial"/>
              </a:rPr>
              <a:t>3- </a:t>
            </a: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Blood (Vascular Tissue)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دم (النسيج الوعائي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76320" y="1341360"/>
            <a:ext cx="525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2880" indent="-272880" algn="just">
              <a:lnSpc>
                <a:spcPct val="120000"/>
              </a:lnSpc>
              <a:buClr>
                <a:srgbClr val="00b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matrix is a liquid call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plasma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55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%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ffc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90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%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ffc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% proteins, hormones, vitamins, nutrients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re are three types of blood cells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45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228600" y="3622680"/>
          <a:ext cx="4572000" cy="27781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Blood cel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Erythrocyt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Red Blood Cell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arry oxy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Leucocyt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White Blood Cell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fense against micro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latelet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lood clot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pic>
        <p:nvPicPr>
          <p:cNvPr id="279" name="Picture 25" descr="Blood Tissue"/>
          <p:cNvPicPr/>
          <p:nvPr/>
        </p:nvPicPr>
        <p:blipFill>
          <a:blip r:embed="rId1"/>
          <a:stretch/>
        </p:blipFill>
        <p:spPr>
          <a:xfrm>
            <a:off x="4978440" y="3695760"/>
            <a:ext cx="4013280" cy="300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0" name="Picture 6" descr="&#13;platelets.jpg                                                  00025923_x000c_Macintosh HD                   ABA78158:"/>
          <p:cNvPicPr/>
          <p:nvPr/>
        </p:nvPicPr>
        <p:blipFill>
          <a:blip r:embed="rId2"/>
          <a:stretch/>
        </p:blipFill>
        <p:spPr>
          <a:xfrm>
            <a:off x="5334120" y="1371600"/>
            <a:ext cx="3657600" cy="2208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45720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Third: Muscular tissues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نسجة</a:t>
            </a:r>
            <a:r>
              <a:rPr b="1" lang="ar-SA" sz="4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عض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76320" y="1371600"/>
            <a:ext cx="8839080" cy="25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Arial"/>
              </a:rPr>
              <a:t>Characterized by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تميز بما يل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Tissue with cells having muscle fibers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ألياف عضلية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specialized for contraction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انقباض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It has large numbers of myofibrils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لُيَيفات عضلية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made of the contractile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Arial"/>
              </a:rPr>
              <a:t>المنقبض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proteins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  <a:ea typeface="Arial"/>
              </a:rPr>
              <a:t>actin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كتين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and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  <a:ea typeface="Arial"/>
              </a:rPr>
              <a:t>myosin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يوسين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3"/>
          <p:cNvSpPr/>
          <p:nvPr/>
        </p:nvSpPr>
        <p:spPr>
          <a:xfrm>
            <a:off x="0" y="304920"/>
            <a:ext cx="906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ff"/>
                </a:solidFill>
                <a:latin typeface="Constantia"/>
                <a:ea typeface="Arial"/>
              </a:rPr>
              <a:t>Types of Muscular Tissu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320" y="1197000"/>
            <a:ext cx="8991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are three types of muscular tissues in the vertebrate bod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1-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Skeletal Muscl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عضلات الهيكل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t attaches to bones by tendon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وتار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sponsible for voluntary movement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حركات الإراد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so called striated muscl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عضلات مخطط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2-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Cardiac muscl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عضلات القلب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t is found in the wall  of the hear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rdiac muscles are branch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tercalated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isc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قراص البين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3- Smooth muscl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عضلات الملساء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o stria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t is found in the walls of the digestive system, urinary bladder, arteries, and other internal orga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shape of the cells are spindle-shaped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شكل المغزلي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http://www.mun.ca/biology/mcolbo/Lectures%2012,13,14/40-04-VertebrateMuscles-L.gif"/>
          <p:cNvPicPr/>
          <p:nvPr/>
        </p:nvPicPr>
        <p:blipFill>
          <a:blip r:embed="rId1"/>
          <a:srcRect l="0" t="0" r="0" b="3315"/>
          <a:stretch/>
        </p:blipFill>
        <p:spPr>
          <a:xfrm>
            <a:off x="179280" y="534960"/>
            <a:ext cx="8702640" cy="5918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3"/>
          <p:cNvSpPr/>
          <p:nvPr/>
        </p:nvSpPr>
        <p:spPr>
          <a:xfrm>
            <a:off x="457200" y="3715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Fourth: Nervous tissues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نسجة</a:t>
            </a:r>
            <a:r>
              <a:rPr b="1" lang="ar-SA" sz="4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عصب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5"/>
          <p:cNvSpPr/>
          <p:nvPr/>
        </p:nvSpPr>
        <p:spPr>
          <a:xfrm>
            <a:off x="152280" y="105264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75960" y="1371600"/>
            <a:ext cx="8839080" cy="55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ervous tissue is the main component of the nervous syste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functional unit of nervous tissue is th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neuron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نيورون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or nerve c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t consists of three parts: a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cell body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جسم الخلي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 singl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x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حور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dendrit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زوائد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عصب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ndrites transmit nerve impulses from their tips toward the rest of the neur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xons transmit impulses toward another neuron, muscles or gland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6" descr="http://faculty.harford.edu/faculty/wrappazzo/a_oldsite/tissue%20lab/tissue%20lab%20photos/neuron.gif"/>
          <p:cNvPicPr/>
          <p:nvPr/>
        </p:nvPicPr>
        <p:blipFill>
          <a:blip r:embed="rId1"/>
          <a:stretch/>
        </p:blipFill>
        <p:spPr>
          <a:xfrm>
            <a:off x="179280" y="114480"/>
            <a:ext cx="3390840" cy="266688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3"/>
          <p:cNvGrpSpPr/>
          <p:nvPr/>
        </p:nvGrpSpPr>
        <p:grpSpPr>
          <a:xfrm>
            <a:off x="985680" y="2890800"/>
            <a:ext cx="7115400" cy="3851280"/>
            <a:chOff x="985680" y="2890800"/>
            <a:chExt cx="7115400" cy="3851280"/>
          </a:xfrm>
        </p:grpSpPr>
        <p:pic>
          <p:nvPicPr>
            <p:cNvPr id="293" name="Picture 10" descr="https://classconnection.s3.amazonaws.com/896/flashcards/797896/png/screen_shot_2012-02-18_at_7.30.36_pm1329611500829.png"/>
            <p:cNvPicPr/>
            <p:nvPr/>
          </p:nvPicPr>
          <p:blipFill>
            <a:blip r:embed="rId2"/>
            <a:stretch/>
          </p:blipFill>
          <p:spPr>
            <a:xfrm>
              <a:off x="985680" y="2925000"/>
              <a:ext cx="7115400" cy="381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Box 2"/>
            <p:cNvSpPr/>
            <p:nvPr/>
          </p:nvSpPr>
          <p:spPr>
            <a:xfrm>
              <a:off x="1692000" y="2890800"/>
              <a:ext cx="1296000" cy="369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Box 9"/>
            <p:cNvSpPr/>
            <p:nvPr/>
          </p:nvSpPr>
          <p:spPr>
            <a:xfrm>
              <a:off x="3339000" y="3758040"/>
              <a:ext cx="1296000" cy="369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Box 10"/>
            <p:cNvSpPr/>
            <p:nvPr/>
          </p:nvSpPr>
          <p:spPr>
            <a:xfrm>
              <a:off x="4728960" y="6166080"/>
              <a:ext cx="901080" cy="369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3:03:59Z</dcterms:created>
  <dc:creator>Dr. A A</dc:creator>
  <dc:description/>
  <dc:language>en-US</dc:language>
  <cp:lastModifiedBy>Mohammed Albeshr</cp:lastModifiedBy>
  <dcterms:modified xsi:type="dcterms:W3CDTF">2017-11-04T18:36:39Z</dcterms:modified>
  <cp:revision>134</cp:revision>
  <dc:subject/>
  <dc:title>Slide 1</dc:title>
</cp:coreProperties>
</file>