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8CF4-8B02-4974-8365-274B284628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AAC4-B411-4433-929C-D6A87B0C41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5C91-5885-4F4C-A638-CE9E21353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1AEF-0546-47F9-9659-A230D623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9BE9-90B0-4794-97A0-189AE4E0E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88FD-604B-4B3C-B7C8-29BD81829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2A9D-54D8-4FAB-8181-EE2912AB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C6E9-ADC2-482C-9E2B-1C83BAC6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0161-E634-4963-A384-C3E45B25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8ABA-BC06-4058-99A9-9C25F421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EF688-8E02-4B00-AB86-8FB9971A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6F97-713E-42FA-AAA4-6B166A93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2722-56BB-46F2-8DA7-828B2121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3465-B144-4EDD-A016-D339C22A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510D-7C08-47A6-8386-CAFBCDBD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9DDD-5403-4A4D-9053-3C89472C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73B0-25B1-444A-8BB2-F9C5A242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8FA2-3067-4F15-9285-24E86C8FD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0356-4CEF-42F6-B959-4A1BA7836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72640-4404-4FB8-B088-0AC960D8A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6D20A-8AFE-408A-B923-CA50527A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76773-26D2-4E4D-8727-0D37DE21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3A111-4D9E-48F8-874B-D3413425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4F3B2-F2A6-427F-84B6-2A411DF5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6489-9147-40E0-83BE-FD796022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1747F-4384-4D6E-9712-1216D49F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91B84-BFF9-49E7-98C4-31335B1C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987BE-D675-4095-A8ED-AD392347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FFC0F-E742-4383-9465-A0A0DA81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5E164-512E-4027-8FC8-40474720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69967-5505-40E4-9D0B-73B33D18B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FF7D0-FB99-4F40-97EC-0FD4F5741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754C8-C81A-4FFB-9CDB-685A62B62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C086D-7E75-4491-B1E2-068C1B58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48DA8-74A1-44A7-B56D-C0FB1AAF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A16A-3895-4A93-95A9-6CB3CB72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86537-6957-4627-93E2-18685702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D11A8-128E-4FCD-9922-EF8FB42B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FC840-8732-4ED2-B24D-B2EA1899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843D6-6BD9-41AA-AA80-51D59520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CAB78-D781-402D-8FBC-027F8B15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4FEA2-97CE-43C7-BAEF-0157971E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189D6-8CEF-48EA-B2D6-EEA40AC9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28CA7-621F-44A5-A595-CBC4F7BBD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23029-63C7-46D8-B51D-3475C6371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6490-4115-4FF9-8A4B-FF0FB8BD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CC85-84CE-4778-B7F1-25E8F0C8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C511-0C4E-45BB-9D3E-C26BD1AA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7DFA-38A8-446A-9034-3900098C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2FB6-BDA2-4DB1-92A1-9CF6F806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85B3-CB74-4626-A983-DBCA1D7B385A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B623-D0BB-4F4A-AA4F-90B585FB01A5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500A-9104-41AD-A798-5FC49E49B3C9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6B45-30C7-4988-A086-BAAAB7DDF828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133200" y="380880"/>
            <a:ext cx="8902800" cy="1434600"/>
          </a:xfrm>
          <a:prstGeom prst="rect">
            <a:avLst/>
          </a:prstGeom>
          <a:solidFill>
            <a:srgbClr val="b3e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Lecture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12</a:t>
            </a: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: Other Animal Tissu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2"/>
          <p:cNvGrpSpPr/>
          <p:nvPr/>
        </p:nvGrpSpPr>
        <p:grpSpPr>
          <a:xfrm>
            <a:off x="57240" y="1413000"/>
            <a:ext cx="9021600" cy="4935960"/>
            <a:chOff x="57240" y="1413000"/>
            <a:chExt cx="9021600" cy="4935960"/>
          </a:xfrm>
        </p:grpSpPr>
        <p:grpSp>
          <p:nvGrpSpPr>
            <p:cNvPr id="205" name="Group 3"/>
            <p:cNvGrpSpPr/>
            <p:nvPr/>
          </p:nvGrpSpPr>
          <p:grpSpPr>
            <a:xfrm>
              <a:off x="88560" y="1413000"/>
              <a:ext cx="8990280" cy="2300760"/>
              <a:chOff x="88560" y="1413000"/>
              <a:chExt cx="8990280" cy="2300760"/>
            </a:xfrm>
          </p:grpSpPr>
          <p:grpSp>
            <p:nvGrpSpPr>
              <p:cNvPr id="206" name="Group 4"/>
              <p:cNvGrpSpPr/>
              <p:nvPr/>
            </p:nvGrpSpPr>
            <p:grpSpPr>
              <a:xfrm>
                <a:off x="88560" y="1921320"/>
                <a:ext cx="7683480" cy="1360080"/>
                <a:chOff x="88560" y="1921320"/>
                <a:chExt cx="7683480" cy="1360080"/>
              </a:xfrm>
            </p:grpSpPr>
            <p:sp>
              <p:nvSpPr>
                <p:cNvPr id="207" name="Text Box 4"/>
                <p:cNvSpPr/>
                <p:nvPr/>
              </p:nvSpPr>
              <p:spPr>
                <a:xfrm>
                  <a:off x="88560" y="2577600"/>
                  <a:ext cx="25909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ff"/>
                      </a:solidFill>
                      <a:latin typeface="Calibri"/>
                    </a:rPr>
                    <a:t>1)</a:t>
                  </a:r>
                  <a:r>
                    <a:rPr b="1" lang="en-GB" sz="2000" spc="-1" strike="noStrike">
                      <a:solidFill>
                        <a:srgbClr val="0000ff"/>
                      </a:solidFill>
                      <a:latin typeface="Constantia"/>
                    </a:rPr>
                    <a:t> Epithelial tissue </a:t>
                  </a:r>
                  <a:r>
                    <a:rPr b="0" lang="ar-SA" sz="2000" spc="-1" strike="noStrike">
                      <a:solidFill>
                        <a:srgbClr val="ff0000"/>
                      </a:solidFill>
                      <a:latin typeface="Constantia"/>
                      <a:cs typeface="Majalla UI"/>
                    </a:rPr>
                    <a:t>النسيج الطلائي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8" name="Group 10"/>
                <p:cNvGrpSpPr/>
                <p:nvPr/>
              </p:nvGrpSpPr>
              <p:grpSpPr>
                <a:xfrm>
                  <a:off x="1371240" y="1921320"/>
                  <a:ext cx="6400800" cy="1051560"/>
                  <a:chOff x="1371240" y="1921320"/>
                  <a:chExt cx="6400800" cy="1051560"/>
                </a:xfrm>
              </p:grpSpPr>
              <p:sp>
                <p:nvSpPr>
                  <p:cNvPr id="209" name="Line 11"/>
                  <p:cNvSpPr/>
                  <p:nvPr/>
                </p:nvSpPr>
                <p:spPr>
                  <a:xfrm>
                    <a:off x="4558680" y="1921320"/>
                    <a:ext cx="0" cy="3204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Line 12"/>
                  <p:cNvSpPr/>
                  <p:nvPr/>
                </p:nvSpPr>
                <p:spPr>
                  <a:xfrm>
                    <a:off x="1371240" y="2241720"/>
                    <a:ext cx="64008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13"/>
                  <p:cNvSpPr/>
                  <p:nvPr/>
                </p:nvSpPr>
                <p:spPr>
                  <a:xfrm>
                    <a:off x="3347640" y="2241720"/>
                    <a:ext cx="0" cy="7311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2" name="Line 14"/>
              <p:cNvSpPr/>
              <p:nvPr/>
            </p:nvSpPr>
            <p:spPr>
              <a:xfrm>
                <a:off x="7760160" y="2225880"/>
                <a:ext cx="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14"/>
              <p:cNvSpPr/>
              <p:nvPr/>
            </p:nvSpPr>
            <p:spPr>
              <a:xfrm>
                <a:off x="1383120" y="2225880"/>
                <a:ext cx="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13"/>
              <p:cNvSpPr/>
              <p:nvPr/>
            </p:nvSpPr>
            <p:spPr>
              <a:xfrm>
                <a:off x="5796000" y="2237760"/>
                <a:ext cx="0" cy="731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Text Box 4"/>
              <p:cNvSpPr/>
              <p:nvPr/>
            </p:nvSpPr>
            <p:spPr>
              <a:xfrm>
                <a:off x="2052360" y="3009960"/>
                <a:ext cx="25909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2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Connective tissue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0" lang="ar-SA" sz="2000" spc="-1" strike="noStrike">
                    <a:solidFill>
                      <a:srgbClr val="ff0000"/>
                    </a:solidFill>
                    <a:latin typeface="Constantia"/>
                    <a:cs typeface="Majalla UI"/>
                  </a:rPr>
                  <a:t>النسيج الضام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4"/>
              <p:cNvSpPr/>
              <p:nvPr/>
            </p:nvSpPr>
            <p:spPr>
              <a:xfrm>
                <a:off x="4513320" y="2997360"/>
                <a:ext cx="25909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3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Muscular tissue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0" lang="ar-SA" sz="2000" spc="-1" strike="noStrike">
                    <a:solidFill>
                      <a:srgbClr val="ff0000"/>
                    </a:solidFill>
                    <a:latin typeface="Constantia"/>
                    <a:cs typeface="Majalla UI"/>
                  </a:rPr>
                  <a:t>النسج العضلي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4"/>
              <p:cNvSpPr/>
              <p:nvPr/>
            </p:nvSpPr>
            <p:spPr>
              <a:xfrm>
                <a:off x="6487920" y="2565360"/>
                <a:ext cx="25909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4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Nervous tissue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0" lang="ar-SA" sz="2000" spc="-1" strike="noStrike">
                    <a:solidFill>
                      <a:srgbClr val="ff0000"/>
                    </a:solidFill>
                    <a:latin typeface="Constantia"/>
                    <a:cs typeface="Majalla UI"/>
                  </a:rPr>
                  <a:t>النسيج العصبي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Text Box 4"/>
              <p:cNvSpPr/>
              <p:nvPr/>
            </p:nvSpPr>
            <p:spPr>
              <a:xfrm>
                <a:off x="2458800" y="1413000"/>
                <a:ext cx="42130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 u="sng">
                    <a:solidFill>
                      <a:srgbClr val="0d0d0d"/>
                    </a:solidFill>
                    <a:uFillTx/>
                    <a:latin typeface="Constantia"/>
                  </a:rPr>
                  <a:t>Types of animal tissue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3"/>
            <p:cNvGrpSpPr/>
            <p:nvPr/>
          </p:nvGrpSpPr>
          <p:grpSpPr>
            <a:xfrm>
              <a:off x="623880" y="3821400"/>
              <a:ext cx="5028120" cy="1046520"/>
              <a:chOff x="623880" y="3821400"/>
              <a:chExt cx="5028120" cy="1046520"/>
            </a:xfrm>
          </p:grpSpPr>
          <p:grpSp>
            <p:nvGrpSpPr>
              <p:cNvPr id="220" name="Group 4"/>
              <p:cNvGrpSpPr/>
              <p:nvPr/>
            </p:nvGrpSpPr>
            <p:grpSpPr>
              <a:xfrm>
                <a:off x="623880" y="3821400"/>
                <a:ext cx="4379760" cy="1046520"/>
                <a:chOff x="623880" y="3821400"/>
                <a:chExt cx="4379760" cy="1046520"/>
              </a:xfrm>
            </p:grpSpPr>
            <p:sp>
              <p:nvSpPr>
                <p:cNvPr id="221" name="Text Box 4"/>
                <p:cNvSpPr/>
                <p:nvPr/>
              </p:nvSpPr>
              <p:spPr>
                <a:xfrm>
                  <a:off x="623880" y="4469040"/>
                  <a:ext cx="1427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ff"/>
                      </a:solidFill>
                      <a:latin typeface="Calibri"/>
                    </a:rPr>
                    <a:t>1)</a:t>
                  </a:r>
                  <a:r>
                    <a:rPr b="1" lang="en-GB" sz="2000" spc="-1" strike="noStrike">
                      <a:solidFill>
                        <a:srgbClr val="0000ff"/>
                      </a:solidFill>
                      <a:latin typeface="Constantia"/>
                    </a:rPr>
                    <a:t> Proper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2" name="Group 10"/>
                <p:cNvGrpSpPr/>
                <p:nvPr/>
              </p:nvGrpSpPr>
              <p:grpSpPr>
                <a:xfrm>
                  <a:off x="1328400" y="3821400"/>
                  <a:ext cx="3675240" cy="419040"/>
                  <a:chOff x="1328400" y="3821400"/>
                  <a:chExt cx="3675240" cy="419040"/>
                </a:xfrm>
              </p:grpSpPr>
              <p:sp>
                <p:nvSpPr>
                  <p:cNvPr id="223" name="Line 11"/>
                  <p:cNvSpPr/>
                  <p:nvPr/>
                </p:nvSpPr>
                <p:spPr>
                  <a:xfrm>
                    <a:off x="3347640" y="3821400"/>
                    <a:ext cx="0" cy="4190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12"/>
                  <p:cNvSpPr/>
                  <p:nvPr/>
                </p:nvSpPr>
                <p:spPr>
                  <a:xfrm>
                    <a:off x="1328400" y="4240440"/>
                    <a:ext cx="36752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5" name="Line 14"/>
              <p:cNvSpPr/>
              <p:nvPr/>
            </p:nvSpPr>
            <p:spPr>
              <a:xfrm>
                <a:off x="3491640" y="4236120"/>
                <a:ext cx="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14"/>
              <p:cNvSpPr/>
              <p:nvPr/>
            </p:nvSpPr>
            <p:spPr>
              <a:xfrm>
                <a:off x="5004360" y="4236120"/>
                <a:ext cx="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14"/>
              <p:cNvSpPr/>
              <p:nvPr/>
            </p:nvSpPr>
            <p:spPr>
              <a:xfrm>
                <a:off x="1331640" y="4236120"/>
                <a:ext cx="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 Box 4"/>
              <p:cNvSpPr/>
              <p:nvPr/>
            </p:nvSpPr>
            <p:spPr>
              <a:xfrm>
                <a:off x="2737080" y="4468680"/>
                <a:ext cx="1546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2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Skeleta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Text Box 4"/>
              <p:cNvSpPr/>
              <p:nvPr/>
            </p:nvSpPr>
            <p:spPr>
              <a:xfrm>
                <a:off x="4354920" y="4468680"/>
                <a:ext cx="129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ff"/>
                    </a:solidFill>
                    <a:latin typeface="Calibri"/>
                  </a:rPr>
                  <a:t>3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Bloo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3"/>
            <p:cNvGrpSpPr/>
            <p:nvPr/>
          </p:nvGrpSpPr>
          <p:grpSpPr>
            <a:xfrm>
              <a:off x="57240" y="4797720"/>
              <a:ext cx="2655720" cy="1551240"/>
              <a:chOff x="57240" y="4797720"/>
              <a:chExt cx="2655720" cy="1551240"/>
            </a:xfrm>
          </p:grpSpPr>
          <p:grpSp>
            <p:nvGrpSpPr>
              <p:cNvPr id="231" name="Group 4"/>
              <p:cNvGrpSpPr/>
              <p:nvPr/>
            </p:nvGrpSpPr>
            <p:grpSpPr>
              <a:xfrm>
                <a:off x="57240" y="4797720"/>
                <a:ext cx="1942920" cy="1066680"/>
                <a:chOff x="57240" y="4797720"/>
                <a:chExt cx="1942920" cy="1066680"/>
              </a:xfrm>
            </p:grpSpPr>
            <p:sp>
              <p:nvSpPr>
                <p:cNvPr id="232" name="Text Box 4"/>
                <p:cNvSpPr/>
                <p:nvPr/>
              </p:nvSpPr>
              <p:spPr>
                <a:xfrm>
                  <a:off x="57240" y="5465520"/>
                  <a:ext cx="1295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ff"/>
                      </a:solidFill>
                      <a:latin typeface="Calibri"/>
                    </a:rPr>
                    <a:t>a)</a:t>
                  </a:r>
                  <a:r>
                    <a:rPr b="1" lang="en-GB" sz="2000" spc="-1" strike="noStrike">
                      <a:solidFill>
                        <a:srgbClr val="0000ff"/>
                      </a:solidFill>
                      <a:latin typeface="Constantia"/>
                    </a:rPr>
                    <a:t> </a:t>
                  </a:r>
                  <a:r>
                    <a:rPr b="1" lang="en-US" sz="2000" spc="-1" strike="noStrike">
                      <a:solidFill>
                        <a:srgbClr val="0000ff"/>
                      </a:solidFill>
                      <a:latin typeface="Constantia"/>
                    </a:rPr>
                    <a:t>Loos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3" name="Group 10"/>
                <p:cNvGrpSpPr/>
                <p:nvPr/>
              </p:nvGrpSpPr>
              <p:grpSpPr>
                <a:xfrm>
                  <a:off x="704880" y="4797720"/>
                  <a:ext cx="1295280" cy="419040"/>
                  <a:chOff x="704880" y="4797720"/>
                  <a:chExt cx="1295280" cy="419040"/>
                </a:xfrm>
              </p:grpSpPr>
              <p:sp>
                <p:nvSpPr>
                  <p:cNvPr id="234" name="Line 11"/>
                  <p:cNvSpPr/>
                  <p:nvPr/>
                </p:nvSpPr>
                <p:spPr>
                  <a:xfrm>
                    <a:off x="1326960" y="4797720"/>
                    <a:ext cx="0" cy="4190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12"/>
                  <p:cNvSpPr/>
                  <p:nvPr/>
                </p:nvSpPr>
                <p:spPr>
                  <a:xfrm>
                    <a:off x="704880" y="5216760"/>
                    <a:ext cx="12952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6" name="Line 14"/>
              <p:cNvSpPr/>
              <p:nvPr/>
            </p:nvSpPr>
            <p:spPr>
              <a:xfrm>
                <a:off x="1328040" y="5212440"/>
                <a:ext cx="0" cy="731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Line 14"/>
              <p:cNvSpPr/>
              <p:nvPr/>
            </p:nvSpPr>
            <p:spPr>
              <a:xfrm>
                <a:off x="2000520" y="5212440"/>
                <a:ext cx="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Line 14"/>
              <p:cNvSpPr/>
              <p:nvPr/>
            </p:nvSpPr>
            <p:spPr>
              <a:xfrm>
                <a:off x="704520" y="5212440"/>
                <a:ext cx="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 Box 4"/>
              <p:cNvSpPr/>
              <p:nvPr/>
            </p:nvSpPr>
            <p:spPr>
              <a:xfrm>
                <a:off x="569880" y="5950080"/>
                <a:ext cx="1546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b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Adipos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Text Box 4"/>
              <p:cNvSpPr/>
              <p:nvPr/>
            </p:nvSpPr>
            <p:spPr>
              <a:xfrm>
                <a:off x="1293840" y="5465880"/>
                <a:ext cx="14191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Calibri"/>
                  </a:rPr>
                  <a:t>c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Fibrou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3"/>
            <p:cNvGrpSpPr/>
            <p:nvPr/>
          </p:nvGrpSpPr>
          <p:grpSpPr>
            <a:xfrm>
              <a:off x="2327400" y="4797720"/>
              <a:ext cx="2520720" cy="1551240"/>
              <a:chOff x="2327400" y="4797720"/>
              <a:chExt cx="2520720" cy="1551240"/>
            </a:xfrm>
          </p:grpSpPr>
          <p:grpSp>
            <p:nvGrpSpPr>
              <p:cNvPr id="242" name="Group 10"/>
              <p:cNvGrpSpPr/>
              <p:nvPr/>
            </p:nvGrpSpPr>
            <p:grpSpPr>
              <a:xfrm>
                <a:off x="3094200" y="4797720"/>
                <a:ext cx="863640" cy="419040"/>
                <a:chOff x="3094200" y="4797720"/>
                <a:chExt cx="863640" cy="419040"/>
              </a:xfrm>
            </p:grpSpPr>
            <p:sp>
              <p:nvSpPr>
                <p:cNvPr id="243" name="Line 11"/>
                <p:cNvSpPr/>
                <p:nvPr/>
              </p:nvSpPr>
              <p:spPr>
                <a:xfrm>
                  <a:off x="3521160" y="4797720"/>
                  <a:ext cx="0" cy="419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2"/>
                <p:cNvSpPr/>
                <p:nvPr/>
              </p:nvSpPr>
              <p:spPr>
                <a:xfrm>
                  <a:off x="3094200" y="5216760"/>
                  <a:ext cx="863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Line 14"/>
              <p:cNvSpPr/>
              <p:nvPr/>
            </p:nvSpPr>
            <p:spPr>
              <a:xfrm>
                <a:off x="3957840" y="5212440"/>
                <a:ext cx="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Line 14"/>
              <p:cNvSpPr/>
              <p:nvPr/>
            </p:nvSpPr>
            <p:spPr>
              <a:xfrm>
                <a:off x="3093840" y="5212440"/>
                <a:ext cx="0" cy="731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4"/>
              <p:cNvSpPr/>
              <p:nvPr/>
            </p:nvSpPr>
            <p:spPr>
              <a:xfrm>
                <a:off x="2327400" y="5950080"/>
                <a:ext cx="1546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a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Bo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4"/>
              <p:cNvSpPr/>
              <p:nvPr/>
            </p:nvSpPr>
            <p:spPr>
              <a:xfrm>
                <a:off x="3081240" y="5477040"/>
                <a:ext cx="176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Calibri"/>
                  </a:rPr>
                  <a:t>b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Cartilag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TextBox 2"/>
            <p:cNvSpPr/>
            <p:nvPr/>
          </p:nvSpPr>
          <p:spPr>
            <a:xfrm>
              <a:off x="2843640" y="4469760"/>
              <a:ext cx="1421280" cy="369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Box 2"/>
            <p:cNvSpPr/>
            <p:nvPr/>
          </p:nvSpPr>
          <p:spPr>
            <a:xfrm>
              <a:off x="4428000" y="4475160"/>
              <a:ext cx="1204560" cy="369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Box 2"/>
            <p:cNvSpPr/>
            <p:nvPr/>
          </p:nvSpPr>
          <p:spPr>
            <a:xfrm>
              <a:off x="4644000" y="3033720"/>
              <a:ext cx="2357280" cy="369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Box 2"/>
            <p:cNvSpPr/>
            <p:nvPr/>
          </p:nvSpPr>
          <p:spPr>
            <a:xfrm>
              <a:off x="6660360" y="2565000"/>
              <a:ext cx="2236320" cy="369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" name="Group 3"/>
            <p:cNvGrpSpPr/>
            <p:nvPr/>
          </p:nvGrpSpPr>
          <p:grpSpPr>
            <a:xfrm>
              <a:off x="5364000" y="3501360"/>
              <a:ext cx="3672360" cy="2231280"/>
              <a:chOff x="5364000" y="3501360"/>
              <a:chExt cx="3672360" cy="2231280"/>
            </a:xfrm>
          </p:grpSpPr>
          <p:grpSp>
            <p:nvGrpSpPr>
              <p:cNvPr id="254" name="Group 4"/>
              <p:cNvGrpSpPr/>
              <p:nvPr/>
            </p:nvGrpSpPr>
            <p:grpSpPr>
              <a:xfrm>
                <a:off x="5364000" y="3501360"/>
                <a:ext cx="2952360" cy="2231280"/>
                <a:chOff x="5364000" y="3501360"/>
                <a:chExt cx="2952360" cy="2231280"/>
              </a:xfrm>
            </p:grpSpPr>
            <p:sp>
              <p:nvSpPr>
                <p:cNvPr id="255" name="Text Box 4"/>
                <p:cNvSpPr/>
                <p:nvPr/>
              </p:nvSpPr>
              <p:spPr>
                <a:xfrm>
                  <a:off x="5364000" y="5333760"/>
                  <a:ext cx="1584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ff"/>
                      </a:solidFill>
                      <a:latin typeface="Calibri"/>
                    </a:rPr>
                    <a:t>a)</a:t>
                  </a:r>
                  <a:r>
                    <a:rPr b="1" lang="en-GB" sz="2000" spc="-1" strike="noStrike">
                      <a:solidFill>
                        <a:srgbClr val="0000ff"/>
                      </a:solidFill>
                      <a:latin typeface="Constantia"/>
                    </a:rPr>
                    <a:t> </a:t>
                  </a:r>
                  <a:r>
                    <a:rPr b="1" lang="en-US" sz="2000" spc="-1" strike="noStrike">
                      <a:solidFill>
                        <a:srgbClr val="0000ff"/>
                      </a:solidFill>
                      <a:latin typeface="Constantia"/>
                    </a:rPr>
                    <a:t>Skeletal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6" name="Group 10"/>
                <p:cNvGrpSpPr/>
                <p:nvPr/>
              </p:nvGrpSpPr>
              <p:grpSpPr>
                <a:xfrm>
                  <a:off x="6155640" y="3501360"/>
                  <a:ext cx="2160720" cy="419040"/>
                  <a:chOff x="6155640" y="3501360"/>
                  <a:chExt cx="2160720" cy="419040"/>
                </a:xfrm>
              </p:grpSpPr>
              <p:sp>
                <p:nvSpPr>
                  <p:cNvPr id="257" name="Line 11"/>
                  <p:cNvSpPr/>
                  <p:nvPr/>
                </p:nvSpPr>
                <p:spPr>
                  <a:xfrm>
                    <a:off x="6777720" y="3501360"/>
                    <a:ext cx="0" cy="4190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Line 12"/>
                  <p:cNvSpPr/>
                  <p:nvPr/>
                </p:nvSpPr>
                <p:spPr>
                  <a:xfrm>
                    <a:off x="6155640" y="3920400"/>
                    <a:ext cx="21607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9" name="Line 14"/>
              <p:cNvSpPr/>
              <p:nvPr/>
            </p:nvSpPr>
            <p:spPr>
              <a:xfrm>
                <a:off x="7236360" y="3933360"/>
                <a:ext cx="0" cy="731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14"/>
              <p:cNvSpPr/>
              <p:nvPr/>
            </p:nvSpPr>
            <p:spPr>
              <a:xfrm>
                <a:off x="8316720" y="3915720"/>
                <a:ext cx="0" cy="14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14"/>
              <p:cNvSpPr/>
              <p:nvPr/>
            </p:nvSpPr>
            <p:spPr>
              <a:xfrm>
                <a:off x="6155280" y="3915720"/>
                <a:ext cx="0" cy="14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 Box 4"/>
              <p:cNvSpPr/>
              <p:nvPr/>
            </p:nvSpPr>
            <p:spPr>
              <a:xfrm>
                <a:off x="6481800" y="4654440"/>
                <a:ext cx="1546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b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Cardia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 Box 4"/>
              <p:cNvSpPr/>
              <p:nvPr/>
            </p:nvSpPr>
            <p:spPr>
              <a:xfrm>
                <a:off x="7616880" y="5333760"/>
                <a:ext cx="141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Calibri"/>
                  </a:rPr>
                  <a:t>c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Smooth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3"/>
          <p:cNvSpPr/>
          <p:nvPr/>
        </p:nvSpPr>
        <p:spPr>
          <a:xfrm>
            <a:off x="0" y="304920"/>
            <a:ext cx="9155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ff"/>
                </a:solidFill>
                <a:latin typeface="Calibri"/>
                <a:ea typeface="Arial"/>
              </a:rPr>
              <a:t>2- </a:t>
            </a:r>
            <a:r>
              <a:rPr b="1" lang="en-US" sz="3700" spc="-1" strike="noStrike">
                <a:solidFill>
                  <a:srgbClr val="0000ff"/>
                </a:solidFill>
                <a:latin typeface="Constantia"/>
                <a:ea typeface="Arial"/>
              </a:rPr>
              <a:t>Skeletal Connective Tissues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نسجة الضامة الهيكل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52280" y="1295280"/>
            <a:ext cx="2971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A- </a:t>
            </a:r>
            <a:r>
              <a:rPr b="1" lang="en-US" sz="3000" spc="-1" strike="noStrike" u="sng">
                <a:solidFill>
                  <a:srgbClr val="0000ff"/>
                </a:solidFill>
                <a:uFillTx/>
                <a:latin typeface="Constantia"/>
                <a:ea typeface="Arial"/>
              </a:rPr>
              <a:t>Bone </a:t>
            </a:r>
            <a:r>
              <a:rPr b="1" lang="ar-SA" sz="2000" spc="-1" strike="noStrike" u="sng">
                <a:solidFill>
                  <a:srgbClr val="ff0000"/>
                </a:solidFill>
                <a:uFillTx/>
                <a:latin typeface="Constantia"/>
                <a:cs typeface="Majalla UI"/>
              </a:rPr>
              <a:t>العظ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76320" y="1905120"/>
            <a:ext cx="49528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Produces solid matrix of calcium phosphate and collagen fi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Each osteon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حافظ عظمية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Haversian systems) has a central canal containing blood vessels and ner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Bone is harder than cartil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 functions of bone are support, movement, protection of internal organs, mineral storage (calcium, phosphate) and blood cell develop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4" descr="https://kel-tay-lii.wikispaces.com/file/view/osteon2.jpg/298895502/799x294/osteon2.jpg"/>
          <p:cNvPicPr/>
          <p:nvPr/>
        </p:nvPicPr>
        <p:blipFill>
          <a:blip r:embed="rId1"/>
          <a:srcRect l="59886" t="12775" r="1620" b="15652"/>
          <a:stretch/>
        </p:blipFill>
        <p:spPr>
          <a:xfrm>
            <a:off x="5603760" y="1184400"/>
            <a:ext cx="2930760" cy="200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9" name="Picture 18" descr="Transverse Section Of Bone.png"/>
          <p:cNvPicPr/>
          <p:nvPr/>
        </p:nvPicPr>
        <p:blipFill>
          <a:blip r:embed="rId2"/>
          <a:stretch/>
        </p:blipFill>
        <p:spPr>
          <a:xfrm>
            <a:off x="5105520" y="3292560"/>
            <a:ext cx="3962160" cy="346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152280" y="304920"/>
            <a:ext cx="3429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B- </a:t>
            </a:r>
            <a:r>
              <a:rPr b="1" lang="en-US" sz="3000" spc="-1" strike="noStrike" u="sng">
                <a:solidFill>
                  <a:srgbClr val="0000ff"/>
                </a:solidFill>
                <a:uFillTx/>
                <a:latin typeface="Constantia"/>
                <a:ea typeface="Arial"/>
              </a:rPr>
              <a:t>Cartilage </a:t>
            </a:r>
            <a:r>
              <a:rPr b="1" lang="ar-SA" sz="2000" spc="-1" strike="noStrike" u="sng">
                <a:solidFill>
                  <a:srgbClr val="ff0000"/>
                </a:solidFill>
                <a:uFillTx/>
                <a:latin typeface="Constantia"/>
                <a:cs typeface="Majalla UI"/>
              </a:rPr>
              <a:t>الغضرو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"/>
          <p:cNvSpPr/>
          <p:nvPr/>
        </p:nvSpPr>
        <p:spPr>
          <a:xfrm>
            <a:off x="76320" y="1447920"/>
            <a:ext cx="48006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Support soft tissues (nose, ear, trachea and vertebral disc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Sliding areas for joints, facilitat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تسهيل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bone mov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 mature cell in cartilage is a chondrocyt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خلية غضروف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Cells are found in Lacuna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فجوات (ثغور)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within the matr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Fibers may be elastic or non-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histology of hyaline"/>
          <p:cNvPicPr/>
          <p:nvPr/>
        </p:nvPicPr>
        <p:blipFill>
          <a:blip r:embed="rId1"/>
          <a:stretch/>
        </p:blipFill>
        <p:spPr>
          <a:xfrm>
            <a:off x="5151600" y="4010040"/>
            <a:ext cx="3840120" cy="27432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http://medcell.med.yale.edu/histology/connective_tissue_lab/images/hyaline_cartilage.jpg"/>
          <p:cNvPicPr/>
          <p:nvPr/>
        </p:nvPicPr>
        <p:blipFill>
          <a:blip r:embed="rId2"/>
          <a:stretch/>
        </p:blipFill>
        <p:spPr>
          <a:xfrm>
            <a:off x="5151600" y="1162080"/>
            <a:ext cx="3840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0" y="304920"/>
            <a:ext cx="9155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  <a:ea typeface="Arial"/>
              </a:rPr>
              <a:t>3- </a:t>
            </a: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Blood (Vascular Tissue)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دم (النسيج الوعائي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"/>
          <p:cNvSpPr/>
          <p:nvPr/>
        </p:nvSpPr>
        <p:spPr>
          <a:xfrm>
            <a:off x="76320" y="1341360"/>
            <a:ext cx="525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2880" indent="-272880" algn="just">
              <a:lnSpc>
                <a:spcPct val="120000"/>
              </a:lnSpc>
              <a:buClr>
                <a:srgbClr val="00b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 matrix is a liquid calle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plasma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55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%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2880" indent="-272880" algn="just">
              <a:lnSpc>
                <a:spcPct val="120000"/>
              </a:lnSpc>
              <a:buClr>
                <a:srgbClr val="ffc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90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%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2880" indent="-272880" algn="just">
              <a:lnSpc>
                <a:spcPct val="120000"/>
              </a:lnSpc>
              <a:buClr>
                <a:srgbClr val="ffc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% proteins, hormones, vitamins, nutrients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re are three types of blood cells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45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%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228600" y="3622680"/>
          <a:ext cx="4572000" cy="27781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Blood cel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un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Erythrocyte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Red Blood Cell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arry oxy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Leucocyte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White Blood Cell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fense against micro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latelet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lood clot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pic>
        <p:nvPicPr>
          <p:cNvPr id="279" name="Picture 25" descr="Blood Tissue"/>
          <p:cNvPicPr/>
          <p:nvPr/>
        </p:nvPicPr>
        <p:blipFill>
          <a:blip r:embed="rId1"/>
          <a:stretch/>
        </p:blipFill>
        <p:spPr>
          <a:xfrm>
            <a:off x="4978440" y="3695760"/>
            <a:ext cx="4013280" cy="3009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0" name="Picture 6" descr="&#13;platelets.jpg                                                  00025923_x000c_Macintosh HD                   ABA78158:"/>
          <p:cNvPicPr/>
          <p:nvPr/>
        </p:nvPicPr>
        <p:blipFill>
          <a:blip r:embed="rId2"/>
          <a:stretch/>
        </p:blipFill>
        <p:spPr>
          <a:xfrm>
            <a:off x="5334120" y="1371600"/>
            <a:ext cx="3657600" cy="2208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45720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Third: Muscular tissues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نسجة</a:t>
            </a:r>
            <a:r>
              <a:rPr b="1" lang="ar-SA" sz="4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عضل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76320" y="1371600"/>
            <a:ext cx="8839080" cy="25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Arial"/>
              </a:rPr>
              <a:t>Characterized by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تميز بما يل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Tissue with cells having muscle fibers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ألياف عضلية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specialized for contraction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الانقباض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It has large numbers of myofibrils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لُيَيفات عضلية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made of the contractile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Arial"/>
              </a:rPr>
              <a:t>المنقبض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proteins 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  <a:ea typeface="Arial"/>
              </a:rPr>
              <a:t>actin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كتين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and 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  <a:ea typeface="Arial"/>
              </a:rPr>
              <a:t>myosin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الميوسين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3"/>
          <p:cNvSpPr/>
          <p:nvPr/>
        </p:nvSpPr>
        <p:spPr>
          <a:xfrm>
            <a:off x="0" y="304920"/>
            <a:ext cx="906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ff"/>
                </a:solidFill>
                <a:latin typeface="Constantia"/>
                <a:ea typeface="Arial"/>
              </a:rPr>
              <a:t>Types of Muscular Tissu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320" y="1197000"/>
            <a:ext cx="8991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re are three types of muscular tissues in the vertebrate bod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1-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Skeletal Muscle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عضلات الهيكل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t attaches to bones by tendon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وتار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sponsible for voluntary movement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حركات الإراد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so called striated muscle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عضلات مخطط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2-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Cardiac muscle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عضلات القلبي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t is found in the wall  of the hear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ardiac muscles are branche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tercalated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isc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قراص البين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3- Smooth muscle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عضلات الملساء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o stria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t is found in the walls of the digestive system, urinary bladder, arteries, and other internal orga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shape of the cells are spindle-shaped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شكل المغزلي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http://www.mun.ca/biology/mcolbo/Lectures%2012,13,14/40-04-VertebrateMuscles-L.gif"/>
          <p:cNvPicPr/>
          <p:nvPr/>
        </p:nvPicPr>
        <p:blipFill>
          <a:blip r:embed="rId1"/>
          <a:srcRect l="0" t="0" r="0" b="3315"/>
          <a:stretch/>
        </p:blipFill>
        <p:spPr>
          <a:xfrm>
            <a:off x="179280" y="534960"/>
            <a:ext cx="8702640" cy="5918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3"/>
          <p:cNvSpPr/>
          <p:nvPr/>
        </p:nvSpPr>
        <p:spPr>
          <a:xfrm>
            <a:off x="457200" y="3715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Fourth: Nervous tissues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نسجة</a:t>
            </a:r>
            <a:r>
              <a:rPr b="1" lang="ar-SA" sz="4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عصب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5"/>
          <p:cNvSpPr/>
          <p:nvPr/>
        </p:nvSpPr>
        <p:spPr>
          <a:xfrm>
            <a:off x="152280" y="105264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75960" y="1371600"/>
            <a:ext cx="8839080" cy="55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ervous tissue is the main component of the nervous syste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functional unit of nervous tissue is th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neuron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نيورون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or nerve cel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t consists of three parts: a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cell body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جسم الخلي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a singl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axon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محور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dendrite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زوائد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عصب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ndrites transmit nerve impulses from their tips toward the rest of the neur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xons transmit impulses toward another neuron, muscles or gland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6" descr="http://faculty.harford.edu/faculty/wrappazzo/a_oldsite/tissue%20lab/tissue%20lab%20photos/neuron.gif"/>
          <p:cNvPicPr/>
          <p:nvPr/>
        </p:nvPicPr>
        <p:blipFill>
          <a:blip r:embed="rId1"/>
          <a:stretch/>
        </p:blipFill>
        <p:spPr>
          <a:xfrm>
            <a:off x="179280" y="114480"/>
            <a:ext cx="3390840" cy="266688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3"/>
          <p:cNvGrpSpPr/>
          <p:nvPr/>
        </p:nvGrpSpPr>
        <p:grpSpPr>
          <a:xfrm>
            <a:off x="985680" y="2890800"/>
            <a:ext cx="7115400" cy="3851280"/>
            <a:chOff x="985680" y="2890800"/>
            <a:chExt cx="7115400" cy="3851280"/>
          </a:xfrm>
        </p:grpSpPr>
        <p:pic>
          <p:nvPicPr>
            <p:cNvPr id="293" name="Picture 10" descr="https://classconnection.s3.amazonaws.com/896/flashcards/797896/png/screen_shot_2012-02-18_at_7.30.36_pm1329611500829.png"/>
            <p:cNvPicPr/>
            <p:nvPr/>
          </p:nvPicPr>
          <p:blipFill>
            <a:blip r:embed="rId2"/>
            <a:stretch/>
          </p:blipFill>
          <p:spPr>
            <a:xfrm>
              <a:off x="985680" y="2925000"/>
              <a:ext cx="7115400" cy="381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TextBox 2"/>
            <p:cNvSpPr/>
            <p:nvPr/>
          </p:nvSpPr>
          <p:spPr>
            <a:xfrm>
              <a:off x="1692000" y="2890800"/>
              <a:ext cx="1296000" cy="369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Box 9"/>
            <p:cNvSpPr/>
            <p:nvPr/>
          </p:nvSpPr>
          <p:spPr>
            <a:xfrm>
              <a:off x="3339000" y="3758040"/>
              <a:ext cx="1296000" cy="369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Box 10"/>
            <p:cNvSpPr/>
            <p:nvPr/>
          </p:nvSpPr>
          <p:spPr>
            <a:xfrm>
              <a:off x="4728960" y="6166080"/>
              <a:ext cx="901080" cy="369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3:03:59Z</dcterms:created>
  <dc:creator>Dr. A A</dc:creator>
  <dc:description/>
  <dc:language>en-US</dc:language>
  <cp:lastModifiedBy>Mohammed Albeshr</cp:lastModifiedBy>
  <dcterms:modified xsi:type="dcterms:W3CDTF">2017-11-04T18:36:39Z</dcterms:modified>
  <cp:revision>134</cp:revision>
  <dc:subject/>
  <dc:title>Slide 1</dc:title>
</cp:coreProperties>
</file>