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C3C-A355-4BFD-9AA1-CD65C3A2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8F0-B9D9-4D89-8322-F8EC2829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01B-6E74-45DC-852A-C5863AEC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D0A-4EB6-4645-8613-EEA60303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F0EC-DA0C-4955-A738-0C3B6D66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9F28-6820-4FD4-AB82-66185630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7467-C592-4F00-B207-BF825977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22A9-F32F-44EA-A5A8-25AA860D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ED67-6F00-4EAB-A9CD-7F181AD3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1DBE-5490-4601-99E9-B9F99F3A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51F7-4084-45C7-9504-FE867D66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4E2-60DB-4670-A721-254357AD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686E-7485-475F-ABF7-6497DE90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DFF2-DD42-464B-B76C-DE0E0C6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FA9C-AC26-4D3A-96AC-F534553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4925-3C41-4786-9FDE-3E1BA018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A430-34E3-43C4-9AA7-2684FA52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5E5C-6803-41A9-8B51-BAB2FFA8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58EB-18A7-4847-A52F-8A799A57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8491-2BD5-4170-B496-9895C997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B0C3-E232-4B3D-BC96-D509DB6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6B87-A1B9-4DAC-8133-D3683C9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7AA-77AA-4401-8C9C-8D534069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6144-C5AF-4357-A94E-115380AF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A27F-2ACB-467B-81F6-9FB1D678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E2D4-C11B-4F9C-82FA-D5D787D2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503F-756E-4252-8482-1E0E14D8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3970-B8C4-4D6A-B706-F34D052B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6E6F-9EFF-45E0-81CF-B48F97B6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3726-1A87-478E-BD2C-3E3D7AF1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8D5C3-3097-4AE2-BB51-C51DB0F2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4DBC1-EC7A-49DA-889C-07F99CF8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B9544-87A2-4AE0-BE9A-7A698CF4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0D9-C68C-4F06-9AF6-A2A3F2FB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0AE9D-F533-42D2-A240-2279F3B1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6256D-A730-4AC7-BF2C-EF7F9B7E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0B3CF-DD95-40BB-A45E-13358836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8AB9-DA73-4FF4-96A1-DF83D44A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A06A-21F0-4435-9D90-A8F56195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C89CD-E517-40D4-A6A0-0D3E865E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338E-C2B6-4DCE-AD13-1F457830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18D5B-7023-4248-A6A0-86DCBFC4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CADE7-DD46-4A05-8C48-2217A1BD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1BB-CD66-4F8E-AF2C-9BF0ADBA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31F-1DEF-46B5-A737-32109EE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094-6983-4144-B896-F535543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BCB-E5BD-4C36-834E-D94F693B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0E2-53E3-49BA-87FB-004D05E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8BB6-F824-4388-AC52-C2186AD5851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676F-2C60-4C88-9B14-655D568E316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EAC0-E3B3-41E0-9E42-3F70E304DED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CFD3-140E-4F12-B30C-7596993CD4E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د أشرف مشالي</cp:lastModifiedBy>
  <dcterms:modified xsi:type="dcterms:W3CDTF">2013-09-01T08:31:14Z</dcterms:modified>
  <cp:revision>45</cp:revision>
  <dc:subject/>
  <dc:title>Slide 1</dc:title>
</cp:coreProperties>
</file>