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5EF-2C94-47D8-917C-E61BF171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EDB-7FA5-415B-A8C5-1DAF634E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4F3-7303-426B-BD95-EBABA40E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DA1-0309-4617-A6F1-F8C8CD8E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57A3-F040-453A-85D3-1D7F347A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DD95-2457-4C80-818F-E1E71034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272F-7D87-4DAC-A136-FA2E7EB8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CBF6-B0AE-44B9-811F-7236F2FA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CCB2-4963-4B40-97DE-AF0F36E2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6D6C-0996-4A4F-81B1-A02D767C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F35F-0E73-4272-85A1-A39EE9E0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E0B-A6B1-43A7-AB54-CD99AFB1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388C-45C3-4B9B-ACA6-03BA30C4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BDF3-2840-4476-BFB7-C8B88498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7E55-C7D7-4AF3-9B9E-3C091013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CB1E-C466-4D6E-8F5E-21A64CB6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74BF-B94F-49D9-AB1F-0259842A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EFC76-B1E2-4A65-9AFD-652B4FF4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DF4F0-56C4-4610-B51A-DE0C827F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651FE-D58A-41D5-AF2C-E8C52661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A826-A357-4906-8F3C-EB7F74EB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E7651-799E-44A7-8B1B-09DAD1DE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849-4CB0-48C3-A82F-0D85A2AB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EC0B0-8FB0-4F74-A4B7-65CA919D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A5B16-AE49-4497-9FE3-975943CC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FD186-1214-453F-AEB4-E82DA16F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D4BCD-DD20-4937-813A-1C91E79C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E8ED-46B6-49F7-B990-82A0A72B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26AC4-806C-4BDA-8057-FD54159A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4DCA-6BBA-4E43-9E57-92F7F34C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238CF-836F-46AD-AD39-716AB747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FB47C-AAF8-493D-A170-B8A44992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578B9-E624-4DDF-8847-2F53B854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7E7-35E2-43C8-97A6-C49B0EA5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7EF57-A809-494E-8D0B-77952CA4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61873-EAAF-441E-A200-EAA5BCA2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7A112-BA05-4D28-BD0F-B08D6131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0089C-9908-4D32-923C-36AD22F7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7CDFA-2B33-4205-B9D7-6159DA96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1BFC0-DD3B-4F1E-9178-906B9496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3F441-15ED-48CB-8B04-B1013D07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76CAC-5DE4-47F0-8DFA-206B0695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2013E-9E11-4ED9-A444-41A05F13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1B0-8DA7-4093-ADA7-E145EA04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991-3147-4D3E-BA54-83A973B3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F33-2CFE-4EB7-A4E5-E8DE1B2E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620-4B4D-4883-A1C3-6C11B4D7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10A-5AEE-426F-BC7C-E3647FE7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B61D-2F0F-4118-AAD8-FFBBCD1443E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55BC-30A0-4FB2-B4EF-0DFF48397C8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A797-3359-4CD5-A483-E9D972181BF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0540-1D2A-4F84-BE3D-4AA9C120593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1280" y="774720"/>
            <a:ext cx="540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(3) Connective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04920" y="1662120"/>
            <a:ext cx="838188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nective tissue function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mainly to bin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upport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ve tissues have a population of cells scattere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an extracellular matrix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الوسط بين الخلو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trix generally consists of fiber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may be liquid, jellylike, or sol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most cases, the connective tissue cells secrete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atrix may b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l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one)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f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loose connective tissue),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liqu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lood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57280" y="222120"/>
            <a:ext cx="4114800" cy="56376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2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608040"/>
            <a:ext cx="83818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ervous tissu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nses stimuli and transmits signals from one part of the animal to anoth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functional unit of nervous tissue is 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uro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or nerv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consists of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ell bod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wo or more extensions, calle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endrit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xon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9" name="Group 12"/>
          <p:cNvGrpSpPr/>
          <p:nvPr/>
        </p:nvGrpSpPr>
        <p:grpSpPr>
          <a:xfrm>
            <a:off x="65160" y="2924280"/>
            <a:ext cx="9078840" cy="3773520"/>
            <a:chOff x="65160" y="2924280"/>
            <a:chExt cx="9078840" cy="3773520"/>
          </a:xfrm>
        </p:grpSpPr>
        <p:pic>
          <p:nvPicPr>
            <p:cNvPr id="250" name="Picture 4" descr=""/>
            <p:cNvPicPr/>
            <p:nvPr/>
          </p:nvPicPr>
          <p:blipFill>
            <a:blip r:embed="rId1"/>
            <a:stretch/>
          </p:blipFill>
          <p:spPr>
            <a:xfrm>
              <a:off x="65160" y="2997360"/>
              <a:ext cx="2922480" cy="36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1" name="Picture 7" descr=""/>
            <p:cNvPicPr/>
            <p:nvPr/>
          </p:nvPicPr>
          <p:blipFill>
            <a:blip r:embed="rId2"/>
            <a:srcRect l="0" t="0" r="-1616" b="4157"/>
            <a:stretch/>
          </p:blipFill>
          <p:spPr>
            <a:xfrm>
              <a:off x="3024360" y="2924280"/>
              <a:ext cx="611964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Oval 8"/>
            <p:cNvSpPr/>
            <p:nvPr/>
          </p:nvSpPr>
          <p:spPr>
            <a:xfrm>
              <a:off x="4127400" y="3103560"/>
              <a:ext cx="792360" cy="2160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"/>
            <p:cNvSpPr/>
            <p:nvPr/>
          </p:nvSpPr>
          <p:spPr>
            <a:xfrm>
              <a:off x="4292640" y="3916440"/>
              <a:ext cx="588960" cy="3603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0"/>
            <p:cNvSpPr/>
            <p:nvPr/>
          </p:nvSpPr>
          <p:spPr>
            <a:xfrm>
              <a:off x="4152960" y="518328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3157560" y="604692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395280" y="112536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drit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nerve impul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rom their tips toward the rest of the neu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xo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impulses toward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neuron or toward an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fect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uch as a muscl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39800"/>
            <a:ext cx="876312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re are three kinds of connective tissues fibers, which are all protei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Collagenous fibers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hit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كوللاجين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made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non-elasti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ير مرن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Elastic fibers (</a:t>
            </a:r>
            <a:r>
              <a:rPr b="1" lang="en-US" sz="2800" spc="-1" strike="noStrike">
                <a:solidFill>
                  <a:srgbClr val="ff9900"/>
                </a:solidFill>
                <a:latin typeface="Constantia"/>
              </a:rPr>
              <a:t>Yellow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 المرن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long threads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elast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provide a   rubbery qualit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Reticular fibe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شبكي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very thin and branched, and composed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It joins connective tissues to adjacent tissu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85840" y="928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560" y="1409760"/>
            <a:ext cx="8381880" cy="55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ajor types of connective tissues in vertebrates a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Lo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جو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Adip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ن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Fibrous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ليف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D)- Cartilag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E)- 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7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)- 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has a structure correlated with its specialized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04920" y="777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6443640" y="2349360"/>
            <a:ext cx="2016000" cy="1368720"/>
            <a:chOff x="6443640" y="2349360"/>
            <a:chExt cx="2016000" cy="1368720"/>
          </a:xfrm>
        </p:grpSpPr>
        <p:sp>
          <p:nvSpPr>
            <p:cNvPr id="203" name="AutoShape 6"/>
            <p:cNvSpPr/>
            <p:nvPr/>
          </p:nvSpPr>
          <p:spPr>
            <a:xfrm>
              <a:off x="6443640" y="2349360"/>
              <a:ext cx="216000" cy="136872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5640 h 1368720"/>
                <a:gd name="textAreaBottom" fmla="*/ 133308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6659640" y="285264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ضامة أصيل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2"/>
          <p:cNvGrpSpPr/>
          <p:nvPr/>
        </p:nvGrpSpPr>
        <p:grpSpPr>
          <a:xfrm>
            <a:off x="3780000" y="4292640"/>
            <a:ext cx="2087280" cy="936720"/>
            <a:chOff x="3780000" y="4292640"/>
            <a:chExt cx="2087280" cy="936720"/>
          </a:xfrm>
        </p:grpSpPr>
        <p:sp>
          <p:nvSpPr>
            <p:cNvPr id="206" name="AutoShape 7"/>
            <p:cNvSpPr/>
            <p:nvPr/>
          </p:nvSpPr>
          <p:spPr>
            <a:xfrm>
              <a:off x="3780000" y="4292640"/>
              <a:ext cx="215640" cy="93672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9"/>
            <p:cNvSpPr/>
            <p:nvPr/>
          </p:nvSpPr>
          <p:spPr>
            <a:xfrm>
              <a:off x="4067280" y="457524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هيكلي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"/>
          <p:cNvSpPr/>
          <p:nvPr/>
        </p:nvSpPr>
        <p:spPr>
          <a:xfrm>
            <a:off x="255600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أنسجة وعائية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51920" y="75384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Loose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فجو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ds epithelia to underlying tissues and functions a holding organs in pla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It has all three fiber typ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3429000"/>
            <a:ext cx="327672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ibroblast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خلايا لي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rete the protein ingredients of the extracellular fi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acrophages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خلايا بلعم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amoeboid cells that engulfing bacteria and the debris of dead cells by phagocy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4240" y="300024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omposes of two cell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3714840" y="2728800"/>
            <a:ext cx="5410080" cy="4057560"/>
            <a:chOff x="3714840" y="2728800"/>
            <a:chExt cx="5410080" cy="4057560"/>
          </a:xfrm>
        </p:grpSpPr>
        <p:pic>
          <p:nvPicPr>
            <p:cNvPr id="213" name="Picture 6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714840" y="272880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/>
            <p:cNvSpPr/>
            <p:nvPr/>
          </p:nvSpPr>
          <p:spPr>
            <a:xfrm>
              <a:off x="4933800" y="51861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4629240" y="6591240"/>
              <a:ext cx="1295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3571920" y="2286000"/>
            <a:ext cx="5562720" cy="4429080"/>
            <a:chOff x="3571920" y="2286000"/>
            <a:chExt cx="5562720" cy="4429080"/>
          </a:xfrm>
        </p:grpSpPr>
        <p:pic>
          <p:nvPicPr>
            <p:cNvPr id="21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571920" y="2448000"/>
              <a:ext cx="556272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4"/>
            <p:cNvSpPr/>
            <p:nvPr/>
          </p:nvSpPr>
          <p:spPr>
            <a:xfrm>
              <a:off x="6696360" y="2286000"/>
              <a:ext cx="3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7286760" y="3514680"/>
              <a:ext cx="914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214200" y="713880"/>
            <a:ext cx="83822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Adipos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دهن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a specialized form of loose connective tissues that store fat i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adipose cell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دهن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tributed throughout the matrix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28600" y="342900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ipose tissu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tores fu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fat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adipose cell contains a large fat droplet that swells when fat is stored and shrinks when the body uses fat as f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28600" y="29289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429000" y="1930320"/>
            <a:ext cx="5651280" cy="4784400"/>
            <a:chOff x="3429000" y="1930320"/>
            <a:chExt cx="5651280" cy="4784400"/>
          </a:xfrm>
        </p:grpSpPr>
        <p:pic>
          <p:nvPicPr>
            <p:cNvPr id="224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429000" y="1930320"/>
              <a:ext cx="5651280" cy="47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4"/>
            <p:cNvSpPr/>
            <p:nvPr/>
          </p:nvSpPr>
          <p:spPr>
            <a:xfrm>
              <a:off x="7222320" y="5875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6138720" y="6714720"/>
              <a:ext cx="1470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 txBox="1"/>
          <p:nvPr/>
        </p:nvSpPr>
        <p:spPr>
          <a:xfrm>
            <a:off x="304920" y="713880"/>
            <a:ext cx="868680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95000"/>
              <a:buFont typeface="Constantia"/>
              <a:buAutoNum type="alpha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Fibrous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ليف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dense, due to its large number of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lagenous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fibers are organized into parallel bundles making it stro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28600" y="39625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type of connective tissu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ttaching muscl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joining bon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t j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28600" y="3124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071880" y="1646280"/>
            <a:ext cx="6019200" cy="5140080"/>
            <a:chOff x="3071880" y="1646280"/>
            <a:chExt cx="6019200" cy="514008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071880" y="1646280"/>
              <a:ext cx="601920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8101800" y="5226120"/>
              <a:ext cx="42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"/>
            <p:cNvSpPr/>
            <p:nvPr/>
          </p:nvSpPr>
          <p:spPr>
            <a:xfrm>
              <a:off x="7440120" y="6012000"/>
              <a:ext cx="57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304560" y="749160"/>
            <a:ext cx="845820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tilag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has an abundance of collagenous fibers embedded in a rubbery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79280" y="291456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ondrocyte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غضرو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making cartilage flexible support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cartilage in nose, ears, and vertebral d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124080" y="1933560"/>
            <a:ext cx="6019920" cy="4852800"/>
            <a:chOff x="3124080" y="1933560"/>
            <a:chExt cx="6019920" cy="485280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124080" y="1933560"/>
              <a:ext cx="6019920" cy="48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3659040" y="468648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3886200" y="5036400"/>
              <a:ext cx="577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304560" y="588600"/>
            <a:ext cx="83818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keleton supporting most vertebrates is made of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mineralized connective tissue. This bone c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ntains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osteobla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لايا العظم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eposit a matrix of collage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1280" y="2311560"/>
            <a:ext cx="281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ne is harder than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mammalian bones consists of repeating unit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steo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محافظ عظم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Haversian syst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osteon has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entral ca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aining blood vessels and nerves that service the 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3124080" y="213840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6934320" y="426708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7010280" y="4572000"/>
            <a:ext cx="57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560" y="636480"/>
            <a:ext cx="838188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Vascular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unctions differently from other connective tissues, but it does have an extensive extra-cellular matrix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matrix is a liquid called plasma, consisting of water, salts, and a variety of dissolved protei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71280" y="2562120"/>
            <a:ext cx="349092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ypes of blood cells a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Erythr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red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Leuk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white bloo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late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unctions of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 cells carry oxy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te cells function i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ense  against microb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elets help in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ot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03:59Z</dcterms:created>
  <dc:creator>Dr. A A</dc:creator>
  <dc:description/>
  <dc:language>en-US</dc:language>
  <cp:lastModifiedBy>د أشرف مشالي</cp:lastModifiedBy>
  <dcterms:modified xsi:type="dcterms:W3CDTF">2013-09-01T08:31:14Z</dcterms:modified>
  <cp:revision>45</cp:revision>
  <dc:subject/>
  <dc:title>Slide 1</dc:title>
</cp:coreProperties>
</file>