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1942-493F-4D22-B914-FA3C4003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75F6-BFD1-4CA4-AA7A-2CC17C59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94A0-28A3-48B6-BCC8-E0DD67D8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099E-BF17-437D-BD97-8D65C74A6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1F65-BBB0-4DF7-9BB9-BE9B5DF2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4ACA-A996-4D4B-991C-815F0370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D068-933A-4B68-BE00-DCA0301A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3FB9-D623-496C-A968-AF34D3DB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ECD3-E473-497C-9D6C-FAF68431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E4D5-A16C-4215-B5E4-EE210952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29E2-E85C-46B7-9E4B-74D8C0CB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6893-82BB-47DA-8AEB-3D3D84EE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F473-B695-46B2-859E-17C063F3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313A-64F9-42B5-A161-160F34F5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FF8B-4D92-4E32-9986-0B9E32E5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4738-128B-4F27-862F-8514E64F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AFE2-F8E1-413E-9A6E-AF204E54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1F16A-A8B9-4BCC-A9CA-530AF1FE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1BFC1-B5F8-4EC5-B62D-78177FDB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AFC39-2445-43CB-BBE6-2E5AEE12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CA26F-2A42-4D5D-993F-4D1E85A6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05074-35FA-4926-B100-8A539D02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08AE-48EC-4A7E-A3E6-A372756E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3531B-F0A3-467C-8FDB-E63521C5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48723-4E69-4A9F-8E26-D02D5434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F2493-9902-41B1-926C-14A89364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30A85-1F7D-481C-AF40-F8417A55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29AF5-6099-4E11-AB27-FE81AE79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E0499-914B-4532-B25D-9A95A69B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EFD70-94CE-413B-BD02-C6ACC01B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ED741-CC5A-4B56-AAED-20702661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06402-9434-44F7-A952-99C44FE8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527DD-9F5E-42D7-BFFA-EF88AF87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8387-FC18-4BCE-8267-30068699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B1E63-5869-43A4-A07B-9C171243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4A23A-2781-4024-B80A-09FC5252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26811-54E3-49DE-9A04-9D01E39B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68CE4-F74B-4B05-A52C-F7197F36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844FE-D53E-4362-B17E-E2F39DFB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E91E5-EAB1-4270-8793-80E91DA6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A196B-0F8E-454D-BB6C-74B407AB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68DCB-C4A4-4122-BA21-C4D356CD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7C71B-9F09-4B13-9AB8-75520241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D682-DFFE-45E9-A21D-27A8D8B2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A3F0-2E74-40B6-8189-B5C768CF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9D39-134F-4C47-A676-5DA46C10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46D3-00A5-4B27-BBFC-1F94095E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8161-2C5E-47D3-A4F3-07ADF0F0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9462-46ED-49AB-9DF5-A57AC6F428A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867F-2F44-4AC1-87BE-89FC71792CFD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1285-F2D4-47E8-A4BD-2AB124056555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50B6-1E8A-4F1A-A91C-8D2BECF37D62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71280" y="774720"/>
            <a:ext cx="5400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(3) Connective T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04920" y="1662120"/>
            <a:ext cx="8381880" cy="51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nective tissue functions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mainly to bind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upport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t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nective tissues have a population of cells scattered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مبعث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an extracellular matrix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الوسط بين الخلوي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atrix generally consists of fiber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أليا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at may be liquid, jellylike, or sol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most cases, the connective tissue cells secrete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atrix may b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ol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bone)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of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loose connective tissue),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liqu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blood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357280" y="222120"/>
            <a:ext cx="4114800" cy="563760"/>
          </a:xfrm>
          <a:prstGeom prst="rect">
            <a:avLst/>
          </a:prstGeom>
          <a:solidFill>
            <a:srgbClr val="21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2: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Animal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rcRect l="0" t="0" r="0" b="4017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608040"/>
            <a:ext cx="8381880" cy="25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rabicPeriod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Nervous tissue</a:t>
            </a:r>
            <a:r>
              <a:rPr b="1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enses stimuli and transmits signals from one part of the animal to anoth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functional unit of nervous tissue is th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euron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or nerv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t consists of a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ell body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two or more extensions, calle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dendrit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xon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9" name="Group 12"/>
          <p:cNvGrpSpPr/>
          <p:nvPr/>
        </p:nvGrpSpPr>
        <p:grpSpPr>
          <a:xfrm>
            <a:off x="65160" y="2924280"/>
            <a:ext cx="9078840" cy="3773520"/>
            <a:chOff x="65160" y="2924280"/>
            <a:chExt cx="9078840" cy="3773520"/>
          </a:xfrm>
        </p:grpSpPr>
        <p:pic>
          <p:nvPicPr>
            <p:cNvPr id="250" name="Picture 4" descr=""/>
            <p:cNvPicPr/>
            <p:nvPr/>
          </p:nvPicPr>
          <p:blipFill>
            <a:blip r:embed="rId1"/>
            <a:stretch/>
          </p:blipFill>
          <p:spPr>
            <a:xfrm>
              <a:off x="65160" y="2997360"/>
              <a:ext cx="2922480" cy="3671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51" name="Picture 7" descr=""/>
            <p:cNvPicPr/>
            <p:nvPr/>
          </p:nvPicPr>
          <p:blipFill>
            <a:blip r:embed="rId2"/>
            <a:srcRect l="0" t="0" r="-1616" b="4157"/>
            <a:stretch/>
          </p:blipFill>
          <p:spPr>
            <a:xfrm>
              <a:off x="3024360" y="2924280"/>
              <a:ext cx="6119640" cy="37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Oval 8"/>
            <p:cNvSpPr/>
            <p:nvPr/>
          </p:nvSpPr>
          <p:spPr>
            <a:xfrm>
              <a:off x="4127400" y="3103560"/>
              <a:ext cx="792360" cy="21600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9"/>
            <p:cNvSpPr/>
            <p:nvPr/>
          </p:nvSpPr>
          <p:spPr>
            <a:xfrm>
              <a:off x="4292640" y="3916440"/>
              <a:ext cx="588960" cy="36036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0"/>
            <p:cNvSpPr/>
            <p:nvPr/>
          </p:nvSpPr>
          <p:spPr>
            <a:xfrm>
              <a:off x="4152960" y="5183280"/>
              <a:ext cx="588960" cy="21564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1"/>
            <p:cNvSpPr/>
            <p:nvPr/>
          </p:nvSpPr>
          <p:spPr>
            <a:xfrm>
              <a:off x="3157560" y="6046920"/>
              <a:ext cx="588960" cy="21564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"/>
          <p:cNvSpPr/>
          <p:nvPr/>
        </p:nvSpPr>
        <p:spPr>
          <a:xfrm>
            <a:off x="395280" y="1125360"/>
            <a:ext cx="84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drite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mit nerve impuls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from their tips toward the rest of the neu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xon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mit impulses toward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other neuron or toward an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ffect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such as a muscle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28600" y="1639800"/>
            <a:ext cx="876312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re are three kinds of connective tissues fibers, which are all protein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a)- Collagenous fibers 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white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)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الكوللاجين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made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collag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non-elastic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ير مرن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Elastic fibers (</a:t>
            </a:r>
            <a:r>
              <a:rPr b="1" lang="en-US" sz="2800" spc="-1" strike="noStrike">
                <a:solidFill>
                  <a:srgbClr val="ff9900"/>
                </a:solidFill>
                <a:latin typeface="Constantia"/>
              </a:rPr>
              <a:t>Yellow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)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 المرنة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long threads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elasti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which provide a   rubbery qualit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)- Reticular fiber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الشبكية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very thin and branched, and composed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collag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It joins connective tissues to adjacent tissu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85840" y="928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ypes of connective tissues 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04560" y="1409760"/>
            <a:ext cx="8381880" cy="55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major types of connective tissues in vertebrates ar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A)- Loose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جو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Adipose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هن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)- Fibrous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ليف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D)- Cartilag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ضروف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E)- Bon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ظم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</a:t>
            </a:r>
            <a:r>
              <a:rPr b="1" lang="en-US" sz="7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F)- Bloo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م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ach has a structure correlated with its specialized fun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04920" y="7779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ypes of connective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1"/>
          <p:cNvGrpSpPr/>
          <p:nvPr/>
        </p:nvGrpSpPr>
        <p:grpSpPr>
          <a:xfrm>
            <a:off x="6443640" y="2349360"/>
            <a:ext cx="2016000" cy="1368720"/>
            <a:chOff x="6443640" y="2349360"/>
            <a:chExt cx="2016000" cy="1368720"/>
          </a:xfrm>
        </p:grpSpPr>
        <p:sp>
          <p:nvSpPr>
            <p:cNvPr id="203" name="AutoShape 6"/>
            <p:cNvSpPr/>
            <p:nvPr/>
          </p:nvSpPr>
          <p:spPr>
            <a:xfrm>
              <a:off x="6443640" y="2349360"/>
              <a:ext cx="216000" cy="136872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35640 h 1368720"/>
                <a:gd name="textAreaBottom" fmla="*/ 1333080 h 13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8"/>
            <p:cNvSpPr/>
            <p:nvPr/>
          </p:nvSpPr>
          <p:spPr>
            <a:xfrm>
              <a:off x="6659640" y="285264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أنسجة ضامة أصيلة</a:t>
              </a: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2"/>
          <p:cNvGrpSpPr/>
          <p:nvPr/>
        </p:nvGrpSpPr>
        <p:grpSpPr>
          <a:xfrm>
            <a:off x="3780000" y="4292640"/>
            <a:ext cx="2087280" cy="936720"/>
            <a:chOff x="3780000" y="4292640"/>
            <a:chExt cx="2087280" cy="936720"/>
          </a:xfrm>
        </p:grpSpPr>
        <p:sp>
          <p:nvSpPr>
            <p:cNvPr id="206" name="AutoShape 7"/>
            <p:cNvSpPr/>
            <p:nvPr/>
          </p:nvSpPr>
          <p:spPr>
            <a:xfrm>
              <a:off x="3780000" y="4292640"/>
              <a:ext cx="215640" cy="93672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24120 h 936720"/>
                <a:gd name="textAreaBottom" fmla="*/ 9126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9"/>
            <p:cNvSpPr/>
            <p:nvPr/>
          </p:nvSpPr>
          <p:spPr>
            <a:xfrm>
              <a:off x="4067280" y="457524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أنسجة هيكلية</a:t>
              </a: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10"/>
          <p:cNvSpPr/>
          <p:nvPr/>
        </p:nvSpPr>
        <p:spPr>
          <a:xfrm>
            <a:off x="2556000" y="5877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أنسجة وعائية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51920" y="75384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SzPct val="95000"/>
              <a:buFont typeface="Constantia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Loose connectiv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ضام الفجو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nds epithelia to underlying tissues and functions a holding organs in plac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It has all three fiber typ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280" y="3429000"/>
            <a:ext cx="327672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ibroblast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خلايا ليف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rete the protein ingredients of the extracellular fi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Macrophages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خلايا بلعم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amoeboid cells that engulfing bacteria and the debris of dead cells by phagocyt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4240" y="3000240"/>
            <a:ext cx="39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omposes of two cell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"/>
          <p:cNvGrpSpPr/>
          <p:nvPr/>
        </p:nvGrpSpPr>
        <p:grpSpPr>
          <a:xfrm>
            <a:off x="3714840" y="2728800"/>
            <a:ext cx="5410080" cy="4057560"/>
            <a:chOff x="3714840" y="2728800"/>
            <a:chExt cx="5410080" cy="4057560"/>
          </a:xfrm>
        </p:grpSpPr>
        <p:pic>
          <p:nvPicPr>
            <p:cNvPr id="213" name="Picture 6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714840" y="2728800"/>
              <a:ext cx="5410080" cy="40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/>
            <p:cNvSpPr/>
            <p:nvPr/>
          </p:nvSpPr>
          <p:spPr>
            <a:xfrm>
              <a:off x="4933800" y="51861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8"/>
            <p:cNvSpPr/>
            <p:nvPr/>
          </p:nvSpPr>
          <p:spPr>
            <a:xfrm>
              <a:off x="4629240" y="6591240"/>
              <a:ext cx="1295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3571920" y="2286000"/>
            <a:ext cx="5562720" cy="4429080"/>
            <a:chOff x="3571920" y="2286000"/>
            <a:chExt cx="5562720" cy="4429080"/>
          </a:xfrm>
        </p:grpSpPr>
        <p:pic>
          <p:nvPicPr>
            <p:cNvPr id="217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571920" y="2448000"/>
              <a:ext cx="556272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4"/>
            <p:cNvSpPr/>
            <p:nvPr/>
          </p:nvSpPr>
          <p:spPr>
            <a:xfrm>
              <a:off x="6696360" y="2286000"/>
              <a:ext cx="39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>
              <a:off x="7286760" y="3514680"/>
              <a:ext cx="914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 txBox="1"/>
          <p:nvPr/>
        </p:nvSpPr>
        <p:spPr>
          <a:xfrm>
            <a:off x="214200" y="713880"/>
            <a:ext cx="83822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Adipos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دهن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is a specialized form of loose connective tissues that store fat i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adipose cell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لايا دهن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stributed throughout the matrix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28600" y="3429000"/>
            <a:ext cx="3200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27040" indent="-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ipose tissu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tores fu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s fat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adipose cell contains a large fat droplet that swells when fat is stored and shrinks when the body uses fat as fu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228600" y="292896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3429000" y="1930320"/>
            <a:ext cx="5651280" cy="4784400"/>
            <a:chOff x="3429000" y="1930320"/>
            <a:chExt cx="5651280" cy="4784400"/>
          </a:xfrm>
        </p:grpSpPr>
        <p:pic>
          <p:nvPicPr>
            <p:cNvPr id="224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429000" y="1930320"/>
              <a:ext cx="5651280" cy="47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4"/>
            <p:cNvSpPr/>
            <p:nvPr/>
          </p:nvSpPr>
          <p:spPr>
            <a:xfrm>
              <a:off x="7222320" y="587520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5"/>
            <p:cNvSpPr/>
            <p:nvPr/>
          </p:nvSpPr>
          <p:spPr>
            <a:xfrm>
              <a:off x="6138720" y="6714720"/>
              <a:ext cx="1470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 txBox="1"/>
          <p:nvPr/>
        </p:nvSpPr>
        <p:spPr>
          <a:xfrm>
            <a:off x="304920" y="713880"/>
            <a:ext cx="868680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SzPct val="95000"/>
              <a:buFont typeface="Constantia"/>
              <a:buAutoNum type="alphaU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Fibrous connectiv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ضام الليف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 is dense, due to its large number of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ollagenous fib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The fibers are organized into parallel bundles making it stro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228600" y="3962520"/>
            <a:ext cx="320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type of connective tissu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ttaching muscles to b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joining bones to b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t j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228600" y="31240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3071880" y="1646280"/>
            <a:ext cx="6019200" cy="5140080"/>
            <a:chOff x="3071880" y="1646280"/>
            <a:chExt cx="6019200" cy="5140080"/>
          </a:xfrm>
        </p:grpSpPr>
        <p:pic>
          <p:nvPicPr>
            <p:cNvPr id="231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071880" y="1646280"/>
              <a:ext cx="6019200" cy="51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4"/>
            <p:cNvSpPr/>
            <p:nvPr/>
          </p:nvSpPr>
          <p:spPr>
            <a:xfrm>
              <a:off x="8101800" y="5226120"/>
              <a:ext cx="42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5"/>
            <p:cNvSpPr/>
            <p:nvPr/>
          </p:nvSpPr>
          <p:spPr>
            <a:xfrm>
              <a:off x="7440120" y="6012000"/>
              <a:ext cx="5770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 txBox="1"/>
          <p:nvPr/>
        </p:nvSpPr>
        <p:spPr>
          <a:xfrm>
            <a:off x="304560" y="749160"/>
            <a:ext cx="845820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artilag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ضروف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Skeletal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 has an abundance of collagenous fibers embedded in a rubbery matrix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79280" y="2914560"/>
            <a:ext cx="2971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ondrocyte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خلايا الغضروف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ps making cartilage flexible support ma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cartilage in nose, ears, and vertebral d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3124080" y="1933560"/>
            <a:ext cx="6019920" cy="4852800"/>
            <a:chOff x="3124080" y="1933560"/>
            <a:chExt cx="6019920" cy="4852800"/>
          </a:xfrm>
        </p:grpSpPr>
        <p:pic>
          <p:nvPicPr>
            <p:cNvPr id="237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124080" y="1933560"/>
              <a:ext cx="6019920" cy="48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4"/>
            <p:cNvSpPr/>
            <p:nvPr/>
          </p:nvSpPr>
          <p:spPr>
            <a:xfrm>
              <a:off x="3659040" y="4686480"/>
              <a:ext cx="4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5"/>
            <p:cNvSpPr/>
            <p:nvPr/>
          </p:nvSpPr>
          <p:spPr>
            <a:xfrm>
              <a:off x="3886200" y="5036400"/>
              <a:ext cx="5778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 txBox="1"/>
          <p:nvPr/>
        </p:nvSpPr>
        <p:spPr>
          <a:xfrm>
            <a:off x="304560" y="588600"/>
            <a:ext cx="83818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on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ظ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Skeletal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keleton supporting most vertebrates is made of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bon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 mineralized connective tissue. This bone c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ntains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osteoblas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خلايا العظم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deposit a matrix of collage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71280" y="2311560"/>
            <a:ext cx="2819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ne is harder than carti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 mammalian bones consists of repeating units call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osteon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محافظ عظم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Haversian syste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53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osteon has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entral ca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ntaining blood vessels and nerves that service the 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rcRect l="0" t="0" r="0" b="4017"/>
          <a:stretch/>
        </p:blipFill>
        <p:spPr>
          <a:xfrm>
            <a:off x="3124080" y="2138400"/>
            <a:ext cx="6019920" cy="46483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6934320" y="426708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7010280" y="4572000"/>
            <a:ext cx="577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560" y="636480"/>
            <a:ext cx="838188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loo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م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Vascular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unctions differently from other connective tissues, but it does have an extensive extra-cellular matrix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e matrix is a liquid called plasma, consisting of water, salts, and a variety of dissolved protei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71280" y="2562120"/>
            <a:ext cx="349092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42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Types of blood cells a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Erythrocy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red bloo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cell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Leukocy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white bloo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cell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Platel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unctions of cel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 cells carry oxy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ite cells function i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ense  against microb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telets help in bloo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ot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3:03:59Z</dcterms:created>
  <dc:creator>Dr. A A</dc:creator>
  <dc:description/>
  <dc:language>en-US</dc:language>
  <cp:lastModifiedBy>د أشرف مشالي</cp:lastModifiedBy>
  <dcterms:modified xsi:type="dcterms:W3CDTF">2013-09-01T08:31:14Z</dcterms:modified>
  <cp:revision>45</cp:revision>
  <dc:subject/>
  <dc:title>Slide 1</dc:title>
</cp:coreProperties>
</file>