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00A-A965-44F9-82B8-2D75CCF8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6F4-F53A-4DDA-8C8B-B2C3AF8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605-74F6-4773-B709-AC78BE6E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C21-EDC1-44F9-88E3-7E561E4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941-697C-49BB-8242-B3B9CFE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F109-AAE5-43A2-97A5-A144828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6EF-A3D9-471A-82C0-6BC0702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9AB4-8B01-4BD8-964C-149F2F21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6F4-EC03-48CF-BCB8-32B46192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CA34-2E4D-4AB7-BCE5-D9FCD79E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E243-692C-47C9-8689-32C8980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896-796C-4B7F-8D78-B571431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D4A-C64E-4F67-B6C6-887431C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5B8-38F3-4DF3-8296-A32A306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ED48-4C2F-4008-A6B4-D8D0D2B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42DB-D2C1-4063-AF22-FC6C8F7D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728-FE58-43F8-B578-F0B3D13F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ECF1-5F70-49E6-B5B2-F2145E85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CFA4-C7D2-4010-B397-5A79BA2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1F65-E4EE-4938-A7AD-A9F65809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6A30-4495-4D2C-B604-AC15B70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DB4C-3D4D-4577-9088-383B759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8B2-E8A9-4F0E-B6CE-36F6264C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83BC-49D9-482C-A657-8619F8B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931D-056A-44AE-B986-3F61BD6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9016-E436-40C5-A119-82FAC18C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B3B3-86A3-4370-8CA1-F816212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10FA-819B-4FCD-A686-29D1A9E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D503-B7C0-43EF-A0DC-95931834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D345-53CC-4A60-ABA0-92163850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109F-88C2-4CF8-9E51-089E22F8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6E3D-338D-48ED-B873-79ADEA7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8F35-EF6E-424B-9C99-1B496DE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729-F460-4D28-90E8-52928A5F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6318-A899-42D8-B723-9FA95C7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3183-077B-4EF6-A2FE-647A286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864E-4431-4575-8CB3-91435EC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4660-169C-4980-A5EF-15604142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AED2-EB68-4B76-A32B-5B70E9E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B151-73E9-4D6D-82AB-995155E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A5E5-654E-4815-9FFB-BDE4EDC6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21BC-3C20-43B1-BED8-687AAD1E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5234-6A8A-43D7-A9E1-2F933962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049-4708-4E05-8398-F70A66C3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3D7-DCBD-47C4-8EE4-7F983A90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422-B67D-4C7F-BAF8-4F3B03B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C55-83D2-4BC4-97E9-1D940E7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819-CF3E-4D87-B914-AAC064A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BADB-9F7B-4B9B-AA9F-1FBB40F36EC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769-C88A-41BC-840C-E6877B6C2DD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61DE-AAA7-44E9-A7E0-C180B04F1F5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F51-9DDB-472F-A9DE-92FA5C98BFC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User</cp:lastModifiedBy>
  <dcterms:modified xsi:type="dcterms:W3CDTF">2014-08-27T10:20:21Z</dcterms:modified>
  <cp:revision>45</cp:revision>
  <dc:subject/>
  <dc:title>Slide 1</dc:title>
</cp:coreProperties>
</file>