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90BB-21A7-42C2-9100-3A846B987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3DB7-DC69-4B26-91AC-63B355DF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7DA3-7CB7-4BF4-926D-921ADF504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309E-390C-48FF-9069-2C7A98443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E231-1FFF-4FDF-A688-83420F006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1401-1A95-4746-9A28-7CD53331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20AA-FB32-4259-9AD9-D5D7CEB0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092B-9FBF-4E0B-AD8E-7D85A289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36C5-796F-4639-95E6-4F540DB6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EF2F-9983-41E7-AC30-7D1E2992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7708-75B2-4026-96AA-7A2628E6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A77A-3793-4142-8A31-49A7DB8B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9911-4BF2-4D9B-83D4-5125ED57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1D36-19BB-4123-900A-8EC7F38D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D6C4-1B09-4CBA-9FB0-20F1D455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A000-3CF2-4E93-A077-C57D4747D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1A96-109F-4E0A-A00F-2678B7E74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E6B3E-EC8C-471E-B8D9-F1AFF9B91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4ADE4-B243-45AB-A267-9A404E86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FC78C-BB6A-4F58-A0AD-3971EA70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6CE08-62E4-4B9D-99AC-A31E4413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53685-F375-4053-89CF-50FCC78D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CA75-E32F-4E2C-88E5-04E435B9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89E15-3588-4AB2-8B15-25CCFF6F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5121C-D30D-4D34-9395-F29F1FC8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18189-3CC8-4237-8EBD-9CA1A12A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62313-646D-45C2-B91A-8508423E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A9074-A544-4A7C-929F-1F99C9BA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1F11F-C629-479A-A08A-FD70D280C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EDBFD-634E-4D68-B4AA-E6B699813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E43F5-D679-490C-B1E3-4B11A3FFE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A0583-2D24-4FCA-8AB7-33DDF3CC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B935D-68E5-432F-B95A-52E01433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2E53-C9C9-4931-92DC-812C380F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CC9EB-B87A-4870-B7C6-F3C89730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F7737-D8D0-439B-B0D1-EF7B3678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6A1F1-9455-40BF-A66B-8EE9EBD8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CD2E1-494A-4F0A-89C8-6E2C509B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E255E-5CB2-4EB3-867E-2F2BBBB7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57308-E1C9-47CE-A5A8-F3A0A9CF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E318F-CD81-4E08-825D-ABE89E94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0A4CA-34C9-4AA2-9E87-7193A5272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CC4EC-E093-47AE-9AF5-2A4CFDBD3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F36E-A504-49F7-B3EF-319DAF8F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C121-4C10-4CA3-B2FE-97EC85CA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B8AD-0FF2-4CC2-842C-ED0E4E08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970B-6DC2-42AB-B426-8B6D67C3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A9D9-4174-4DD6-A91A-D8F80B13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0316-932A-4A31-BFEE-1A7A4ABC7574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D9E8-8564-469A-99C3-0528C58DA00D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127B-1225-4648-A727-8E44B45C15B1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BCA5-1E5C-44AA-AC63-0EE27F618B2F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71280" y="774720"/>
            <a:ext cx="5400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(3) Connective T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04920" y="1662120"/>
            <a:ext cx="8381880" cy="51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nective tissue functions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mainly to bind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ترب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support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دع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tiss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nective tissues have a population of cells scattered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cs typeface="Arial"/>
              </a:rPr>
              <a:t>مبعثر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rough an extracellular matrix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cs typeface="Arial"/>
              </a:rPr>
              <a:t>الوسط بين الخلوي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matrix generally consists of fibers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أليا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at may be liquid, jellylike, or sol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most cases, the connective tissue cells secrete the matr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matrix may b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ol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as in bone)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of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as in loose connective tissue), o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liqu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as in blood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2357280" y="222120"/>
            <a:ext cx="4114800" cy="563760"/>
          </a:xfrm>
          <a:prstGeom prst="rect">
            <a:avLst/>
          </a:prstGeom>
          <a:solidFill>
            <a:srgbClr val="21b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ecture 12: </a:t>
            </a:r>
            <a:r>
              <a:rPr b="1" lang="ar-SA" sz="2800" spc="-1" strike="noStrike">
                <a:solidFill>
                  <a:srgbClr val="ff0000"/>
                </a:solidFill>
                <a:latin typeface="Calibri"/>
                <a:ea typeface="Traditional Arabic"/>
              </a:rPr>
              <a:t>Animal 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rcRect l="0" t="0" r="0" b="4017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04560" y="608040"/>
            <a:ext cx="8381880" cy="253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rabicPeriod" startAt="4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Nervous tissue</a:t>
            </a:r>
            <a:r>
              <a:rPr b="1" lang="ar-SA" sz="2600" spc="-1" strike="noStrike">
                <a:solidFill>
                  <a:srgbClr val="ff0000"/>
                </a:solidFill>
                <a:latin typeface="Constantia"/>
                <a:ea typeface="Majalla UI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enses stimuli and transmits signals from one part of the animal to anoth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functional unit of nervous tissue is the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neuron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or nerve cell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t consists of a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cell body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nd two or more extensions, called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dendrit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xon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49" name="Group 12"/>
          <p:cNvGrpSpPr/>
          <p:nvPr/>
        </p:nvGrpSpPr>
        <p:grpSpPr>
          <a:xfrm>
            <a:off x="65160" y="2924280"/>
            <a:ext cx="9078840" cy="3773520"/>
            <a:chOff x="65160" y="2924280"/>
            <a:chExt cx="9078840" cy="3773520"/>
          </a:xfrm>
        </p:grpSpPr>
        <p:pic>
          <p:nvPicPr>
            <p:cNvPr id="250" name="Picture 4" descr=""/>
            <p:cNvPicPr/>
            <p:nvPr/>
          </p:nvPicPr>
          <p:blipFill>
            <a:blip r:embed="rId1"/>
            <a:stretch/>
          </p:blipFill>
          <p:spPr>
            <a:xfrm>
              <a:off x="65160" y="2997360"/>
              <a:ext cx="2922480" cy="3671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51" name="Picture 7" descr=""/>
            <p:cNvPicPr/>
            <p:nvPr/>
          </p:nvPicPr>
          <p:blipFill>
            <a:blip r:embed="rId2"/>
            <a:srcRect l="0" t="0" r="-1616" b="4157"/>
            <a:stretch/>
          </p:blipFill>
          <p:spPr>
            <a:xfrm>
              <a:off x="3024360" y="2924280"/>
              <a:ext cx="6119640" cy="377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Oval 8"/>
            <p:cNvSpPr/>
            <p:nvPr/>
          </p:nvSpPr>
          <p:spPr>
            <a:xfrm>
              <a:off x="4127400" y="3103560"/>
              <a:ext cx="792360" cy="21600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9"/>
            <p:cNvSpPr/>
            <p:nvPr/>
          </p:nvSpPr>
          <p:spPr>
            <a:xfrm>
              <a:off x="4292640" y="3916440"/>
              <a:ext cx="588960" cy="36036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0"/>
            <p:cNvSpPr/>
            <p:nvPr/>
          </p:nvSpPr>
          <p:spPr>
            <a:xfrm>
              <a:off x="4152960" y="5183280"/>
              <a:ext cx="588960" cy="21564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11"/>
            <p:cNvSpPr/>
            <p:nvPr/>
          </p:nvSpPr>
          <p:spPr>
            <a:xfrm>
              <a:off x="3157560" y="6046920"/>
              <a:ext cx="588960" cy="21564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4"/>
          <p:cNvSpPr/>
          <p:nvPr/>
        </p:nvSpPr>
        <p:spPr>
          <a:xfrm>
            <a:off x="395280" y="1125360"/>
            <a:ext cx="842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ndrite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nsmit nerve impuls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from their tips toward the rest of the neur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xon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nsmit impulses toward 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other neuron or toward an 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ffecto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such as a muscle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228600" y="1639800"/>
            <a:ext cx="876312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re are three kinds of connective tissues fibers, which are all protein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a)- Collagenous fibers 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white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) 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لياف الكوللاجين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 made of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collage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non-elastic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غير مرنة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b)- Elastic fibers (</a:t>
            </a:r>
            <a:r>
              <a:rPr b="1" lang="en-US" sz="2800" spc="-1" strike="noStrike">
                <a:solidFill>
                  <a:srgbClr val="ff9900"/>
                </a:solidFill>
                <a:latin typeface="Constantia"/>
              </a:rPr>
              <a:t>Yellow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)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لياف  المرنة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 long threads of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elasti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which provide a   rubbery qualit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c)- Reticular fiber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لياف الشبكية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 very thin and branched, and composed of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collage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It joins connective tissues to adjacent tissu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285840" y="9288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Types of connective tissues fi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04560" y="1409760"/>
            <a:ext cx="838188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major types of connective tissues in vertebrates ar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A)- Loose connective tissu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فجوي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B)- Adipose connective tissu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هني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C)- Fibrous connective tissu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ليفي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D)- Cartilag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غضروف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E)- Bon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عظم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7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</a:t>
            </a:r>
            <a:r>
              <a:rPr b="1" lang="en-US" sz="700" spc="-1" strike="noStrike">
                <a:solidFill>
                  <a:srgbClr val="0000ff"/>
                </a:solidFill>
                <a:latin typeface="Constantia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F)- Blood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م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ach has a structure correlated with its specialized func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304920" y="77796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Types of connective t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1"/>
          <p:cNvGrpSpPr/>
          <p:nvPr/>
        </p:nvGrpSpPr>
        <p:grpSpPr>
          <a:xfrm>
            <a:off x="6443640" y="2349360"/>
            <a:ext cx="2016000" cy="1368720"/>
            <a:chOff x="6443640" y="2349360"/>
            <a:chExt cx="2016000" cy="1368720"/>
          </a:xfrm>
        </p:grpSpPr>
        <p:sp>
          <p:nvSpPr>
            <p:cNvPr id="203" name="AutoShape 6"/>
            <p:cNvSpPr/>
            <p:nvPr/>
          </p:nvSpPr>
          <p:spPr>
            <a:xfrm>
              <a:off x="6443640" y="2349360"/>
              <a:ext cx="216000" cy="136872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35640 h 1368720"/>
                <a:gd name="textAreaBottom" fmla="*/ 1333080 h 13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8"/>
            <p:cNvSpPr/>
            <p:nvPr/>
          </p:nvSpPr>
          <p:spPr>
            <a:xfrm>
              <a:off x="6659640" y="285264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0000"/>
                  </a:solidFill>
                  <a:latin typeface="Arial"/>
                </a:rPr>
                <a:t>أنسجة ضامة أصيلة</a:t>
              </a:r>
              <a:r>
                <a:rPr b="1" lang="ar-SA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12"/>
          <p:cNvGrpSpPr/>
          <p:nvPr/>
        </p:nvGrpSpPr>
        <p:grpSpPr>
          <a:xfrm>
            <a:off x="3780000" y="4292640"/>
            <a:ext cx="2087280" cy="936720"/>
            <a:chOff x="3780000" y="4292640"/>
            <a:chExt cx="2087280" cy="936720"/>
          </a:xfrm>
        </p:grpSpPr>
        <p:sp>
          <p:nvSpPr>
            <p:cNvPr id="206" name="AutoShape 7"/>
            <p:cNvSpPr/>
            <p:nvPr/>
          </p:nvSpPr>
          <p:spPr>
            <a:xfrm>
              <a:off x="3780000" y="4292640"/>
              <a:ext cx="215640" cy="936720"/>
            </a:xfrm>
            <a:custGeom>
              <a:avLst/>
              <a:gdLst>
                <a:gd name="textAreaLeft" fmla="*/ 0 w 215640"/>
                <a:gd name="textAreaRight" fmla="*/ 77760 w 215640"/>
                <a:gd name="textAreaTop" fmla="*/ 24120 h 936720"/>
                <a:gd name="textAreaBottom" fmla="*/ 9126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9"/>
            <p:cNvSpPr/>
            <p:nvPr/>
          </p:nvSpPr>
          <p:spPr>
            <a:xfrm>
              <a:off x="4067280" y="4575240"/>
              <a:ext cx="18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0000"/>
                  </a:solidFill>
                  <a:latin typeface="Arial"/>
                </a:rPr>
                <a:t>أنسجة هيكلية</a:t>
              </a:r>
              <a:r>
                <a:rPr b="1" lang="ar-SA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 Box 10"/>
          <p:cNvSpPr/>
          <p:nvPr/>
        </p:nvSpPr>
        <p:spPr>
          <a:xfrm>
            <a:off x="2556000" y="5877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أنسجة وعائية</a:t>
            </a: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51920" y="753840"/>
            <a:ext cx="8001000" cy="262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SzPct val="95000"/>
              <a:buFont typeface="Constantia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onstantia"/>
              </a:rPr>
              <a:t>Loose connective tissue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النسيج الضام الفجوي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inds epithelia to underlying tissues and functions a holding organs in plac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It has all three fiber typ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52280" y="3429000"/>
            <a:ext cx="3276720" cy="32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Fibroblasts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cs typeface="Arial"/>
              </a:rPr>
              <a:t>خلايا ليف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rete the protein ingredients of the extracellular fi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Macrophages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خلايا بلعم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amoeboid cells that engulfing bacteria and the debris of dead cells by phagocyt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4240" y="3000240"/>
            <a:ext cx="39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composes of two cell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5"/>
          <p:cNvGrpSpPr/>
          <p:nvPr/>
        </p:nvGrpSpPr>
        <p:grpSpPr>
          <a:xfrm>
            <a:off x="3714840" y="2728800"/>
            <a:ext cx="5410080" cy="4057560"/>
            <a:chOff x="3714840" y="2728800"/>
            <a:chExt cx="5410080" cy="4057560"/>
          </a:xfrm>
        </p:grpSpPr>
        <p:pic>
          <p:nvPicPr>
            <p:cNvPr id="213" name="Picture 6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714840" y="2728800"/>
              <a:ext cx="5410080" cy="40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7"/>
            <p:cNvSpPr/>
            <p:nvPr/>
          </p:nvSpPr>
          <p:spPr>
            <a:xfrm>
              <a:off x="4933800" y="518616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8"/>
            <p:cNvSpPr/>
            <p:nvPr/>
          </p:nvSpPr>
          <p:spPr>
            <a:xfrm>
              <a:off x="4629240" y="6591240"/>
              <a:ext cx="1295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2"/>
          <p:cNvGrpSpPr/>
          <p:nvPr/>
        </p:nvGrpSpPr>
        <p:grpSpPr>
          <a:xfrm>
            <a:off x="3571920" y="2286000"/>
            <a:ext cx="5562720" cy="4429080"/>
            <a:chOff x="3571920" y="2286000"/>
            <a:chExt cx="5562720" cy="4429080"/>
          </a:xfrm>
        </p:grpSpPr>
        <p:pic>
          <p:nvPicPr>
            <p:cNvPr id="217" name="Picture 3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571920" y="2448000"/>
              <a:ext cx="556272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4"/>
            <p:cNvSpPr/>
            <p:nvPr/>
          </p:nvSpPr>
          <p:spPr>
            <a:xfrm>
              <a:off x="6696360" y="2286000"/>
              <a:ext cx="39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5"/>
            <p:cNvSpPr/>
            <p:nvPr/>
          </p:nvSpPr>
          <p:spPr>
            <a:xfrm>
              <a:off x="7286760" y="3514680"/>
              <a:ext cx="9144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 txBox="1"/>
          <p:nvPr/>
        </p:nvSpPr>
        <p:spPr>
          <a:xfrm>
            <a:off x="214200" y="713880"/>
            <a:ext cx="8382240" cy="18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U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Adipose tissue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النسيج الدهني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t is a specialized form of loose connective tissues that store fat in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adipose cell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خلايا دهن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istributed throughout the matrix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228600" y="3429000"/>
            <a:ext cx="3200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27040" indent="-4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ipose tissu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tores fu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s fat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4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adipose cell contains a large fat droplet that swells when fat is stored and shrinks when the body uses fat as fu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228600" y="292896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Fun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2"/>
          <p:cNvGrpSpPr/>
          <p:nvPr/>
        </p:nvGrpSpPr>
        <p:grpSpPr>
          <a:xfrm>
            <a:off x="3429000" y="1930320"/>
            <a:ext cx="5651280" cy="4784400"/>
            <a:chOff x="3429000" y="1930320"/>
            <a:chExt cx="5651280" cy="4784400"/>
          </a:xfrm>
        </p:grpSpPr>
        <p:pic>
          <p:nvPicPr>
            <p:cNvPr id="224" name="Picture 3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429000" y="1930320"/>
              <a:ext cx="5651280" cy="470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 Box 4"/>
            <p:cNvSpPr/>
            <p:nvPr/>
          </p:nvSpPr>
          <p:spPr>
            <a:xfrm>
              <a:off x="7222320" y="587520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5"/>
            <p:cNvSpPr/>
            <p:nvPr/>
          </p:nvSpPr>
          <p:spPr>
            <a:xfrm>
              <a:off x="6138720" y="6714720"/>
              <a:ext cx="14706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 txBox="1"/>
          <p:nvPr/>
        </p:nvSpPr>
        <p:spPr>
          <a:xfrm>
            <a:off x="304920" y="713880"/>
            <a:ext cx="8686800" cy="16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SzPct val="95000"/>
              <a:buFont typeface="Constantia"/>
              <a:buAutoNum type="alphaU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Fibrous connective tissue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النسيج الضام الليفي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t is dense, due to its large number of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collagenous fibe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The fibers are organized into parallel bundles making it strong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228600" y="3962520"/>
            <a:ext cx="320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type of connective tissu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attaching muscles to b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joining bones to b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t j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228600" y="31240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Fun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"/>
          <p:cNvGrpSpPr/>
          <p:nvPr/>
        </p:nvGrpSpPr>
        <p:grpSpPr>
          <a:xfrm>
            <a:off x="3071880" y="1646280"/>
            <a:ext cx="6019200" cy="5140080"/>
            <a:chOff x="3071880" y="1646280"/>
            <a:chExt cx="6019200" cy="5140080"/>
          </a:xfrm>
        </p:grpSpPr>
        <p:pic>
          <p:nvPicPr>
            <p:cNvPr id="231" name="Picture 3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071880" y="1646280"/>
              <a:ext cx="6019200" cy="51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4"/>
            <p:cNvSpPr/>
            <p:nvPr/>
          </p:nvSpPr>
          <p:spPr>
            <a:xfrm>
              <a:off x="8101800" y="5226120"/>
              <a:ext cx="42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5"/>
            <p:cNvSpPr/>
            <p:nvPr/>
          </p:nvSpPr>
          <p:spPr>
            <a:xfrm>
              <a:off x="7440120" y="6012000"/>
              <a:ext cx="5770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 txBox="1"/>
          <p:nvPr/>
        </p:nvSpPr>
        <p:spPr>
          <a:xfrm>
            <a:off x="304560" y="749160"/>
            <a:ext cx="8458200" cy="13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UcPeriod" startAt="4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artilag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غضروف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Skeletal Tissu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t has an abundance of collagenous fibers embedded in a rubbery matrix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179280" y="2914560"/>
            <a:ext cx="2971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hondrocytes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خلايا الغضروف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ps making cartilage flexible support mate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 have cartilage in nose, ears, and vertebral d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3124080" y="1933560"/>
            <a:ext cx="6019920" cy="4852800"/>
            <a:chOff x="3124080" y="1933560"/>
            <a:chExt cx="6019920" cy="4852800"/>
          </a:xfrm>
        </p:grpSpPr>
        <p:pic>
          <p:nvPicPr>
            <p:cNvPr id="237" name="Picture 3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124080" y="1933560"/>
              <a:ext cx="6019920" cy="48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4"/>
            <p:cNvSpPr/>
            <p:nvPr/>
          </p:nvSpPr>
          <p:spPr>
            <a:xfrm>
              <a:off x="3659040" y="4686480"/>
              <a:ext cx="42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5"/>
            <p:cNvSpPr/>
            <p:nvPr/>
          </p:nvSpPr>
          <p:spPr>
            <a:xfrm>
              <a:off x="3886200" y="5036400"/>
              <a:ext cx="5778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 txBox="1"/>
          <p:nvPr/>
        </p:nvSpPr>
        <p:spPr>
          <a:xfrm>
            <a:off x="304560" y="588600"/>
            <a:ext cx="838188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UcPeriod" startAt="5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Bon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عظم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Skeletal Tissu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skeleton supporting most vertebrates is made of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bon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 mineralized connective tissue. This bone c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ntains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osteoblas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خلايا العظمي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deposit a matrix of collage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71280" y="2311560"/>
            <a:ext cx="2819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4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ne is harder than cartil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4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d mammalian bones consists of repeating units calle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osteon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محافظ عظم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Haversian syste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53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osteon has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central ca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ontaining blood vessels and nerves that service the b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1"/>
          <a:srcRect l="0" t="0" r="0" b="4017"/>
          <a:stretch/>
        </p:blipFill>
        <p:spPr>
          <a:xfrm>
            <a:off x="3124080" y="2138400"/>
            <a:ext cx="6019920" cy="464832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3"/>
          <p:cNvSpPr/>
          <p:nvPr/>
        </p:nvSpPr>
        <p:spPr>
          <a:xfrm>
            <a:off x="6934320" y="4267080"/>
            <a:ext cx="4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7010280" y="4572000"/>
            <a:ext cx="577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560" y="636480"/>
            <a:ext cx="8381880" cy="20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UcPeriod" startAt="6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Blood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م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Vascular Tissu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unctions differently from other connective tissues, but it does have an extensive extra-cellular matrix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The matrix is a liquid called plasma, consisting of water, salts, and a variety of dissolved protein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71280" y="2562120"/>
            <a:ext cx="3490920" cy="34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4280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Types of blood cells a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Erythrocyt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(red bloo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cells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Leukocyt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(white blood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cell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Platele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Functions of cel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 cells carry oxy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hite cells function in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ense  against microb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telets help in bloo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lot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3:03:59Z</dcterms:created>
  <dc:creator>Dr. A A</dc:creator>
  <dc:description/>
  <dc:language>en-US</dc:language>
  <cp:lastModifiedBy>User</cp:lastModifiedBy>
  <dcterms:modified xsi:type="dcterms:W3CDTF">2014-08-27T10:20:21Z</dcterms:modified>
  <cp:revision>45</cp:revision>
  <dc:subject/>
  <dc:title>Slide 1</dc:title>
</cp:coreProperties>
</file>