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89D4-DC2C-468D-8155-65067BB84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95DA-7268-41B4-A2A7-06B37201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AC97-D0F3-42BD-A4B8-755591351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92BE-9E54-45EE-B2D2-E64779BB5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F943-6BBF-4803-B6C0-4130CB740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ECF0B-13F2-4FBF-AEEC-3BC7FFDC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9BB1-3D54-4E8D-8D3A-44D3DE8D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7EAE-BC40-444B-A90A-B7E6BDC6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5A74-0D6B-4E6C-B9E9-6688872A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CD32-420B-4648-B8C1-81E0E34A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9519-21D2-43E2-B7C0-48F0E700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754D-2F2F-47C8-AB58-A1A59F8D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133E-EBE6-40A8-8FE2-40DE165C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EAD1-4AEC-4379-BE8D-2FD58A42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0F5C-2BDF-4329-BC31-87182D10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97FF8-26E2-4A18-B0AE-34A1E1996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7C28-261A-4003-9378-65A13169D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642B5-3D4F-4AC2-9677-C5AED21EA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6B4E6-CBCC-466B-98E0-C628F5F0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48850-59D1-4E28-8BE7-967528BE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74A25-CE2A-4551-8BC9-8A1BF7DA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AC4AB-99FD-40F5-8E91-EABCC3C6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76D8-F2E5-4FA8-B8F2-848F11BE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25A1A-B89F-4E77-8CDE-D4B7FE8C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70C43-4D0D-4247-A0C9-55F38DD7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69A6A-9F63-4252-867F-A6F428B3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97E22-3C4D-4A0A-9333-861ABA7A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AD0FA-BB81-445E-B4E5-FF0AE154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AEAB1-8709-4B26-B3F2-08A628D75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646C4-8A28-4F3E-AFA2-2BA5B6CAD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8FB41-EFA4-4032-8AC4-27D9B11BF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F7801-946F-4644-8F97-A53C29AC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CA27F-0834-40BE-AB6A-33481D89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9ED1-90BE-43CF-AFF3-98283B74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F3A10-7C2A-45C5-AFAC-466D4A12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D0CCF-33B4-4767-BC66-EED71DB6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70334-7E5E-4820-AE63-1379F47D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B6294-E996-4587-9782-DA2D5A30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BF738-1804-4274-AE88-5813F1FB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6EB26-49E2-4B7A-800E-4A9C83D8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BE86E-8288-465C-8D38-64B88CDE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7F9CF-DA0A-4F21-B173-49D0C7965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7AB9B-C755-4EBA-8D16-CF88A85A5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CF3F-D9B0-42C9-A90E-DCE4B4AC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FF83-D8E7-4C0F-AEBC-C5E774D3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53CD-E389-48B0-957B-F075C5FA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7D59-1F3A-47A5-9D29-60709E1F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8E7D-8522-422A-B4C5-2462BF3D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1214-8E20-4A6B-B183-889BD9532AF9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76F1-C861-47B1-923B-B62F92FB6BD6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C117-043A-4010-B2B3-31FFCD2191E9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058B-EB3B-46A9-9DC4-4A70CBD7C584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71280" y="774720"/>
            <a:ext cx="5400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(3) Connective T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304920" y="1662120"/>
            <a:ext cx="8381880" cy="51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nective tissue functions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mainly to bind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ترب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support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دع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tiss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nective tissues have a population of cells scattered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  <a:cs typeface="Arial"/>
              </a:rPr>
              <a:t>مبعثر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rough an extracellular matrix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  <a:cs typeface="Arial"/>
              </a:rPr>
              <a:t>الوسط بين الخلوي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matrix generally consists of fibers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أليا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at may be liquid, jellylike, or sol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most cases, the connective tissue cells secrete the matri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matrix may b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ol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as in bone)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of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as in loose connective tissue), o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liqu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as in blood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2357280" y="222120"/>
            <a:ext cx="4114800" cy="563760"/>
          </a:xfrm>
          <a:prstGeom prst="rect">
            <a:avLst/>
          </a:prstGeom>
          <a:solidFill>
            <a:srgbClr val="21b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ecture 12: </a:t>
            </a:r>
            <a:r>
              <a:rPr b="1" lang="ar-SA" sz="2800" spc="-1" strike="noStrike">
                <a:solidFill>
                  <a:srgbClr val="ff0000"/>
                </a:solidFill>
                <a:latin typeface="Calibri"/>
                <a:ea typeface="Traditional Arabic"/>
              </a:rPr>
              <a:t>Animal 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rcRect l="0" t="0" r="0" b="4017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04560" y="608040"/>
            <a:ext cx="8381880" cy="25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rabicPeriod" startAt="4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Nervous tissue</a:t>
            </a:r>
            <a:r>
              <a:rPr b="1" lang="ar-SA" sz="2600" spc="-1" strike="noStrike">
                <a:solidFill>
                  <a:srgbClr val="ff0000"/>
                </a:solidFill>
                <a:latin typeface="Constantia"/>
                <a:ea typeface="Majalla UI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enses stimuli and transmits signals from one part of the animal to anoth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functional unit of nervous tissue is the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neuron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, or nerve cell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t consists of a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cell body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nd two or more extensions, called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dendrite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axon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49" name="Group 12"/>
          <p:cNvGrpSpPr/>
          <p:nvPr/>
        </p:nvGrpSpPr>
        <p:grpSpPr>
          <a:xfrm>
            <a:off x="65160" y="2924280"/>
            <a:ext cx="9078840" cy="3773520"/>
            <a:chOff x="65160" y="2924280"/>
            <a:chExt cx="9078840" cy="3773520"/>
          </a:xfrm>
        </p:grpSpPr>
        <p:pic>
          <p:nvPicPr>
            <p:cNvPr id="250" name="Picture 4" descr=""/>
            <p:cNvPicPr/>
            <p:nvPr/>
          </p:nvPicPr>
          <p:blipFill>
            <a:blip r:embed="rId1"/>
            <a:stretch/>
          </p:blipFill>
          <p:spPr>
            <a:xfrm>
              <a:off x="65160" y="2997360"/>
              <a:ext cx="2922480" cy="3671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51" name="Picture 7" descr=""/>
            <p:cNvPicPr/>
            <p:nvPr/>
          </p:nvPicPr>
          <p:blipFill>
            <a:blip r:embed="rId2"/>
            <a:srcRect l="0" t="0" r="-1616" b="4157"/>
            <a:stretch/>
          </p:blipFill>
          <p:spPr>
            <a:xfrm>
              <a:off x="3024360" y="2924280"/>
              <a:ext cx="6119640" cy="377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Oval 8"/>
            <p:cNvSpPr/>
            <p:nvPr/>
          </p:nvSpPr>
          <p:spPr>
            <a:xfrm>
              <a:off x="4127400" y="3103560"/>
              <a:ext cx="792360" cy="21600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9"/>
            <p:cNvSpPr/>
            <p:nvPr/>
          </p:nvSpPr>
          <p:spPr>
            <a:xfrm>
              <a:off x="4292640" y="3916440"/>
              <a:ext cx="588960" cy="36036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10"/>
            <p:cNvSpPr/>
            <p:nvPr/>
          </p:nvSpPr>
          <p:spPr>
            <a:xfrm>
              <a:off x="4152960" y="5183280"/>
              <a:ext cx="588960" cy="21564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11"/>
            <p:cNvSpPr/>
            <p:nvPr/>
          </p:nvSpPr>
          <p:spPr>
            <a:xfrm>
              <a:off x="3157560" y="6046920"/>
              <a:ext cx="588960" cy="21564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4"/>
          <p:cNvSpPr/>
          <p:nvPr/>
        </p:nvSpPr>
        <p:spPr>
          <a:xfrm>
            <a:off x="395280" y="1125360"/>
            <a:ext cx="842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ndrite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ansmit nerve impuls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from their tips toward the rest of the neur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xon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ansmit impulses toward 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other neuron or toward an 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ffecto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such as a muscle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228600" y="1639800"/>
            <a:ext cx="876312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re are three kinds of connective tissues fibers, which are all protein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a)- Collagenous fibers (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white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) 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لياف الكوللاجين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re made of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collage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non-elastic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غير مرنة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b)- Elastic fibers (</a:t>
            </a:r>
            <a:r>
              <a:rPr b="1" lang="en-US" sz="2800" spc="-1" strike="noStrike">
                <a:solidFill>
                  <a:srgbClr val="ff9900"/>
                </a:solidFill>
                <a:latin typeface="Constantia"/>
              </a:rPr>
              <a:t>Yellow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)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لياف  المرنة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re long threads of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elasti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which provide a   rubbery qualit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c)- Reticular fiber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لياف الشبكية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re very thin and branched, and composed of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collage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 It joins connective tissues to adjacent tissu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285840" y="9288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Types of connective tissues fi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04560" y="1409760"/>
            <a:ext cx="8381880" cy="55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major types of connective tissues in vertebrates ar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A)- Loose connective tissu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فجوي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B)- Adipose connective tissu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هني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C)- Fibrous connective tissu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ليفي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D)- Cartilag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غضروف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E)- Bon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عظم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7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</a:t>
            </a:r>
            <a:r>
              <a:rPr b="1" lang="en-US" sz="700" spc="-1" strike="noStrike">
                <a:solidFill>
                  <a:srgbClr val="0000ff"/>
                </a:solidFill>
                <a:latin typeface="Constantia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F)- Blood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م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Each has a structure correlated with its specialized func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304920" y="77796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Types of connective t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1"/>
          <p:cNvGrpSpPr/>
          <p:nvPr/>
        </p:nvGrpSpPr>
        <p:grpSpPr>
          <a:xfrm>
            <a:off x="6443640" y="2349360"/>
            <a:ext cx="2016000" cy="1368720"/>
            <a:chOff x="6443640" y="2349360"/>
            <a:chExt cx="2016000" cy="1368720"/>
          </a:xfrm>
        </p:grpSpPr>
        <p:sp>
          <p:nvSpPr>
            <p:cNvPr id="203" name="AutoShape 6"/>
            <p:cNvSpPr/>
            <p:nvPr/>
          </p:nvSpPr>
          <p:spPr>
            <a:xfrm>
              <a:off x="6443640" y="2349360"/>
              <a:ext cx="216000" cy="1368720"/>
            </a:xfrm>
            <a:custGeom>
              <a:avLst/>
              <a:gdLst>
                <a:gd name="textAreaLeft" fmla="*/ 0 w 216000"/>
                <a:gd name="textAreaRight" fmla="*/ 78120 w 216000"/>
                <a:gd name="textAreaTop" fmla="*/ 35640 h 1368720"/>
                <a:gd name="textAreaBottom" fmla="*/ 1333080 h 136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8"/>
            <p:cNvSpPr/>
            <p:nvPr/>
          </p:nvSpPr>
          <p:spPr>
            <a:xfrm>
              <a:off x="6659640" y="2852640"/>
              <a:ext cx="18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0000"/>
                  </a:solidFill>
                  <a:latin typeface="Arial"/>
                </a:rPr>
                <a:t>أنسجة ضامة أصيلة</a:t>
              </a:r>
              <a:r>
                <a:rPr b="1" lang="ar-SA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12"/>
          <p:cNvGrpSpPr/>
          <p:nvPr/>
        </p:nvGrpSpPr>
        <p:grpSpPr>
          <a:xfrm>
            <a:off x="3780000" y="4292640"/>
            <a:ext cx="2087280" cy="936720"/>
            <a:chOff x="3780000" y="4292640"/>
            <a:chExt cx="2087280" cy="936720"/>
          </a:xfrm>
        </p:grpSpPr>
        <p:sp>
          <p:nvSpPr>
            <p:cNvPr id="206" name="AutoShape 7"/>
            <p:cNvSpPr/>
            <p:nvPr/>
          </p:nvSpPr>
          <p:spPr>
            <a:xfrm>
              <a:off x="3780000" y="4292640"/>
              <a:ext cx="215640" cy="936720"/>
            </a:xfrm>
            <a:custGeom>
              <a:avLst/>
              <a:gdLst>
                <a:gd name="textAreaLeft" fmla="*/ 0 w 215640"/>
                <a:gd name="textAreaRight" fmla="*/ 77760 w 215640"/>
                <a:gd name="textAreaTop" fmla="*/ 24120 h 936720"/>
                <a:gd name="textAreaBottom" fmla="*/ 9126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9"/>
            <p:cNvSpPr/>
            <p:nvPr/>
          </p:nvSpPr>
          <p:spPr>
            <a:xfrm>
              <a:off x="4067280" y="4575240"/>
              <a:ext cx="18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0000"/>
                  </a:solidFill>
                  <a:latin typeface="Arial"/>
                </a:rPr>
                <a:t>أنسجة هيكلية</a:t>
              </a:r>
              <a:r>
                <a:rPr b="1" lang="ar-SA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 Box 10"/>
          <p:cNvSpPr/>
          <p:nvPr/>
        </p:nvSpPr>
        <p:spPr>
          <a:xfrm>
            <a:off x="2556000" y="5877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أنسجة وعائية</a:t>
            </a: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51920" y="753840"/>
            <a:ext cx="80010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SzPct val="95000"/>
              <a:buFont typeface="Constantia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onstantia"/>
              </a:rPr>
              <a:t>Loose connective tissue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النسيج الضام الفجوي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inds epithelia to underlying tissues and functions a holding organs in plac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It has all three fiber typ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52280" y="3429000"/>
            <a:ext cx="3276720" cy="32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Fibroblasts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  <a:cs typeface="Arial"/>
              </a:rPr>
              <a:t>خلايا ليف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rete the protein ingredients of the extracellular fi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Macrophages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خلايا بلعم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 amoeboid cells that engulfing bacteria and the debris of dead cells by phagocyt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84240" y="3000240"/>
            <a:ext cx="39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composes of two cell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5"/>
          <p:cNvGrpSpPr/>
          <p:nvPr/>
        </p:nvGrpSpPr>
        <p:grpSpPr>
          <a:xfrm>
            <a:off x="3714840" y="2728800"/>
            <a:ext cx="5410080" cy="4057560"/>
            <a:chOff x="3714840" y="2728800"/>
            <a:chExt cx="5410080" cy="4057560"/>
          </a:xfrm>
        </p:grpSpPr>
        <p:pic>
          <p:nvPicPr>
            <p:cNvPr id="213" name="Picture 6" descr=""/>
            <p:cNvPicPr/>
            <p:nvPr/>
          </p:nvPicPr>
          <p:blipFill>
            <a:blip r:embed="rId1"/>
            <a:srcRect l="0" t="0" r="0" b="4017"/>
            <a:stretch/>
          </p:blipFill>
          <p:spPr>
            <a:xfrm>
              <a:off x="3714840" y="2728800"/>
              <a:ext cx="5410080" cy="40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7"/>
            <p:cNvSpPr/>
            <p:nvPr/>
          </p:nvSpPr>
          <p:spPr>
            <a:xfrm>
              <a:off x="4933800" y="518616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8"/>
            <p:cNvSpPr/>
            <p:nvPr/>
          </p:nvSpPr>
          <p:spPr>
            <a:xfrm>
              <a:off x="4629240" y="6591240"/>
              <a:ext cx="1295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2"/>
          <p:cNvGrpSpPr/>
          <p:nvPr/>
        </p:nvGrpSpPr>
        <p:grpSpPr>
          <a:xfrm>
            <a:off x="3571920" y="2286000"/>
            <a:ext cx="5562720" cy="4429080"/>
            <a:chOff x="3571920" y="2286000"/>
            <a:chExt cx="5562720" cy="4429080"/>
          </a:xfrm>
        </p:grpSpPr>
        <p:pic>
          <p:nvPicPr>
            <p:cNvPr id="217" name="Picture 3" descr=""/>
            <p:cNvPicPr/>
            <p:nvPr/>
          </p:nvPicPr>
          <p:blipFill>
            <a:blip r:embed="rId1"/>
            <a:srcRect l="0" t="0" r="0" b="4017"/>
            <a:stretch/>
          </p:blipFill>
          <p:spPr>
            <a:xfrm>
              <a:off x="3571920" y="2448000"/>
              <a:ext cx="5562720" cy="42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 Box 4"/>
            <p:cNvSpPr/>
            <p:nvPr/>
          </p:nvSpPr>
          <p:spPr>
            <a:xfrm>
              <a:off x="6696360" y="2286000"/>
              <a:ext cx="39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5"/>
            <p:cNvSpPr/>
            <p:nvPr/>
          </p:nvSpPr>
          <p:spPr>
            <a:xfrm>
              <a:off x="7286760" y="3514680"/>
              <a:ext cx="9144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 txBox="1"/>
          <p:nvPr/>
        </p:nvSpPr>
        <p:spPr>
          <a:xfrm>
            <a:off x="214200" y="713880"/>
            <a:ext cx="83822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U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0000"/>
                </a:solidFill>
                <a:uFillTx/>
                <a:latin typeface="Constantia"/>
              </a:rPr>
              <a:t>Adipose tissue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النسيج الدهني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t is a specialized form of loose connective tissues that store fat in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adipose cell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خلايا دهني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istributed throughout the matrix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228600" y="3429000"/>
            <a:ext cx="3200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27040" indent="-4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ipose tissu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tores fu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s fat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4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adipose cell contains a large fat droplet that swells when fat is stored and shrinks when the body uses fat as fu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228600" y="292896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Fun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2"/>
          <p:cNvGrpSpPr/>
          <p:nvPr/>
        </p:nvGrpSpPr>
        <p:grpSpPr>
          <a:xfrm>
            <a:off x="3429000" y="1930320"/>
            <a:ext cx="5651280" cy="4784400"/>
            <a:chOff x="3429000" y="1930320"/>
            <a:chExt cx="5651280" cy="4784400"/>
          </a:xfrm>
        </p:grpSpPr>
        <p:pic>
          <p:nvPicPr>
            <p:cNvPr id="224" name="Picture 3" descr=""/>
            <p:cNvPicPr/>
            <p:nvPr/>
          </p:nvPicPr>
          <p:blipFill>
            <a:blip r:embed="rId1"/>
            <a:srcRect l="0" t="0" r="0" b="4017"/>
            <a:stretch/>
          </p:blipFill>
          <p:spPr>
            <a:xfrm>
              <a:off x="3429000" y="1930320"/>
              <a:ext cx="5651280" cy="470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 Box 4"/>
            <p:cNvSpPr/>
            <p:nvPr/>
          </p:nvSpPr>
          <p:spPr>
            <a:xfrm>
              <a:off x="7222320" y="587520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5"/>
            <p:cNvSpPr/>
            <p:nvPr/>
          </p:nvSpPr>
          <p:spPr>
            <a:xfrm>
              <a:off x="6138720" y="6714720"/>
              <a:ext cx="14706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 txBox="1"/>
          <p:nvPr/>
        </p:nvSpPr>
        <p:spPr>
          <a:xfrm>
            <a:off x="304920" y="713880"/>
            <a:ext cx="868680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SzPct val="95000"/>
              <a:buFont typeface="Constantia"/>
              <a:buAutoNum type="alphaUcPeriod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nstantia"/>
              </a:rPr>
              <a:t>Fibrous connective tissue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النسيج الضام الليفي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t is dense, due to its large number of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collagenous fibe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The fibers are organized into parallel bundles making it strong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228600" y="3962520"/>
            <a:ext cx="320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type of connective tissu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attaching muscles to bo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joining bones to bo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t jo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228600" y="31240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Fun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2"/>
          <p:cNvGrpSpPr/>
          <p:nvPr/>
        </p:nvGrpSpPr>
        <p:grpSpPr>
          <a:xfrm>
            <a:off x="3071880" y="1646280"/>
            <a:ext cx="6019200" cy="5140080"/>
            <a:chOff x="3071880" y="1646280"/>
            <a:chExt cx="6019200" cy="5140080"/>
          </a:xfrm>
        </p:grpSpPr>
        <p:pic>
          <p:nvPicPr>
            <p:cNvPr id="231" name="Picture 3" descr=""/>
            <p:cNvPicPr/>
            <p:nvPr/>
          </p:nvPicPr>
          <p:blipFill>
            <a:blip r:embed="rId1"/>
            <a:srcRect l="0" t="0" r="0" b="4017"/>
            <a:stretch/>
          </p:blipFill>
          <p:spPr>
            <a:xfrm>
              <a:off x="3071880" y="1646280"/>
              <a:ext cx="6019200" cy="51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4"/>
            <p:cNvSpPr/>
            <p:nvPr/>
          </p:nvSpPr>
          <p:spPr>
            <a:xfrm>
              <a:off x="8101800" y="5226120"/>
              <a:ext cx="42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5"/>
            <p:cNvSpPr/>
            <p:nvPr/>
          </p:nvSpPr>
          <p:spPr>
            <a:xfrm>
              <a:off x="7440120" y="6012000"/>
              <a:ext cx="5770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 txBox="1"/>
          <p:nvPr/>
        </p:nvSpPr>
        <p:spPr>
          <a:xfrm>
            <a:off x="304560" y="749160"/>
            <a:ext cx="845820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UcPeriod" startAt="4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Cartilag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غضروف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Skeletal Tissu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t has an abundance of collagenous fibers embedded in a rubbery matrix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179280" y="2914560"/>
            <a:ext cx="2971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hondrocytes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الخلايا الغضروف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ps making cartilage flexible support mate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 have cartilage in nose, ears, and vertebral d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3124080" y="1933560"/>
            <a:ext cx="6019920" cy="4852800"/>
            <a:chOff x="3124080" y="1933560"/>
            <a:chExt cx="6019920" cy="4852800"/>
          </a:xfrm>
        </p:grpSpPr>
        <p:pic>
          <p:nvPicPr>
            <p:cNvPr id="237" name="Picture 3" descr=""/>
            <p:cNvPicPr/>
            <p:nvPr/>
          </p:nvPicPr>
          <p:blipFill>
            <a:blip r:embed="rId1"/>
            <a:srcRect l="0" t="0" r="0" b="4017"/>
            <a:stretch/>
          </p:blipFill>
          <p:spPr>
            <a:xfrm>
              <a:off x="3124080" y="1933560"/>
              <a:ext cx="6019920" cy="48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 Box 4"/>
            <p:cNvSpPr/>
            <p:nvPr/>
          </p:nvSpPr>
          <p:spPr>
            <a:xfrm>
              <a:off x="3659040" y="4686480"/>
              <a:ext cx="42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5"/>
            <p:cNvSpPr/>
            <p:nvPr/>
          </p:nvSpPr>
          <p:spPr>
            <a:xfrm>
              <a:off x="3886200" y="5036400"/>
              <a:ext cx="5778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 txBox="1"/>
          <p:nvPr/>
        </p:nvSpPr>
        <p:spPr>
          <a:xfrm>
            <a:off x="304560" y="588600"/>
            <a:ext cx="838188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UcPeriod" startAt="5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Bon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عظم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Skeletal Tissu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skeleton supporting most vertebrates is made of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bon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a mineralized connective tissue. This bone c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ntains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osteoblast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خلايا العظمي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deposit a matrix of collage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71280" y="2311560"/>
            <a:ext cx="2819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4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ne is harder than cartil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4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rd mammalian bones consists of repeating units calle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osteon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محافظ عظمي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Haversian system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53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osteon has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central can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ontaining blood vessels and nerves that service the b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"/>
          <p:cNvPicPr/>
          <p:nvPr/>
        </p:nvPicPr>
        <p:blipFill>
          <a:blip r:embed="rId1"/>
          <a:srcRect l="0" t="0" r="0" b="4017"/>
          <a:stretch/>
        </p:blipFill>
        <p:spPr>
          <a:xfrm>
            <a:off x="3124080" y="2138400"/>
            <a:ext cx="6019920" cy="464832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3"/>
          <p:cNvSpPr/>
          <p:nvPr/>
        </p:nvSpPr>
        <p:spPr>
          <a:xfrm>
            <a:off x="6934320" y="4267080"/>
            <a:ext cx="4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7010280" y="4572000"/>
            <a:ext cx="5778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560" y="636480"/>
            <a:ext cx="838188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UcPeriod" startAt="6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Blood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م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Vascular Tissu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unctions differently from other connective tissues, but it does have an extensive extra-cellular matrix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The matrix is a liquid called plasma, consisting of water, salts, and a variety of dissolved protein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71280" y="2562120"/>
            <a:ext cx="3490920" cy="34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4280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Types of blood cells a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Erythrocyt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(red bloo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cells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Leukocyt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(white blood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cell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Platele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Functions of cel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d cells carry oxy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hite cells function in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ense  against microb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atelets help in bloo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lot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3:03:59Z</dcterms:created>
  <dc:creator>Dr. A A</dc:creator>
  <dc:description/>
  <dc:language>en-US</dc:language>
  <cp:lastModifiedBy>د أشرف مشالي</cp:lastModifiedBy>
  <dcterms:modified xsi:type="dcterms:W3CDTF">2013-09-01T08:31:14Z</dcterms:modified>
  <cp:revision>45</cp:revision>
  <dc:subject/>
  <dc:title>Slide 1</dc:title>
</cp:coreProperties>
</file>