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11A-5231-4572-8D64-C8268EB9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02D-D65C-4A68-8917-452544D8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E25-03F4-4B30-97D6-0FB4430F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F57-CF10-43B7-BCA2-63077CCF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DD4-21F8-41AC-A7B5-8DFA5638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941-9E86-4DD0-BD39-1382FF3C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0B0-1195-47E3-88DC-20206CF0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269-AC93-48AD-AF8A-B5B2BB12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6330-01CA-4327-985D-0212D858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D48-829F-4427-A248-6F5C349C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6B2-7E3E-4789-BD25-3DFEE5E3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3B2-64CB-4C22-A715-1A8E1B89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880D-1E2F-4AEB-AD00-4740FE1BD8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EA6B-AE08-4000-885A-8F6BC83EFB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362320"/>
            <a:ext cx="381024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5268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 are removed from a substr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38280" y="152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Final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0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9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2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1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4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1EC7-880D-422D-BBCC-9B55512BD9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غ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ralajmi</cp:lastModifiedBy>
  <dcterms:modified xsi:type="dcterms:W3CDTF">2014-02-02T04:46:45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A45C542-6351-48B8-A53F-2E9068FA365F</vt:lpwstr>
  </property>
  <property fmtid="{D5CDD505-2E9C-101B-9397-08002B2CF9AE}" pid="3" name="ArticulatePath">
    <vt:lpwstr>Lecture 13</vt:lpwstr>
  </property>
</Properties>
</file>