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4700-C0DC-49DF-B3B7-AB59AE759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2DC7-8C4E-4F2C-B6BF-DB9A387F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8B4E-A79D-42CB-8EAB-2DD774091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6A0D-D746-484B-AE48-D168876B8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3281-9007-4DBB-856F-5866A65C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8E64-788F-498D-80F4-C1EA7439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E860-B206-4D56-845A-17D31C10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3E4C-779F-4D52-B1BE-6C0E1C41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12CE-FC29-4C6B-A2E5-EC421A3A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44E7-4406-4E96-84BB-B6DD9A79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DF4C-FFC3-4A22-BC38-0ACECB7D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5329-BCFF-4F4C-AF12-9C3DFED0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B044-40CC-42A7-BE46-F8DE166BCFF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705720"/>
            <a:chOff x="0" y="0"/>
            <a:chExt cx="9144000" cy="6705720"/>
          </a:xfrm>
        </p:grpSpPr>
        <p:grpSp>
          <p:nvGrpSpPr>
            <p:cNvPr id="42" name=""/>
            <p:cNvGrpSpPr/>
            <p:nvPr/>
          </p:nvGrpSpPr>
          <p:grpSpPr>
            <a:xfrm>
              <a:off x="81360" y="1260720"/>
              <a:ext cx="7976520" cy="5368320"/>
              <a:chOff x="81360" y="1260720"/>
              <a:chExt cx="7976520" cy="5368320"/>
            </a:xfrm>
          </p:grpSpPr>
          <p:pic>
            <p:nvPicPr>
              <p:cNvPr id="43" name="" descr=""/>
              <p:cNvPicPr/>
              <p:nvPr/>
            </p:nvPicPr>
            <p:blipFill>
              <a:blip r:embed="rId1">
                <a:lum contrast="24000"/>
              </a:blip>
              <a:srcRect l="0" t="0" r="0" b="6594"/>
              <a:stretch/>
            </p:blipFill>
            <p:spPr>
              <a:xfrm>
                <a:off x="798840" y="1629360"/>
                <a:ext cx="7259040" cy="499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" name=""/>
              <p:cNvSpPr/>
              <p:nvPr/>
            </p:nvSpPr>
            <p:spPr>
              <a:xfrm rot="18849000">
                <a:off x="437760" y="1870200"/>
                <a:ext cx="2581200" cy="2085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568960" y="2077920"/>
                <a:ext cx="2145600" cy="475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/>
            <p:nvPr/>
          </p:nvSpPr>
          <p:spPr>
            <a:xfrm>
              <a:off x="0" y="0"/>
              <a:ext cx="9144000" cy="152388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50000">
                  <a:srgbClr val="ffff00"/>
                </a:gs>
                <a:gs pos="100000">
                  <a:srgbClr val="00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76320" y="81000"/>
              <a:ext cx="1752480" cy="13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7729560" y="12600"/>
              <a:ext cx="12621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286000" y="228600"/>
              <a:ext cx="49528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CHAPTER 9</a:t>
              </a:r>
              <a:br>
                <a:rPr sz="2000"/>
              </a:b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CELLULAR RESPIRATION:                                    HARVESTING CHEMICAL ENER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38080" y="2514600"/>
              <a:ext cx="7696440" cy="41911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88840" y="1757520"/>
              <a:ext cx="762012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Section B: The Process of Cellular Respir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4C4E-5F15-49E2-91C0-39FB4C110D83}" type="slidenum">
              <a:t>1</a:t>
            </a:fld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)- Pre-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895320"/>
            <a:ext cx="609624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yruvate is converted into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acetyle-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 the presence of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rough 3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1905120"/>
            <a:ext cx="777240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O</a:t>
            </a:r>
            <a:r>
              <a:rPr b="1" lang="en-GB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group of pyruvate is released a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5560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)- The remaining two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agments are oxidized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ing </a:t>
            </a:r>
            <a:r>
              <a:rPr b="0" i="1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0" lang="en-US" sz="4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int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cet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 resulting 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1" lang="en-US" sz="4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ransform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US" sz="2400" spc="-1" strike="noStrike" baseline="30000">
                <a:solidFill>
                  <a:srgbClr val="0033cc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35053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- The coenzyme-A (</a:t>
            </a:r>
            <a:r>
              <a:rPr b="1" lang="en-GB" sz="2000" spc="-1" strike="noStrike">
                <a:solidFill>
                  <a:srgbClr val="cc0099"/>
                </a:solidFill>
                <a:latin typeface="Arial"/>
              </a:rPr>
              <a:t>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transform acetate compound into       acetyle-</a:t>
            </a:r>
            <a:r>
              <a:rPr b="1" lang="en-GB" sz="2000" spc="-1" strike="noStrike">
                <a:solidFill>
                  <a:srgbClr val="cc00ff"/>
                </a:solidFill>
                <a:latin typeface="Arial"/>
              </a:rPr>
              <a:t>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which will be ready for Krebs Cycle for further oxid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828800" y="4464000"/>
            <a:ext cx="2590560" cy="802800"/>
            <a:chOff x="1828800" y="4464000"/>
            <a:chExt cx="2590560" cy="802800"/>
          </a:xfrm>
        </p:grpSpPr>
        <p:sp>
          <p:nvSpPr>
            <p:cNvPr id="109" name=""/>
            <p:cNvSpPr/>
            <p:nvPr/>
          </p:nvSpPr>
          <p:spPr>
            <a:xfrm>
              <a:off x="2514600" y="4809960"/>
              <a:ext cx="1904760" cy="456840"/>
            </a:xfrm>
            <a:custGeom>
              <a:avLst/>
              <a:gdLst/>
              <a:ahLst/>
              <a:rect l="l" t="t" r="r" b="b"/>
              <a:pathLst>
                <a:path w="1200" h="288">
                  <a:moveTo>
                    <a:pt x="0" y="0"/>
                  </a:moveTo>
                  <a:cubicBezTo>
                    <a:pt x="188" y="144"/>
                    <a:pt x="376" y="288"/>
                    <a:pt x="576" y="288"/>
                  </a:cubicBezTo>
                  <a:cubicBezTo>
                    <a:pt x="776" y="288"/>
                    <a:pt x="1096" y="48"/>
                    <a:pt x="1200" y="0"/>
                  </a:cubicBezTo>
                </a:path>
              </a:pathLst>
            </a:custGeom>
            <a:noFill/>
            <a:ln w="381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28800" y="446400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2 NAD</a:t>
              </a:r>
              <a:r>
                <a:rPr b="1" lang="en-US" sz="3200" spc="-1" strike="noStrike" baseline="30000">
                  <a:solidFill>
                    <a:srgbClr val="0033cc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505320" y="4403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 NA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8600" y="5064120"/>
            <a:ext cx="7238520" cy="714240"/>
            <a:chOff x="228600" y="5064120"/>
            <a:chExt cx="7238520" cy="714240"/>
          </a:xfrm>
        </p:grpSpPr>
        <p:sp>
          <p:nvSpPr>
            <p:cNvPr id="113" name=""/>
            <p:cNvSpPr/>
            <p:nvPr/>
          </p:nvSpPr>
          <p:spPr>
            <a:xfrm>
              <a:off x="228600" y="5079960"/>
              <a:ext cx="1652040" cy="4597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Pyruv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64280" y="5064120"/>
              <a:ext cx="2202840" cy="4597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Acetyle-</a:t>
              </a:r>
              <a:r>
                <a:rPr b="1" lang="en-US" sz="2400" spc="-1" strike="noStrike">
                  <a:solidFill>
                    <a:srgbClr val="cc00ff"/>
                  </a:solidFill>
                  <a:latin typeface="Arial"/>
                </a:rPr>
                <a:t>C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80640" y="5317920"/>
              <a:ext cx="3383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61080" y="5257800"/>
              <a:ext cx="94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ff"/>
                  </a:solidFill>
                  <a:latin typeface="Times New Roman"/>
                  <a:ea typeface="Times New Roman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7440120" y="5089680"/>
            <a:ext cx="161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191120" y="5334120"/>
            <a:ext cx="3809880" cy="855720"/>
            <a:chOff x="4191120" y="5334120"/>
            <a:chExt cx="3809880" cy="855720"/>
          </a:xfrm>
        </p:grpSpPr>
        <p:sp>
          <p:nvSpPr>
            <p:cNvPr id="119" name=""/>
            <p:cNvSpPr/>
            <p:nvPr/>
          </p:nvSpPr>
          <p:spPr>
            <a:xfrm>
              <a:off x="5867280" y="5334120"/>
              <a:ext cx="2133720" cy="609480"/>
            </a:xfrm>
            <a:custGeom>
              <a:avLst/>
              <a:gdLst/>
              <a:ahLst/>
              <a:rect l="l" t="t" r="r" b="b"/>
              <a:pathLst>
                <a:path w="1344" h="384">
                  <a:moveTo>
                    <a:pt x="864" y="0"/>
                  </a:moveTo>
                  <a:cubicBezTo>
                    <a:pt x="1104" y="88"/>
                    <a:pt x="1344" y="176"/>
                    <a:pt x="1200" y="240"/>
                  </a:cubicBezTo>
                  <a:cubicBezTo>
                    <a:pt x="1056" y="304"/>
                    <a:pt x="200" y="360"/>
                    <a:pt x="0" y="38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91120" y="579096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Krebs Cy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858000" y="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9.10, Page 1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925D-6FEE-4571-8C5D-4B5B1A6EA38C}" type="slidenum">
              <a:t>10</a:t>
            </a:fld>
          </a:p>
        </p:txBody>
      </p:sp>
    </p:spTree>
  </p:cSld>
  <p:transition spd="med">
    <p:zoom dir="ou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702320" y="0"/>
            <a:ext cx="4441680" cy="6019920"/>
            <a:chOff x="4702320" y="0"/>
            <a:chExt cx="4441680" cy="601992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rcRect l="0" t="0" r="0" b="4466"/>
            <a:stretch/>
          </p:blipFill>
          <p:spPr>
            <a:xfrm>
              <a:off x="4702320" y="0"/>
              <a:ext cx="4441680" cy="601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7467480" y="990720"/>
              <a:ext cx="304920" cy="144756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37440 h 1447560"/>
                <a:gd name="textAreaBottom" fmla="*/ 14101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20120" y="1295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Pre-Krebs Cy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46520" y="44280"/>
            <a:ext cx="351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B)- 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83664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has eight steps starting with 2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acetyle-Co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ompunds. They are summarized as in Fig. 9.1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5119560"/>
            <a:ext cx="1676520" cy="115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 NAD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FAD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6320" y="5075280"/>
            <a:ext cx="1599840" cy="1311120"/>
            <a:chOff x="76320" y="5075280"/>
            <a:chExt cx="1599840" cy="1311120"/>
          </a:xfrm>
        </p:grpSpPr>
        <p:sp>
          <p:nvSpPr>
            <p:cNvPr id="130" name=""/>
            <p:cNvSpPr/>
            <p:nvPr/>
          </p:nvSpPr>
          <p:spPr>
            <a:xfrm>
              <a:off x="1184040" y="5075280"/>
              <a:ext cx="492120" cy="1311120"/>
            </a:xfrm>
            <a:custGeom>
              <a:avLst/>
              <a:gdLst>
                <a:gd name="textAreaLeft" fmla="*/ 314640 w 492120"/>
                <a:gd name="textAreaRight" fmla="*/ 492480 w 492120"/>
                <a:gd name="textAreaTop" fmla="*/ 34200 h 1311120"/>
                <a:gd name="textAreaBottom" fmla="*/ 1276920 h 131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320" y="5541840"/>
              <a:ext cx="141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048040" y="6141960"/>
            <a:ext cx="3972960" cy="565920"/>
            <a:chOff x="2048040" y="6141960"/>
            <a:chExt cx="3972960" cy="565920"/>
          </a:xfrm>
        </p:grpSpPr>
        <p:sp>
          <p:nvSpPr>
            <p:cNvPr id="133" name=""/>
            <p:cNvSpPr/>
            <p:nvPr/>
          </p:nvSpPr>
          <p:spPr>
            <a:xfrm>
              <a:off x="2434320" y="6309000"/>
              <a:ext cx="358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lavin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enine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inucleot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48040" y="6141960"/>
              <a:ext cx="474840" cy="27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28600" y="6324480"/>
            <a:ext cx="609480" cy="38124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19" h="21600">
                <a:moveTo>
                  <a:pt x="0" y="0"/>
                </a:moveTo>
                <a:lnTo>
                  <a:pt x="34519" y="0"/>
                </a:lnTo>
                <a:lnTo>
                  <a:pt x="34519" y="21600"/>
                </a:lnTo>
                <a:lnTo>
                  <a:pt x="0" y="21600"/>
                </a:lnTo>
                <a:close/>
              </a:path>
              <a:path fill="lightenLess" w="34519" h="21600">
                <a:moveTo>
                  <a:pt x="0" y="0"/>
                </a:moveTo>
                <a:lnTo>
                  <a:pt x="34519" y="0"/>
                </a:lnTo>
                <a:lnTo>
                  <a:pt x="33119" y="1400"/>
                </a:lnTo>
                <a:lnTo>
                  <a:pt x="1400" y="1400"/>
                </a:lnTo>
                <a:close/>
              </a:path>
              <a:path fill="darken" w="34519" h="21600">
                <a:moveTo>
                  <a:pt x="34519" y="0"/>
                </a:moveTo>
                <a:lnTo>
                  <a:pt x="34519" y="21600"/>
                </a:lnTo>
                <a:lnTo>
                  <a:pt x="33119" y="20200"/>
                </a:lnTo>
                <a:lnTo>
                  <a:pt x="33119" y="1400"/>
                </a:lnTo>
                <a:close/>
              </a:path>
              <a:path fill="darkenLess" w="34519" h="21600">
                <a:moveTo>
                  <a:pt x="345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9" y="20200"/>
                </a:lnTo>
                <a:close/>
              </a:path>
              <a:path fill="lighten" w="345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9" h="21600">
                <a:moveTo>
                  <a:pt x="10253" y="3794"/>
                </a:moveTo>
                <a:lnTo>
                  <a:pt x="24266" y="10800"/>
                </a:lnTo>
                <a:lnTo>
                  <a:pt x="10253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15200" y="597384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9.12, Page 1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42670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outcome of the two cycles is (for the 2 Acetyle-CoA molecule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905120"/>
            <a:ext cx="5334120" cy="22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cycle begins when acetate from each acetyl-CoA combines with oxaloacetate (4 C atoms) to form citrate (citric aci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timately, the oxaloacetate is recycled and the acetate is broken down to 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cycle produces one ATP by substrate-level phosphorylation,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three NAD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one FADH</a:t>
            </a:r>
            <a:r>
              <a:rPr b="1" lang="en-US" sz="16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another electron carrier)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er acetyl Co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FA24-D590-4FD3-B594-191F8AD3E610}" type="slidenum">
              <a:t>11</a:t>
            </a:fld>
          </a:p>
        </p:txBody>
      </p:sp>
    </p:spTree>
  </p:cSld>
  <p:transition spd="med">
    <p:zoom dir="out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500"/>
                            </p:stCondLst>
                            <p:childTnLst>
                              <p:par>
                                <p:cTn id="3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4. The inner mitochondrial membrane couples electron transport to ATP synthesis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% of ATP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866120" y="3115440"/>
            <a:ext cx="4277520" cy="3208680"/>
            <a:chOff x="4866120" y="3115440"/>
            <a:chExt cx="4277520" cy="3208680"/>
          </a:xfrm>
        </p:grpSpPr>
        <p:pic>
          <p:nvPicPr>
            <p:cNvPr id="142" name="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5317200" y="3280680"/>
              <a:ext cx="3826440" cy="30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 rot="18849000">
              <a:off x="5022000" y="3512160"/>
              <a:ext cx="1571400" cy="109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50320" y="3553920"/>
              <a:ext cx="1130760" cy="28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52280" y="4210200"/>
            <a:ext cx="5943600" cy="23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usands of copies of the electron transport chain are found in the extensive surface of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rista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ner membrane of the mitochondr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drop in free energy as they pass down the electron transport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283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4 of 38 ATP ultimately produced by respiration of glucose are derived from substrate-level phosphorylation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from glycolysis and 2 from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vast majority of the ATP (90%) comes from the energy in the electrons carried by NADH and FAD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ergy in these electrons is used in the electron transport chain to power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لتدع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CDDF-6DFD-48BB-9D39-A7FF34B29470}" type="slidenum">
              <a:t>12</a:t>
            </a:fld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76320" y="295200"/>
            <a:ext cx="8686800" cy="14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carri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transferred to the first molecule in the electron transport chain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lavoprote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s carri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ve lower free energy and are added to a later point in th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181480" y="1371600"/>
            <a:ext cx="3699000" cy="52578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706080" y="5486400"/>
            <a:ext cx="87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9.1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320" y="1820880"/>
            <a:ext cx="5257800" cy="42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ltimately pass to oxy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 transport chain generates no ATP directly. Rather, its function is 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ee energy drop from food to oxygen in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ser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mall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eps that release energy in manageable amoun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كميات مناسب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ovement of electrons along the electron transport chain does contribute to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hemiosmo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دفع الكيميائ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P synthesis proce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AC70-246D-4EFD-AD41-5882DA15960E}" type="slidenum">
              <a:t>13</a:t>
            </a:fld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28600" y="5140440"/>
            <a:ext cx="525780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hemiosmosis: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mos = puch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oxidative phosphorel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results in ATP production in the inner membrane of mitochond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410080" y="1523880"/>
            <a:ext cx="3733920" cy="51818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471800" y="6567480"/>
            <a:ext cx="839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g. 9.1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3233880"/>
            <a:ext cx="510552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TP synthase molecules are the only place that will allow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diffuse back to the matr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flow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by the enzyme to generate ATP a process called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hemiosm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62520" y="640080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52280" y="314280"/>
            <a:ext cx="8839440" cy="27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TP-synthas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cristae actually make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D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used the energy of an existing proton gradient to power ATP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ton grad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velops between                                                              the intermembrane space and the matr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oncentration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                           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roton-motive forc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BE60-028E-4602-B8D9-F734F4D6B3EC}" type="slidenum">
              <a:t>14</a:t>
            </a:fld>
          </a:p>
        </p:txBody>
      </p:sp>
    </p:spTree>
  </p:cSld>
  <p:transition spd="med">
    <p:zoom dir="out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rcRect l="0" t="0" r="0" b="3946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442600" y="175248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15, Page 16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52280"/>
            <a:ext cx="7848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 of NADH and 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ive a maximum yi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4 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produced b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xidative phosphory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1D68-5638-442A-867D-71BC3442C4FD}" type="slidenum">
              <a:t>15</a:t>
            </a:fld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52280" y="1523520"/>
            <a:ext cx="8763120" cy="51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espiration, most energy flow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ucose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NAD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&g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electron transport cha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proton-motive forc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six-carbon glucose molecule is oxidized to 6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ome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produc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bstrate-level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uring glycolysis and the Krebs cycle, bu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ost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e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xidative phosphoryl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rough electron transport chain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the Krebs cycle and the conversion of pyruvate contributes enough energy to generate a maximum of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3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AD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the Krebs cycle can be used to generate about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2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 produced in electron transport chain gives a maximum yield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4 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oxidative phosphorylation via ATP-synth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5. Cellular respiration generates many ATP molecules for each sugar molecule it oxidi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B859-D7B3-4BC6-A5BB-B1707091B4D6}" type="slidenum">
              <a:t>16</a:t>
            </a:fld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52280" y="356760"/>
            <a:ext cx="8839440" cy="591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s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4 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bstrate-level phosphory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ycolysis &amp; Krebs Cyc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s a bottom line of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8 A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iciency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فعال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generating ATP during cell respi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oxidation of glucose releases 686 kcal/mo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ion of each ATP requir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يحتا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least 7.3 kcal/mo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fficiency of respi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:  7.3 x 38 = 277.4K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% of energy consumed for 38 ATP is: (277.4/686)100 = 4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ther 60% is lost as he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ular respiration is remarkably efficient in energy conver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19F8-D1EF-478A-B01A-BE7DA4F17368}" type="slidenum">
              <a:t>17</a:t>
            </a:fld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rcRect l="0" t="0" r="0" b="4567"/>
          <a:stretch/>
        </p:blipFill>
        <p:spPr>
          <a:xfrm>
            <a:off x="189000" y="914400"/>
            <a:ext cx="8764560" cy="52164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320" y="656100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16, Page 16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2280" y="9036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of cell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3394-7CCA-49DE-99AB-A5BDE8F35837}" type="slidenum">
              <a:t>18</a:t>
            </a:fld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ummary of Respi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320" y="762120"/>
            <a:ext cx="89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- Glycolysi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ccurs in the cytosol and breaks glucose into two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yruv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1295280"/>
            <a:ext cx="883944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- Krebs Cycl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akes place within the mitochondrial matrix, and break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a pyruvate into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produce some ATP and NAD</a:t>
            </a:r>
            <a:r>
              <a:rPr b="1" lang="en-GB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2280" y="220968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Some steps of Glycolysis and Krebs Cycle are Redox in which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dehydrogenase enzyme reduces NAD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to 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38098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pts </a:t>
            </a:r>
            <a:r>
              <a:rPr b="1" i="1" lang="en-US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US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passes these </a:t>
            </a:r>
            <a:r>
              <a:rPr b="1" i="1" lang="en-US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US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br>
              <a:rPr sz="3200"/>
            </a:br>
            <a:r>
              <a:rPr b="1" lang="en-US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one protein molecule to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4648320"/>
            <a:ext cx="8839440" cy="9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At the end of the chain, </a:t>
            </a:r>
            <a:r>
              <a:rPr b="1" i="1" lang="en-US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US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bine with both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form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lease energ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2280" y="5546880"/>
            <a:ext cx="8991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These energy are used by mitochondria to synthesis 90% of the cellula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ATP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TP-synth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 process called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Oxidative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in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the inner membrane of mitochond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304812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Some of ATP is produced at these tow steps via (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ubstrate-level-</a:t>
            </a:r>
            <a:br>
              <a:rPr sz="2000"/>
            </a:b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 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28F3-5BA6-4A17-8943-1A2C9B37EC61}" type="slidenum">
              <a:t>19</a:t>
            </a:fld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912960"/>
            <a:ext cx="8458200" cy="144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286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ection B: The Process of Cellular Re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143000"/>
            <a:ext cx="8763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iration involves glycolysis, the Krebs cycle, and electron trans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lycolys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rvests chemical energy by oxidizing glucose to pyruvate 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 cytoplas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e Krebs cyc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mpletes the energy-yielding oxidation of organic molecules 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 motochonderial matri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lectron transpor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ain to synthe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 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ner mitochondrial membra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 Cellular respiration generates many ATP molecules for each sugar molecule it oxidizes 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38 ATP molecu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D23D-3745-46BA-86CA-DFBFF8E1AB51}" type="slidenum">
              <a:t>2</a:t>
            </a:fld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048120" y="15228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Definition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عريف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1066680"/>
            <a:ext cx="86868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hemiosmosis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 proces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xidative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takes place at the end of the Electron Transport Chain to produce 90% of ATP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TP-syntha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22860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TP-synthase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 enzyme presents in the inner mitochondrial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membrane and used in making ATP by using H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+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35053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NAD</a:t>
            </a:r>
            <a:r>
              <a:rPr b="1" lang="en-GB" sz="2800" spc="-1" strike="noStrike" u="sng" baseline="30000">
                <a:solidFill>
                  <a:srgbClr val="ff0000"/>
                </a:solidFill>
                <a:uFillTx/>
                <a:latin typeface="Arial"/>
              </a:rPr>
              <a:t>+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cotinamid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ucleotide, which is a co-enzyme tha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helps electron transfer during redox reactions in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4724280"/>
            <a:ext cx="8839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FAD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vin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ucleotide, which is an electron acceptor tha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helps electron transfer during Krebs Cycle and Electron Transport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Chai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D32A-5ED4-429E-9E5E-3F89B0107E15}" type="slidenum">
              <a:t>20</a:t>
            </a:fld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5960" y="1142640"/>
            <a:ext cx="8915400" cy="56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xidation refers to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oss of electr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any electron acceptor, not just to oxy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glycolysis, glucose is oxidized to two pyruvate molecules with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the oxidizing agent, not 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energy from this oxidation produce 2 ATP (ne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oxygen is present, additional ATP can be generated when NADH delivers its electrons to the electron transport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ycolysis generates 2 ATP whether oxygen is absent (anaerob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لاهوائ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erobic catabolism of sugars can occur by fer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rmentation can generate ATP from glucose by substrate-level phosphorylation as long as there is a supply of NA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xidizing ag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accept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ool is exhausted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سـتـُنفـِ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glycolysis shuts d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er aerobic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هوائ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itions, NADH transfers its electrons to the electron transfer chain, recycling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 anaerobic conditions, various fermentation pathways generate ATP by glycolysis and recycle NA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ransferring electrons from NADH to pyruv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ermentation enab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مَكِن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ome cells to produce ATP without the help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640C-C687-4BA0-AB4B-7EECE0888C66}" type="slidenum">
              <a:t>21</a:t>
            </a:fld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943600" y="1231920"/>
            <a:ext cx="3200400" cy="26542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rcRect l="0" t="0" r="0" b="3357"/>
          <a:stretch/>
        </p:blipFill>
        <p:spPr>
          <a:xfrm>
            <a:off x="5975280" y="3962520"/>
            <a:ext cx="3168720" cy="26208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861048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lcohol ferment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tha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wo ste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 the removal of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reduced by NADH                                             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ha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cohol fermentation by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yea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i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ema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00" y="6567480"/>
            <a:ext cx="1881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17a &amp; b, Page 17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320" y="3230640"/>
            <a:ext cx="5943600" cy="36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ctic acid ferment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 reduced directly by NADH to form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lact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ionized form of lactic acid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tic acid fermentation by som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fung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bacter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to mak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heese and yogu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cle cells switch from aerobic respiration                                            to lactic acid fermentation to generate ATP                                              when 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scarc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ناد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aste product, lactate, may caus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cle fatigue, but ultimately it i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ted back to pyruvate in the li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1999-25E9-4810-BFB6-791D39C59D1B}" type="slidenum">
              <a:t>22</a:t>
            </a:fld>
          </a:p>
        </p:txBody>
      </p:sp>
    </p:spTree>
  </p:cSld>
  <p:transition spd="med">
    <p:zoom dir="ou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04560" y="152280"/>
            <a:ext cx="8381880" cy="65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rmentation and cellular respiration are anaerobic and aerobic alternatives, respectively, for producing ATP from sug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5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use glycolysis to oxidize sugars to pyruvate with a net production of 2 ATP by substrate-level phosphory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5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use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an electron accep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fermentation, the electrons of NADH are passed to an organic molecule, regenerating NA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respiration, the electrons of NADH are ultimately passed to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generating ATP by oxidative phosphoryl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ddition, even more ATP is generated from the oxidation of pyruvate in the Krebs cy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out oxygen, the energy still stored in pyruvate is unavailable to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 aerobic respiration, a molecule of glucose yields 38 ATP, but the same molecule of glucose yields only 2 ATP under anaerobic respi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B6AA-8110-4A4B-9191-D0A73D4FB30D}" type="slidenum">
              <a:t>23</a:t>
            </a:fld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152280" y="2509920"/>
            <a:ext cx="4191120" cy="4120920"/>
            <a:chOff x="152280" y="2509920"/>
            <a:chExt cx="4191120" cy="412092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rcRect l="0" t="0" r="0" b="4466"/>
            <a:stretch/>
          </p:blipFill>
          <p:spPr>
            <a:xfrm>
              <a:off x="152280" y="2509920"/>
              <a:ext cx="419112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564480" y="6338880"/>
              <a:ext cx="14882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Fig. 9.18, Page 17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920" y="98280"/>
            <a:ext cx="41148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rganisms (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facultative anaerob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لاهوائية اختياري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including yeast and many bacteria, can survive using either fermentation or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a cellular level, human muscle cells can behave as facultative anaerobes, but nerve cells can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76320"/>
            <a:ext cx="4114800" cy="662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800600" y="76320"/>
            <a:ext cx="4127040" cy="6629400"/>
            <a:chOff x="4800600" y="76320"/>
            <a:chExt cx="4127040" cy="6629400"/>
          </a:xfrm>
        </p:grpSpPr>
        <p:pic>
          <p:nvPicPr>
            <p:cNvPr id="195" name="" descr=""/>
            <p:cNvPicPr/>
            <p:nvPr/>
          </p:nvPicPr>
          <p:blipFill>
            <a:blip r:embed="rId2"/>
            <a:srcRect l="0" t="0" r="0" b="3357"/>
            <a:stretch/>
          </p:blipFill>
          <p:spPr>
            <a:xfrm>
              <a:off x="4863960" y="1295280"/>
              <a:ext cx="4063680" cy="541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4800600" y="152280"/>
              <a:ext cx="4114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Proteins and fat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can also enter the respiratory pathways, including glycolysis and the Krebs cycle, like carbohydrat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00600" y="76320"/>
              <a:ext cx="4114440" cy="662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4800600" y="64008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9.19, Page 1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9C13-E5BE-4425-9788-8588BE467208}" type="slidenum">
              <a:t>24</a:t>
            </a:fld>
          </a:p>
        </p:txBody>
      </p:sp>
    </p:spTree>
  </p:cSld>
  <p:transition spd="med">
    <p:zoom dir="out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495680" y="304920"/>
            <a:ext cx="4503960" cy="62481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55880" y="6567480"/>
            <a:ext cx="1108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19, 17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2280" y="533520"/>
            <a:ext cx="4419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ther two major fuels,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roteins and fa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an also enter the respiratory pathways, including glycolysis and the Krebs cycle, used by carbohydr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2666880"/>
            <a:ext cx="403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bohydrates, fats, and proteins can all be catabolized through the same path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811F-5A7D-4148-9805-E8C0521FBB18}" type="slidenum">
              <a:t>25</a:t>
            </a:fld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52280" y="1371600"/>
            <a:ext cx="5105520" cy="13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iration occurs in three metabolic stages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ycolysis, the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oxidative phosphory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spiration involves glycolysis, the Krebs cycle, and electron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733520" y="3962520"/>
            <a:ext cx="1406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6, Page 1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4888"/>
          <a:stretch/>
        </p:blipFill>
        <p:spPr>
          <a:xfrm>
            <a:off x="5334120" y="1295280"/>
            <a:ext cx="3606840" cy="25434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76320" y="2819520"/>
            <a:ext cx="51051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ycolysis occurs 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begins catabolism by breaking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gluco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to two molecules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4334040"/>
            <a:ext cx="8991360" cy="19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rebs cycle occurs 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degrades pyruvate to carbon diox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steps in glycolysis and the Krebs cycle transfer electrons from substrates to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orming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asses these electrons to the electron transport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E2E1-88E1-4AE3-A4B9-B9C61BF938B2}" type="slidenum">
              <a:t>3</a:t>
            </a:fld>
          </a:p>
        </p:txBody>
      </p:sp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216400" y="2362320"/>
            <a:ext cx="3775320" cy="42670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52280" y="309240"/>
            <a:ext cx="8839440" cy="18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electrons passed along the chain, their energy stored in the mitochondrion in a form that can be used to synthesiz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oxidative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idative phosphorylation produces almost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90% of the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ted by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2868480"/>
            <a:ext cx="51055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ATP is also generated in glycolysis and in Krebs cycle by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ubstrate-level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 an enzyme transfers a phosphate group from an organic molecule (the substrate) to ADP, forming A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00040" y="6491160"/>
            <a:ext cx="1406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7, Page 16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5257800"/>
            <a:ext cx="51814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timatel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8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produced per mole of glucose that is degraded to carb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F9F6-83FF-4AD2-BB0D-9035DFBA705D}" type="slidenum">
              <a:t>4</a:t>
            </a:fld>
          </a:p>
        </p:txBody>
      </p:sp>
    </p:spTree>
  </p:cSld>
  <p:transition spd="med"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1036440"/>
            <a:ext cx="9144000" cy="55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glycolysis, glucose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six carbon-sug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split into two molecules      (each i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e-carbon sug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smaller sugars are oxidized and rearranged to form two molecules of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yruv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of the 10 steps in glycolysis is catalyzed by a specific enzy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steps can be divided into two phas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)- Energy investment ph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ستهلاك طاق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P is consumed to provides activation                                                                      energy by phosphorylating glucose                                                                            (this requires 2 ATP per gluco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B)- Energy payoff ph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نتاج طاق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P is produced by substrate-level                                                         phosphorylation and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reduced to                                                             NA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5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4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NAD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produced per                                                          gluc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 startAt="6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net yield from glycolysis is                                                                      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 NAD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 startAt="7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ycolysis occurs in the absence                                                                         of O2, thus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 C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pro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334120" y="2743200"/>
            <a:ext cx="3776400" cy="380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76320" y="30600"/>
            <a:ext cx="9067680" cy="8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- Glycolysis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tting glucose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): harvests chemical energy by oxidizing glucose to 2pyru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9144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7200" y="6553080"/>
            <a:ext cx="697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73EC-6E3A-4942-864E-1FAE3FEE99A3}" type="slidenum">
              <a:t>5</a:t>
            </a:fld>
          </a:p>
        </p:txBody>
      </p:sp>
    </p:spTree>
  </p:cSld>
  <p:transition spd="med"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45720"/>
            <a:ext cx="6934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ummary of Glycolysis (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Splitting of glucose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10666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is the process of breaking a </a:t>
            </a: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gluc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nto 2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yruv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1706400"/>
            <a:ext cx="8763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a source for som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occurs in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YTOSO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cytoplasm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872840" y="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 1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4343400"/>
            <a:ext cx="79246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)- Glucose is phosphorylated twice by adding 2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P</a:t>
            </a:r>
            <a:br>
              <a:rPr sz="3200"/>
            </a:b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ming from 2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substrate-level-phosphorylati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5720" y="3886200"/>
            <a:ext cx="368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)- Energy investment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32767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ee Fig. 9.9, Page 16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6240" y="3124080"/>
            <a:ext cx="31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Arial"/>
              </a:rPr>
              <a:t>It has two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54100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- Thus, Glucose (6-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splits into two small sug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ecules (each with 3-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3689-6F7F-4FBB-8FEB-9A6BB744157F}" type="slidenum">
              <a:t>6</a:t>
            </a:fld>
          </a:p>
        </p:txBody>
      </p:sp>
    </p:spTree>
  </p:cSld>
  <p:transition spd="med"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2666880"/>
            <a:ext cx="8382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4)- The resulting </a:t>
            </a:r>
            <a:r>
              <a:rPr b="1" i="1" lang="en-GB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1" i="1" lang="en-GB" sz="36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i="1" lang="en-GB" sz="2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e two</a:t>
            </a:r>
            <a:r>
              <a:rPr b="1" lang="en-GB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-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sugar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used for reducing 2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o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GB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ecules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a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hydrogen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4495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6)- The net yield of this process is the formation of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2 NAD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2 ATP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2 pyruvat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3720" y="121932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)- Energy pay-off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9810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- The two resulting 3-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sugars are then oxidized (losing </a:t>
            </a:r>
            <a:r>
              <a:rPr b="1" i="1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1" i="1" lang="en-US" sz="36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129528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Fig. 9.9, Page 1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38862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)-  4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formed by adding 4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4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AD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122400"/>
            <a:ext cx="69343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ummary of Glycolysis (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Splitting of glucose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467480" y="6172200"/>
            <a:ext cx="609840" cy="38088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72" h="21600">
                <a:moveTo>
                  <a:pt x="0" y="0"/>
                </a:moveTo>
                <a:lnTo>
                  <a:pt x="34572" y="0"/>
                </a:lnTo>
                <a:lnTo>
                  <a:pt x="34572" y="21600"/>
                </a:lnTo>
                <a:lnTo>
                  <a:pt x="0" y="21600"/>
                </a:lnTo>
                <a:close/>
              </a:path>
              <a:path fill="lightenLess" w="34572" h="21600">
                <a:moveTo>
                  <a:pt x="0" y="0"/>
                </a:moveTo>
                <a:lnTo>
                  <a:pt x="34572" y="0"/>
                </a:lnTo>
                <a:lnTo>
                  <a:pt x="33172" y="1400"/>
                </a:lnTo>
                <a:lnTo>
                  <a:pt x="1400" y="1400"/>
                </a:lnTo>
                <a:close/>
              </a:path>
              <a:path fill="darken" w="34572" h="21600">
                <a:moveTo>
                  <a:pt x="34572" y="0"/>
                </a:moveTo>
                <a:lnTo>
                  <a:pt x="34572" y="21600"/>
                </a:lnTo>
                <a:lnTo>
                  <a:pt x="33172" y="20200"/>
                </a:lnTo>
                <a:lnTo>
                  <a:pt x="33172" y="1400"/>
                </a:lnTo>
                <a:close/>
              </a:path>
              <a:path fill="darkenLess" w="34572" h="21600">
                <a:moveTo>
                  <a:pt x="34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72" y="20200"/>
                </a:lnTo>
                <a:close/>
              </a:path>
              <a:path fill="lighten" w="34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72" h="21600">
                <a:moveTo>
                  <a:pt x="10280" y="3794"/>
                </a:moveTo>
                <a:lnTo>
                  <a:pt x="24293" y="10800"/>
                </a:lnTo>
                <a:lnTo>
                  <a:pt x="10280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55767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7)- Now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pyruvat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s ready for Krebs Cy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16AA-46B6-47AB-AE43-A0525B29E27E}" type="slidenum">
              <a:t>7</a:t>
            </a:fld>
          </a:p>
        </p:txBody>
      </p:sp>
    </p:spTree>
  </p:cSld>
  <p:transition spd="med">
    <p:zoom dir="ou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0" r="0" b="5857"/>
          <a:stretch/>
        </p:blipFill>
        <p:spPr>
          <a:xfrm>
            <a:off x="3960720" y="3367080"/>
            <a:ext cx="5183280" cy="2765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6320" y="1431720"/>
            <a:ext cx="899136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present,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nters the mitochondrion where enzymes of the Krebs cycle complete the oxidation of this organic fuel to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 The Krebs cycle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completes the energy-yielding oxidation of organic molecules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mitochondrial matrix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320" y="1066680"/>
            <a:ext cx="87627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2300400"/>
            <a:ext cx="8382240" cy="36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pyruvate enters the mitochondrion which modifies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pyruv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acetyl-Co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ich enters the Krebs cycle in the matr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arboxyl group is removed as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air of electrons is                                                                         transferred from the                                                                              remaining two-carbon                                                                             fragment to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form                                                                         NAD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xidized fragment,                                                                                       acetate, combines with                                                                             coenzyme A to form           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etyl-Co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167240" y="611028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10, Page 16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8B26-57EF-440B-AABA-1227EC2631A4}" type="slidenum">
              <a:t>8</a:t>
            </a:fld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1371600"/>
            <a:ext cx="86104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process of producing some of the remaining energy fr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yruvat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lecules. It occurs mainly in </a:t>
            </a:r>
            <a:r>
              <a:rPr b="1" lang="en-GB" sz="2400" spc="-1" strike="noStrike" u="sng">
                <a:solidFill>
                  <a:srgbClr val="0033cc"/>
                </a:solidFill>
                <a:uFillTx/>
                <a:latin typeface="Arial"/>
              </a:rPr>
              <a:t>mitochondrial matrix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22860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the main source for preparing most of the cellular NAD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toring energy molecule)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for producing some more of the cellul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341316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ncludes two cycle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191120"/>
            <a:ext cx="62485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2388" dir="718319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Arial"/>
              </a:rPr>
              <a:t>Pre-Krebs cycle </a:t>
            </a:r>
            <a:r>
              <a:rPr b="0" lang="ar-EG" sz="2400" spc="-1" strike="noStrike">
                <a:solidFill>
                  <a:srgbClr val="ff0000"/>
                </a:solidFill>
                <a:latin typeface="Arial"/>
              </a:rPr>
              <a:t>المرحلة التحضي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5410080"/>
            <a:ext cx="62485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2388" dir="718319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Krebs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320" y="1066680"/>
            <a:ext cx="87627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 The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letes the energy-yielding oxidation of organic molecules (in mitochondrial matrix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221C-DDC3-4998-AD75-D5D0CFABFB54}" type="slidenum">
              <a:t>9</a:t>
            </a:fld>
          </a:p>
        </p:txBody>
      </p:sp>
    </p:spTree>
  </p:cSld>
  <p:transition spd="med">
    <p:zoom dir="out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950"/>
                            </p:stCondLst>
                            <p:childTnLst>
                              <p:par>
                                <p:cTn id="228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0:15:58Z</dcterms:created>
  <dc:creator>User</dc:creator>
  <dc:description/>
  <dc:language>en-US</dc:language>
  <cp:lastModifiedBy>Saad</cp:lastModifiedBy>
  <dcterms:modified xsi:type="dcterms:W3CDTF">2007-10-06T20:08:54Z</dcterms:modified>
  <cp:revision>12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