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20D-513A-42D7-B28F-9480C165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C326-98E6-4E76-8001-9325B62C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B359-80AA-4731-9B9D-A6279F48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635-F553-4A8C-BA19-E96A05CF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E94-7031-4131-B6D1-D55B7BAE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2C3D-75D2-4CA1-BE4F-FBC934AE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F92-19AC-4117-8A9C-EBCDE99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298-A08A-4541-ADC1-6B5ADDA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C9D3-9424-4B71-B9C8-C1314E80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209-FE95-4F7B-9E57-E466A50F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705-E7EF-4DC0-BF5D-16E7BEB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79F5-BB9C-4220-8851-A0C6010E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259-838C-45EE-8EC6-153A9F08553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705720"/>
            <a:chOff x="0" y="0"/>
            <a:chExt cx="9144000" cy="6705720"/>
          </a:xfrm>
        </p:grpSpPr>
        <p:grpSp>
          <p:nvGrpSpPr>
            <p:cNvPr id="42" name=""/>
            <p:cNvGrpSpPr/>
            <p:nvPr/>
          </p:nvGrpSpPr>
          <p:grpSpPr>
            <a:xfrm>
              <a:off x="81360" y="1260720"/>
              <a:ext cx="7976520" cy="5368320"/>
              <a:chOff x="81360" y="1260720"/>
              <a:chExt cx="7976520" cy="5368320"/>
            </a:xfrm>
          </p:grpSpPr>
          <p:pic>
            <p:nvPicPr>
              <p:cNvPr id="43" name="" descr=""/>
              <p:cNvPicPr/>
              <p:nvPr/>
            </p:nvPicPr>
            <p:blipFill>
              <a:blip r:embed="rId1">
                <a:lum contrast="24000"/>
              </a:blip>
              <a:srcRect l="0" t="0" r="0" b="6594"/>
              <a:stretch/>
            </p:blipFill>
            <p:spPr>
              <a:xfrm>
                <a:off x="798840" y="1629360"/>
                <a:ext cx="7259040" cy="499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"/>
              <p:cNvSpPr/>
              <p:nvPr/>
            </p:nvSpPr>
            <p:spPr>
              <a:xfrm rot="18849000">
                <a:off x="437760" y="1870200"/>
                <a:ext cx="2581200" cy="2085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568960" y="2077920"/>
                <a:ext cx="2145600" cy="47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ffff00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86000" y="228600"/>
              <a:ext cx="4952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HAPTER 9</a:t>
              </a:r>
              <a:br>
                <a:rPr sz="2000"/>
              </a:b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ELLULAR RESPIRATION:                                    HARVESTING CHEMICAL ENER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8080" y="2514600"/>
              <a:ext cx="7696440" cy="419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88840" y="1757520"/>
              <a:ext cx="762012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Section B: The Process of Cellular Respir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2361-A6BC-49B3-ACE6-66952F353350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)- Pre-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895320"/>
            <a:ext cx="609624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yruvate is converted in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cetyle-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the presence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rough 3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905120"/>
            <a:ext cx="777240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)-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</a:t>
            </a:r>
            <a:r>
              <a:rPr b="1" lang="en-GB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group of pyruvate is released a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5560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- The remaining tw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agments are oxidized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ing </a:t>
            </a:r>
            <a:r>
              <a:rPr b="0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n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cet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 resulting 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lang="en-US" sz="4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for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 baseline="30000">
                <a:solidFill>
                  <a:srgbClr val="0033cc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5053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)- The coenzyme-A (</a:t>
            </a: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transform acetate compound into       acetyle-</a:t>
            </a:r>
            <a:r>
              <a:rPr b="1" lang="en-GB" sz="2000" spc="-1" strike="noStrike">
                <a:solidFill>
                  <a:srgbClr val="cc00ff"/>
                </a:solidFill>
                <a:latin typeface="Arial"/>
              </a:rPr>
              <a:t>Co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which will be ready for Krebs Cycle for further oxi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28800" y="4464000"/>
            <a:ext cx="2590560" cy="802800"/>
            <a:chOff x="1828800" y="4464000"/>
            <a:chExt cx="2590560" cy="802800"/>
          </a:xfrm>
        </p:grpSpPr>
        <p:sp>
          <p:nvSpPr>
            <p:cNvPr id="109" name=""/>
            <p:cNvSpPr/>
            <p:nvPr/>
          </p:nvSpPr>
          <p:spPr>
            <a:xfrm>
              <a:off x="2514600" y="4809960"/>
              <a:ext cx="1904760" cy="456840"/>
            </a:xfrm>
            <a:custGeom>
              <a:avLst/>
              <a:gdLst/>
              <a:ahLst/>
              <a:rect l="l" t="t" r="r" b="b"/>
              <a:pathLst>
                <a:path w="1200" h="288">
                  <a:moveTo>
                    <a:pt x="0" y="0"/>
                  </a:moveTo>
                  <a:cubicBezTo>
                    <a:pt x="188" y="144"/>
                    <a:pt x="376" y="288"/>
                    <a:pt x="576" y="288"/>
                  </a:cubicBezTo>
                  <a:cubicBezTo>
                    <a:pt x="776" y="288"/>
                    <a:pt x="1096" y="48"/>
                    <a:pt x="1200" y="0"/>
                  </a:cubicBezTo>
                </a:path>
              </a:pathLst>
            </a:custGeom>
            <a:noFill/>
            <a:ln w="38160">
              <a:solidFill>
                <a:srgbClr val="00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446400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2 NAD</a:t>
              </a:r>
              <a:r>
                <a:rPr b="1" lang="en-US" sz="3200" spc="-1" strike="noStrike" baseline="30000">
                  <a:solidFill>
                    <a:srgbClr val="0033cc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505320" y="44038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 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8600" y="5064120"/>
            <a:ext cx="7238520" cy="714240"/>
            <a:chOff x="228600" y="5064120"/>
            <a:chExt cx="7238520" cy="714240"/>
          </a:xfrm>
        </p:grpSpPr>
        <p:sp>
          <p:nvSpPr>
            <p:cNvPr id="113" name=""/>
            <p:cNvSpPr/>
            <p:nvPr/>
          </p:nvSpPr>
          <p:spPr>
            <a:xfrm>
              <a:off x="228600" y="5079960"/>
              <a:ext cx="16520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Pyruv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64280" y="5064120"/>
              <a:ext cx="2202840" cy="459720"/>
            </a:xfrm>
            <a:prstGeom prst="rect">
              <a:avLst/>
            </a:prstGeom>
            <a:noFill/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Acetyle-</a:t>
              </a:r>
              <a:r>
                <a:rPr b="1" lang="en-US" sz="2400" spc="-1" strike="noStrike">
                  <a:solidFill>
                    <a:srgbClr val="cc00ff"/>
                  </a:solidFill>
                  <a:latin typeface="Arial"/>
                </a:rPr>
                <a:t>Co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80640" y="5317920"/>
              <a:ext cx="3383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1080" y="5257800"/>
              <a:ext cx="94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cc00ff"/>
                  </a:solidFill>
                  <a:latin typeface="Times New Roman"/>
                  <a:ea typeface="Times New Roman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7440120" y="5089680"/>
            <a:ext cx="161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91120" y="5334120"/>
            <a:ext cx="3809880" cy="855720"/>
            <a:chOff x="4191120" y="5334120"/>
            <a:chExt cx="3809880" cy="855720"/>
          </a:xfrm>
        </p:grpSpPr>
        <p:sp>
          <p:nvSpPr>
            <p:cNvPr id="119" name=""/>
            <p:cNvSpPr/>
            <p:nvPr/>
          </p:nvSpPr>
          <p:spPr>
            <a:xfrm>
              <a:off x="5867280" y="5334120"/>
              <a:ext cx="2133720" cy="609480"/>
            </a:xfrm>
            <a:custGeom>
              <a:avLst/>
              <a:gdLst/>
              <a:ahLst/>
              <a:rect l="l" t="t" r="r" b="b"/>
              <a:pathLst>
                <a:path w="1344" h="384">
                  <a:moveTo>
                    <a:pt x="864" y="0"/>
                  </a:moveTo>
                  <a:cubicBezTo>
                    <a:pt x="1104" y="88"/>
                    <a:pt x="1344" y="176"/>
                    <a:pt x="1200" y="240"/>
                  </a:cubicBezTo>
                  <a:cubicBezTo>
                    <a:pt x="1056" y="304"/>
                    <a:pt x="200" y="360"/>
                    <a:pt x="0" y="384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91120" y="579096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 Cy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58000" y="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. 9.10, Page 1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1F20-3EA7-4FBD-99B3-895E280C1038}" type="slidenum">
              <a:t>10</a:t>
            </a:fld>
          </a:p>
        </p:txBody>
      </p:sp>
    </p:spTree>
  </p:cSld>
  <p:transition spd="med"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702320" y="0"/>
            <a:ext cx="4441680" cy="6019920"/>
            <a:chOff x="4702320" y="0"/>
            <a:chExt cx="4441680" cy="601992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4702320" y="0"/>
              <a:ext cx="444168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467480" y="990720"/>
              <a:ext cx="304920" cy="144756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0120" y="1295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e-Krebs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6520" y="44280"/>
            <a:ext cx="351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)- Krebs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83664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has eight steps starting with 2 </a:t>
            </a:r>
            <a:r>
              <a:rPr b="1" lang="en-GB" sz="1800" spc="-1" strike="noStrike">
                <a:solidFill>
                  <a:srgbClr val="0000cc"/>
                </a:solidFill>
                <a:latin typeface="Arial"/>
              </a:rPr>
              <a:t>acetyle-CoA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compunds. They are summarized as in Fig. 9.1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119560"/>
            <a:ext cx="1676520" cy="1151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N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FAD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320" y="5075280"/>
            <a:ext cx="1599840" cy="1311120"/>
            <a:chOff x="76320" y="5075280"/>
            <a:chExt cx="1599840" cy="1311120"/>
          </a:xfrm>
        </p:grpSpPr>
        <p:sp>
          <p:nvSpPr>
            <p:cNvPr id="130" name=""/>
            <p:cNvSpPr/>
            <p:nvPr/>
          </p:nvSpPr>
          <p:spPr>
            <a:xfrm>
              <a:off x="1184040" y="5075280"/>
              <a:ext cx="492120" cy="1311120"/>
            </a:xfrm>
            <a:custGeom>
              <a:avLst/>
              <a:gdLst>
                <a:gd name="textAreaLeft" fmla="*/ 314640 w 492120"/>
                <a:gd name="textAreaRight" fmla="*/ 492480 w 492120"/>
                <a:gd name="textAreaTop" fmla="*/ 34200 h 1311120"/>
                <a:gd name="textAreaBottom" fmla="*/ 1276920 h 131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320" y="5541840"/>
              <a:ext cx="141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048040" y="6141960"/>
            <a:ext cx="3972960" cy="565920"/>
            <a:chOff x="2048040" y="6141960"/>
            <a:chExt cx="3972960" cy="565920"/>
          </a:xfrm>
        </p:grpSpPr>
        <p:sp>
          <p:nvSpPr>
            <p:cNvPr id="133" name=""/>
            <p:cNvSpPr/>
            <p:nvPr/>
          </p:nvSpPr>
          <p:spPr>
            <a:xfrm>
              <a:off x="2434320" y="6309000"/>
              <a:ext cx="358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lavin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enine </a:t>
              </a:r>
              <a:r>
                <a:rPr b="1" lang="en-GB" sz="20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inucleot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48040" y="6141960"/>
              <a:ext cx="474840" cy="27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60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597384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2, Page 1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26708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utcome of the two cycles is (for the 2 Acetyle-CoA molecu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905120"/>
            <a:ext cx="533412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cycle begins when acetate from each acetyl-CoA combines with oxaloacetate (4 C atoms) to form citrate (citric aci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timately, the oxaloacetate is recycled and the acetate is broken down to C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cycle produces one ATP by substrate-level phosphorylation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three NAD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one FADH</a:t>
            </a:r>
            <a:r>
              <a:rPr b="1" lang="en-US" sz="16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nother electron carrier)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per acetyl Co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FA40-8372-4B2D-A847-660971F1E5D8}" type="slidenum">
              <a:t>11</a:t>
            </a:fld>
          </a:p>
        </p:txBody>
      </p:sp>
    </p:spTree>
  </p:cSld>
  <p:transition spd="med"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 The inner mitochondrial membrane couples electron transport to ATP synthesi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 of AT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866120" y="3115440"/>
            <a:ext cx="4277520" cy="3208680"/>
            <a:chOff x="4866120" y="3115440"/>
            <a:chExt cx="4277520" cy="3208680"/>
          </a:xfrm>
        </p:grpSpPr>
        <p:pic>
          <p:nvPicPr>
            <p:cNvPr id="142" name="" descr=""/>
            <p:cNvPicPr/>
            <p:nvPr/>
          </p:nvPicPr>
          <p:blipFill>
            <a:blip r:embed="rId1">
              <a:lum contrast="24000"/>
            </a:blip>
            <a:srcRect l="0" t="0" r="0" b="6594"/>
            <a:stretch/>
          </p:blipFill>
          <p:spPr>
            <a:xfrm>
              <a:off x="5317200" y="3280680"/>
              <a:ext cx="3826440" cy="30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 rot="18849000">
              <a:off x="5022000" y="3512160"/>
              <a:ext cx="1571400" cy="10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50320" y="3553920"/>
              <a:ext cx="1130760" cy="28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52280" y="4210200"/>
            <a:ext cx="5943600" cy="23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usands of copies of the electron transport chain are found in the extensive surface of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rista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ner membrane of the mitochondr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drop in free energy as they pass down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28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4 of 38 ATP ultimately produced by respiration of glucose are derived from substrate-level phosphorylation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from glycolysis and 2 from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ast majority of the ATP (90%) comes from the energy in the electrons carried by NADH and FAD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nergy in these electrons is used in the electron transport chain to power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لتدع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982-0F6D-4C05-AB7E-1176E43AC3AE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320" y="295200"/>
            <a:ext cx="8686800" cy="14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transferred to the first molecule in the electron transport chain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lavo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s carri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lower free energy and are added to a later point in th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181480" y="1371600"/>
            <a:ext cx="3699000" cy="5257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706080" y="54864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9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1820880"/>
            <a:ext cx="525780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on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AD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ltimately pass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electron transport chain generates no ATP directly. Rather, its function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ee energy drop from food to oxygen in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er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eps that release energy in manageable amoun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كميات مناس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ovement of electrons along the electron transport chain does contribute 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hemiosm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الدفع ال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P synthesis proc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B374-B987-4B68-90B2-A3FD374E79A7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5140440"/>
            <a:ext cx="52578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mos = puch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xidative phosphore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results in ATP production in the inner membrane of mitoch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410080" y="1523880"/>
            <a:ext cx="3733920" cy="5181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7471800" y="6567480"/>
            <a:ext cx="83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9.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3233880"/>
            <a:ext cx="510552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TP synthase molecules are the only place that will allow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diffuse back to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flow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by the enzyme to generate ATP a process calle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miosmo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64008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314280"/>
            <a:ext cx="8839440" cy="27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TP-synthase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cristae actually mak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P used the energy of an existing proton gradient to power ATP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ton grad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velops between                                                              the intermembrane space and the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oncentration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he                       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oton-motive forc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8451-0B08-4D1A-A2F6-4ECCB6476626}" type="slidenum">
              <a:t>14</a:t>
            </a:fld>
          </a:p>
        </p:txBody>
      </p:sp>
    </p:spTree>
  </p:cSld>
  <p:transition spd="med">
    <p:zoom dir="out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0" t="0" r="0" b="3946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442600" y="17524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5, Page 1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522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of NADH and 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 a maximum y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7FD-8B8F-49C4-864A-4162D120B1C8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52280" y="1523520"/>
            <a:ext cx="876312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respiration, most energy flow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ucose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NAD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electron transport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ton-motive for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T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ix-carbon glucose molecule is oxidized to 6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ome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oduced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uring glycolysis and the Krebs cycle, but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es fro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xidative phosphory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rough electron transport chain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Krebs cycle and the conversion of pyruvate contributes enough energy to generate a maximum of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3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AD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Krebs cycle can be used to generate about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2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produced in electron transport chain gives a maximum yield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oxidative phosphorylation via ATP-synt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. Cellular respiration generates many ATP molecules for each sugar molecule it oxid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FB7-1775-4293-87B2-F875F91C0ADA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356760"/>
            <a:ext cx="8839440" cy="59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4 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strate-level phosphory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&amp; Krebs Cyc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s a bottom line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8 AT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عال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generating ATP during cell respi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oxidation of glucose releases 686 kcal/m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ion of each ATP require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يحتا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least 7.3 kcal/m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Efficiency of respi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:  7.3 x 38 = 277.4K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of energy consumed for 38 ATP is: (277.4/686)100 = 4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60% is lost as h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respiration is remarkably efficient in energy con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3E0-1441-4A86-BB77-C46EA7358472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0" t="0" r="0" b="4567"/>
          <a:stretch/>
        </p:blipFill>
        <p:spPr>
          <a:xfrm>
            <a:off x="189000" y="914400"/>
            <a:ext cx="8764560" cy="521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6, Page 16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90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of cell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D416-7ACE-4CD1-A027-F37CCDD53E11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  <a:ea typeface="Tahoma"/>
              </a:rPr>
              <a:t>Summary of Respi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762120"/>
            <a:ext cx="899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Glycolys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ccurs in the cytosol and breaks glucose into two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295280"/>
            <a:ext cx="88394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- Krebs Cycl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akes place within the mitochondrial matrix, and break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a pyruvat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produce some ATP and NAD</a:t>
            </a:r>
            <a:r>
              <a:rPr b="1" lang="en-GB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22096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steps of Glycolysis and Krebs Cycle are Redox in which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dehydrogenase enzyme reduces NAD</a:t>
            </a:r>
            <a:r>
              <a:rPr b="1" lang="en-GB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o NAD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3809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pts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passes these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br>
              <a:rPr sz="3200"/>
            </a:b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one protein molecule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4648320"/>
            <a:ext cx="8839440" cy="9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At the end of the chain, </a:t>
            </a:r>
            <a:r>
              <a:rPr b="1" i="1" lang="en-US" sz="24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e</a:t>
            </a:r>
            <a:r>
              <a:rPr b="1" lang="en-US" sz="3200" spc="-1" strike="noStrike" baseline="30000">
                <a:solidFill>
                  <a:srgbClr val="cc00ff"/>
                </a:solidFill>
                <a:latin typeface="Times New Roman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bine with both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orm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ease ener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5468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se energy are used by mitochondria to synthesis 90% of the cellula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TP-synth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a process called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the inner membrane of mitochond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304812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Some of ATP is produced at these tow steps via (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bstrate-level-</a:t>
            </a:r>
            <a:br>
              <a:rPr sz="2000"/>
            </a:b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  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195-9BD2-494B-B965-D181B765B0DA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912960"/>
            <a:ext cx="8458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Section B: The Process of Cellular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143000"/>
            <a:ext cx="8763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iration involves glycolysis, the Krebs cycle, and electron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ycolys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rvests chemical energy by oxidizing glucose to pyruvate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cytopla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 Krebs cyc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tochonderial matr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ectron transpo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in to synthe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ner mitochondria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 Cellular respiration generates many ATP molecules for each sugar molecule it oxidizes (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8 ATP molec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B28-F103-4417-9E4A-30622642DC00}" type="slidenum">
              <a:t>2</a:t>
            </a:fld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48120" y="15228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efinition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عريفا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066680"/>
            <a:ext cx="86868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hemiosmosis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 proces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oxidative phosphoryla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takes place at the end of the Electron Transport Chain to produce 90% of ATP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TP-synth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22860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TP-synthase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 enzyme presents in the inner mitochondrial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membrane and used in making ATP by using 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AD</a:t>
            </a:r>
            <a:r>
              <a:rPr b="1" lang="en-GB" sz="2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cotinamid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 co-enzyme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helps electron transfer during redox reactions 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724280"/>
            <a:ext cx="8839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FAD: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vin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nin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ucleotide, which is an electron acceptor tha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helps electron transfer during Krebs Cycle and Electron Transport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Chai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cellular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B4E-8A99-4979-A6CB-AF5E300AAE8F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75960" y="1142640"/>
            <a:ext cx="8915400" cy="56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idation refers to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oss of electr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any electron acceptor, not just to oxy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glycolysis, glucose is oxidized to two pyruvate molecules with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the oxidizing agent, not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nergy from this oxidation produce 2 ATP (n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xygen is present, additional ATP can be generated when NADH delivers its electrons to the electron transport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generates 2 ATP whether oxygen is absent (anaerobic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لاهو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erobic catabolism of sugars can occur by fer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can generate ATP from glucose by substrate-level phosphorylation as long as there is a supply of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xidizing ag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accept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ol is exhausted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ـتـُنفـِ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glycolysis shuts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aerobic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itions, NADH transfers its electrons to the electron transfer chain, recycling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naerobic conditions, various fermentation pathways generate ATP by glycolysis and recycle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ransferring electrons from NADH to pyruv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ermentation ena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ُمَكِن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me cells to produce ATP without the help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B5BE-990D-4C62-9AFB-424B1E201CF0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943600" y="1231920"/>
            <a:ext cx="3200400" cy="2654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975280" y="3962520"/>
            <a:ext cx="3168720" cy="26208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61048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lcohol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two ste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converted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y the removal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etaldehy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by NADH                                             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han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 fermentation by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yea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e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00" y="6567480"/>
            <a:ext cx="1881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7a &amp; b, Page 17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3230640"/>
            <a:ext cx="5943600" cy="36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ctic acid ferment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 reduced directly by NADH to form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ct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ionized form of lactic acid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 fermentation by som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ung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acter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used to mak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eese and yogu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cells switch from aerobic respiration                                            to lactic acid fermentation to generate ATP                                              when 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scarce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ناد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aste product, lactate, may caus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cle fatigue, but ultimately it i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ed back to pyruvate in the l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945-3BDC-4F81-96A1-06B4C2E0B700}" type="slidenum">
              <a:t>22</a:t>
            </a:fld>
          </a:p>
        </p:txBody>
      </p:sp>
    </p:spTree>
  </p:cSld>
  <p:transition spd="med">
    <p:zoom dir="ou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560" y="152280"/>
            <a:ext cx="8381880" cy="65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rmentation and cellular respiration are anaerobic and aerobic alternatives, respectively, for producing ATP from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glycolysis to oxidize sugars to pyruvate with a net production of 2 ATP by substrate-level phosphory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use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an electron ac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fermentation, the electrons of NADH are passed to an organic molecule, regenerating 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spiration, the electrons of NADH are ultimately passed to 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generating ATP by oxidative phosphoryl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ddition, even more ATP is generated from the oxidation of pyruvate in the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out oxygen, the energy still stored in pyruvate is unavailable to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5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 aerobic respiration, a molecule of glucose yields 38 ATP, but the same molecule of glucose yields only 2 ATP under anaerobic respi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E2D-2462-4DEC-BEBC-899B5EEA5BD9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152280" y="2509920"/>
            <a:ext cx="4191120" cy="4120920"/>
            <a:chOff x="152280" y="2509920"/>
            <a:chExt cx="4191120" cy="412092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rcRect l="0" t="0" r="0" b="4466"/>
            <a:stretch/>
          </p:blipFill>
          <p:spPr>
            <a:xfrm>
              <a:off x="152280" y="2509920"/>
              <a:ext cx="419112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64480" y="6338880"/>
              <a:ext cx="1488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9.18, Page 17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98280"/>
            <a:ext cx="4114800" cy="234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rganisms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cultative anaerob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لاهوائية اختياري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including yeast and many bacteria, can survive using either fermentation or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 cellular level, human muscle cells can behave as facultative anaerobes, but nerve cells can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76320"/>
            <a:ext cx="4114800" cy="662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800600" y="76320"/>
            <a:ext cx="4127040" cy="6629400"/>
            <a:chOff x="4800600" y="76320"/>
            <a:chExt cx="4127040" cy="662940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rcRect l="0" t="0" r="0" b="3357"/>
            <a:stretch/>
          </p:blipFill>
          <p:spPr>
            <a:xfrm>
              <a:off x="4863960" y="1295280"/>
              <a:ext cx="406368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800600" y="152280"/>
              <a:ext cx="4114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Proteins and fat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can also enter the respiratory pathways, including glycolysis and the Krebs cycle, like carbohydra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0600" y="76320"/>
              <a:ext cx="4114440" cy="662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00600" y="6400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9.19, Page 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6AC-CB7A-40AA-A9C8-CA7A39A0CDA5}" type="slidenum">
              <a:t>24</a:t>
            </a:fld>
          </a:p>
        </p:txBody>
      </p:sp>
    </p:spTree>
  </p:cSld>
  <p:transition spd="med">
    <p:zoom dir="ou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495680" y="304920"/>
            <a:ext cx="4503960" cy="62481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55880" y="6567480"/>
            <a:ext cx="1108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9, 1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53352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ther two major fuels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roteins and f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n also enter the respiratory pathways, including glycolysis and the Krebs cycle, used by carbohyd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666880"/>
            <a:ext cx="4038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, fats, and proteins can all be catabolized through the same path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11E9-AD82-401F-9F10-25B375202DE5}" type="slidenum">
              <a:t>25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1371600"/>
            <a:ext cx="5105520" cy="131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occurs in three metabolic stag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lycolysis,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ectron transport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oxidative phosphory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spiration involves glycolysis, the Krebs cycle, and electron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33520" y="39625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6, Page 1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5334120" y="1295280"/>
            <a:ext cx="3606840" cy="25434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6320" y="2819520"/>
            <a:ext cx="51051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olysis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ytopl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begins catabolism by breaking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gluc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to two molecule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4334040"/>
            <a:ext cx="8991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rebs cycle occurs 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itochondrial matr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degrades pyruvate to carbon diox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teps in glycolysis and the Krebs cycle transfer electrons from substrates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forming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NA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sses these electrons to the electron transport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709-6618-49DD-85DD-01654E3D027B}" type="slidenum">
              <a:t>3</a:t>
            </a:fld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5216400" y="2362320"/>
            <a:ext cx="3775320" cy="4267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52280" y="309240"/>
            <a:ext cx="883944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electrons passed along the chain, their energy stored in the mitochondrion in a form that can be used to synthesiz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oxidative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idative phosphorylation produces almost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90% of th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generated by respi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868480"/>
            <a:ext cx="51055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ATP is also generated in glycolysis and in Krebs cycle b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ubstrate-level phosphory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 an enzyme transfers a phosphate group from an organic molecule (the substrate) to ADP, forming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00040" y="649116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7, Page 1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257800"/>
            <a:ext cx="51814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timatel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8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produced per mole of glucose that is degraded to carb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re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084-756F-4573-8F47-513A874F53CE}" type="slidenum">
              <a:t>4</a:t>
            </a:fld>
          </a:p>
        </p:txBody>
      </p:sp>
    </p:spTree>
  </p:cSld>
  <p:transition spd="med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1036440"/>
            <a:ext cx="91440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glycolysis, glucose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x carbon-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split into two molecules      (each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ree-carbon sug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maller sugars are oxidized and rearranged to form two molecules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yruv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f the 10 steps in glycolysis is catalyzed by a specific enzy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steps can be divided into two pha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)- Energy investment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ستهلاك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consumed to provides activation                                                                      energy by phosphorylating glucose                                                                            (this requires 2 ATP per glucos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B)- Energy payoff phas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نتاج طاق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P is produced by substrate-level                                                         phosphorylation and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reduced to                                                             NA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5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4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produced per                                                          gluc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6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net yield from glycolysis is                                                                    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 NAD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 gluc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 startAt="7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ycolysis occurs in the absence                                                                         of O2, thu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5334120" y="2743200"/>
            <a:ext cx="37764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76320" y="30600"/>
            <a:ext cx="9067680" cy="8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Glycolysi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ting glucos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: harvests chemical energy by oxidizing glucose to 2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7200" y="65530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416-9806-49FC-A908-87CE16EABDF1}" type="slidenum">
              <a:t>5</a:t>
            </a:fld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5720"/>
            <a:ext cx="69343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066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the process of breaking a </a:t>
            </a: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gluc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nto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yruv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1706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source for som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AD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occurs in t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YTOS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ytoplasm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872840" y="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1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4343400"/>
            <a:ext cx="7924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)- Glucose is phosphorylated twice by adding 2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P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ing from 2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00cc"/>
                </a:solidFill>
                <a:latin typeface="Arial"/>
              </a:rPr>
              <a:t>substrate-level-phosphoryla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5720" y="3886200"/>
            <a:ext cx="36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)- Energy investment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3276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e Fig. 9.9, Page 1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6240" y="3124080"/>
            <a:ext cx="31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cc"/>
                </a:solidFill>
                <a:uFillTx/>
                <a:latin typeface="Arial"/>
              </a:rPr>
              <a:t>It has two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5410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- Thus, Glucose (6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plits into two small sug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ules (each with 3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063-1E21-4085-A882-B837A9F14AAE}" type="slidenum">
              <a:t>6</a:t>
            </a:fld>
          </a:p>
        </p:txBody>
      </p:sp>
    </p:spTree>
  </p:cSld>
  <p:transition spd="med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26668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)- The resulting </a:t>
            </a:r>
            <a:r>
              <a:rPr b="1" i="1" lang="en-GB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GB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</a:t>
            </a:r>
            <a:r>
              <a:rPr b="1" i="1" lang="en-GB" sz="20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e two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suga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d for reducing 2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GB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e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hydrogen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4495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6)- The net yield of this process is the form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NAD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GB" sz="2000" spc="-1" strike="noStrike" u="sng">
                <a:solidFill>
                  <a:srgbClr val="0033cc"/>
                </a:solidFill>
                <a:uFillTx/>
                <a:latin typeface="Arial"/>
              </a:rPr>
              <a:t>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ATP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2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3720" y="121932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)- Energy pay-off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981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- The two resulting 3-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sugars are then oxidized (losing 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</a:t>
            </a:r>
            <a:r>
              <a:rPr b="1" i="1" lang="en-US" sz="3600" spc="-1" strike="noStrike" baseline="30000">
                <a:solidFill>
                  <a:srgbClr val="0033cc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12952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Fig. 9.9, Page 1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38862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-  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formed by adding 4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4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22400"/>
            <a:ext cx="6934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ummary of Glycolysis (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Arial"/>
              </a:rPr>
              <a:t>Splitting of glucose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467480" y="617220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55767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)- Now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pyruvat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s ready for Krebs Cy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05D-1593-4EC1-A4A7-38B4EE680B02}" type="slidenum">
              <a:t>7</a:t>
            </a:fld>
          </a:p>
        </p:txBody>
      </p:sp>
    </p:spTree>
  </p:cSld>
  <p:transition spd="med"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0" b="5857"/>
          <a:stretch/>
        </p:blipFill>
        <p:spPr>
          <a:xfrm>
            <a:off x="3960720" y="3367080"/>
            <a:ext cx="5183280" cy="2765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6320" y="1431720"/>
            <a:ext cx="899136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resent,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nters the mitochondrion where enzymes of the Krebs cycle complete the oxidation of this organic fuel to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completes the energy-yielding oxidation of organic molecul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itochondrial matrix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):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300400"/>
            <a:ext cx="8382240" cy="36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yruvate enters the mitochondrion which modifies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pyruv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acetyl-Co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ich enters the Krebs cycle in the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rboxyl group is removed a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ir of electrons is                                                                         transferred from the                                                                              remaining two-carbon                                                                             fragment to 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form                                                                         NAD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oxidized fragment,                                                                                       acetate, combines with                                                                             coenzyme A to form                                   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cetyl-Co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167240" y="611028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9.10, Page 1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AA0-B938-46CC-A8B2-37A6A1CB499D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137160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the process of producing some of the remaining energy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Pyruvat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lecules. It occurs mainly in </a:t>
            </a:r>
            <a:r>
              <a:rPr b="1" lang="en-GB" sz="2400" spc="-1" strike="noStrike" u="sng">
                <a:solidFill>
                  <a:srgbClr val="0033cc"/>
                </a:solidFill>
                <a:uFillTx/>
                <a:latin typeface="Arial"/>
              </a:rPr>
              <a:t>mitochondrial matri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2860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main source for preparing most of the cellular NAD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toring energy molecule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for producing some more of the cell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41316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cludes two cycles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19112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cc"/>
                </a:solidFill>
                <a:latin typeface="Arial"/>
              </a:rPr>
              <a:t>Pre-Krebs cycle </a:t>
            </a:r>
            <a:r>
              <a:rPr b="0" lang="ar-EG" sz="2400" spc="-1" strike="noStrike">
                <a:solidFill>
                  <a:srgbClr val="ff0000"/>
                </a:solidFill>
                <a:latin typeface="Arial"/>
              </a:rPr>
              <a:t>المرحلة التحضي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5410080"/>
            <a:ext cx="62485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2388" dir="7183193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Krebs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066680"/>
            <a:ext cx="876276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 The Krebs cy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letes the energy-yielding oxidation of organic molecules (in mitochondrial matrix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2B53-87BB-4A6E-B8EA-F9FB2D2D503B}" type="slidenum">
              <a:t>9</a:t>
            </a:fld>
          </a:p>
        </p:txBody>
      </p:sp>
    </p:spTree>
  </p:cSld>
  <p:transition spd="med"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9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20:15:58Z</dcterms:created>
  <dc:creator>User</dc:creator>
  <dc:description/>
  <dc:language>en-US</dc:language>
  <cp:lastModifiedBy>Saad</cp:lastModifiedBy>
  <dcterms:modified xsi:type="dcterms:W3CDTF">2007-10-06T20:08:54Z</dcterms:modified>
  <cp:revision>1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