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62A-43C4-4840-8BD8-E877A15E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2AC-4A81-4D75-878C-79735749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124-117E-4182-A3D7-15886766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5BFE-D197-42BE-95BE-AC034AB7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D48-F85F-49ED-BE2B-EC52385F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7CE-7D70-4FC2-A3FF-34EC7D8C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E130-A376-45AB-AABE-B1713C4B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0DF8-22AA-402E-8170-61FF526F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B50D-9B39-43D5-802A-D565A642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105-3572-4748-B31C-0A72A733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7C2-AD5A-4D4C-9C4C-A307956E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EF99-EA7F-4B5F-8946-9B286116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AE81-7ED3-47CF-9A07-1A5215D6CD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7E18-E785-4758-B83C-B6D17B5C73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2"/>
          <p:cNvGrpSpPr/>
          <p:nvPr/>
        </p:nvGrpSpPr>
        <p:grpSpPr>
          <a:xfrm>
            <a:off x="81360" y="1260720"/>
            <a:ext cx="7976520" cy="5368320"/>
            <a:chOff x="81360" y="1260720"/>
            <a:chExt cx="7976520" cy="5368320"/>
          </a:xfrm>
        </p:grpSpPr>
        <p:pic>
          <p:nvPicPr>
            <p:cNvPr id="43" name="Picture 9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629360"/>
              <a:ext cx="7259040" cy="49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10"/>
            <p:cNvSpPr/>
            <p:nvPr/>
          </p:nvSpPr>
          <p:spPr>
            <a:xfrm rot="18849000">
              <a:off x="437760" y="1870200"/>
              <a:ext cx="258120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1"/>
            <p:cNvSpPr/>
            <p:nvPr/>
          </p:nvSpPr>
          <p:spPr>
            <a:xfrm>
              <a:off x="2568960" y="2077920"/>
              <a:ext cx="214560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219320" y="1676520"/>
            <a:ext cx="693396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A: The Principles of Energy Harv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6"/>
          <p:cNvSpPr/>
          <p:nvPr/>
        </p:nvSpPr>
        <p:spPr>
          <a:xfrm>
            <a:off x="6248520" y="2286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 rot="5400000">
            <a:off x="4210200" y="2571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76320" y="4572000"/>
            <a:ext cx="2438280" cy="1752480"/>
            <a:chOff x="76320" y="4572000"/>
            <a:chExt cx="2438280" cy="1752480"/>
          </a:xfrm>
        </p:grpSpPr>
        <p:sp>
          <p:nvSpPr>
            <p:cNvPr id="146" name="AutoShape 5"/>
            <p:cNvSpPr/>
            <p:nvPr/>
          </p:nvSpPr>
          <p:spPr>
            <a:xfrm>
              <a:off x="1600200" y="457200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76320" y="4784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1066680" y="5105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8"/>
          <p:cNvSpPr/>
          <p:nvPr/>
        </p:nvSpPr>
        <p:spPr>
          <a:xfrm>
            <a:off x="1066680" y="3276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2413080" y="4851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1981080" y="5715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3"/>
          <p:cNvGrpSpPr/>
          <p:nvPr/>
        </p:nvGrpSpPr>
        <p:grpSpPr>
          <a:xfrm>
            <a:off x="6477120" y="1090440"/>
            <a:ext cx="2782800" cy="1741320"/>
            <a:chOff x="6477120" y="1090440"/>
            <a:chExt cx="2782800" cy="1741320"/>
          </a:xfrm>
        </p:grpSpPr>
        <p:grpSp>
          <p:nvGrpSpPr>
            <p:cNvPr id="154" name="Group 14"/>
            <p:cNvGrpSpPr/>
            <p:nvPr/>
          </p:nvGrpSpPr>
          <p:grpSpPr>
            <a:xfrm>
              <a:off x="7569360" y="1090440"/>
              <a:ext cx="1690560" cy="1741320"/>
              <a:chOff x="7569360" y="1090440"/>
              <a:chExt cx="1690560" cy="1741320"/>
            </a:xfrm>
          </p:grpSpPr>
          <p:sp>
            <p:nvSpPr>
              <p:cNvPr id="155" name="AutoShape 15"/>
              <p:cNvSpPr/>
              <p:nvPr/>
            </p:nvSpPr>
            <p:spPr>
              <a:xfrm rot="1476000">
                <a:off x="8364240" y="1219320"/>
                <a:ext cx="779400" cy="729360"/>
              </a:xfrm>
              <a:prstGeom prst="hexagon">
                <a:avLst>
                  <a:gd name="adj" fmla="val 2671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6"/>
              <p:cNvSpPr/>
              <p:nvPr/>
            </p:nvSpPr>
            <p:spPr>
              <a:xfrm rot="19995000">
                <a:off x="7899120" y="1282680"/>
                <a:ext cx="556560" cy="66384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17"/>
              <p:cNvSpPr/>
              <p:nvPr/>
            </p:nvSpPr>
            <p:spPr>
              <a:xfrm rot="20174400">
                <a:off x="7656480" y="2192040"/>
                <a:ext cx="557640" cy="55080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"/>
              <p:cNvSpPr/>
              <p:nvPr/>
            </p:nvSpPr>
            <p:spPr>
              <a:xfrm>
                <a:off x="8159040" y="1989360"/>
                <a:ext cx="0" cy="30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"/>
              <p:cNvSpPr/>
              <p:nvPr/>
            </p:nvSpPr>
            <p:spPr>
              <a:xfrm>
                <a:off x="7656840" y="2232720"/>
                <a:ext cx="0" cy="30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0"/>
            <p:cNvGrpSpPr/>
            <p:nvPr/>
          </p:nvGrpSpPr>
          <p:grpSpPr>
            <a:xfrm>
              <a:off x="7025040" y="2072520"/>
              <a:ext cx="621720" cy="365400"/>
              <a:chOff x="7025040" y="2072520"/>
              <a:chExt cx="621720" cy="365400"/>
            </a:xfrm>
          </p:grpSpPr>
          <p:sp>
            <p:nvSpPr>
              <p:cNvPr id="161" name="Line 21"/>
              <p:cNvSpPr/>
              <p:nvPr/>
            </p:nvSpPr>
            <p:spPr>
              <a:xfrm flipH="1">
                <a:off x="7367040" y="2242440"/>
                <a:ext cx="27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2"/>
              <p:cNvSpPr/>
              <p:nvPr/>
            </p:nvSpPr>
            <p:spPr>
              <a:xfrm>
                <a:off x="7025040" y="2072520"/>
                <a:ext cx="33300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3"/>
            <p:cNvGrpSpPr/>
            <p:nvPr/>
          </p:nvGrpSpPr>
          <p:grpSpPr>
            <a:xfrm>
              <a:off x="6477120" y="2072520"/>
              <a:ext cx="547200" cy="365400"/>
              <a:chOff x="6477120" y="2072520"/>
              <a:chExt cx="547200" cy="365400"/>
            </a:xfrm>
          </p:grpSpPr>
          <p:sp>
            <p:nvSpPr>
              <p:cNvPr id="164" name="Oval 24"/>
              <p:cNvSpPr/>
              <p:nvPr/>
            </p:nvSpPr>
            <p:spPr>
              <a:xfrm>
                <a:off x="6477120" y="2072520"/>
                <a:ext cx="33552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5"/>
              <p:cNvSpPr/>
              <p:nvPr/>
            </p:nvSpPr>
            <p:spPr>
              <a:xfrm flipH="1">
                <a:off x="6802920" y="2251440"/>
                <a:ext cx="22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29"/>
          <p:cNvGrpSpPr/>
          <p:nvPr/>
        </p:nvGrpSpPr>
        <p:grpSpPr>
          <a:xfrm>
            <a:off x="6139080" y="2514240"/>
            <a:ext cx="1772640" cy="1406160"/>
            <a:chOff x="6139080" y="2514240"/>
            <a:chExt cx="1772640" cy="1406160"/>
          </a:xfrm>
        </p:grpSpPr>
        <p:sp>
          <p:nvSpPr>
            <p:cNvPr id="167" name="Line 27"/>
            <p:cNvSpPr/>
            <p:nvPr/>
          </p:nvSpPr>
          <p:spPr>
            <a:xfrm flipH="1" flipV="1">
              <a:off x="6311520" y="2514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 rot="2119200">
              <a:off x="6069960" y="3035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5943600" y="2108160"/>
            <a:ext cx="533160" cy="380880"/>
            <a:chOff x="5943600" y="2108160"/>
            <a:chExt cx="533160" cy="380880"/>
          </a:xfrm>
        </p:grpSpPr>
        <p:sp>
          <p:nvSpPr>
            <p:cNvPr id="170" name="Oval 30"/>
            <p:cNvSpPr/>
            <p:nvPr/>
          </p:nvSpPr>
          <p:spPr>
            <a:xfrm>
              <a:off x="5943600" y="2108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6324480" y="2286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6"/>
          <p:cNvSpPr/>
          <p:nvPr/>
        </p:nvSpPr>
        <p:spPr>
          <a:xfrm>
            <a:off x="380880" y="1100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29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317" dur="8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19" dur="8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21" dur="8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32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33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200240"/>
            <a:ext cx="8763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the los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Reduc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237600"/>
            <a:ext cx="75438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14400" y="50324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609480" y="5138640"/>
            <a:ext cx="7391520" cy="627480"/>
            <a:chOff x="609480" y="5138640"/>
            <a:chExt cx="7391520" cy="627480"/>
          </a:xfrm>
        </p:grpSpPr>
        <p:sp>
          <p:nvSpPr>
            <p:cNvPr id="178" name="Text Box 8"/>
            <p:cNvSpPr/>
            <p:nvPr/>
          </p:nvSpPr>
          <p:spPr>
            <a:xfrm>
              <a:off x="609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5146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54864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7467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16765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4771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276720" y="548964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15"/>
          <p:cNvSpPr/>
          <p:nvPr/>
        </p:nvSpPr>
        <p:spPr>
          <a:xfrm>
            <a:off x="5716800" y="4933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5102640" y="5641920"/>
            <a:ext cx="3628080" cy="703800"/>
            <a:chOff x="5102640" y="5641920"/>
            <a:chExt cx="3628080" cy="703800"/>
          </a:xfrm>
        </p:grpSpPr>
        <p:sp>
          <p:nvSpPr>
            <p:cNvPr id="187" name="Rectangle 17"/>
            <p:cNvSpPr/>
            <p:nvPr/>
          </p:nvSpPr>
          <p:spPr>
            <a:xfrm>
              <a:off x="5102640" y="564192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7082280" y="564192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9"/>
          <p:cNvSpPr/>
          <p:nvPr/>
        </p:nvSpPr>
        <p:spPr>
          <a:xfrm>
            <a:off x="6400800" y="630540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04920" y="6019920"/>
            <a:ext cx="4267080" cy="477720"/>
            <a:chOff x="304920" y="6019920"/>
            <a:chExt cx="4267080" cy="477720"/>
          </a:xfrm>
        </p:grpSpPr>
        <p:sp>
          <p:nvSpPr>
            <p:cNvPr id="191" name="Text Box 20"/>
            <p:cNvSpPr/>
            <p:nvPr/>
          </p:nvSpPr>
          <p:spPr>
            <a:xfrm>
              <a:off x="304920" y="6019920"/>
              <a:ext cx="4267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133360" y="62485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23"/>
          <p:cNvSpPr/>
          <p:nvPr/>
        </p:nvSpPr>
        <p:spPr>
          <a:xfrm>
            <a:off x="5181480" y="2362320"/>
            <a:ext cx="3810240" cy="8380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dox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oth a donor and acceptor of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3352680"/>
          <a:ext cx="6019920" cy="147492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Reduc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Oxidiz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383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6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200" name="Text Box 17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GB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0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1"/>
          <p:cNvSpPr/>
          <p:nvPr/>
        </p:nvSpPr>
        <p:spPr>
          <a:xfrm>
            <a:off x="1981080" y="2171880"/>
            <a:ext cx="3810240" cy="49500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2400" h="312">
                <a:moveTo>
                  <a:pt x="0" y="168"/>
                </a:moveTo>
                <a:cubicBezTo>
                  <a:pt x="424" y="84"/>
                  <a:pt x="848" y="0"/>
                  <a:pt x="1248" y="24"/>
                </a:cubicBezTo>
                <a:cubicBezTo>
                  <a:pt x="1648" y="48"/>
                  <a:pt x="2208" y="264"/>
                  <a:pt x="2400" y="3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2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206" name="Freeform 23"/>
            <p:cNvSpPr/>
            <p:nvPr/>
          </p:nvSpPr>
          <p:spPr>
            <a:xfrm>
              <a:off x="1143000" y="2349360"/>
              <a:ext cx="1371600" cy="3938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864" h="248">
                  <a:moveTo>
                    <a:pt x="0" y="200"/>
                  </a:moveTo>
                  <a:cubicBezTo>
                    <a:pt x="72" y="100"/>
                    <a:pt x="144" y="0"/>
                    <a:pt x="288" y="8"/>
                  </a:cubicBezTo>
                  <a:cubicBezTo>
                    <a:pt x="432" y="16"/>
                    <a:pt x="768" y="208"/>
                    <a:pt x="864" y="2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5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209" name="Rectangle 26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7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28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7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us, NAD+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xidizing ag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it accept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unctions as the oxidizing agent in many of the redox steps during the catabolism of gluc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oxygen, their energy is used to synthesiz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حدار الإليكتر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رح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838080" y="5410080"/>
            <a:ext cx="7467840" cy="525960"/>
            <a:chOff x="838080" y="5410080"/>
            <a:chExt cx="7467840" cy="525960"/>
          </a:xfrm>
        </p:grpSpPr>
        <p:sp>
          <p:nvSpPr>
            <p:cNvPr id="217" name="Text Box 6"/>
            <p:cNvSpPr/>
            <p:nvPr/>
          </p:nvSpPr>
          <p:spPr>
            <a:xfrm>
              <a:off x="838080" y="5537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"/>
            <p:cNvSpPr/>
            <p:nvPr/>
          </p:nvSpPr>
          <p:spPr>
            <a:xfrm>
              <a:off x="3124080" y="5410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2971800" y="5765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mon carrier i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toms have one proton and one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w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 are removed from a substr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epts the electrons from both atoms and a proton from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+ 2H→ NADH + H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38280" y="1522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rial"/>
              </a:rPr>
              <a:t>Final h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"/>
          <p:cNvPicPr/>
          <p:nvPr/>
        </p:nvPicPr>
        <p:blipFill>
          <a:blip r:embed="rId1"/>
          <a:srcRect l="0" t="0" r="0" b="23175"/>
          <a:stretch/>
        </p:blipFill>
        <p:spPr>
          <a:xfrm>
            <a:off x="5334120" y="12952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11760" y="3505320"/>
            <a:ext cx="7994160" cy="3162960"/>
            <a:chOff x="311760" y="3505320"/>
            <a:chExt cx="7994160" cy="3162960"/>
          </a:xfrm>
        </p:grpSpPr>
        <p:sp>
          <p:nvSpPr>
            <p:cNvPr id="230" name="Oval 3"/>
            <p:cNvSpPr/>
            <p:nvPr/>
          </p:nvSpPr>
          <p:spPr>
            <a:xfrm>
              <a:off x="609480" y="350532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"/>
            <p:cNvSpPr/>
            <p:nvPr/>
          </p:nvSpPr>
          <p:spPr>
            <a:xfrm rot="21180000">
              <a:off x="1752480" y="367200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"/>
            <p:cNvSpPr/>
            <p:nvPr/>
          </p:nvSpPr>
          <p:spPr>
            <a:xfrm rot="1284600">
              <a:off x="348840" y="58597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19836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80880" y="126036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80880" y="17496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80880" y="22543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80880" y="27874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2"/>
          <p:cNvGrpSpPr/>
          <p:nvPr/>
        </p:nvGrpSpPr>
        <p:grpSpPr>
          <a:xfrm>
            <a:off x="3505320" y="4038480"/>
            <a:ext cx="4495680" cy="1828800"/>
            <a:chOff x="3505320" y="4038480"/>
            <a:chExt cx="4495680" cy="1828800"/>
          </a:xfrm>
        </p:grpSpPr>
        <p:sp>
          <p:nvSpPr>
            <p:cNvPr id="239" name="AutoShape 13"/>
            <p:cNvSpPr/>
            <p:nvPr/>
          </p:nvSpPr>
          <p:spPr>
            <a:xfrm>
              <a:off x="3505320" y="441936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4800600" y="403848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5"/>
          <p:cNvGrpSpPr/>
          <p:nvPr/>
        </p:nvGrpSpPr>
        <p:grpSpPr>
          <a:xfrm>
            <a:off x="838080" y="4419720"/>
            <a:ext cx="7010640" cy="606600"/>
            <a:chOff x="838080" y="4419720"/>
            <a:chExt cx="7010640" cy="606600"/>
          </a:xfrm>
        </p:grpSpPr>
        <p:sp>
          <p:nvSpPr>
            <p:cNvPr id="242" name="Text Box 16"/>
            <p:cNvSpPr/>
            <p:nvPr/>
          </p:nvSpPr>
          <p:spPr>
            <a:xfrm>
              <a:off x="838080" y="461016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7"/>
            <p:cNvSpPr/>
            <p:nvPr/>
          </p:nvSpPr>
          <p:spPr>
            <a:xfrm>
              <a:off x="1523880" y="4762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1600200" y="4534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9"/>
            <p:cNvSpPr/>
            <p:nvPr/>
          </p:nvSpPr>
          <p:spPr>
            <a:xfrm>
              <a:off x="1523880" y="474984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0"/>
            <p:cNvSpPr/>
            <p:nvPr/>
          </p:nvSpPr>
          <p:spPr>
            <a:xfrm>
              <a:off x="3009960" y="476280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1"/>
            <p:cNvSpPr/>
            <p:nvPr/>
          </p:nvSpPr>
          <p:spPr>
            <a:xfrm>
              <a:off x="5715000" y="476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2"/>
            <p:cNvSpPr/>
            <p:nvPr/>
          </p:nvSpPr>
          <p:spPr>
            <a:xfrm>
              <a:off x="3124080" y="44197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3"/>
            <p:cNvSpPr/>
            <p:nvPr/>
          </p:nvSpPr>
          <p:spPr>
            <a:xfrm>
              <a:off x="5765760" y="4419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4"/>
          <p:cNvGrpSpPr/>
          <p:nvPr/>
        </p:nvGrpSpPr>
        <p:grpSpPr>
          <a:xfrm>
            <a:off x="5486400" y="5257800"/>
            <a:ext cx="1447920" cy="459720"/>
            <a:chOff x="5486400" y="5257800"/>
            <a:chExt cx="1447920" cy="459720"/>
          </a:xfrm>
        </p:grpSpPr>
        <p:sp>
          <p:nvSpPr>
            <p:cNvPr id="251" name="Text Box 25"/>
            <p:cNvSpPr/>
            <p:nvPr/>
          </p:nvSpPr>
          <p:spPr>
            <a:xfrm>
              <a:off x="548640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 flipH="1">
              <a:off x="6324480" y="541008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2971440" y="5257800"/>
            <a:ext cx="2590920" cy="459720"/>
            <a:chOff x="2971440" y="5257800"/>
            <a:chExt cx="2590920" cy="459720"/>
          </a:xfrm>
        </p:grpSpPr>
        <p:sp>
          <p:nvSpPr>
            <p:cNvPr id="254" name="Text Box 28"/>
            <p:cNvSpPr/>
            <p:nvPr/>
          </p:nvSpPr>
          <p:spPr>
            <a:xfrm>
              <a:off x="4038480" y="5257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9"/>
            <p:cNvSpPr/>
            <p:nvPr/>
          </p:nvSpPr>
          <p:spPr>
            <a:xfrm flipH="1">
              <a:off x="480024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0"/>
            <p:cNvSpPr/>
            <p:nvPr/>
          </p:nvSpPr>
          <p:spPr>
            <a:xfrm flipH="1">
              <a:off x="2971440" y="54864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AutoShape 31"/>
          <p:cNvSpPr/>
          <p:nvPr/>
        </p:nvSpPr>
        <p:spPr>
          <a:xfrm>
            <a:off x="6934320" y="502920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AD0B-2568-44BD-AB82-A0C9F6CA2B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429000" y="228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Times New Roman"/>
              </a:rPr>
              <a:t>مـراحـل الـتـنـفـــ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6019920" y="3505320"/>
            <a:ext cx="2133360" cy="160020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  <a:effectLst>
            <a:outerShdw dist="134955" dir="2927119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ــد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6705720" y="1523880"/>
            <a:ext cx="1828800" cy="1143000"/>
          </a:xfrm>
          <a:prstGeom prst="cloudCallout">
            <a:avLst>
              <a:gd name="adj1" fmla="val -21092"/>
              <a:gd name="adj2" fmla="val 8652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ويصلات هو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858000" y="5410080"/>
            <a:ext cx="1447920" cy="1143000"/>
          </a:xfrm>
          <a:prstGeom prst="cloudCallout">
            <a:avLst>
              <a:gd name="adj1" fmla="val -12500"/>
              <a:gd name="adj2" fmla="val -997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خلايا الجـســ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809880" y="231624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ارج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86200" y="59738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داخـلـ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ag00334_"/>
          <p:cNvPicPr/>
          <p:nvPr/>
        </p:nvPicPr>
        <p:blipFill>
          <a:blip r:embed="rId1"/>
          <a:stretch/>
        </p:blipFill>
        <p:spPr>
          <a:xfrm>
            <a:off x="7391520" y="2590920"/>
            <a:ext cx="990360" cy="144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ag00334_"/>
          <p:cNvPicPr/>
          <p:nvPr/>
        </p:nvPicPr>
        <p:blipFill>
          <a:blip r:embed="rId2"/>
          <a:stretch/>
        </p:blipFill>
        <p:spPr>
          <a:xfrm>
            <a:off x="6324480" y="47242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609480" y="3124080"/>
            <a:ext cx="2743200" cy="1981440"/>
          </a:xfrm>
          <a:prstGeom prst="flowChartDisplay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34955" dir="83271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ag00334_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90720" y="3276720"/>
            <a:ext cx="213336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762120" y="5181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لـ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3"/>
          <p:cNvGraphicFramePr/>
          <p:nvPr/>
        </p:nvGraphicFramePr>
        <p:xfrm>
          <a:off x="50760" y="76320"/>
          <a:ext cx="2158920" cy="28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0" y="76320"/>
                    <a:ext cx="2158920" cy="28954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veral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compound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is the fuel for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s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way: it releases energy by breaking down complex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nvolves movement of electrons (gain or lo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study the breakdown of glucose as an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990720" y="3189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" y="139392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686800" cy="55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ْ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2"/>
          <p:cNvSpPr/>
          <p:nvPr/>
        </p:nvSpPr>
        <p:spPr>
          <a:xfrm>
            <a:off x="228600" y="15238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666880" y="1752480"/>
            <a:ext cx="2590920" cy="9144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9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3276720" y="1219320"/>
            <a:ext cx="990360" cy="2297880"/>
            <a:chOff x="3276720" y="1219320"/>
            <a:chExt cx="990360" cy="2297880"/>
          </a:xfrm>
        </p:grpSpPr>
        <p:sp>
          <p:nvSpPr>
            <p:cNvPr id="81" name="Text Box 5"/>
            <p:cNvSpPr/>
            <p:nvPr/>
          </p:nvSpPr>
          <p:spPr>
            <a:xfrm>
              <a:off x="3352680" y="25909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3276720" y="12193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7"/>
          <p:cNvSpPr/>
          <p:nvPr/>
        </p:nvSpPr>
        <p:spPr>
          <a:xfrm>
            <a:off x="5257800" y="14479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 rot="10800000">
            <a:off x="5638320" y="3352680"/>
            <a:ext cx="1295640" cy="2362320"/>
          </a:xfrm>
          <a:custGeom>
            <a:avLst/>
            <a:gdLst>
              <a:gd name="textAreaLeft" fmla="*/ 745560 w 1295640"/>
              <a:gd name="textAreaRight" fmla="*/ 1093320 w 1295640"/>
              <a:gd name="textAreaTop" fmla="*/ 318240 h 2362320"/>
              <a:gd name="textAreaBottom" fmla="*/ 10112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202000"/>
              </a:gs>
            </a:gsLst>
            <a:lin ang="135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7315200" y="1219320"/>
            <a:ext cx="1676520" cy="2158920"/>
            <a:chOff x="7315200" y="1219320"/>
            <a:chExt cx="1676520" cy="2158920"/>
          </a:xfrm>
        </p:grpSpPr>
        <p:sp>
          <p:nvSpPr>
            <p:cNvPr id="86" name="Text Box 10"/>
            <p:cNvSpPr/>
            <p:nvPr/>
          </p:nvSpPr>
          <p:spPr>
            <a:xfrm>
              <a:off x="7696080" y="12193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7696080" y="25909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315200" y="16002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3"/>
          <p:cNvSpPr/>
          <p:nvPr/>
        </p:nvSpPr>
        <p:spPr>
          <a:xfrm>
            <a:off x="2133720" y="46483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304920" y="6172200"/>
            <a:ext cx="8533800" cy="510120"/>
            <a:chOff x="304920" y="6172200"/>
            <a:chExt cx="8533800" cy="510120"/>
          </a:xfrm>
        </p:grpSpPr>
        <p:sp>
          <p:nvSpPr>
            <p:cNvPr id="92" name="Text Box 16"/>
            <p:cNvSpPr/>
            <p:nvPr/>
          </p:nvSpPr>
          <p:spPr>
            <a:xfrm>
              <a:off x="304920" y="61722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7"/>
            <p:cNvSpPr/>
            <p:nvPr/>
          </p:nvSpPr>
          <p:spPr>
            <a:xfrm>
              <a:off x="5410080" y="61722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8"/>
            <p:cNvSpPr/>
            <p:nvPr/>
          </p:nvSpPr>
          <p:spPr>
            <a:xfrm>
              <a:off x="4190760" y="63244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غ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ر مستق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lease energy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us, it can diffuse to any part of the cell and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980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662920" y="1267560"/>
            <a:ext cx="2279160" cy="2209320"/>
            <a:chOff x="2662920" y="1267560"/>
            <a:chExt cx="2279160" cy="2209320"/>
          </a:xfrm>
        </p:grpSpPr>
        <p:sp>
          <p:nvSpPr>
            <p:cNvPr id="103" name="AutoShape 4"/>
            <p:cNvSpPr/>
            <p:nvPr/>
          </p:nvSpPr>
          <p:spPr>
            <a:xfrm rot="1476000">
              <a:off x="3733560" y="1447920"/>
              <a:ext cx="1066680" cy="914040"/>
            </a:xfrm>
            <a:prstGeom prst="hexagon">
              <a:avLst>
                <a:gd name="adj" fmla="val 2917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 rot="19995000">
              <a:off x="3096720" y="1527120"/>
              <a:ext cx="76176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 rot="20174400">
              <a:off x="2768400" y="2666880"/>
              <a:ext cx="76176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>
              <a:off x="3454200" y="2412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2768760" y="27176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1905120" y="2514600"/>
            <a:ext cx="849960" cy="457200"/>
            <a:chOff x="1905120" y="2514600"/>
            <a:chExt cx="849960" cy="457200"/>
          </a:xfrm>
        </p:grpSpPr>
        <p:sp>
          <p:nvSpPr>
            <p:cNvPr id="109" name="Line 10"/>
            <p:cNvSpPr/>
            <p:nvPr/>
          </p:nvSpPr>
          <p:spPr>
            <a:xfrm flipH="1">
              <a:off x="2374560" y="2730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"/>
            <p:cNvSpPr/>
            <p:nvPr/>
          </p:nvSpPr>
          <p:spPr>
            <a:xfrm>
              <a:off x="1905120" y="2514600"/>
              <a:ext cx="45684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2"/>
          <p:cNvGrpSpPr/>
          <p:nvPr/>
        </p:nvGrpSpPr>
        <p:grpSpPr>
          <a:xfrm>
            <a:off x="380880" y="2514600"/>
            <a:ext cx="761760" cy="457200"/>
            <a:chOff x="380880" y="2514600"/>
            <a:chExt cx="761760" cy="457200"/>
          </a:xfrm>
        </p:grpSpPr>
        <p:sp>
          <p:nvSpPr>
            <p:cNvPr id="112" name="Oval 13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 flipH="1">
              <a:off x="837720" y="2743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5"/>
          <p:cNvGrpSpPr/>
          <p:nvPr/>
        </p:nvGrpSpPr>
        <p:grpSpPr>
          <a:xfrm>
            <a:off x="1155600" y="2514600"/>
            <a:ext cx="749160" cy="457200"/>
            <a:chOff x="1155600" y="2514600"/>
            <a:chExt cx="749160" cy="457200"/>
          </a:xfrm>
        </p:grpSpPr>
        <p:sp>
          <p:nvSpPr>
            <p:cNvPr id="115" name="Oval 16"/>
            <p:cNvSpPr/>
            <p:nvPr/>
          </p:nvSpPr>
          <p:spPr>
            <a:xfrm>
              <a:off x="115560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 flipH="1">
              <a:off x="1600200" y="27432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8"/>
          <p:cNvSpPr/>
          <p:nvPr/>
        </p:nvSpPr>
        <p:spPr>
          <a:xfrm>
            <a:off x="4572000" y="52578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9"/>
          <p:cNvGrpSpPr/>
          <p:nvPr/>
        </p:nvGrpSpPr>
        <p:grpSpPr>
          <a:xfrm>
            <a:off x="5270400" y="4010400"/>
            <a:ext cx="3786840" cy="2209680"/>
            <a:chOff x="5270400" y="4010400"/>
            <a:chExt cx="3786840" cy="2209680"/>
          </a:xfrm>
        </p:grpSpPr>
        <p:grpSp>
          <p:nvGrpSpPr>
            <p:cNvPr id="119" name="Group 20"/>
            <p:cNvGrpSpPr/>
            <p:nvPr/>
          </p:nvGrpSpPr>
          <p:grpSpPr>
            <a:xfrm>
              <a:off x="6777360" y="4010400"/>
              <a:ext cx="2279880" cy="2209680"/>
              <a:chOff x="6777360" y="4010400"/>
              <a:chExt cx="2279880" cy="2209680"/>
            </a:xfrm>
          </p:grpSpPr>
          <p:sp>
            <p:nvSpPr>
              <p:cNvPr id="120" name="AutoShape 21"/>
              <p:cNvSpPr/>
              <p:nvPr/>
            </p:nvSpPr>
            <p:spPr>
              <a:xfrm rot="1476000">
                <a:off x="7848360" y="41907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22"/>
              <p:cNvSpPr/>
              <p:nvPr/>
            </p:nvSpPr>
            <p:spPr>
              <a:xfrm rot="19995000">
                <a:off x="7211520" y="42699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3"/>
              <p:cNvSpPr/>
              <p:nvPr/>
            </p:nvSpPr>
            <p:spPr>
              <a:xfrm rot="20174400">
                <a:off x="6882840" y="54097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24"/>
              <p:cNvSpPr/>
              <p:nvPr/>
            </p:nvSpPr>
            <p:spPr>
              <a:xfrm>
                <a:off x="7569000" y="5155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5"/>
              <p:cNvSpPr/>
              <p:nvPr/>
            </p:nvSpPr>
            <p:spPr>
              <a:xfrm>
                <a:off x="6883200" y="54608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26"/>
            <p:cNvGrpSpPr/>
            <p:nvPr/>
          </p:nvGrpSpPr>
          <p:grpSpPr>
            <a:xfrm>
              <a:off x="6019560" y="5257800"/>
              <a:ext cx="851040" cy="456840"/>
              <a:chOff x="6019560" y="5257800"/>
              <a:chExt cx="851040" cy="456840"/>
            </a:xfrm>
          </p:grpSpPr>
          <p:sp>
            <p:nvSpPr>
              <p:cNvPr id="126" name="Line 27"/>
              <p:cNvSpPr/>
              <p:nvPr/>
            </p:nvSpPr>
            <p:spPr>
              <a:xfrm flipH="1">
                <a:off x="6489720" y="54730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8"/>
              <p:cNvSpPr/>
              <p:nvPr/>
            </p:nvSpPr>
            <p:spPr>
              <a:xfrm>
                <a:off x="601956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9"/>
            <p:cNvGrpSpPr/>
            <p:nvPr/>
          </p:nvGrpSpPr>
          <p:grpSpPr>
            <a:xfrm>
              <a:off x="5270400" y="5257800"/>
              <a:ext cx="749160" cy="456840"/>
              <a:chOff x="5270400" y="5257800"/>
              <a:chExt cx="749160" cy="456840"/>
            </a:xfrm>
          </p:grpSpPr>
          <p:sp>
            <p:nvSpPr>
              <p:cNvPr id="129" name="Oval 30"/>
              <p:cNvSpPr/>
              <p:nvPr/>
            </p:nvSpPr>
            <p:spPr>
              <a:xfrm>
                <a:off x="527040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1"/>
              <p:cNvSpPr/>
              <p:nvPr/>
            </p:nvSpPr>
            <p:spPr>
              <a:xfrm flipH="1">
                <a:off x="5715000" y="54860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Rectangle 32"/>
          <p:cNvSpPr/>
          <p:nvPr/>
        </p:nvSpPr>
        <p:spPr>
          <a:xfrm>
            <a:off x="5046840" y="19810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GB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502920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4"/>
          <p:cNvSpPr/>
          <p:nvPr/>
        </p:nvSpPr>
        <p:spPr>
          <a:xfrm>
            <a:off x="1752480" y="4648320"/>
            <a:ext cx="221004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91440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228600" y="3138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7"/>
          <p:cNvSpPr/>
          <p:nvPr/>
        </p:nvSpPr>
        <p:spPr>
          <a:xfrm rot="19137600">
            <a:off x="5610240" y="2847960"/>
            <a:ext cx="533520" cy="2133720"/>
          </a:xfrm>
          <a:prstGeom prst="downArrow">
            <a:avLst>
              <a:gd name="adj1" fmla="val 50000"/>
              <a:gd name="adj2" fmla="val 99983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4343400" y="6172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533520" y="11113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24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HP</cp:lastModifiedBy>
  <dcterms:modified xsi:type="dcterms:W3CDTF">2014-01-07T16:42:48Z</dcterms:modified>
  <cp:revision>1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A45C542-6351-48B8-A53F-2E9068FA365F</vt:lpwstr>
  </property>
  <property fmtid="{D5CDD505-2E9C-101B-9397-08002B2CF9AE}" pid="3" name="ArticulatePath">
    <vt:lpwstr>Lecture 13</vt:lpwstr>
  </property>
</Properties>
</file>