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32C-ED23-462C-A859-DE76054D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CA94-9D2C-49E9-B684-8E4A222E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304B-6659-4638-9B30-D190483A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FA6-B972-4FB0-AB0C-21027DDC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C529-B3C8-4D07-97C4-A90A0A5D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2AA-DC8A-4779-AA2D-5FB45226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C4D-2F76-4922-B745-E2922050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F6D-D7A5-4FAB-B81A-6E949AC4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4EEE-8D66-4E22-ADF0-C5222CA5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453-8FEF-4107-A897-AC6C8054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A787-FD28-4202-B965-617F0078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C7E-A15A-4DCE-8B45-B31EAD5F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3BE9-D6F4-4407-9E93-5CC2801DE3F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ience.jrank.org/pages/2857/Freshwater.html" TargetMode="External"/><Relationship Id="rId2" Type="http://schemas.openxmlformats.org/officeDocument/2006/relationships/hyperlink" Target="http://science.jrank.org/pages/2857/Freshwater.html" TargetMode="External"/><Relationship Id="rId3" Type="http://schemas.openxmlformats.org/officeDocument/2006/relationships/hyperlink" Target="http://science.jrank.org/pages/2857/Freshwater.html" TargetMode="External"/><Relationship Id="rId4" Type="http://schemas.openxmlformats.org/officeDocument/2006/relationships/hyperlink" Target="http://science.jrank.org/pages/2857/Freshwater.html" TargetMode="External"/><Relationship Id="rId5" Type="http://schemas.openxmlformats.org/officeDocument/2006/relationships/hyperlink" Target="http://science.jrank.org/pages/2857/Freshwater.html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ience.jrank.org/pages/1121/Calcium-Carbonate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677960" y="188928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بروتوزو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tozoa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ميعها متغايرة التغذ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trop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وحيدة الخلي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تغذية فيها تتم بواسطة إلتهام  الكائنات الحية الأخرى أو المواد العضوية للكائنات الميت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بعض الكائنات الطفيلية نظراً لأنها لا يمكنها التقاط الغذاء. يجب أن تعيش في منطقة الكائن الحي المضيف حيث يحتوي على إمدادات غذائية مستمرة، مثل الأمعاء أو مجرى الدم من حيوا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بوروتوزوا صنفت إلى مجاميع على أساس أنماط الحركة إلى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بروتوزوا (الحيوانات الأولية) الشبيه بالحيوان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imal Like-Protist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Protozoa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1642680" y="3643200"/>
            <a:ext cx="285840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" name="Straight Arrow Connector 6"/>
          <p:cNvCxnSpPr/>
          <p:nvPr/>
        </p:nvCxnSpPr>
        <p:spPr>
          <a:xfrm>
            <a:off x="4499640" y="3642840"/>
            <a:ext cx="321516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" name="Straight Arrow Connector 7"/>
          <p:cNvCxnSpPr/>
          <p:nvPr/>
        </p:nvCxnSpPr>
        <p:spPr>
          <a:xfrm flipH="1">
            <a:off x="3571560" y="3642840"/>
            <a:ext cx="92952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" name="Straight Arrow Connector 8"/>
          <p:cNvCxnSpPr/>
          <p:nvPr/>
        </p:nvCxnSpPr>
        <p:spPr>
          <a:xfrm>
            <a:off x="4499640" y="3642840"/>
            <a:ext cx="121500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" name="Group 9"/>
          <p:cNvGrpSpPr/>
          <p:nvPr/>
        </p:nvGrpSpPr>
        <p:grpSpPr>
          <a:xfrm>
            <a:off x="214200" y="4786200"/>
            <a:ext cx="8572680" cy="1357560"/>
            <a:chOff x="214200" y="4786200"/>
            <a:chExt cx="8572680" cy="1357560"/>
          </a:xfrm>
        </p:grpSpPr>
        <p:sp>
          <p:nvSpPr>
            <p:cNvPr id="48" name="Subtitle 2"/>
            <p:cNvSpPr/>
            <p:nvPr/>
          </p:nvSpPr>
          <p:spPr>
            <a:xfrm>
              <a:off x="214200" y="4786200"/>
              <a:ext cx="2286000" cy="12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700" spc="-1" strike="noStrike">
                  <a:solidFill>
                    <a:srgbClr val="000000"/>
                  </a:solidFill>
                  <a:latin typeface="Calibri"/>
                </a:rPr>
                <a:t>الأقدام الكاذبة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seudopo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700" spc="-1" strike="noStrike">
                  <a:solidFill>
                    <a:srgbClr val="000000"/>
                  </a:solidFill>
                  <a:latin typeface="Calibri"/>
                </a:rPr>
                <a:t>تتحرك بواسطة الاقدام الكاذبة مثل الاميبا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Calibri"/>
                </a:rPr>
                <a:t>Amoeba</a:t>
              </a: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Subtitle 2"/>
            <p:cNvSpPr/>
            <p:nvPr/>
          </p:nvSpPr>
          <p:spPr>
            <a:xfrm>
              <a:off x="2643120" y="4786200"/>
              <a:ext cx="200016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اسواط</a:t>
              </a: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lagel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تتحرك بواسطة الاسواط مثل الجيارديا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Giardi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Subtitle 2"/>
            <p:cNvSpPr/>
            <p:nvPr/>
          </p:nvSpPr>
          <p:spPr>
            <a:xfrm>
              <a:off x="6715080" y="4786200"/>
              <a:ext cx="207180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كيسي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porozoan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وهي لا تتحرك مثل البلازموديو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Plasmodium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ubtitle 2"/>
            <p:cNvSpPr/>
            <p:nvPr/>
          </p:nvSpPr>
          <p:spPr>
            <a:xfrm>
              <a:off x="4857840" y="4857480"/>
              <a:ext cx="171432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اهدا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ili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تتحرك بواسطة الاهداب مثل  البراميسيوم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Paramec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iliated Protozoa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e.g Parameciu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6880" y="1213920"/>
            <a:ext cx="3871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ove by the  cilia covering their bodie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ey can be found almost anywhere, in freshwater or marine environment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robably the best-known ciliate is the organism </a:t>
            </a:r>
            <a:r>
              <a:rPr b="1" i="1" lang="en-US" sz="1300" spc="-1" strike="noStrike">
                <a:solidFill>
                  <a:srgbClr val="000000"/>
                </a:solidFill>
                <a:latin typeface="Calibri"/>
              </a:rPr>
              <a:t>Paramecium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71280" y="2214720"/>
            <a:ext cx="46436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aramecia have many well-developed organelle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aramecia have two nuclei, a macronucleus and a micronucleus.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500" spc="-1" strike="noStrike">
                <a:solidFill>
                  <a:srgbClr val="c00000"/>
                </a:solidFill>
                <a:latin typeface="Calibri"/>
              </a:rPr>
              <a:t>larger macronucleus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rols most of the metabolic functions of the cel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500" spc="-1" strike="noStrike">
                <a:solidFill>
                  <a:srgbClr val="c00000"/>
                </a:solidFill>
                <a:latin typeface="Calibri"/>
              </a:rPr>
              <a:t>smaller micronucleus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rols much of the pathways involved in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xual reproductio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ousands of cilia appear through the pellicle, a tough, protective covering surrounding the cell membran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39844" t="27834" r="15038" b="20168"/>
          <a:stretch/>
        </p:blipFill>
        <p:spPr>
          <a:xfrm>
            <a:off x="4786200" y="1500120"/>
            <a:ext cx="4357800" cy="4786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Paramecium [Credit: John J. Lee]"/>
          <p:cNvPicPr/>
          <p:nvPr/>
        </p:nvPicPr>
        <p:blipFill>
          <a:blip r:embed="rId2"/>
          <a:stretch/>
        </p:blipFill>
        <p:spPr>
          <a:xfrm>
            <a:off x="7596360" y="128520"/>
            <a:ext cx="1357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142920" y="785880"/>
            <a:ext cx="500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Calibri"/>
              </a:rPr>
              <a:t>Fee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d enters the cell through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ral groo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lined with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ili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o "sweep" the food into the cell), where it moves to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gulle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which packages the meal into a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ood vacuo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zymes released into the food vacuole break down the food, and the nutrients are absorbed into th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tes are removed from the cell through a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nal po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tractile vacuol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mp out excess water, since paramecia live in freshwater surround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191200" y="1000080"/>
            <a:ext cx="39528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3319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ecia usually reproduce asexually, b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ransverse fi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conditions are unfavorable, however, the organism can reproduce sexual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form of sexual reproduction is calle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jug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conjugation, two paramecia join at the oral groove, where the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change genetic materi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then separate and divid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sex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كيسيات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orozoans Protozoa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بلازموديو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.g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lasmodiu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4652640"/>
            <a:ext cx="55004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orozoans are al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sit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.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lasmodi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y of these organisms produce spores, reproductive cells that can give rise to a new organis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orozoans typically have complex life cycles, as they usually live in more than one host in their lifetim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Go to fullsize image"/>
          <p:cNvPicPr/>
          <p:nvPr/>
        </p:nvPicPr>
        <p:blipFill>
          <a:blip r:embed="rId1"/>
          <a:stretch/>
        </p:blipFill>
        <p:spPr>
          <a:xfrm>
            <a:off x="5857920" y="1928880"/>
            <a:ext cx="2814480" cy="38574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07920" y="23796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كيسيات ( الحويصلية) جميعها طفيليات مثل البلازموديوم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lasmodium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عديد من هذه الكائنات تنتج أبواغ, خلاياها  تتكاثر وتتنتج كائن آخر جدي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كيسيات بشكل خاص تتمثل بدورة حياة معقده,  حيث يعيشون في أكثر من عائل في دورة حيات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714680" y="0"/>
            <a:ext cx="592920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imal Like-Protist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Protozoa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85480" y="1676160"/>
            <a:ext cx="8429400" cy="19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are unicellular heterotroph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trition by ingesting other organisms or dead organic materi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organisms are parasitic, since they cannot actively capture food. They must live in an area of the host organism that has a constant food supply, such as the intestines or bloodstream of an anim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tozoans are grouped on the basis of  their modes of locomotion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214200" y="4786200"/>
            <a:ext cx="8572680" cy="1357560"/>
            <a:chOff x="214200" y="4786200"/>
            <a:chExt cx="8572680" cy="1357560"/>
          </a:xfrm>
        </p:grpSpPr>
        <p:sp>
          <p:nvSpPr>
            <p:cNvPr id="55" name="Subtitle 2"/>
            <p:cNvSpPr/>
            <p:nvPr/>
          </p:nvSpPr>
          <p:spPr>
            <a:xfrm>
              <a:off x="214200" y="4786200"/>
              <a:ext cx="2286000" cy="12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seudopo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ve by psedupodia such 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Amoeb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ubtitle 2"/>
            <p:cNvSpPr/>
            <p:nvPr/>
          </p:nvSpPr>
          <p:spPr>
            <a:xfrm>
              <a:off x="2643120" y="4786200"/>
              <a:ext cx="200016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lagel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ve by flagella such 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Giardi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Subtitle 2"/>
            <p:cNvSpPr/>
            <p:nvPr/>
          </p:nvSpPr>
          <p:spPr>
            <a:xfrm>
              <a:off x="6715080" y="4786200"/>
              <a:ext cx="207180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porozoan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o not m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ch 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Plasmod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ubtitle 2"/>
            <p:cNvSpPr/>
            <p:nvPr/>
          </p:nvSpPr>
          <p:spPr>
            <a:xfrm>
              <a:off x="4857840" y="4857480"/>
              <a:ext cx="171432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ili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ve by cilia such as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Paramec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" name="Straight Arrow Connector 8"/>
          <p:cNvCxnSpPr>
            <a:stCxn id="53" idx="2"/>
          </p:cNvCxnSpPr>
          <p:nvPr/>
        </p:nvCxnSpPr>
        <p:spPr>
          <a:xfrm flipH="1">
            <a:off x="1642680" y="3643200"/>
            <a:ext cx="285840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Straight Arrow Connector 10"/>
          <p:cNvCxnSpPr>
            <a:stCxn id="53" idx="2"/>
          </p:cNvCxnSpPr>
          <p:nvPr/>
        </p:nvCxnSpPr>
        <p:spPr>
          <a:xfrm>
            <a:off x="4499640" y="3642840"/>
            <a:ext cx="321516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Straight Arrow Connector 12"/>
          <p:cNvCxnSpPr>
            <a:stCxn id="53" idx="2"/>
          </p:cNvCxnSpPr>
          <p:nvPr/>
        </p:nvCxnSpPr>
        <p:spPr>
          <a:xfrm flipH="1">
            <a:off x="3571560" y="3642840"/>
            <a:ext cx="92952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14"/>
          <p:cNvCxnSpPr>
            <a:stCxn id="53" idx="2"/>
          </p:cNvCxnSpPr>
          <p:nvPr/>
        </p:nvCxnSpPr>
        <p:spPr>
          <a:xfrm>
            <a:off x="4499640" y="3642840"/>
            <a:ext cx="121500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64000" y="18864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558ed5"/>
                </a:solidFill>
                <a:latin typeface="Calibri"/>
              </a:rPr>
              <a:t>الاقدام الكاذبة</a:t>
            </a:r>
            <a:br>
              <a:rPr sz="2000"/>
            </a:br>
            <a:r>
              <a:rPr b="1" lang="en-US" sz="2000" spc="-1" strike="noStrike">
                <a:solidFill>
                  <a:srgbClr val="558ed5"/>
                </a:solidFill>
                <a:latin typeface="Calibri"/>
              </a:rPr>
              <a:t>Pseudopods</a:t>
            </a:r>
            <a:br>
              <a:rPr sz="2000"/>
            </a:br>
            <a:r>
              <a:rPr b="1" lang="ar-SA" sz="2000" spc="-1" strike="noStrike">
                <a:solidFill>
                  <a:srgbClr val="558ed5"/>
                </a:solidFill>
                <a:latin typeface="Calibri"/>
              </a:rPr>
              <a:t>الاميبا</a:t>
            </a:r>
            <a:br>
              <a:rPr sz="2000"/>
            </a:br>
            <a:r>
              <a:rPr b="1" lang="en-US" sz="20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558ed5"/>
                </a:solidFill>
                <a:latin typeface="Calibri"/>
              </a:rPr>
              <a:t>e.g </a:t>
            </a:r>
            <a:r>
              <a:rPr b="1" i="1" lang="en-US" sz="2000" spc="-1" strike="noStrike">
                <a:solidFill>
                  <a:srgbClr val="558ed5"/>
                </a:solidFill>
                <a:latin typeface="Calibri"/>
              </a:rPr>
              <a:t> Amoeba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254160" y="1700280"/>
            <a:ext cx="4405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ميبا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moeba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لا تملك جدار خارج الاغشية الخلو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ستخدم زوائد من غشاء الخلية (تسمى الاقدام الكاذبة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podia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) للحركة وكذلك لعملية ابتلاع الغذا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الاميبا التي تعيش في المياه يمكنها إنتزاع المغذيات المذاب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solved nutri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ن البيئة مباشرة من خلال أغشية الخلي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تعيش معظم الاميبا في البيئات البحرية، على الرغم من وجود بعض الأنواع التي تعيش في المياه العذب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أميبا المياة العذبة تستخدم الفجوات المنقبض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ctile vacuo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كمضخة للتخلص من الماء خارج الخل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47462" t="34426" r="10352" b="24560"/>
          <a:stretch/>
        </p:blipFill>
        <p:spPr>
          <a:xfrm>
            <a:off x="5508720" y="1484280"/>
            <a:ext cx="27860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0" y="260280"/>
            <a:ext cx="518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عظم الأميبا تتكاثر لا جنسياَ بواسطة الانشطا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اميبا قد تشكل حويصلات عندما تصبح الظروف البيئية غير المواتي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ميبا تحتوي على شكلين وتميزها القشر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aminifer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lar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aminifer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تمتلك قشرة صلبة مكونة من كربونات الكالسيو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lar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متلك قشرة مكونة من السيليكا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كل النوعين (الشكلين) لها العديد من الثقوب الصغيرة في قشرتها من خلالها تمتد الاقدام الكاذب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illus002"/>
          <p:cNvPicPr/>
          <p:nvPr/>
        </p:nvPicPr>
        <p:blipFill>
          <a:blip r:embed="rId1"/>
          <a:stretch/>
        </p:blipFill>
        <p:spPr>
          <a:xfrm>
            <a:off x="5724360" y="297000"/>
            <a:ext cx="2576520" cy="3562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468360" y="33415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تغذ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عندما الاقدام الكاذبة تجد الغذاء تحيط به بواسطة تكوين الاقدام الكاذبة ويغلق غشاء الخلية حول الغذاء، وهذا يشكل فجوة غذائ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بعدها تفرز إنزيمات هضمية داخلة الفجوة الغذائية ، التي تعمل إلى تكسير وتبسيط الغذاء ثم تمتص المغذيات من قبل الخل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5175000" y="42750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58ed5"/>
                </a:solidFill>
                <a:latin typeface="Arial"/>
              </a:rPr>
              <a:t>التكاثر اللاجنسي بالاميبا بواسطة الانشط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seudopod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e.g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Amoeba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480" y="165096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e no wall outside of their cell membran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extensions of their cell membrane (called pseudopodia) to move, as well as, to engulf foo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oebas live in water, dissolved nutrients from the environment can diffuse directly through their cell membran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amoebas live i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rine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environment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lthough som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freshwat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pecies exis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shwater amoebas use contractile vacuoles to pump excess water out of the cel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6"/>
          <a:srcRect l="47462" t="34426" r="10352" b="24560"/>
          <a:stretch/>
        </p:blipFill>
        <p:spPr>
          <a:xfrm>
            <a:off x="4357800" y="1214280"/>
            <a:ext cx="4786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13840" y="285840"/>
            <a:ext cx="5643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amoebas reproduce asexually by fis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oebas may form cysts when environmental conditions become unfavorab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forms of amoebas have shells, the foraminiferans and the radiolaria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aminiferans have a hard shell made of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lcium carbon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olarians have shells made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lic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organisms have many tiny holes in their shells, through which they extend their pseudopod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285840" y="4071960"/>
            <a:ext cx="5643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c00000"/>
                </a:solidFill>
                <a:uFillTx/>
                <a:latin typeface="Calibri"/>
              </a:rPr>
              <a:t>Feeding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the pseudopodium traps a bit of food, the cell membrane closes around the meal, this forms a food vacuo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estive enzymes are secreted into the food vacuole, which break down the food. The cell then absorbs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tr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illus002"/>
          <p:cNvPicPr/>
          <p:nvPr/>
        </p:nvPicPr>
        <p:blipFill>
          <a:blip r:embed="rId2"/>
          <a:stretch/>
        </p:blipFill>
        <p:spPr>
          <a:xfrm>
            <a:off x="6421320" y="79200"/>
            <a:ext cx="2576520" cy="40100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5764320" y="399564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Reproduce asexually by fission</a:t>
            </a: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SA" sz="2000" spc="-1" strike="noStrike">
                <a:solidFill>
                  <a:srgbClr val="4f81bd"/>
                </a:solidFill>
                <a:latin typeface="Calibri"/>
              </a:rPr>
              <a:t>الهديبات الاولية</a:t>
            </a:r>
            <a:br>
              <a:rPr sz="2000"/>
            </a:b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Ciliated Protozoa</a:t>
            </a:r>
            <a:br>
              <a:rPr sz="2000"/>
            </a:br>
            <a:r>
              <a:rPr b="1" lang="ar-SA" sz="2000" spc="-1" strike="noStrike">
                <a:solidFill>
                  <a:srgbClr val="4f81bd"/>
                </a:solidFill>
                <a:latin typeface="Calibri"/>
              </a:rPr>
              <a:t>البراميسيوم</a:t>
            </a:r>
            <a:br>
              <a:rPr sz="2000"/>
            </a:br>
            <a:r>
              <a:rPr b="1" i="1" lang="en-US" sz="2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4f81bd"/>
                </a:solidFill>
                <a:latin typeface="Calibri"/>
              </a:rPr>
              <a:t>e.g Parameciu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rcRect l="39844" t="27834" r="15038" b="20168"/>
          <a:stretch/>
        </p:blipFill>
        <p:spPr>
          <a:xfrm>
            <a:off x="4786200" y="1500120"/>
            <a:ext cx="4357800" cy="5097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Paramecium [Credit: John J. Lee]"/>
          <p:cNvPicPr/>
          <p:nvPr/>
        </p:nvPicPr>
        <p:blipFill>
          <a:blip r:embed="rId2"/>
          <a:stretch/>
        </p:blipFill>
        <p:spPr>
          <a:xfrm>
            <a:off x="7093080" y="112680"/>
            <a:ext cx="1946160" cy="1371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0" y="13716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حركة تكون بواسطة الاهداب التي تغطي جسم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مكن العثور عليها في أي مكان تقريبا، في البيئات البحرية أو المياه العذب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على الارجح الاكثر شهرة ومعرفة من الهدبيات هو البراميسيوم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30320" y="3357720"/>
            <a:ext cx="446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براميسيا تمتلك العديد من العضيات المتطور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براميسيا تمتلك نواتين واحدة كبير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cronucle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الاخرى صغير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nucle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نواة الكبيرة تتحكم في معظم الوظائف الأيضية للخلي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نواة الصغيرة تتحكم في كثير من المسارات ومن ضمنها التكاثر الجنس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آلاف الأهداب تظهر من خلال القشرة، وهي متينة ومحيطية وتعمل على وقاية الغشاء الخلو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191200" y="1000080"/>
            <a:ext cx="3952800" cy="4924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250920" y="620640"/>
            <a:ext cx="4940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تغذ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غذاء يدخل الخلية عن طريق الاخدود الفمو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al groov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(مبطنة بأهداب، يعمل على سحب الغذاء إلى داخل الخلية)، حيث أنه ينتقل إلى المريء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ullet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التي تنتقل فيها الوجبة إلى الفجوة الغذائية المنقبض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تتحررالإنزيمات داخل الفجوة الغذائية لتكسير وتبسيط الطعام إلى جزئيات صغيرة (مغذيات) يسهل أمتصاصها داخل ال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تم اللتخلص من النفايات عن طريق الثقب الشرج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 por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فجوة المنقبضة تعمل على ضخ المياه الزائدة، لذلك تستطيع الباراميسيا أن تعيش في المياه العذبة والمناطق المحيطة ب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179280" y="620640"/>
            <a:ext cx="842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باراميسيا عادة التكاثر فيها لا جنسي، بواسطة الانشطار العرض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verse fi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عندما تكون الظروف غير مواتية، فأنها تتكاثر جنسيا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يسمى هذا الشكل من التكاثر الجنسي بالأقترا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jug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ثناء الاقتران، تنضم أثنين من البراميسيا عن طريق الأخدود الفموي، حيث يتم تبادل المادة الوراثية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tic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ثم تفصل وتقسم لاجنسي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2:29:36Z</dcterms:created>
  <dc:creator>DELL</dc:creator>
  <dc:description/>
  <dc:language>en-US</dc:language>
  <cp:lastModifiedBy>Naif Alharbi</cp:lastModifiedBy>
  <dcterms:modified xsi:type="dcterms:W3CDTF">2014-04-20T06:28:58Z</dcterms:modified>
  <cp:revision>32</cp:revision>
  <dc:subject/>
  <dc:title>Animal Like-Protista (Protozoa)</dc:title>
</cp:coreProperties>
</file>