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CC6-4379-43FC-805C-1A2CDF3A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36B-F800-4659-851C-44CFC18B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8F9-D2F9-4EDF-B50A-0223EE84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E4F-56B4-4B93-8F60-B59F86E3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B12-DCAD-4575-ADCA-1367F66B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465-D333-4DD3-BABB-69CF54E1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321-8FB3-4B2F-9790-D8A84770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94B-B382-40C3-B411-AC630154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8FD-A046-4190-84FE-1AFBA78B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22E-CE04-4927-B249-99D1AF0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5A2-E3B7-40E3-AC2B-693238C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C65-8681-4BCA-A350-398ADBDE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82B-0A40-4E2D-8DD6-CD484C2403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41E4-7998-40E5-A007-59C6E89D2E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438280"/>
            <a:ext cx="3962520" cy="8384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3360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H atoms are removed from a substrate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27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6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39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48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1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4F5D-0D83-4C03-ABEB-7CC269ACF4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251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User</cp:lastModifiedBy>
  <dcterms:modified xsi:type="dcterms:W3CDTF">2014-03-10T17:27:11Z</dcterms:modified>
  <cp:revision>112</cp:revision>
  <dc:subject/>
  <dc:title>Slide 1</dc:title>
</cp:coreProperties>
</file>